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04B-EFB9-4F2F-96C3-9C39AD3F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8FC-ED0F-422D-B70F-35EB61D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B64-D4BC-4967-865E-525CDA3B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897-8DA5-4465-954A-48BF233E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BEC-0185-4B98-AA3B-5314F31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299-48A5-470E-83F1-E9C39B1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6E7-7A8F-45AA-A9AE-9B5381A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BE0-8B93-4923-B62A-FE763F2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AF9-58F8-4B8B-811D-0D657070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F86-7858-4F38-AD48-55DD23A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5F1-8BFC-4DFA-81CD-4CEB0FD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CAD-23EB-40CF-BC9D-0996DAE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2FB-6B5F-4A20-9E4E-65F7222A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&#20044;&#40486;&#21917;&#27700;PPT&#35838;&#20214;.pp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7020000" y="0"/>
            <a:ext cx="647640" cy="504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62" y="1350"/>
                </a:lnTo>
                <a:lnTo>
                  <a:pt x="1350" y="135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62" y="20250"/>
                </a:lnTo>
                <a:lnTo>
                  <a:pt x="26362" y="135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2" y="2025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2" h="21600">
                <a:moveTo>
                  <a:pt x="6812" y="8394"/>
                </a:moveTo>
                <a:lnTo>
                  <a:pt x="11266" y="8394"/>
                </a:lnTo>
                <a:lnTo>
                  <a:pt x="15711" y="3756"/>
                </a:lnTo>
                <a:lnTo>
                  <a:pt x="15711" y="17844"/>
                </a:lnTo>
                <a:lnTo>
                  <a:pt x="11266" y="13206"/>
                </a:lnTo>
                <a:lnTo>
                  <a:pt x="6812" y="13206"/>
                </a:lnTo>
                <a:close/>
              </a:path>
              <a:path fill="darken" w="27712" h="21600">
                <a:moveTo>
                  <a:pt x="17374" y="10800"/>
                </a:moveTo>
                <a:lnTo>
                  <a:pt x="20900" y="10800"/>
                </a:lnTo>
              </a:path>
              <a:path fill="darken" w="27712" h="21600">
                <a:moveTo>
                  <a:pt x="17374" y="8394"/>
                </a:moveTo>
                <a:lnTo>
                  <a:pt x="20900" y="5611"/>
                </a:lnTo>
              </a:path>
              <a:path fill="darken" w="27712" h="21600">
                <a:moveTo>
                  <a:pt x="17374" y="13206"/>
                </a:moveTo>
                <a:lnTo>
                  <a:pt x="20900" y="15989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7885080" y="0"/>
            <a:ext cx="649440" cy="504720"/>
          </a:xfrm>
          <a:custGeom>
            <a:avLst/>
            <a:gdLst>
              <a:gd name="textAreaLeft" fmla="*/ 31320 w 649440"/>
              <a:gd name="textAreaRight" fmla="*/ 618120 w 64944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439" y="1350"/>
                </a:lnTo>
                <a:lnTo>
                  <a:pt x="1350" y="135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439" y="20250"/>
                </a:lnTo>
                <a:lnTo>
                  <a:pt x="26439" y="135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39" y="2025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89" h="21600">
                <a:moveTo>
                  <a:pt x="6851" y="3756"/>
                </a:moveTo>
                <a:lnTo>
                  <a:pt x="20938" y="10800"/>
                </a:lnTo>
                <a:lnTo>
                  <a:pt x="6851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0280" y="62064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乌鸦喝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8000" y="2203920"/>
            <a:ext cx="55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乌鸦看见旁边有许多小石子，想出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办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来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33336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乌鸦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石子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一个一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放进瓶子里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54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瓶子里的水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渐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升高了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5084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乌鸦吧小石子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一个一个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地放进瓶子里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16000" y="404640"/>
            <a:ext cx="29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读读说说：</a:t>
            </a:r>
            <a:endParaRPr b="1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197000"/>
            <a:ext cx="67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瓶子里的水渐渐升高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天气渐渐热起来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渐渐                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3860640"/>
            <a:ext cx="1728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3860640"/>
            <a:ext cx="208908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333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乌鸦就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喝着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了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0"/>
            <a:ext cx="7775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只乌鸦口渴了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到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找水喝。乌鸦看见一个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瓶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瓶子里有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可是，瓶子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水不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瓶口又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乌鸦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喝不着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怎么办呢？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乌鸦看见旁边有许多小石子，想出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办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乌鸦把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小石子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一个一个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放进瓶子里。瓶子里的水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渐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升高了。乌鸦就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喝着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1844640"/>
            <a:ext cx="67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想想乌鸦遇到什么困难？接着它想出什么办法？最后怎么样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把自己当成小乌鸦，边做动作边背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40000" y="620640"/>
            <a:ext cx="45370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提示背诵方法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5640" y="2647440"/>
            <a:ext cx="52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喜欢这只小乌鸦吗？那就用一句话来夸夸它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5210280" cy="39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651640" y="1125360"/>
            <a:ext cx="280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瓶子旁边要是没有小石子，乌鸦该怎么办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260280"/>
            <a:ext cx="4896000" cy="2089080"/>
          </a:xfrm>
          <a:prstGeom prst="cloudCallout">
            <a:avLst>
              <a:gd name="adj1" fmla="val -12583"/>
              <a:gd name="adj2" fmla="val 101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怎么办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55640" y="33336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我会读：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863640" y="1268280"/>
            <a:ext cx="8280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-ExtB"/>
                <a:ea typeface="SimSun-ExtB"/>
              </a:rPr>
              <a:t>wū yā   hē shuǐ   pínɡ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乌  鸦        喝 水           瓶 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-ExtB"/>
                <a:ea typeface="SimSun-ExtB"/>
              </a:rPr>
              <a:t>xiǎo shí zǐ    bàn fǎ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   石   子           办  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imSun-ExtB"/>
                <a:ea typeface="SimSun-ExtB"/>
              </a:rPr>
              <a:t>jiànji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渐  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7BA-A962-4DB2-A5AD-436CD52C8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5640" y="33336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我会读：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1268280"/>
            <a:ext cx="8280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乌 鸦        喝水       瓶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石子     办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04720" cy="620640"/>
          </a:xfrm>
          <a:custGeom>
            <a:avLst/>
            <a:gdLst>
              <a:gd name="textAreaLeft" fmla="*/ 31320 w 504720"/>
              <a:gd name="textAreaRight" fmla="*/ 473400 w 504720"/>
              <a:gd name="textAreaTop" fmla="*/ 31320 h 620640"/>
              <a:gd name="textAreaBottom" fmla="*/ 58932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50" y="25207"/>
                </a:lnTo>
                <a:lnTo>
                  <a:pt x="20250" y="135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350" y="25207"/>
                </a:lnTo>
                <a:lnTo>
                  <a:pt x="20250" y="2520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350" y="1350"/>
                </a:lnTo>
                <a:lnTo>
                  <a:pt x="1350" y="25207"/>
                </a:lnTo>
                <a:close/>
              </a:path>
              <a:path fill="darken" w="21600" h="26557">
                <a:moveTo>
                  <a:pt x="3756" y="13279"/>
                </a:moveTo>
                <a:lnTo>
                  <a:pt x="17844" y="6235"/>
                </a:lnTo>
                <a:lnTo>
                  <a:pt x="17844" y="2032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7640" y="234936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：课文中乌鸦做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84464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只乌鸦口渴了，</a:t>
            </a:r>
            <a:r>
              <a:rPr b="1" lang="zh-CN" sz="4800" spc="-1" strike="noStrike">
                <a:solidFill>
                  <a:srgbClr val="cc0000"/>
                </a:solidFill>
                <a:latin typeface="Arial Black"/>
                <a:ea typeface="华文细黑"/>
              </a:rPr>
              <a:t>到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找水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8000" y="2205000"/>
            <a:ext cx="55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乌鸦看见一个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瓶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瓶子里有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33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是，瓶子里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水不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瓶口又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乌鸦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喝不着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895000">
            <a:off x="5614920" y="2889000"/>
            <a:ext cx="3313080" cy="3240000"/>
          </a:xfrm>
          <a:prstGeom prst="wedgeEllipseCallout">
            <a:avLst>
              <a:gd name="adj1" fmla="val -60967"/>
              <a:gd name="adj2" fmla="val 745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</a:rPr>
              <a:t>怎么办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404640"/>
            <a:ext cx="7775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66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只乌鸦口渴了，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到处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找水喝。乌鸦看见一个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瓶子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，瓶子里有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水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。可是，瓶子里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水不多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，瓶口又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小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，乌鸦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喝不着水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怎么办呢？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0:37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3:38:44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