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ACE3-8A0D-42F3-9BD5-E57A5446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76960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507840"/>
            <a:ext cx="76960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F96-EF9B-4AFE-BADF-597E783D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01000" y="8366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078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401000" y="35078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29FB-C0E9-4488-8826-E099C405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4778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59280" y="836640"/>
            <a:ext cx="24778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1360" y="836640"/>
            <a:ext cx="24778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507840"/>
            <a:ext cx="24778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059280" y="3507840"/>
            <a:ext cx="24778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661360" y="3507840"/>
            <a:ext cx="24778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65B-9872-47A7-9F2E-3A604722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1CD7-BDA8-4E65-A8F0-AD04A006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C46-D335-46D2-BEED-45FE55AD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3755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01000" y="836640"/>
            <a:ext cx="3755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15E4-F257-4BFB-AEB8-94A665C0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E84-CDB0-42B0-9FDE-C392984A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117000"/>
            <a:ext cx="605952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7891-8907-4085-9966-3D522977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01000" y="836640"/>
            <a:ext cx="3755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5078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BDF-8C2A-4271-890D-EB293432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3755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01000" y="8366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401000" y="35078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2FA7-6163-4F89-9488-74B71C90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01000" y="8366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507840"/>
            <a:ext cx="76960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0427-5F61-4868-AEBC-1FD8B27E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008760"/>
            <a:ext cx="9144000" cy="8492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005520"/>
            <a:ext cx="914400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11111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00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1541160" y="6244920"/>
            <a:ext cx="136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2987640" y="6244920"/>
            <a:ext cx="100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3E82-12F6-4DD4-A2CC-2BFE14BA7E9F}" type="slidenum">
              <a:rPr b="0" lang="en-GB" sz="14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7200" y="83664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Freeform 214"/>
          <p:cNvSpPr/>
          <p:nvPr/>
        </p:nvSpPr>
        <p:spPr>
          <a:xfrm rot="16200000">
            <a:off x="7265160" y="92880"/>
            <a:ext cx="552240" cy="550800"/>
          </a:xfrm>
          <a:custGeom>
            <a:avLst/>
            <a:gdLst/>
            <a:ahLst/>
            <a:rect l="l" t="t" r="r" b="b"/>
            <a:pathLst>
              <a:path w="258" h="258">
                <a:moveTo>
                  <a:pt x="170" y="7"/>
                </a:moveTo>
                <a:cubicBezTo>
                  <a:pt x="157" y="3"/>
                  <a:pt x="143" y="0"/>
                  <a:pt x="129" y="0"/>
                </a:cubicBezTo>
                <a:cubicBezTo>
                  <a:pt x="57" y="0"/>
                  <a:pt x="0" y="58"/>
                  <a:pt x="0" y="129"/>
                </a:cubicBezTo>
                <a:cubicBezTo>
                  <a:pt x="0" y="164"/>
                  <a:pt x="13" y="195"/>
                  <a:pt x="35" y="218"/>
                </a:cubicBezTo>
                <a:cubicBezTo>
                  <a:pt x="37" y="220"/>
                  <a:pt x="40" y="223"/>
                  <a:pt x="42" y="225"/>
                </a:cubicBezTo>
                <a:cubicBezTo>
                  <a:pt x="45" y="228"/>
                  <a:pt x="49" y="230"/>
                  <a:pt x="52" y="233"/>
                </a:cubicBezTo>
                <a:cubicBezTo>
                  <a:pt x="74" y="249"/>
                  <a:pt x="100" y="258"/>
                  <a:pt x="129" y="258"/>
                </a:cubicBezTo>
                <a:cubicBezTo>
                  <a:pt x="200" y="258"/>
                  <a:pt x="258" y="200"/>
                  <a:pt x="258" y="129"/>
                </a:cubicBezTo>
                <a:cubicBezTo>
                  <a:pt x="258" y="80"/>
                  <a:pt x="231" y="38"/>
                  <a:pt x="191" y="16"/>
                </a:cubicBezTo>
                <a:cubicBezTo>
                  <a:pt x="187" y="14"/>
                  <a:pt x="184" y="12"/>
                  <a:pt x="180" y="11"/>
                </a:cubicBezTo>
                <a:cubicBezTo>
                  <a:pt x="177" y="9"/>
                  <a:pt x="174" y="8"/>
                  <a:pt x="170" y="7"/>
                </a:cubicBez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007ed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Freeform 215"/>
          <p:cNvSpPr/>
          <p:nvPr/>
        </p:nvSpPr>
        <p:spPr>
          <a:xfrm>
            <a:off x="7348680" y="201600"/>
            <a:ext cx="385560" cy="333360"/>
          </a:xfrm>
          <a:custGeom>
            <a:avLst/>
            <a:gdLst/>
            <a:ahLst/>
            <a:rect l="l" t="t" r="r" b="b"/>
            <a:pathLst>
              <a:path w="1448" h="1262">
                <a:moveTo>
                  <a:pt x="1386" y="1156"/>
                </a:moveTo>
                <a:lnTo>
                  <a:pt x="106" y="1156"/>
                </a:lnTo>
                <a:lnTo>
                  <a:pt x="106" y="52"/>
                </a:lnTo>
                <a:lnTo>
                  <a:pt x="106" y="52"/>
                </a:lnTo>
                <a:lnTo>
                  <a:pt x="104" y="42"/>
                </a:lnTo>
                <a:lnTo>
                  <a:pt x="102" y="32"/>
                </a:lnTo>
                <a:lnTo>
                  <a:pt x="96" y="24"/>
                </a:lnTo>
                <a:lnTo>
                  <a:pt x="90" y="16"/>
                </a:lnTo>
                <a:lnTo>
                  <a:pt x="82" y="8"/>
                </a:lnTo>
                <a:lnTo>
                  <a:pt x="74" y="4"/>
                </a:lnTo>
                <a:lnTo>
                  <a:pt x="64" y="0"/>
                </a:lnTo>
                <a:lnTo>
                  <a:pt x="52" y="0"/>
                </a:lnTo>
                <a:lnTo>
                  <a:pt x="52" y="0"/>
                </a:lnTo>
                <a:lnTo>
                  <a:pt x="42" y="0"/>
                </a:lnTo>
                <a:lnTo>
                  <a:pt x="32" y="4"/>
                </a:lnTo>
                <a:lnTo>
                  <a:pt x="22" y="8"/>
                </a:lnTo>
                <a:lnTo>
                  <a:pt x="14" y="16"/>
                </a:lnTo>
                <a:lnTo>
                  <a:pt x="8" y="24"/>
                </a:lnTo>
                <a:lnTo>
                  <a:pt x="4" y="32"/>
                </a:lnTo>
                <a:lnTo>
                  <a:pt x="0" y="42"/>
                </a:lnTo>
                <a:lnTo>
                  <a:pt x="0" y="52"/>
                </a:lnTo>
                <a:lnTo>
                  <a:pt x="0" y="1208"/>
                </a:lnTo>
                <a:lnTo>
                  <a:pt x="0" y="1208"/>
                </a:lnTo>
                <a:lnTo>
                  <a:pt x="0" y="1220"/>
                </a:lnTo>
                <a:lnTo>
                  <a:pt x="4" y="1230"/>
                </a:lnTo>
                <a:lnTo>
                  <a:pt x="8" y="1238"/>
                </a:lnTo>
                <a:lnTo>
                  <a:pt x="14" y="1246"/>
                </a:lnTo>
                <a:lnTo>
                  <a:pt x="22" y="1252"/>
                </a:lnTo>
                <a:lnTo>
                  <a:pt x="32" y="1258"/>
                </a:lnTo>
                <a:lnTo>
                  <a:pt x="42" y="1260"/>
                </a:lnTo>
                <a:lnTo>
                  <a:pt x="52" y="1262"/>
                </a:lnTo>
                <a:lnTo>
                  <a:pt x="52" y="1262"/>
                </a:lnTo>
                <a:lnTo>
                  <a:pt x="56" y="1262"/>
                </a:lnTo>
                <a:lnTo>
                  <a:pt x="56" y="1262"/>
                </a:lnTo>
                <a:lnTo>
                  <a:pt x="60" y="1262"/>
                </a:lnTo>
                <a:lnTo>
                  <a:pt x="1386" y="1262"/>
                </a:lnTo>
                <a:lnTo>
                  <a:pt x="1386" y="1262"/>
                </a:lnTo>
                <a:lnTo>
                  <a:pt x="1398" y="1260"/>
                </a:lnTo>
                <a:lnTo>
                  <a:pt x="1410" y="1258"/>
                </a:lnTo>
                <a:lnTo>
                  <a:pt x="1420" y="1252"/>
                </a:lnTo>
                <a:lnTo>
                  <a:pt x="1430" y="1246"/>
                </a:lnTo>
                <a:lnTo>
                  <a:pt x="1438" y="1238"/>
                </a:lnTo>
                <a:lnTo>
                  <a:pt x="1442" y="1230"/>
                </a:lnTo>
                <a:lnTo>
                  <a:pt x="1446" y="1220"/>
                </a:lnTo>
                <a:lnTo>
                  <a:pt x="1448" y="1208"/>
                </a:lnTo>
                <a:lnTo>
                  <a:pt x="1448" y="1208"/>
                </a:lnTo>
                <a:lnTo>
                  <a:pt x="1446" y="1198"/>
                </a:lnTo>
                <a:lnTo>
                  <a:pt x="1442" y="1188"/>
                </a:lnTo>
                <a:lnTo>
                  <a:pt x="1438" y="1178"/>
                </a:lnTo>
                <a:lnTo>
                  <a:pt x="1430" y="1170"/>
                </a:lnTo>
                <a:lnTo>
                  <a:pt x="1420" y="1164"/>
                </a:lnTo>
                <a:lnTo>
                  <a:pt x="1410" y="1160"/>
                </a:lnTo>
                <a:lnTo>
                  <a:pt x="1398" y="1156"/>
                </a:lnTo>
                <a:lnTo>
                  <a:pt x="1386" y="1156"/>
                </a:lnTo>
                <a:lnTo>
                  <a:pt x="1386" y="1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7385040" y="258120"/>
            <a:ext cx="335880" cy="238680"/>
            <a:chOff x="7385040" y="258120"/>
            <a:chExt cx="335880" cy="238680"/>
          </a:xfrm>
        </p:grpSpPr>
        <p:sp>
          <p:nvSpPr>
            <p:cNvPr id="12" name="Freeform 217"/>
            <p:cNvSpPr/>
            <p:nvPr/>
          </p:nvSpPr>
          <p:spPr>
            <a:xfrm rot="705000">
              <a:off x="7638840" y="264600"/>
              <a:ext cx="74520" cy="77760"/>
            </a:xfrm>
            <a:custGeom>
              <a:avLst/>
              <a:gdLst/>
              <a:ahLst/>
              <a:rect l="l" t="t" r="r" b="b"/>
              <a:pathLst>
                <a:path w="280" h="292">
                  <a:moveTo>
                    <a:pt x="278" y="6"/>
                  </a:moveTo>
                  <a:lnTo>
                    <a:pt x="278" y="6"/>
                  </a:lnTo>
                  <a:lnTo>
                    <a:pt x="274" y="2"/>
                  </a:lnTo>
                  <a:lnTo>
                    <a:pt x="268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0" y="2"/>
                  </a:lnTo>
                  <a:lnTo>
                    <a:pt x="136" y="4"/>
                  </a:lnTo>
                  <a:lnTo>
                    <a:pt x="134" y="8"/>
                  </a:lnTo>
                  <a:lnTo>
                    <a:pt x="132" y="14"/>
                  </a:lnTo>
                  <a:lnTo>
                    <a:pt x="132" y="14"/>
                  </a:lnTo>
                  <a:lnTo>
                    <a:pt x="134" y="18"/>
                  </a:lnTo>
                  <a:lnTo>
                    <a:pt x="136" y="22"/>
                  </a:lnTo>
                  <a:lnTo>
                    <a:pt x="136" y="22"/>
                  </a:lnTo>
                  <a:lnTo>
                    <a:pt x="140" y="28"/>
                  </a:lnTo>
                  <a:lnTo>
                    <a:pt x="186" y="74"/>
                  </a:lnTo>
                  <a:lnTo>
                    <a:pt x="186" y="74"/>
                  </a:lnTo>
                  <a:lnTo>
                    <a:pt x="186" y="74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0" y="274"/>
                  </a:lnTo>
                  <a:lnTo>
                    <a:pt x="2" y="276"/>
                  </a:lnTo>
                  <a:lnTo>
                    <a:pt x="8" y="284"/>
                  </a:lnTo>
                  <a:lnTo>
                    <a:pt x="8" y="284"/>
                  </a:lnTo>
                  <a:lnTo>
                    <a:pt x="16" y="290"/>
                  </a:lnTo>
                  <a:lnTo>
                    <a:pt x="20" y="292"/>
                  </a:lnTo>
                  <a:lnTo>
                    <a:pt x="22" y="290"/>
                  </a:lnTo>
                  <a:lnTo>
                    <a:pt x="206" y="94"/>
                  </a:lnTo>
                  <a:lnTo>
                    <a:pt x="252" y="140"/>
                  </a:lnTo>
                  <a:lnTo>
                    <a:pt x="252" y="140"/>
                  </a:lnTo>
                  <a:lnTo>
                    <a:pt x="258" y="144"/>
                  </a:lnTo>
                  <a:lnTo>
                    <a:pt x="258" y="144"/>
                  </a:lnTo>
                  <a:lnTo>
                    <a:pt x="262" y="148"/>
                  </a:lnTo>
                  <a:lnTo>
                    <a:pt x="268" y="148"/>
                  </a:lnTo>
                  <a:lnTo>
                    <a:pt x="268" y="148"/>
                  </a:lnTo>
                  <a:lnTo>
                    <a:pt x="272" y="148"/>
                  </a:lnTo>
                  <a:lnTo>
                    <a:pt x="276" y="144"/>
                  </a:lnTo>
                  <a:lnTo>
                    <a:pt x="280" y="140"/>
                  </a:lnTo>
                  <a:lnTo>
                    <a:pt x="280" y="134"/>
                  </a:lnTo>
                  <a:lnTo>
                    <a:pt x="280" y="14"/>
                  </a:lnTo>
                  <a:lnTo>
                    <a:pt x="280" y="14"/>
                  </a:lnTo>
                  <a:lnTo>
                    <a:pt x="280" y="10"/>
                  </a:lnTo>
                  <a:lnTo>
                    <a:pt x="278" y="6"/>
                  </a:lnTo>
                  <a:lnTo>
                    <a:pt x="2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218"/>
            <p:cNvSpPr/>
            <p:nvPr/>
          </p:nvSpPr>
          <p:spPr>
            <a:xfrm flipV="1">
              <a:off x="7385040" y="280800"/>
              <a:ext cx="328680" cy="216000"/>
            </a:xfrm>
            <a:prstGeom prst="line">
              <a:avLst/>
            </a:prstGeom>
            <a:ln w="1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Freeform 69"/>
          <p:cNvSpPr/>
          <p:nvPr/>
        </p:nvSpPr>
        <p:spPr>
          <a:xfrm rot="16200000">
            <a:off x="6698160" y="24480"/>
            <a:ext cx="2470320" cy="2421000"/>
          </a:xfrm>
          <a:custGeom>
            <a:avLst/>
            <a:gdLst/>
            <a:ahLst/>
            <a:rect l="l" t="t" r="r" b="b"/>
            <a:pathLst>
              <a:path w="989" h="971">
                <a:moveTo>
                  <a:pt x="969" y="325"/>
                </a:moveTo>
                <a:cubicBezTo>
                  <a:pt x="969" y="396"/>
                  <a:pt x="911" y="454"/>
                  <a:pt x="840" y="454"/>
                </a:cubicBezTo>
                <a:cubicBezTo>
                  <a:pt x="811" y="454"/>
                  <a:pt x="785" y="445"/>
                  <a:pt x="763" y="429"/>
                </a:cubicBezTo>
                <a:cubicBezTo>
                  <a:pt x="742" y="456"/>
                  <a:pt x="720" y="482"/>
                  <a:pt x="698" y="507"/>
                </a:cubicBezTo>
                <a:cubicBezTo>
                  <a:pt x="725" y="531"/>
                  <a:pt x="741" y="565"/>
                  <a:pt x="741" y="604"/>
                </a:cubicBezTo>
                <a:cubicBezTo>
                  <a:pt x="741" y="675"/>
                  <a:pt x="683" y="733"/>
                  <a:pt x="612" y="733"/>
                </a:cubicBezTo>
                <a:cubicBezTo>
                  <a:pt x="571" y="733"/>
                  <a:pt x="534" y="713"/>
                  <a:pt x="510" y="683"/>
                </a:cubicBezTo>
                <a:cubicBezTo>
                  <a:pt x="484" y="705"/>
                  <a:pt x="457" y="725"/>
                  <a:pt x="430" y="744"/>
                </a:cubicBezTo>
                <a:cubicBezTo>
                  <a:pt x="447" y="765"/>
                  <a:pt x="456" y="792"/>
                  <a:pt x="456" y="821"/>
                </a:cubicBezTo>
                <a:cubicBezTo>
                  <a:pt x="456" y="892"/>
                  <a:pt x="399" y="950"/>
                  <a:pt x="327" y="950"/>
                </a:cubicBezTo>
                <a:cubicBezTo>
                  <a:pt x="276" y="950"/>
                  <a:pt x="232" y="921"/>
                  <a:pt x="211" y="878"/>
                </a:cubicBezTo>
                <a:cubicBezTo>
                  <a:pt x="124" y="923"/>
                  <a:pt x="50" y="953"/>
                  <a:pt x="0" y="971"/>
                </a:cubicBezTo>
                <a:cubicBezTo>
                  <a:pt x="989" y="971"/>
                  <a:pt x="989" y="971"/>
                  <a:pt x="989" y="971"/>
                </a:cubicBezTo>
                <a:cubicBezTo>
                  <a:pt x="989" y="0"/>
                  <a:pt x="989" y="0"/>
                  <a:pt x="989" y="0"/>
                </a:cubicBezTo>
                <a:cubicBezTo>
                  <a:pt x="965" y="76"/>
                  <a:pt x="936" y="146"/>
                  <a:pt x="902" y="212"/>
                </a:cubicBezTo>
                <a:cubicBezTo>
                  <a:pt x="942" y="234"/>
                  <a:pt x="969" y="276"/>
                  <a:pt x="969" y="325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70"/>
          <p:cNvSpPr/>
          <p:nvPr/>
        </p:nvSpPr>
        <p:spPr>
          <a:xfrm rot="16200000">
            <a:off x="6748200" y="-222120"/>
            <a:ext cx="268560" cy="716040"/>
          </a:xfrm>
          <a:custGeom>
            <a:avLst/>
            <a:gdLst/>
            <a:ahLst/>
            <a:rect l="l" t="t" r="r" b="b"/>
            <a:pathLst>
              <a:path w="108" h="287">
                <a:moveTo>
                  <a:pt x="108" y="38"/>
                </a:moveTo>
                <a:cubicBezTo>
                  <a:pt x="108" y="0"/>
                  <a:pt x="108" y="0"/>
                  <a:pt x="108" y="0"/>
                </a:cubicBezTo>
                <a:cubicBezTo>
                  <a:pt x="82" y="104"/>
                  <a:pt x="45" y="198"/>
                  <a:pt x="0" y="283"/>
                </a:cubicBezTo>
                <a:cubicBezTo>
                  <a:pt x="4" y="284"/>
                  <a:pt x="7" y="285"/>
                  <a:pt x="10" y="287"/>
                </a:cubicBezTo>
                <a:cubicBezTo>
                  <a:pt x="49" y="211"/>
                  <a:pt x="83" y="128"/>
                  <a:pt x="108" y="38"/>
                </a:cubicBezTo>
                <a:close/>
              </a:path>
            </a:pathLst>
          </a:custGeom>
          <a:solidFill>
            <a:srgbClr val="0099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71"/>
          <p:cNvSpPr/>
          <p:nvPr/>
        </p:nvSpPr>
        <p:spPr>
          <a:xfrm rot="16200000">
            <a:off x="8659080" y="2156400"/>
            <a:ext cx="685800" cy="284040"/>
          </a:xfrm>
          <a:custGeom>
            <a:avLst/>
            <a:gdLst/>
            <a:ahLst/>
            <a:rect l="l" t="t" r="r" b="b"/>
            <a:pathLst>
              <a:path w="275" h="114">
                <a:moveTo>
                  <a:pt x="0" y="114"/>
                </a:moveTo>
                <a:cubicBezTo>
                  <a:pt x="33" y="114"/>
                  <a:pt x="33" y="114"/>
                  <a:pt x="33" y="114"/>
                </a:cubicBezTo>
                <a:cubicBezTo>
                  <a:pt x="78" y="99"/>
                  <a:pt x="167" y="66"/>
                  <a:pt x="275" y="10"/>
                </a:cubicBezTo>
                <a:cubicBezTo>
                  <a:pt x="274" y="7"/>
                  <a:pt x="273" y="3"/>
                  <a:pt x="272" y="0"/>
                </a:cubicBezTo>
                <a:cubicBezTo>
                  <a:pt x="128" y="75"/>
                  <a:pt x="18" y="109"/>
                  <a:pt x="0" y="114"/>
                </a:cubicBezTo>
                <a:close/>
              </a:path>
            </a:pathLst>
          </a:custGeom>
          <a:solidFill>
            <a:srgbClr val="0099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7958160" y="657000"/>
            <a:ext cx="549360" cy="554040"/>
            <a:chOff x="7958160" y="657000"/>
            <a:chExt cx="549360" cy="554040"/>
          </a:xfrm>
        </p:grpSpPr>
        <p:sp>
          <p:nvSpPr>
            <p:cNvPr id="18" name="Freeform 73"/>
            <p:cNvSpPr/>
            <p:nvPr/>
          </p:nvSpPr>
          <p:spPr>
            <a:xfrm rot="16200000">
              <a:off x="7955640" y="659160"/>
              <a:ext cx="554040" cy="54936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170" y="7"/>
                  </a:moveTo>
                  <a:cubicBezTo>
                    <a:pt x="157" y="3"/>
                    <a:pt x="143" y="0"/>
                    <a:pt x="129" y="0"/>
                  </a:cubicBezTo>
                  <a:cubicBezTo>
                    <a:pt x="57" y="0"/>
                    <a:pt x="0" y="58"/>
                    <a:pt x="0" y="129"/>
                  </a:cubicBezTo>
                  <a:cubicBezTo>
                    <a:pt x="0" y="164"/>
                    <a:pt x="13" y="195"/>
                    <a:pt x="35" y="218"/>
                  </a:cubicBezTo>
                  <a:cubicBezTo>
                    <a:pt x="37" y="220"/>
                    <a:pt x="40" y="223"/>
                    <a:pt x="42" y="225"/>
                  </a:cubicBezTo>
                  <a:cubicBezTo>
                    <a:pt x="45" y="228"/>
                    <a:pt x="49" y="230"/>
                    <a:pt x="52" y="233"/>
                  </a:cubicBezTo>
                  <a:cubicBezTo>
                    <a:pt x="74" y="249"/>
                    <a:pt x="100" y="258"/>
                    <a:pt x="129" y="258"/>
                  </a:cubicBezTo>
                  <a:cubicBezTo>
                    <a:pt x="200" y="258"/>
                    <a:pt x="258" y="200"/>
                    <a:pt x="258" y="129"/>
                  </a:cubicBezTo>
                  <a:cubicBezTo>
                    <a:pt x="258" y="80"/>
                    <a:pt x="231" y="38"/>
                    <a:pt x="191" y="16"/>
                  </a:cubicBezTo>
                  <a:cubicBezTo>
                    <a:pt x="187" y="14"/>
                    <a:pt x="184" y="12"/>
                    <a:pt x="180" y="11"/>
                  </a:cubicBezTo>
                  <a:cubicBezTo>
                    <a:pt x="177" y="9"/>
                    <a:pt x="174" y="8"/>
                    <a:pt x="17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7ed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" name=""/>
            <p:cNvGrpSpPr/>
            <p:nvPr/>
          </p:nvGrpSpPr>
          <p:grpSpPr>
            <a:xfrm>
              <a:off x="7972920" y="768600"/>
              <a:ext cx="519120" cy="441360"/>
              <a:chOff x="7972920" y="768600"/>
              <a:chExt cx="519120" cy="441360"/>
            </a:xfrm>
          </p:grpSpPr>
          <p:sp>
            <p:nvSpPr>
              <p:cNvPr id="20" name="Freeform 75"/>
              <p:cNvSpPr/>
              <p:nvPr/>
            </p:nvSpPr>
            <p:spPr>
              <a:xfrm>
                <a:off x="8215560" y="109800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4" h="29">
                    <a:moveTo>
                      <a:pt x="1" y="3"/>
                    </a:moveTo>
                    <a:lnTo>
                      <a:pt x="1" y="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12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76"/>
              <p:cNvSpPr/>
              <p:nvPr/>
            </p:nvSpPr>
            <p:spPr>
              <a:xfrm>
                <a:off x="8119440" y="768600"/>
                <a:ext cx="197640" cy="441360"/>
              </a:xfrm>
              <a:custGeom>
                <a:avLst/>
                <a:gdLst/>
                <a:ahLst/>
                <a:rect l="l" t="t" r="r" b="b"/>
                <a:pathLst>
                  <a:path w="685" h="1512">
                    <a:moveTo>
                      <a:pt x="681" y="674"/>
                    </a:moveTo>
                    <a:lnTo>
                      <a:pt x="681" y="674"/>
                    </a:lnTo>
                    <a:lnTo>
                      <a:pt x="672" y="658"/>
                    </a:lnTo>
                    <a:lnTo>
                      <a:pt x="672" y="658"/>
                    </a:lnTo>
                    <a:lnTo>
                      <a:pt x="662" y="645"/>
                    </a:lnTo>
                    <a:lnTo>
                      <a:pt x="662" y="645"/>
                    </a:lnTo>
                    <a:lnTo>
                      <a:pt x="650" y="632"/>
                    </a:lnTo>
                    <a:lnTo>
                      <a:pt x="650" y="632"/>
                    </a:lnTo>
                    <a:lnTo>
                      <a:pt x="635" y="621"/>
                    </a:lnTo>
                    <a:lnTo>
                      <a:pt x="635" y="621"/>
                    </a:lnTo>
                    <a:lnTo>
                      <a:pt x="622" y="612"/>
                    </a:lnTo>
                    <a:lnTo>
                      <a:pt x="622" y="612"/>
                    </a:lnTo>
                    <a:lnTo>
                      <a:pt x="609" y="603"/>
                    </a:lnTo>
                    <a:lnTo>
                      <a:pt x="609" y="603"/>
                    </a:lnTo>
                    <a:lnTo>
                      <a:pt x="598" y="595"/>
                    </a:lnTo>
                    <a:lnTo>
                      <a:pt x="598" y="595"/>
                    </a:lnTo>
                    <a:lnTo>
                      <a:pt x="584" y="588"/>
                    </a:lnTo>
                    <a:lnTo>
                      <a:pt x="584" y="588"/>
                    </a:lnTo>
                    <a:lnTo>
                      <a:pt x="570" y="581"/>
                    </a:lnTo>
                    <a:lnTo>
                      <a:pt x="570" y="581"/>
                    </a:lnTo>
                    <a:lnTo>
                      <a:pt x="558" y="577"/>
                    </a:lnTo>
                    <a:lnTo>
                      <a:pt x="558" y="577"/>
                    </a:lnTo>
                    <a:lnTo>
                      <a:pt x="548" y="573"/>
                    </a:lnTo>
                    <a:lnTo>
                      <a:pt x="548" y="573"/>
                    </a:lnTo>
                    <a:lnTo>
                      <a:pt x="534" y="567"/>
                    </a:lnTo>
                    <a:lnTo>
                      <a:pt x="534" y="567"/>
                    </a:lnTo>
                    <a:lnTo>
                      <a:pt x="524" y="564"/>
                    </a:lnTo>
                    <a:lnTo>
                      <a:pt x="524" y="564"/>
                    </a:lnTo>
                    <a:lnTo>
                      <a:pt x="514" y="559"/>
                    </a:lnTo>
                    <a:lnTo>
                      <a:pt x="514" y="559"/>
                    </a:lnTo>
                    <a:lnTo>
                      <a:pt x="504" y="553"/>
                    </a:lnTo>
                    <a:lnTo>
                      <a:pt x="504" y="553"/>
                    </a:lnTo>
                    <a:lnTo>
                      <a:pt x="492" y="546"/>
                    </a:lnTo>
                    <a:lnTo>
                      <a:pt x="492" y="546"/>
                    </a:lnTo>
                    <a:lnTo>
                      <a:pt x="482" y="540"/>
                    </a:lnTo>
                    <a:lnTo>
                      <a:pt x="482" y="540"/>
                    </a:lnTo>
                    <a:lnTo>
                      <a:pt x="472" y="535"/>
                    </a:lnTo>
                    <a:lnTo>
                      <a:pt x="472" y="535"/>
                    </a:lnTo>
                    <a:lnTo>
                      <a:pt x="463" y="530"/>
                    </a:lnTo>
                    <a:lnTo>
                      <a:pt x="463" y="530"/>
                    </a:lnTo>
                    <a:lnTo>
                      <a:pt x="455" y="526"/>
                    </a:lnTo>
                    <a:lnTo>
                      <a:pt x="455" y="526"/>
                    </a:lnTo>
                    <a:lnTo>
                      <a:pt x="448" y="522"/>
                    </a:lnTo>
                    <a:lnTo>
                      <a:pt x="448" y="522"/>
                    </a:lnTo>
                    <a:lnTo>
                      <a:pt x="441" y="516"/>
                    </a:lnTo>
                    <a:lnTo>
                      <a:pt x="441" y="516"/>
                    </a:lnTo>
                    <a:lnTo>
                      <a:pt x="434" y="511"/>
                    </a:lnTo>
                    <a:lnTo>
                      <a:pt x="434" y="511"/>
                    </a:lnTo>
                    <a:lnTo>
                      <a:pt x="429" y="504"/>
                    </a:lnTo>
                    <a:lnTo>
                      <a:pt x="429" y="504"/>
                    </a:lnTo>
                    <a:lnTo>
                      <a:pt x="426" y="495"/>
                    </a:lnTo>
                    <a:lnTo>
                      <a:pt x="426" y="495"/>
                    </a:lnTo>
                    <a:lnTo>
                      <a:pt x="424" y="487"/>
                    </a:lnTo>
                    <a:lnTo>
                      <a:pt x="424" y="487"/>
                    </a:lnTo>
                    <a:lnTo>
                      <a:pt x="424" y="479"/>
                    </a:lnTo>
                    <a:lnTo>
                      <a:pt x="424" y="479"/>
                    </a:lnTo>
                    <a:lnTo>
                      <a:pt x="424" y="472"/>
                    </a:lnTo>
                    <a:lnTo>
                      <a:pt x="424" y="472"/>
                    </a:lnTo>
                    <a:lnTo>
                      <a:pt x="424" y="464"/>
                    </a:lnTo>
                    <a:lnTo>
                      <a:pt x="424" y="464"/>
                    </a:lnTo>
                    <a:lnTo>
                      <a:pt x="424" y="458"/>
                    </a:lnTo>
                    <a:lnTo>
                      <a:pt x="424" y="458"/>
                    </a:lnTo>
                    <a:lnTo>
                      <a:pt x="424" y="449"/>
                    </a:lnTo>
                    <a:lnTo>
                      <a:pt x="424" y="449"/>
                    </a:lnTo>
                    <a:lnTo>
                      <a:pt x="424" y="441"/>
                    </a:lnTo>
                    <a:lnTo>
                      <a:pt x="424" y="441"/>
                    </a:lnTo>
                    <a:lnTo>
                      <a:pt x="425" y="433"/>
                    </a:lnTo>
                    <a:lnTo>
                      <a:pt x="425" y="433"/>
                    </a:lnTo>
                    <a:lnTo>
                      <a:pt x="425" y="425"/>
                    </a:lnTo>
                    <a:lnTo>
                      <a:pt x="425" y="425"/>
                    </a:lnTo>
                    <a:lnTo>
                      <a:pt x="425" y="418"/>
                    </a:lnTo>
                    <a:lnTo>
                      <a:pt x="425" y="418"/>
                    </a:lnTo>
                    <a:lnTo>
                      <a:pt x="426" y="410"/>
                    </a:lnTo>
                    <a:lnTo>
                      <a:pt x="426" y="410"/>
                    </a:lnTo>
                    <a:lnTo>
                      <a:pt x="429" y="405"/>
                    </a:lnTo>
                    <a:lnTo>
                      <a:pt x="429" y="405"/>
                    </a:lnTo>
                    <a:lnTo>
                      <a:pt x="432" y="400"/>
                    </a:lnTo>
                    <a:lnTo>
                      <a:pt x="432" y="400"/>
                    </a:lnTo>
                    <a:lnTo>
                      <a:pt x="437" y="395"/>
                    </a:lnTo>
                    <a:lnTo>
                      <a:pt x="437" y="395"/>
                    </a:lnTo>
                    <a:lnTo>
                      <a:pt x="442" y="388"/>
                    </a:lnTo>
                    <a:lnTo>
                      <a:pt x="442" y="388"/>
                    </a:lnTo>
                    <a:lnTo>
                      <a:pt x="448" y="382"/>
                    </a:lnTo>
                    <a:lnTo>
                      <a:pt x="448" y="382"/>
                    </a:lnTo>
                    <a:lnTo>
                      <a:pt x="453" y="374"/>
                    </a:lnTo>
                    <a:lnTo>
                      <a:pt x="453" y="374"/>
                    </a:lnTo>
                    <a:lnTo>
                      <a:pt x="456" y="367"/>
                    </a:lnTo>
                    <a:lnTo>
                      <a:pt x="456" y="367"/>
                    </a:lnTo>
                    <a:lnTo>
                      <a:pt x="460" y="360"/>
                    </a:lnTo>
                    <a:lnTo>
                      <a:pt x="460" y="360"/>
                    </a:lnTo>
                    <a:lnTo>
                      <a:pt x="462" y="351"/>
                    </a:lnTo>
                    <a:lnTo>
                      <a:pt x="462" y="351"/>
                    </a:lnTo>
                    <a:lnTo>
                      <a:pt x="465" y="342"/>
                    </a:lnTo>
                    <a:lnTo>
                      <a:pt x="465" y="342"/>
                    </a:lnTo>
                    <a:lnTo>
                      <a:pt x="466" y="336"/>
                    </a:lnTo>
                    <a:lnTo>
                      <a:pt x="466" y="336"/>
                    </a:lnTo>
                    <a:lnTo>
                      <a:pt x="467" y="329"/>
                    </a:lnTo>
                    <a:lnTo>
                      <a:pt x="467" y="329"/>
                    </a:lnTo>
                    <a:lnTo>
                      <a:pt x="468" y="320"/>
                    </a:lnTo>
                    <a:lnTo>
                      <a:pt x="468" y="320"/>
                    </a:lnTo>
                    <a:lnTo>
                      <a:pt x="468" y="312"/>
                    </a:lnTo>
                    <a:lnTo>
                      <a:pt x="468" y="312"/>
                    </a:lnTo>
                    <a:lnTo>
                      <a:pt x="468" y="303"/>
                    </a:lnTo>
                    <a:lnTo>
                      <a:pt x="468" y="303"/>
                    </a:lnTo>
                    <a:lnTo>
                      <a:pt x="468" y="297"/>
                    </a:lnTo>
                    <a:lnTo>
                      <a:pt x="468" y="297"/>
                    </a:lnTo>
                    <a:lnTo>
                      <a:pt x="468" y="291"/>
                    </a:lnTo>
                    <a:lnTo>
                      <a:pt x="468" y="291"/>
                    </a:lnTo>
                    <a:lnTo>
                      <a:pt x="468" y="282"/>
                    </a:lnTo>
                    <a:lnTo>
                      <a:pt x="468" y="282"/>
                    </a:lnTo>
                    <a:lnTo>
                      <a:pt x="469" y="271"/>
                    </a:lnTo>
                    <a:lnTo>
                      <a:pt x="469" y="271"/>
                    </a:lnTo>
                    <a:lnTo>
                      <a:pt x="468" y="263"/>
                    </a:lnTo>
                    <a:lnTo>
                      <a:pt x="468" y="263"/>
                    </a:lnTo>
                    <a:lnTo>
                      <a:pt x="468" y="255"/>
                    </a:lnTo>
                    <a:lnTo>
                      <a:pt x="468" y="255"/>
                    </a:lnTo>
                    <a:lnTo>
                      <a:pt x="467" y="247"/>
                    </a:lnTo>
                    <a:lnTo>
                      <a:pt x="467" y="247"/>
                    </a:lnTo>
                    <a:lnTo>
                      <a:pt x="466" y="240"/>
                    </a:lnTo>
                    <a:lnTo>
                      <a:pt x="466" y="240"/>
                    </a:lnTo>
                    <a:lnTo>
                      <a:pt x="467" y="231"/>
                    </a:lnTo>
                    <a:lnTo>
                      <a:pt x="467" y="231"/>
                    </a:lnTo>
                    <a:lnTo>
                      <a:pt x="467" y="222"/>
                    </a:lnTo>
                    <a:lnTo>
                      <a:pt x="467" y="222"/>
                    </a:lnTo>
                    <a:lnTo>
                      <a:pt x="466" y="212"/>
                    </a:lnTo>
                    <a:lnTo>
                      <a:pt x="466" y="212"/>
                    </a:lnTo>
                    <a:lnTo>
                      <a:pt x="468" y="203"/>
                    </a:lnTo>
                    <a:lnTo>
                      <a:pt x="468" y="203"/>
                    </a:lnTo>
                    <a:lnTo>
                      <a:pt x="467" y="194"/>
                    </a:lnTo>
                    <a:lnTo>
                      <a:pt x="467" y="194"/>
                    </a:lnTo>
                    <a:lnTo>
                      <a:pt x="467" y="187"/>
                    </a:lnTo>
                    <a:lnTo>
                      <a:pt x="467" y="187"/>
                    </a:lnTo>
                    <a:lnTo>
                      <a:pt x="466" y="178"/>
                    </a:lnTo>
                    <a:lnTo>
                      <a:pt x="466" y="178"/>
                    </a:lnTo>
                    <a:lnTo>
                      <a:pt x="466" y="171"/>
                    </a:lnTo>
                    <a:lnTo>
                      <a:pt x="466" y="171"/>
                    </a:lnTo>
                    <a:lnTo>
                      <a:pt x="465" y="161"/>
                    </a:lnTo>
                    <a:lnTo>
                      <a:pt x="465" y="161"/>
                    </a:lnTo>
                    <a:lnTo>
                      <a:pt x="464" y="153"/>
                    </a:lnTo>
                    <a:lnTo>
                      <a:pt x="464" y="153"/>
                    </a:lnTo>
                    <a:lnTo>
                      <a:pt x="463" y="143"/>
                    </a:lnTo>
                    <a:lnTo>
                      <a:pt x="463" y="143"/>
                    </a:lnTo>
                    <a:lnTo>
                      <a:pt x="463" y="134"/>
                    </a:lnTo>
                    <a:lnTo>
                      <a:pt x="463" y="134"/>
                    </a:lnTo>
                    <a:lnTo>
                      <a:pt x="462" y="128"/>
                    </a:lnTo>
                    <a:lnTo>
                      <a:pt x="462" y="128"/>
                    </a:lnTo>
                    <a:lnTo>
                      <a:pt x="459" y="120"/>
                    </a:lnTo>
                    <a:lnTo>
                      <a:pt x="459" y="120"/>
                    </a:lnTo>
                    <a:lnTo>
                      <a:pt x="459" y="114"/>
                    </a:lnTo>
                    <a:lnTo>
                      <a:pt x="459" y="114"/>
                    </a:lnTo>
                    <a:lnTo>
                      <a:pt x="456" y="109"/>
                    </a:lnTo>
                    <a:lnTo>
                      <a:pt x="456" y="109"/>
                    </a:lnTo>
                    <a:lnTo>
                      <a:pt x="453" y="103"/>
                    </a:lnTo>
                    <a:lnTo>
                      <a:pt x="453" y="103"/>
                    </a:lnTo>
                    <a:lnTo>
                      <a:pt x="451" y="96"/>
                    </a:lnTo>
                    <a:lnTo>
                      <a:pt x="451" y="96"/>
                    </a:lnTo>
                    <a:lnTo>
                      <a:pt x="451" y="90"/>
                    </a:lnTo>
                    <a:lnTo>
                      <a:pt x="451" y="90"/>
                    </a:lnTo>
                    <a:lnTo>
                      <a:pt x="449" y="83"/>
                    </a:lnTo>
                    <a:lnTo>
                      <a:pt x="449" y="83"/>
                    </a:lnTo>
                    <a:lnTo>
                      <a:pt x="448" y="76"/>
                    </a:lnTo>
                    <a:lnTo>
                      <a:pt x="448" y="76"/>
                    </a:lnTo>
                    <a:lnTo>
                      <a:pt x="445" y="68"/>
                    </a:lnTo>
                    <a:lnTo>
                      <a:pt x="445" y="68"/>
                    </a:lnTo>
                    <a:lnTo>
                      <a:pt x="441" y="62"/>
                    </a:lnTo>
                    <a:lnTo>
                      <a:pt x="441" y="62"/>
                    </a:lnTo>
                    <a:lnTo>
                      <a:pt x="438" y="57"/>
                    </a:lnTo>
                    <a:lnTo>
                      <a:pt x="438" y="57"/>
                    </a:lnTo>
                    <a:lnTo>
                      <a:pt x="430" y="45"/>
                    </a:lnTo>
                    <a:lnTo>
                      <a:pt x="430" y="45"/>
                    </a:lnTo>
                    <a:lnTo>
                      <a:pt x="425" y="40"/>
                    </a:lnTo>
                    <a:lnTo>
                      <a:pt x="425" y="40"/>
                    </a:lnTo>
                    <a:lnTo>
                      <a:pt x="419" y="37"/>
                    </a:lnTo>
                    <a:lnTo>
                      <a:pt x="419" y="37"/>
                    </a:lnTo>
                    <a:lnTo>
                      <a:pt x="415" y="32"/>
                    </a:lnTo>
                    <a:lnTo>
                      <a:pt x="415" y="32"/>
                    </a:lnTo>
                    <a:lnTo>
                      <a:pt x="408" y="28"/>
                    </a:lnTo>
                    <a:lnTo>
                      <a:pt x="408" y="28"/>
                    </a:lnTo>
                    <a:lnTo>
                      <a:pt x="403" y="23"/>
                    </a:lnTo>
                    <a:lnTo>
                      <a:pt x="403" y="23"/>
                    </a:lnTo>
                    <a:lnTo>
                      <a:pt x="398" y="18"/>
                    </a:lnTo>
                    <a:lnTo>
                      <a:pt x="398" y="18"/>
                    </a:lnTo>
                    <a:lnTo>
                      <a:pt x="394" y="12"/>
                    </a:lnTo>
                    <a:lnTo>
                      <a:pt x="394" y="12"/>
                    </a:lnTo>
                    <a:lnTo>
                      <a:pt x="395" y="18"/>
                    </a:lnTo>
                    <a:lnTo>
                      <a:pt x="395" y="18"/>
                    </a:lnTo>
                    <a:lnTo>
                      <a:pt x="395" y="22"/>
                    </a:lnTo>
                    <a:lnTo>
                      <a:pt x="395" y="22"/>
                    </a:lnTo>
                    <a:lnTo>
                      <a:pt x="394" y="22"/>
                    </a:lnTo>
                    <a:lnTo>
                      <a:pt x="388" y="18"/>
                    </a:lnTo>
                    <a:lnTo>
                      <a:pt x="388" y="18"/>
                    </a:lnTo>
                    <a:lnTo>
                      <a:pt x="383" y="14"/>
                    </a:lnTo>
                    <a:lnTo>
                      <a:pt x="382" y="13"/>
                    </a:lnTo>
                    <a:lnTo>
                      <a:pt x="382" y="13"/>
                    </a:lnTo>
                    <a:lnTo>
                      <a:pt x="370" y="10"/>
                    </a:lnTo>
                    <a:lnTo>
                      <a:pt x="370" y="10"/>
                    </a:lnTo>
                    <a:lnTo>
                      <a:pt x="363" y="6"/>
                    </a:lnTo>
                    <a:lnTo>
                      <a:pt x="363" y="6"/>
                    </a:lnTo>
                    <a:lnTo>
                      <a:pt x="358" y="1"/>
                    </a:lnTo>
                    <a:lnTo>
                      <a:pt x="358" y="1"/>
                    </a:lnTo>
                    <a:lnTo>
                      <a:pt x="352" y="0"/>
                    </a:lnTo>
                    <a:lnTo>
                      <a:pt x="352" y="0"/>
                    </a:lnTo>
                    <a:lnTo>
                      <a:pt x="342" y="2"/>
                    </a:lnTo>
                    <a:lnTo>
                      <a:pt x="342" y="2"/>
                    </a:lnTo>
                    <a:lnTo>
                      <a:pt x="335" y="7"/>
                    </a:lnTo>
                    <a:lnTo>
                      <a:pt x="335" y="7"/>
                    </a:lnTo>
                    <a:lnTo>
                      <a:pt x="330" y="12"/>
                    </a:lnTo>
                    <a:lnTo>
                      <a:pt x="330" y="12"/>
                    </a:lnTo>
                    <a:lnTo>
                      <a:pt x="326" y="19"/>
                    </a:lnTo>
                    <a:lnTo>
                      <a:pt x="326" y="19"/>
                    </a:lnTo>
                    <a:lnTo>
                      <a:pt x="320" y="24"/>
                    </a:lnTo>
                    <a:lnTo>
                      <a:pt x="320" y="24"/>
                    </a:lnTo>
                    <a:lnTo>
                      <a:pt x="310" y="28"/>
                    </a:lnTo>
                    <a:lnTo>
                      <a:pt x="310" y="28"/>
                    </a:lnTo>
                    <a:lnTo>
                      <a:pt x="305" y="29"/>
                    </a:lnTo>
                    <a:lnTo>
                      <a:pt x="305" y="29"/>
                    </a:lnTo>
                    <a:lnTo>
                      <a:pt x="300" y="28"/>
                    </a:lnTo>
                    <a:lnTo>
                      <a:pt x="300" y="28"/>
                    </a:lnTo>
                    <a:lnTo>
                      <a:pt x="297" y="28"/>
                    </a:lnTo>
                    <a:lnTo>
                      <a:pt x="297" y="28"/>
                    </a:lnTo>
                    <a:lnTo>
                      <a:pt x="290" y="33"/>
                    </a:lnTo>
                    <a:lnTo>
                      <a:pt x="290" y="33"/>
                    </a:lnTo>
                    <a:lnTo>
                      <a:pt x="285" y="39"/>
                    </a:lnTo>
                    <a:lnTo>
                      <a:pt x="285" y="39"/>
                    </a:lnTo>
                    <a:lnTo>
                      <a:pt x="279" y="44"/>
                    </a:lnTo>
                    <a:lnTo>
                      <a:pt x="279" y="44"/>
                    </a:lnTo>
                    <a:lnTo>
                      <a:pt x="268" y="50"/>
                    </a:lnTo>
                    <a:lnTo>
                      <a:pt x="268" y="50"/>
                    </a:lnTo>
                    <a:lnTo>
                      <a:pt x="257" y="52"/>
                    </a:lnTo>
                    <a:lnTo>
                      <a:pt x="257" y="52"/>
                    </a:lnTo>
                    <a:lnTo>
                      <a:pt x="249" y="57"/>
                    </a:lnTo>
                    <a:lnTo>
                      <a:pt x="249" y="57"/>
                    </a:lnTo>
                    <a:lnTo>
                      <a:pt x="239" y="63"/>
                    </a:lnTo>
                    <a:lnTo>
                      <a:pt x="239" y="63"/>
                    </a:lnTo>
                    <a:lnTo>
                      <a:pt x="232" y="70"/>
                    </a:lnTo>
                    <a:lnTo>
                      <a:pt x="232" y="70"/>
                    </a:lnTo>
                    <a:lnTo>
                      <a:pt x="224" y="76"/>
                    </a:lnTo>
                    <a:lnTo>
                      <a:pt x="224" y="76"/>
                    </a:lnTo>
                    <a:lnTo>
                      <a:pt x="217" y="85"/>
                    </a:lnTo>
                    <a:lnTo>
                      <a:pt x="217" y="85"/>
                    </a:lnTo>
                    <a:lnTo>
                      <a:pt x="210" y="95"/>
                    </a:lnTo>
                    <a:lnTo>
                      <a:pt x="210" y="95"/>
                    </a:lnTo>
                    <a:lnTo>
                      <a:pt x="203" y="102"/>
                    </a:lnTo>
                    <a:lnTo>
                      <a:pt x="203" y="102"/>
                    </a:lnTo>
                    <a:lnTo>
                      <a:pt x="196" y="110"/>
                    </a:lnTo>
                    <a:lnTo>
                      <a:pt x="196" y="110"/>
                    </a:lnTo>
                    <a:lnTo>
                      <a:pt x="192" y="118"/>
                    </a:lnTo>
                    <a:lnTo>
                      <a:pt x="192" y="118"/>
                    </a:lnTo>
                    <a:lnTo>
                      <a:pt x="188" y="129"/>
                    </a:lnTo>
                    <a:lnTo>
                      <a:pt x="188" y="129"/>
                    </a:lnTo>
                    <a:lnTo>
                      <a:pt x="184" y="140"/>
                    </a:lnTo>
                    <a:lnTo>
                      <a:pt x="184" y="140"/>
                    </a:lnTo>
                    <a:lnTo>
                      <a:pt x="182" y="153"/>
                    </a:lnTo>
                    <a:lnTo>
                      <a:pt x="182" y="153"/>
                    </a:lnTo>
                    <a:lnTo>
                      <a:pt x="180" y="165"/>
                    </a:lnTo>
                    <a:lnTo>
                      <a:pt x="180" y="165"/>
                    </a:lnTo>
                    <a:lnTo>
                      <a:pt x="181" y="178"/>
                    </a:lnTo>
                    <a:lnTo>
                      <a:pt x="181" y="178"/>
                    </a:lnTo>
                    <a:lnTo>
                      <a:pt x="181" y="191"/>
                    </a:lnTo>
                    <a:lnTo>
                      <a:pt x="181" y="191"/>
                    </a:lnTo>
                    <a:lnTo>
                      <a:pt x="182" y="202"/>
                    </a:lnTo>
                    <a:lnTo>
                      <a:pt x="182" y="202"/>
                    </a:lnTo>
                    <a:lnTo>
                      <a:pt x="183" y="212"/>
                    </a:lnTo>
                    <a:lnTo>
                      <a:pt x="183" y="212"/>
                    </a:lnTo>
                    <a:lnTo>
                      <a:pt x="184" y="224"/>
                    </a:lnTo>
                    <a:lnTo>
                      <a:pt x="184" y="224"/>
                    </a:lnTo>
                    <a:lnTo>
                      <a:pt x="185" y="235"/>
                    </a:lnTo>
                    <a:lnTo>
                      <a:pt x="185" y="235"/>
                    </a:lnTo>
                    <a:lnTo>
                      <a:pt x="182" y="234"/>
                    </a:lnTo>
                    <a:lnTo>
                      <a:pt x="182" y="234"/>
                    </a:lnTo>
                    <a:lnTo>
                      <a:pt x="178" y="236"/>
                    </a:lnTo>
                    <a:lnTo>
                      <a:pt x="175" y="239"/>
                    </a:lnTo>
                    <a:lnTo>
                      <a:pt x="173" y="242"/>
                    </a:lnTo>
                    <a:lnTo>
                      <a:pt x="172" y="245"/>
                    </a:lnTo>
                    <a:lnTo>
                      <a:pt x="172" y="251"/>
                    </a:lnTo>
                    <a:lnTo>
                      <a:pt x="172" y="253"/>
                    </a:lnTo>
                    <a:lnTo>
                      <a:pt x="172" y="253"/>
                    </a:lnTo>
                    <a:lnTo>
                      <a:pt x="174" y="264"/>
                    </a:lnTo>
                    <a:lnTo>
                      <a:pt x="174" y="264"/>
                    </a:lnTo>
                    <a:lnTo>
                      <a:pt x="177" y="274"/>
                    </a:lnTo>
                    <a:lnTo>
                      <a:pt x="177" y="274"/>
                    </a:lnTo>
                    <a:lnTo>
                      <a:pt x="179" y="285"/>
                    </a:lnTo>
                    <a:lnTo>
                      <a:pt x="179" y="285"/>
                    </a:lnTo>
                    <a:lnTo>
                      <a:pt x="181" y="295"/>
                    </a:lnTo>
                    <a:lnTo>
                      <a:pt x="181" y="295"/>
                    </a:lnTo>
                    <a:lnTo>
                      <a:pt x="184" y="305"/>
                    </a:lnTo>
                    <a:lnTo>
                      <a:pt x="184" y="305"/>
                    </a:lnTo>
                    <a:lnTo>
                      <a:pt x="188" y="312"/>
                    </a:lnTo>
                    <a:lnTo>
                      <a:pt x="188" y="312"/>
                    </a:lnTo>
                    <a:lnTo>
                      <a:pt x="192" y="318"/>
                    </a:lnTo>
                    <a:lnTo>
                      <a:pt x="192" y="318"/>
                    </a:lnTo>
                    <a:lnTo>
                      <a:pt x="198" y="324"/>
                    </a:lnTo>
                    <a:lnTo>
                      <a:pt x="198" y="324"/>
                    </a:lnTo>
                    <a:lnTo>
                      <a:pt x="203" y="329"/>
                    </a:lnTo>
                    <a:lnTo>
                      <a:pt x="203" y="329"/>
                    </a:lnTo>
                    <a:lnTo>
                      <a:pt x="209" y="334"/>
                    </a:lnTo>
                    <a:lnTo>
                      <a:pt x="209" y="334"/>
                    </a:lnTo>
                    <a:lnTo>
                      <a:pt x="213" y="341"/>
                    </a:lnTo>
                    <a:lnTo>
                      <a:pt x="213" y="341"/>
                    </a:lnTo>
                    <a:lnTo>
                      <a:pt x="218" y="352"/>
                    </a:lnTo>
                    <a:lnTo>
                      <a:pt x="218" y="352"/>
                    </a:lnTo>
                    <a:lnTo>
                      <a:pt x="223" y="362"/>
                    </a:lnTo>
                    <a:lnTo>
                      <a:pt x="223" y="362"/>
                    </a:lnTo>
                    <a:lnTo>
                      <a:pt x="226" y="373"/>
                    </a:lnTo>
                    <a:lnTo>
                      <a:pt x="226" y="373"/>
                    </a:lnTo>
                    <a:lnTo>
                      <a:pt x="227" y="384"/>
                    </a:lnTo>
                    <a:lnTo>
                      <a:pt x="227" y="384"/>
                    </a:lnTo>
                    <a:lnTo>
                      <a:pt x="228" y="395"/>
                    </a:lnTo>
                    <a:lnTo>
                      <a:pt x="228" y="395"/>
                    </a:lnTo>
                    <a:lnTo>
                      <a:pt x="228" y="406"/>
                    </a:lnTo>
                    <a:lnTo>
                      <a:pt x="228" y="406"/>
                    </a:lnTo>
                    <a:lnTo>
                      <a:pt x="228" y="418"/>
                    </a:lnTo>
                    <a:lnTo>
                      <a:pt x="228" y="418"/>
                    </a:lnTo>
                    <a:lnTo>
                      <a:pt x="228" y="426"/>
                    </a:lnTo>
                    <a:lnTo>
                      <a:pt x="228" y="426"/>
                    </a:lnTo>
                    <a:lnTo>
                      <a:pt x="228" y="434"/>
                    </a:lnTo>
                    <a:lnTo>
                      <a:pt x="228" y="434"/>
                    </a:lnTo>
                    <a:lnTo>
                      <a:pt x="228" y="447"/>
                    </a:lnTo>
                    <a:lnTo>
                      <a:pt x="228" y="447"/>
                    </a:lnTo>
                    <a:lnTo>
                      <a:pt x="226" y="457"/>
                    </a:lnTo>
                    <a:lnTo>
                      <a:pt x="226" y="457"/>
                    </a:lnTo>
                    <a:lnTo>
                      <a:pt x="223" y="468"/>
                    </a:lnTo>
                    <a:lnTo>
                      <a:pt x="223" y="468"/>
                    </a:lnTo>
                    <a:lnTo>
                      <a:pt x="219" y="480"/>
                    </a:lnTo>
                    <a:lnTo>
                      <a:pt x="219" y="480"/>
                    </a:lnTo>
                    <a:lnTo>
                      <a:pt x="212" y="490"/>
                    </a:lnTo>
                    <a:lnTo>
                      <a:pt x="212" y="490"/>
                    </a:lnTo>
                    <a:lnTo>
                      <a:pt x="205" y="499"/>
                    </a:lnTo>
                    <a:lnTo>
                      <a:pt x="205" y="499"/>
                    </a:lnTo>
                    <a:lnTo>
                      <a:pt x="195" y="507"/>
                    </a:lnTo>
                    <a:lnTo>
                      <a:pt x="195" y="507"/>
                    </a:lnTo>
                    <a:lnTo>
                      <a:pt x="178" y="516"/>
                    </a:lnTo>
                    <a:lnTo>
                      <a:pt x="178" y="516"/>
                    </a:lnTo>
                    <a:lnTo>
                      <a:pt x="166" y="521"/>
                    </a:lnTo>
                    <a:lnTo>
                      <a:pt x="166" y="521"/>
                    </a:lnTo>
                    <a:lnTo>
                      <a:pt x="149" y="526"/>
                    </a:lnTo>
                    <a:lnTo>
                      <a:pt x="149" y="526"/>
                    </a:lnTo>
                    <a:lnTo>
                      <a:pt x="133" y="532"/>
                    </a:lnTo>
                    <a:lnTo>
                      <a:pt x="133" y="532"/>
                    </a:lnTo>
                    <a:lnTo>
                      <a:pt x="118" y="537"/>
                    </a:lnTo>
                    <a:lnTo>
                      <a:pt x="118" y="537"/>
                    </a:lnTo>
                    <a:lnTo>
                      <a:pt x="103" y="541"/>
                    </a:lnTo>
                    <a:lnTo>
                      <a:pt x="103" y="541"/>
                    </a:lnTo>
                    <a:lnTo>
                      <a:pt x="92" y="547"/>
                    </a:lnTo>
                    <a:lnTo>
                      <a:pt x="92" y="547"/>
                    </a:lnTo>
                    <a:lnTo>
                      <a:pt x="79" y="551"/>
                    </a:lnTo>
                    <a:lnTo>
                      <a:pt x="79" y="551"/>
                    </a:lnTo>
                    <a:lnTo>
                      <a:pt x="69" y="554"/>
                    </a:lnTo>
                    <a:lnTo>
                      <a:pt x="69" y="554"/>
                    </a:lnTo>
                    <a:lnTo>
                      <a:pt x="58" y="558"/>
                    </a:lnTo>
                    <a:lnTo>
                      <a:pt x="58" y="558"/>
                    </a:lnTo>
                    <a:lnTo>
                      <a:pt x="51" y="561"/>
                    </a:lnTo>
                    <a:lnTo>
                      <a:pt x="51" y="561"/>
                    </a:lnTo>
                    <a:lnTo>
                      <a:pt x="42" y="562"/>
                    </a:lnTo>
                    <a:lnTo>
                      <a:pt x="42" y="562"/>
                    </a:lnTo>
                    <a:lnTo>
                      <a:pt x="36" y="564"/>
                    </a:lnTo>
                    <a:lnTo>
                      <a:pt x="36" y="564"/>
                    </a:lnTo>
                    <a:lnTo>
                      <a:pt x="29" y="569"/>
                    </a:lnTo>
                    <a:lnTo>
                      <a:pt x="29" y="569"/>
                    </a:lnTo>
                    <a:lnTo>
                      <a:pt x="24" y="576"/>
                    </a:lnTo>
                    <a:lnTo>
                      <a:pt x="24" y="576"/>
                    </a:lnTo>
                    <a:lnTo>
                      <a:pt x="19" y="581"/>
                    </a:lnTo>
                    <a:lnTo>
                      <a:pt x="19" y="581"/>
                    </a:lnTo>
                    <a:lnTo>
                      <a:pt x="10" y="587"/>
                    </a:lnTo>
                    <a:lnTo>
                      <a:pt x="10" y="587"/>
                    </a:lnTo>
                    <a:lnTo>
                      <a:pt x="0" y="590"/>
                    </a:lnTo>
                    <a:lnTo>
                      <a:pt x="0" y="590"/>
                    </a:lnTo>
                    <a:lnTo>
                      <a:pt x="3" y="597"/>
                    </a:lnTo>
                    <a:lnTo>
                      <a:pt x="3" y="597"/>
                    </a:lnTo>
                    <a:lnTo>
                      <a:pt x="8" y="604"/>
                    </a:lnTo>
                    <a:lnTo>
                      <a:pt x="8" y="604"/>
                    </a:lnTo>
                    <a:lnTo>
                      <a:pt x="15" y="610"/>
                    </a:lnTo>
                    <a:lnTo>
                      <a:pt x="15" y="610"/>
                    </a:lnTo>
                    <a:lnTo>
                      <a:pt x="22" y="616"/>
                    </a:lnTo>
                    <a:lnTo>
                      <a:pt x="22" y="616"/>
                    </a:lnTo>
                    <a:lnTo>
                      <a:pt x="29" y="620"/>
                    </a:lnTo>
                    <a:lnTo>
                      <a:pt x="29" y="620"/>
                    </a:lnTo>
                    <a:lnTo>
                      <a:pt x="36" y="624"/>
                    </a:lnTo>
                    <a:lnTo>
                      <a:pt x="36" y="624"/>
                    </a:lnTo>
                    <a:lnTo>
                      <a:pt x="45" y="629"/>
                    </a:lnTo>
                    <a:lnTo>
                      <a:pt x="45" y="629"/>
                    </a:lnTo>
                    <a:lnTo>
                      <a:pt x="55" y="634"/>
                    </a:lnTo>
                    <a:lnTo>
                      <a:pt x="55" y="634"/>
                    </a:lnTo>
                    <a:lnTo>
                      <a:pt x="65" y="639"/>
                    </a:lnTo>
                    <a:lnTo>
                      <a:pt x="65" y="639"/>
                    </a:lnTo>
                    <a:lnTo>
                      <a:pt x="78" y="646"/>
                    </a:lnTo>
                    <a:lnTo>
                      <a:pt x="78" y="646"/>
                    </a:lnTo>
                    <a:lnTo>
                      <a:pt x="88" y="652"/>
                    </a:lnTo>
                    <a:lnTo>
                      <a:pt x="88" y="652"/>
                    </a:lnTo>
                    <a:lnTo>
                      <a:pt x="97" y="657"/>
                    </a:lnTo>
                    <a:lnTo>
                      <a:pt x="97" y="657"/>
                    </a:lnTo>
                    <a:lnTo>
                      <a:pt x="107" y="660"/>
                    </a:lnTo>
                    <a:lnTo>
                      <a:pt x="107" y="660"/>
                    </a:lnTo>
                    <a:lnTo>
                      <a:pt x="121" y="666"/>
                    </a:lnTo>
                    <a:lnTo>
                      <a:pt x="121" y="666"/>
                    </a:lnTo>
                    <a:lnTo>
                      <a:pt x="131" y="670"/>
                    </a:lnTo>
                    <a:lnTo>
                      <a:pt x="131" y="670"/>
                    </a:lnTo>
                    <a:lnTo>
                      <a:pt x="144" y="674"/>
                    </a:lnTo>
                    <a:lnTo>
                      <a:pt x="144" y="674"/>
                    </a:lnTo>
                    <a:lnTo>
                      <a:pt x="158" y="682"/>
                    </a:lnTo>
                    <a:lnTo>
                      <a:pt x="158" y="682"/>
                    </a:lnTo>
                    <a:lnTo>
                      <a:pt x="171" y="689"/>
                    </a:lnTo>
                    <a:lnTo>
                      <a:pt x="171" y="689"/>
                    </a:lnTo>
                    <a:lnTo>
                      <a:pt x="182" y="697"/>
                    </a:lnTo>
                    <a:lnTo>
                      <a:pt x="182" y="697"/>
                    </a:lnTo>
                    <a:lnTo>
                      <a:pt x="195" y="705"/>
                    </a:lnTo>
                    <a:lnTo>
                      <a:pt x="195" y="705"/>
                    </a:lnTo>
                    <a:lnTo>
                      <a:pt x="209" y="714"/>
                    </a:lnTo>
                    <a:lnTo>
                      <a:pt x="209" y="714"/>
                    </a:lnTo>
                    <a:lnTo>
                      <a:pt x="224" y="725"/>
                    </a:lnTo>
                    <a:lnTo>
                      <a:pt x="224" y="725"/>
                    </a:lnTo>
                    <a:lnTo>
                      <a:pt x="235" y="738"/>
                    </a:lnTo>
                    <a:lnTo>
                      <a:pt x="235" y="738"/>
                    </a:lnTo>
                    <a:lnTo>
                      <a:pt x="245" y="752"/>
                    </a:lnTo>
                    <a:lnTo>
                      <a:pt x="245" y="752"/>
                    </a:lnTo>
                    <a:lnTo>
                      <a:pt x="254" y="768"/>
                    </a:lnTo>
                    <a:lnTo>
                      <a:pt x="254" y="768"/>
                    </a:lnTo>
                    <a:lnTo>
                      <a:pt x="262" y="785"/>
                    </a:lnTo>
                    <a:lnTo>
                      <a:pt x="262" y="785"/>
                    </a:lnTo>
                    <a:lnTo>
                      <a:pt x="271" y="802"/>
                    </a:lnTo>
                    <a:lnTo>
                      <a:pt x="271" y="802"/>
                    </a:lnTo>
                    <a:lnTo>
                      <a:pt x="279" y="822"/>
                    </a:lnTo>
                    <a:lnTo>
                      <a:pt x="279" y="822"/>
                    </a:lnTo>
                    <a:lnTo>
                      <a:pt x="286" y="847"/>
                    </a:lnTo>
                    <a:lnTo>
                      <a:pt x="286" y="847"/>
                    </a:lnTo>
                    <a:lnTo>
                      <a:pt x="293" y="878"/>
                    </a:lnTo>
                    <a:lnTo>
                      <a:pt x="293" y="878"/>
                    </a:lnTo>
                    <a:lnTo>
                      <a:pt x="298" y="906"/>
                    </a:lnTo>
                    <a:lnTo>
                      <a:pt x="298" y="906"/>
                    </a:lnTo>
                    <a:lnTo>
                      <a:pt x="303" y="928"/>
                    </a:lnTo>
                    <a:lnTo>
                      <a:pt x="303" y="928"/>
                    </a:lnTo>
                    <a:lnTo>
                      <a:pt x="307" y="949"/>
                    </a:lnTo>
                    <a:lnTo>
                      <a:pt x="307" y="949"/>
                    </a:lnTo>
                    <a:lnTo>
                      <a:pt x="311" y="971"/>
                    </a:lnTo>
                    <a:lnTo>
                      <a:pt x="311" y="971"/>
                    </a:lnTo>
                    <a:lnTo>
                      <a:pt x="316" y="993"/>
                    </a:lnTo>
                    <a:lnTo>
                      <a:pt x="316" y="993"/>
                    </a:lnTo>
                    <a:lnTo>
                      <a:pt x="321" y="1022"/>
                    </a:lnTo>
                    <a:lnTo>
                      <a:pt x="321" y="1022"/>
                    </a:lnTo>
                    <a:lnTo>
                      <a:pt x="324" y="1039"/>
                    </a:lnTo>
                    <a:lnTo>
                      <a:pt x="324" y="1039"/>
                    </a:lnTo>
                    <a:lnTo>
                      <a:pt x="327" y="1050"/>
                    </a:lnTo>
                    <a:lnTo>
                      <a:pt x="327" y="1050"/>
                    </a:lnTo>
                    <a:lnTo>
                      <a:pt x="330" y="1061"/>
                    </a:lnTo>
                    <a:lnTo>
                      <a:pt x="330" y="1061"/>
                    </a:lnTo>
                    <a:lnTo>
                      <a:pt x="334" y="1076"/>
                    </a:lnTo>
                    <a:lnTo>
                      <a:pt x="334" y="1076"/>
                    </a:lnTo>
                    <a:lnTo>
                      <a:pt x="335" y="1081"/>
                    </a:lnTo>
                    <a:lnTo>
                      <a:pt x="335" y="1081"/>
                    </a:lnTo>
                    <a:lnTo>
                      <a:pt x="326" y="811"/>
                    </a:lnTo>
                    <a:lnTo>
                      <a:pt x="321" y="644"/>
                    </a:lnTo>
                    <a:lnTo>
                      <a:pt x="321" y="644"/>
                    </a:lnTo>
                    <a:lnTo>
                      <a:pt x="322" y="621"/>
                    </a:lnTo>
                    <a:lnTo>
                      <a:pt x="322" y="602"/>
                    </a:lnTo>
                    <a:lnTo>
                      <a:pt x="324" y="586"/>
                    </a:lnTo>
                    <a:lnTo>
                      <a:pt x="324" y="586"/>
                    </a:lnTo>
                    <a:lnTo>
                      <a:pt x="325" y="584"/>
                    </a:lnTo>
                    <a:lnTo>
                      <a:pt x="327" y="583"/>
                    </a:lnTo>
                    <a:lnTo>
                      <a:pt x="332" y="582"/>
                    </a:lnTo>
                    <a:lnTo>
                      <a:pt x="332" y="582"/>
                    </a:lnTo>
                    <a:lnTo>
                      <a:pt x="354" y="583"/>
                    </a:lnTo>
                    <a:lnTo>
                      <a:pt x="354" y="583"/>
                    </a:lnTo>
                    <a:lnTo>
                      <a:pt x="356" y="583"/>
                    </a:lnTo>
                    <a:lnTo>
                      <a:pt x="358" y="585"/>
                    </a:lnTo>
                    <a:lnTo>
                      <a:pt x="360" y="588"/>
                    </a:lnTo>
                    <a:lnTo>
                      <a:pt x="360" y="588"/>
                    </a:lnTo>
                    <a:lnTo>
                      <a:pt x="363" y="598"/>
                    </a:lnTo>
                    <a:lnTo>
                      <a:pt x="367" y="621"/>
                    </a:lnTo>
                    <a:lnTo>
                      <a:pt x="379" y="686"/>
                    </a:lnTo>
                    <a:lnTo>
                      <a:pt x="392" y="760"/>
                    </a:lnTo>
                    <a:lnTo>
                      <a:pt x="402" y="819"/>
                    </a:lnTo>
                    <a:lnTo>
                      <a:pt x="402" y="819"/>
                    </a:lnTo>
                    <a:lnTo>
                      <a:pt x="406" y="855"/>
                    </a:lnTo>
                    <a:lnTo>
                      <a:pt x="411" y="905"/>
                    </a:lnTo>
                    <a:lnTo>
                      <a:pt x="419" y="1023"/>
                    </a:lnTo>
                    <a:lnTo>
                      <a:pt x="425" y="1131"/>
                    </a:lnTo>
                    <a:lnTo>
                      <a:pt x="428" y="1190"/>
                    </a:lnTo>
                    <a:lnTo>
                      <a:pt x="385" y="1247"/>
                    </a:lnTo>
                    <a:lnTo>
                      <a:pt x="385" y="1247"/>
                    </a:lnTo>
                    <a:lnTo>
                      <a:pt x="376" y="1235"/>
                    </a:lnTo>
                    <a:lnTo>
                      <a:pt x="356" y="1209"/>
                    </a:lnTo>
                    <a:lnTo>
                      <a:pt x="356" y="1209"/>
                    </a:lnTo>
                    <a:lnTo>
                      <a:pt x="356" y="1209"/>
                    </a:lnTo>
                    <a:lnTo>
                      <a:pt x="356" y="1209"/>
                    </a:lnTo>
                    <a:lnTo>
                      <a:pt x="354" y="1220"/>
                    </a:lnTo>
                    <a:lnTo>
                      <a:pt x="354" y="1220"/>
                    </a:lnTo>
                    <a:lnTo>
                      <a:pt x="352" y="1230"/>
                    </a:lnTo>
                    <a:lnTo>
                      <a:pt x="352" y="1230"/>
                    </a:lnTo>
                    <a:lnTo>
                      <a:pt x="353" y="1239"/>
                    </a:lnTo>
                    <a:lnTo>
                      <a:pt x="353" y="1239"/>
                    </a:lnTo>
                    <a:lnTo>
                      <a:pt x="354" y="1246"/>
                    </a:lnTo>
                    <a:lnTo>
                      <a:pt x="354" y="1246"/>
                    </a:lnTo>
                    <a:lnTo>
                      <a:pt x="355" y="1255"/>
                    </a:lnTo>
                    <a:lnTo>
                      <a:pt x="355" y="1255"/>
                    </a:lnTo>
                    <a:lnTo>
                      <a:pt x="358" y="1267"/>
                    </a:lnTo>
                    <a:lnTo>
                      <a:pt x="358" y="1267"/>
                    </a:lnTo>
                    <a:lnTo>
                      <a:pt x="360" y="1279"/>
                    </a:lnTo>
                    <a:lnTo>
                      <a:pt x="360" y="1279"/>
                    </a:lnTo>
                    <a:lnTo>
                      <a:pt x="361" y="1291"/>
                    </a:lnTo>
                    <a:lnTo>
                      <a:pt x="361" y="1291"/>
                    </a:lnTo>
                    <a:lnTo>
                      <a:pt x="361" y="1300"/>
                    </a:lnTo>
                    <a:lnTo>
                      <a:pt x="361" y="1300"/>
                    </a:lnTo>
                    <a:lnTo>
                      <a:pt x="362" y="1309"/>
                    </a:lnTo>
                    <a:lnTo>
                      <a:pt x="362" y="1309"/>
                    </a:lnTo>
                    <a:lnTo>
                      <a:pt x="362" y="1318"/>
                    </a:lnTo>
                    <a:lnTo>
                      <a:pt x="362" y="1318"/>
                    </a:lnTo>
                    <a:lnTo>
                      <a:pt x="362" y="1328"/>
                    </a:lnTo>
                    <a:lnTo>
                      <a:pt x="362" y="1328"/>
                    </a:lnTo>
                    <a:lnTo>
                      <a:pt x="362" y="1339"/>
                    </a:lnTo>
                    <a:lnTo>
                      <a:pt x="362" y="1339"/>
                    </a:lnTo>
                    <a:lnTo>
                      <a:pt x="362" y="1350"/>
                    </a:lnTo>
                    <a:lnTo>
                      <a:pt x="362" y="1350"/>
                    </a:lnTo>
                    <a:lnTo>
                      <a:pt x="362" y="1363"/>
                    </a:lnTo>
                    <a:lnTo>
                      <a:pt x="362" y="1363"/>
                    </a:lnTo>
                    <a:lnTo>
                      <a:pt x="361" y="1377"/>
                    </a:lnTo>
                    <a:lnTo>
                      <a:pt x="361" y="1377"/>
                    </a:lnTo>
                    <a:lnTo>
                      <a:pt x="361" y="1390"/>
                    </a:lnTo>
                    <a:lnTo>
                      <a:pt x="361" y="1404"/>
                    </a:lnTo>
                    <a:lnTo>
                      <a:pt x="361" y="1404"/>
                    </a:lnTo>
                    <a:lnTo>
                      <a:pt x="361" y="1413"/>
                    </a:lnTo>
                    <a:lnTo>
                      <a:pt x="351" y="1511"/>
                    </a:lnTo>
                    <a:lnTo>
                      <a:pt x="351" y="1511"/>
                    </a:lnTo>
                    <a:lnTo>
                      <a:pt x="394" y="1512"/>
                    </a:lnTo>
                    <a:lnTo>
                      <a:pt x="394" y="1512"/>
                    </a:lnTo>
                    <a:lnTo>
                      <a:pt x="440" y="1511"/>
                    </a:lnTo>
                    <a:lnTo>
                      <a:pt x="433" y="1434"/>
                    </a:lnTo>
                    <a:lnTo>
                      <a:pt x="433" y="1434"/>
                    </a:lnTo>
                    <a:lnTo>
                      <a:pt x="432" y="1425"/>
                    </a:lnTo>
                    <a:lnTo>
                      <a:pt x="432" y="1412"/>
                    </a:lnTo>
                    <a:lnTo>
                      <a:pt x="432" y="1412"/>
                    </a:lnTo>
                    <a:lnTo>
                      <a:pt x="432" y="1398"/>
                    </a:lnTo>
                    <a:lnTo>
                      <a:pt x="432" y="1398"/>
                    </a:lnTo>
                    <a:lnTo>
                      <a:pt x="431" y="1385"/>
                    </a:lnTo>
                    <a:lnTo>
                      <a:pt x="431" y="1385"/>
                    </a:lnTo>
                    <a:lnTo>
                      <a:pt x="431" y="1371"/>
                    </a:lnTo>
                    <a:lnTo>
                      <a:pt x="431" y="1371"/>
                    </a:lnTo>
                    <a:lnTo>
                      <a:pt x="431" y="1360"/>
                    </a:lnTo>
                    <a:lnTo>
                      <a:pt x="431" y="1360"/>
                    </a:lnTo>
                    <a:lnTo>
                      <a:pt x="431" y="1350"/>
                    </a:lnTo>
                    <a:lnTo>
                      <a:pt x="431" y="1350"/>
                    </a:lnTo>
                    <a:lnTo>
                      <a:pt x="431" y="1341"/>
                    </a:lnTo>
                    <a:lnTo>
                      <a:pt x="431" y="1341"/>
                    </a:lnTo>
                    <a:lnTo>
                      <a:pt x="431" y="1330"/>
                    </a:lnTo>
                    <a:lnTo>
                      <a:pt x="431" y="1330"/>
                    </a:lnTo>
                    <a:lnTo>
                      <a:pt x="432" y="1321"/>
                    </a:lnTo>
                    <a:lnTo>
                      <a:pt x="432" y="1321"/>
                    </a:lnTo>
                    <a:lnTo>
                      <a:pt x="433" y="1313"/>
                    </a:lnTo>
                    <a:lnTo>
                      <a:pt x="433" y="1313"/>
                    </a:lnTo>
                    <a:lnTo>
                      <a:pt x="434" y="1300"/>
                    </a:lnTo>
                    <a:lnTo>
                      <a:pt x="434" y="1300"/>
                    </a:lnTo>
                    <a:lnTo>
                      <a:pt x="435" y="1289"/>
                    </a:lnTo>
                    <a:lnTo>
                      <a:pt x="435" y="1289"/>
                    </a:lnTo>
                    <a:lnTo>
                      <a:pt x="438" y="1277"/>
                    </a:lnTo>
                    <a:lnTo>
                      <a:pt x="438" y="1277"/>
                    </a:lnTo>
                    <a:lnTo>
                      <a:pt x="439" y="1267"/>
                    </a:lnTo>
                    <a:lnTo>
                      <a:pt x="439" y="1267"/>
                    </a:lnTo>
                    <a:lnTo>
                      <a:pt x="440" y="1260"/>
                    </a:lnTo>
                    <a:lnTo>
                      <a:pt x="440" y="1260"/>
                    </a:lnTo>
                    <a:lnTo>
                      <a:pt x="441" y="1251"/>
                    </a:lnTo>
                    <a:lnTo>
                      <a:pt x="441" y="1251"/>
                    </a:lnTo>
                    <a:lnTo>
                      <a:pt x="439" y="1241"/>
                    </a:lnTo>
                    <a:lnTo>
                      <a:pt x="439" y="1241"/>
                    </a:lnTo>
                    <a:lnTo>
                      <a:pt x="437" y="1231"/>
                    </a:lnTo>
                    <a:lnTo>
                      <a:pt x="437" y="1231"/>
                    </a:lnTo>
                    <a:lnTo>
                      <a:pt x="437" y="1221"/>
                    </a:lnTo>
                    <a:lnTo>
                      <a:pt x="437" y="1221"/>
                    </a:lnTo>
                    <a:lnTo>
                      <a:pt x="439" y="1213"/>
                    </a:lnTo>
                    <a:lnTo>
                      <a:pt x="439" y="1213"/>
                    </a:lnTo>
                    <a:lnTo>
                      <a:pt x="442" y="1206"/>
                    </a:lnTo>
                    <a:lnTo>
                      <a:pt x="442" y="1206"/>
                    </a:lnTo>
                    <a:lnTo>
                      <a:pt x="446" y="1199"/>
                    </a:lnTo>
                    <a:lnTo>
                      <a:pt x="446" y="1199"/>
                    </a:lnTo>
                    <a:lnTo>
                      <a:pt x="450" y="1189"/>
                    </a:lnTo>
                    <a:lnTo>
                      <a:pt x="450" y="1189"/>
                    </a:lnTo>
                    <a:lnTo>
                      <a:pt x="454" y="1182"/>
                    </a:lnTo>
                    <a:lnTo>
                      <a:pt x="454" y="1182"/>
                    </a:lnTo>
                    <a:lnTo>
                      <a:pt x="457" y="1176"/>
                    </a:lnTo>
                    <a:lnTo>
                      <a:pt x="457" y="1176"/>
                    </a:lnTo>
                    <a:lnTo>
                      <a:pt x="460" y="1168"/>
                    </a:lnTo>
                    <a:lnTo>
                      <a:pt x="460" y="1168"/>
                    </a:lnTo>
                    <a:lnTo>
                      <a:pt x="461" y="1161"/>
                    </a:lnTo>
                    <a:lnTo>
                      <a:pt x="461" y="1161"/>
                    </a:lnTo>
                    <a:lnTo>
                      <a:pt x="459" y="1155"/>
                    </a:lnTo>
                    <a:lnTo>
                      <a:pt x="459" y="1155"/>
                    </a:lnTo>
                    <a:lnTo>
                      <a:pt x="455" y="1147"/>
                    </a:lnTo>
                    <a:lnTo>
                      <a:pt x="455" y="1147"/>
                    </a:lnTo>
                    <a:lnTo>
                      <a:pt x="453" y="1139"/>
                    </a:lnTo>
                    <a:lnTo>
                      <a:pt x="453" y="1139"/>
                    </a:lnTo>
                    <a:lnTo>
                      <a:pt x="452" y="1127"/>
                    </a:lnTo>
                    <a:lnTo>
                      <a:pt x="452" y="1127"/>
                    </a:lnTo>
                    <a:lnTo>
                      <a:pt x="454" y="1117"/>
                    </a:lnTo>
                    <a:lnTo>
                      <a:pt x="454" y="1117"/>
                    </a:lnTo>
                    <a:lnTo>
                      <a:pt x="457" y="1107"/>
                    </a:lnTo>
                    <a:lnTo>
                      <a:pt x="457" y="1107"/>
                    </a:lnTo>
                    <a:lnTo>
                      <a:pt x="460" y="1097"/>
                    </a:lnTo>
                    <a:lnTo>
                      <a:pt x="460" y="1097"/>
                    </a:lnTo>
                    <a:lnTo>
                      <a:pt x="464" y="1084"/>
                    </a:lnTo>
                    <a:lnTo>
                      <a:pt x="464" y="1084"/>
                    </a:lnTo>
                    <a:lnTo>
                      <a:pt x="467" y="1072"/>
                    </a:lnTo>
                    <a:lnTo>
                      <a:pt x="467" y="1072"/>
                    </a:lnTo>
                    <a:lnTo>
                      <a:pt x="469" y="1061"/>
                    </a:lnTo>
                    <a:lnTo>
                      <a:pt x="469" y="1061"/>
                    </a:lnTo>
                    <a:lnTo>
                      <a:pt x="473" y="1043"/>
                    </a:lnTo>
                    <a:lnTo>
                      <a:pt x="473" y="1043"/>
                    </a:lnTo>
                    <a:lnTo>
                      <a:pt x="478" y="1015"/>
                    </a:lnTo>
                    <a:lnTo>
                      <a:pt x="478" y="1015"/>
                    </a:lnTo>
                    <a:lnTo>
                      <a:pt x="483" y="992"/>
                    </a:lnTo>
                    <a:lnTo>
                      <a:pt x="483" y="992"/>
                    </a:lnTo>
                    <a:lnTo>
                      <a:pt x="486" y="970"/>
                    </a:lnTo>
                    <a:lnTo>
                      <a:pt x="486" y="970"/>
                    </a:lnTo>
                    <a:lnTo>
                      <a:pt x="490" y="950"/>
                    </a:lnTo>
                    <a:lnTo>
                      <a:pt x="490" y="950"/>
                    </a:lnTo>
                    <a:lnTo>
                      <a:pt x="495" y="927"/>
                    </a:lnTo>
                    <a:lnTo>
                      <a:pt x="495" y="927"/>
                    </a:lnTo>
                    <a:lnTo>
                      <a:pt x="500" y="899"/>
                    </a:lnTo>
                    <a:lnTo>
                      <a:pt x="500" y="899"/>
                    </a:lnTo>
                    <a:lnTo>
                      <a:pt x="507" y="869"/>
                    </a:lnTo>
                    <a:lnTo>
                      <a:pt x="507" y="869"/>
                    </a:lnTo>
                    <a:lnTo>
                      <a:pt x="515" y="843"/>
                    </a:lnTo>
                    <a:lnTo>
                      <a:pt x="515" y="843"/>
                    </a:lnTo>
                    <a:lnTo>
                      <a:pt x="522" y="825"/>
                    </a:lnTo>
                    <a:lnTo>
                      <a:pt x="522" y="825"/>
                    </a:lnTo>
                    <a:lnTo>
                      <a:pt x="531" y="806"/>
                    </a:lnTo>
                    <a:lnTo>
                      <a:pt x="531" y="806"/>
                    </a:lnTo>
                    <a:lnTo>
                      <a:pt x="539" y="789"/>
                    </a:lnTo>
                    <a:lnTo>
                      <a:pt x="539" y="789"/>
                    </a:lnTo>
                    <a:lnTo>
                      <a:pt x="548" y="773"/>
                    </a:lnTo>
                    <a:lnTo>
                      <a:pt x="548" y="773"/>
                    </a:lnTo>
                    <a:lnTo>
                      <a:pt x="558" y="760"/>
                    </a:lnTo>
                    <a:lnTo>
                      <a:pt x="558" y="760"/>
                    </a:lnTo>
                    <a:lnTo>
                      <a:pt x="569" y="748"/>
                    </a:lnTo>
                    <a:lnTo>
                      <a:pt x="569" y="748"/>
                    </a:lnTo>
                    <a:lnTo>
                      <a:pt x="584" y="735"/>
                    </a:lnTo>
                    <a:lnTo>
                      <a:pt x="584" y="735"/>
                    </a:lnTo>
                    <a:lnTo>
                      <a:pt x="599" y="726"/>
                    </a:lnTo>
                    <a:lnTo>
                      <a:pt x="599" y="726"/>
                    </a:lnTo>
                    <a:lnTo>
                      <a:pt x="611" y="718"/>
                    </a:lnTo>
                    <a:lnTo>
                      <a:pt x="611" y="718"/>
                    </a:lnTo>
                    <a:lnTo>
                      <a:pt x="622" y="710"/>
                    </a:lnTo>
                    <a:lnTo>
                      <a:pt x="622" y="710"/>
                    </a:lnTo>
                    <a:lnTo>
                      <a:pt x="635" y="703"/>
                    </a:lnTo>
                    <a:lnTo>
                      <a:pt x="635" y="703"/>
                    </a:lnTo>
                    <a:lnTo>
                      <a:pt x="649" y="696"/>
                    </a:lnTo>
                    <a:lnTo>
                      <a:pt x="649" y="696"/>
                    </a:lnTo>
                    <a:lnTo>
                      <a:pt x="662" y="692"/>
                    </a:lnTo>
                    <a:lnTo>
                      <a:pt x="662" y="692"/>
                    </a:lnTo>
                    <a:lnTo>
                      <a:pt x="672" y="689"/>
                    </a:lnTo>
                    <a:lnTo>
                      <a:pt x="672" y="689"/>
                    </a:lnTo>
                    <a:lnTo>
                      <a:pt x="685" y="683"/>
                    </a:lnTo>
                    <a:lnTo>
                      <a:pt x="685" y="683"/>
                    </a:lnTo>
                    <a:lnTo>
                      <a:pt x="681" y="674"/>
                    </a:lnTo>
                    <a:lnTo>
                      <a:pt x="681" y="674"/>
                    </a:lnTo>
                    <a:close/>
                    <a:moveTo>
                      <a:pt x="367" y="546"/>
                    </a:moveTo>
                    <a:lnTo>
                      <a:pt x="367" y="546"/>
                    </a:lnTo>
                    <a:lnTo>
                      <a:pt x="359" y="574"/>
                    </a:lnTo>
                    <a:lnTo>
                      <a:pt x="359" y="574"/>
                    </a:lnTo>
                    <a:lnTo>
                      <a:pt x="359" y="575"/>
                    </a:lnTo>
                    <a:lnTo>
                      <a:pt x="358" y="577"/>
                    </a:lnTo>
                    <a:lnTo>
                      <a:pt x="355" y="579"/>
                    </a:lnTo>
                    <a:lnTo>
                      <a:pt x="350" y="580"/>
                    </a:lnTo>
                    <a:lnTo>
                      <a:pt x="350" y="580"/>
                    </a:lnTo>
                    <a:lnTo>
                      <a:pt x="334" y="579"/>
                    </a:lnTo>
                    <a:lnTo>
                      <a:pt x="334" y="579"/>
                    </a:lnTo>
                    <a:lnTo>
                      <a:pt x="332" y="579"/>
                    </a:lnTo>
                    <a:lnTo>
                      <a:pt x="330" y="578"/>
                    </a:lnTo>
                    <a:lnTo>
                      <a:pt x="327" y="575"/>
                    </a:lnTo>
                    <a:lnTo>
                      <a:pt x="327" y="575"/>
                    </a:lnTo>
                    <a:lnTo>
                      <a:pt x="324" y="571"/>
                    </a:lnTo>
                    <a:lnTo>
                      <a:pt x="319" y="562"/>
                    </a:lnTo>
                    <a:lnTo>
                      <a:pt x="318" y="556"/>
                    </a:lnTo>
                    <a:lnTo>
                      <a:pt x="317" y="550"/>
                    </a:lnTo>
                    <a:lnTo>
                      <a:pt x="318" y="545"/>
                    </a:lnTo>
                    <a:lnTo>
                      <a:pt x="319" y="542"/>
                    </a:lnTo>
                    <a:lnTo>
                      <a:pt x="321" y="540"/>
                    </a:lnTo>
                    <a:lnTo>
                      <a:pt x="321" y="540"/>
                    </a:lnTo>
                    <a:lnTo>
                      <a:pt x="337" y="525"/>
                    </a:lnTo>
                    <a:lnTo>
                      <a:pt x="337" y="525"/>
                    </a:lnTo>
                    <a:lnTo>
                      <a:pt x="339" y="523"/>
                    </a:lnTo>
                    <a:lnTo>
                      <a:pt x="341" y="522"/>
                    </a:lnTo>
                    <a:lnTo>
                      <a:pt x="344" y="522"/>
                    </a:lnTo>
                    <a:lnTo>
                      <a:pt x="348" y="522"/>
                    </a:lnTo>
                    <a:lnTo>
                      <a:pt x="352" y="523"/>
                    </a:lnTo>
                    <a:lnTo>
                      <a:pt x="356" y="526"/>
                    </a:lnTo>
                    <a:lnTo>
                      <a:pt x="361" y="531"/>
                    </a:lnTo>
                    <a:lnTo>
                      <a:pt x="361" y="531"/>
                    </a:lnTo>
                    <a:lnTo>
                      <a:pt x="365" y="536"/>
                    </a:lnTo>
                    <a:lnTo>
                      <a:pt x="367" y="540"/>
                    </a:lnTo>
                    <a:lnTo>
                      <a:pt x="368" y="544"/>
                    </a:lnTo>
                    <a:lnTo>
                      <a:pt x="367" y="546"/>
                    </a:lnTo>
                    <a:lnTo>
                      <a:pt x="367" y="5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77"/>
              <p:cNvSpPr/>
              <p:nvPr/>
            </p:nvSpPr>
            <p:spPr>
              <a:xfrm>
                <a:off x="7972920" y="797400"/>
                <a:ext cx="248400" cy="411480"/>
              </a:xfrm>
              <a:custGeom>
                <a:avLst/>
                <a:gdLst/>
                <a:ahLst/>
                <a:rect l="l" t="t" r="r" b="b"/>
                <a:pathLst>
                  <a:path w="860" h="1409">
                    <a:moveTo>
                      <a:pt x="859" y="1206"/>
                    </a:moveTo>
                    <a:lnTo>
                      <a:pt x="859" y="1206"/>
                    </a:lnTo>
                    <a:lnTo>
                      <a:pt x="859" y="1197"/>
                    </a:lnTo>
                    <a:lnTo>
                      <a:pt x="859" y="1197"/>
                    </a:lnTo>
                    <a:lnTo>
                      <a:pt x="858" y="1185"/>
                    </a:lnTo>
                    <a:lnTo>
                      <a:pt x="858" y="1185"/>
                    </a:lnTo>
                    <a:lnTo>
                      <a:pt x="856" y="1174"/>
                    </a:lnTo>
                    <a:lnTo>
                      <a:pt x="856" y="1174"/>
                    </a:lnTo>
                    <a:lnTo>
                      <a:pt x="853" y="1161"/>
                    </a:lnTo>
                    <a:lnTo>
                      <a:pt x="853" y="1161"/>
                    </a:lnTo>
                    <a:lnTo>
                      <a:pt x="852" y="1152"/>
                    </a:lnTo>
                    <a:lnTo>
                      <a:pt x="852" y="1152"/>
                    </a:lnTo>
                    <a:lnTo>
                      <a:pt x="851" y="1145"/>
                    </a:lnTo>
                    <a:lnTo>
                      <a:pt x="851" y="1145"/>
                    </a:lnTo>
                    <a:lnTo>
                      <a:pt x="850" y="1136"/>
                    </a:lnTo>
                    <a:lnTo>
                      <a:pt x="850" y="1136"/>
                    </a:lnTo>
                    <a:lnTo>
                      <a:pt x="852" y="1126"/>
                    </a:lnTo>
                    <a:lnTo>
                      <a:pt x="852" y="1126"/>
                    </a:lnTo>
                    <a:lnTo>
                      <a:pt x="854" y="1115"/>
                    </a:lnTo>
                    <a:lnTo>
                      <a:pt x="854" y="1115"/>
                    </a:lnTo>
                    <a:lnTo>
                      <a:pt x="854" y="1106"/>
                    </a:lnTo>
                    <a:lnTo>
                      <a:pt x="854" y="1106"/>
                    </a:lnTo>
                    <a:lnTo>
                      <a:pt x="852" y="1097"/>
                    </a:lnTo>
                    <a:lnTo>
                      <a:pt x="852" y="1097"/>
                    </a:lnTo>
                    <a:lnTo>
                      <a:pt x="849" y="1090"/>
                    </a:lnTo>
                    <a:lnTo>
                      <a:pt x="849" y="1090"/>
                    </a:lnTo>
                    <a:lnTo>
                      <a:pt x="845" y="1084"/>
                    </a:lnTo>
                    <a:lnTo>
                      <a:pt x="845" y="1084"/>
                    </a:lnTo>
                    <a:lnTo>
                      <a:pt x="841" y="1074"/>
                    </a:lnTo>
                    <a:lnTo>
                      <a:pt x="841" y="1074"/>
                    </a:lnTo>
                    <a:lnTo>
                      <a:pt x="837" y="1067"/>
                    </a:lnTo>
                    <a:lnTo>
                      <a:pt x="837" y="1067"/>
                    </a:lnTo>
                    <a:lnTo>
                      <a:pt x="833" y="1060"/>
                    </a:lnTo>
                    <a:lnTo>
                      <a:pt x="833" y="1060"/>
                    </a:lnTo>
                    <a:lnTo>
                      <a:pt x="831" y="1053"/>
                    </a:lnTo>
                    <a:lnTo>
                      <a:pt x="831" y="1053"/>
                    </a:lnTo>
                    <a:lnTo>
                      <a:pt x="831" y="1046"/>
                    </a:lnTo>
                    <a:lnTo>
                      <a:pt x="831" y="1046"/>
                    </a:lnTo>
                    <a:lnTo>
                      <a:pt x="832" y="1039"/>
                    </a:lnTo>
                    <a:lnTo>
                      <a:pt x="832" y="1039"/>
                    </a:lnTo>
                    <a:lnTo>
                      <a:pt x="836" y="1031"/>
                    </a:lnTo>
                    <a:lnTo>
                      <a:pt x="836" y="1031"/>
                    </a:lnTo>
                    <a:lnTo>
                      <a:pt x="838" y="1023"/>
                    </a:lnTo>
                    <a:lnTo>
                      <a:pt x="838" y="1023"/>
                    </a:lnTo>
                    <a:lnTo>
                      <a:pt x="839" y="1012"/>
                    </a:lnTo>
                    <a:lnTo>
                      <a:pt x="839" y="1012"/>
                    </a:lnTo>
                    <a:lnTo>
                      <a:pt x="837" y="1002"/>
                    </a:lnTo>
                    <a:lnTo>
                      <a:pt x="837" y="1002"/>
                    </a:lnTo>
                    <a:lnTo>
                      <a:pt x="833" y="992"/>
                    </a:lnTo>
                    <a:lnTo>
                      <a:pt x="833" y="992"/>
                    </a:lnTo>
                    <a:lnTo>
                      <a:pt x="831" y="982"/>
                    </a:lnTo>
                    <a:lnTo>
                      <a:pt x="831" y="982"/>
                    </a:lnTo>
                    <a:lnTo>
                      <a:pt x="827" y="967"/>
                    </a:lnTo>
                    <a:lnTo>
                      <a:pt x="827" y="967"/>
                    </a:lnTo>
                    <a:lnTo>
                      <a:pt x="825" y="956"/>
                    </a:lnTo>
                    <a:lnTo>
                      <a:pt x="825" y="956"/>
                    </a:lnTo>
                    <a:lnTo>
                      <a:pt x="822" y="945"/>
                    </a:lnTo>
                    <a:lnTo>
                      <a:pt x="822" y="945"/>
                    </a:lnTo>
                    <a:lnTo>
                      <a:pt x="819" y="928"/>
                    </a:lnTo>
                    <a:lnTo>
                      <a:pt x="819" y="928"/>
                    </a:lnTo>
                    <a:lnTo>
                      <a:pt x="814" y="899"/>
                    </a:lnTo>
                    <a:lnTo>
                      <a:pt x="814" y="899"/>
                    </a:lnTo>
                    <a:lnTo>
                      <a:pt x="809" y="877"/>
                    </a:lnTo>
                    <a:lnTo>
                      <a:pt x="809" y="877"/>
                    </a:lnTo>
                    <a:lnTo>
                      <a:pt x="805" y="855"/>
                    </a:lnTo>
                    <a:lnTo>
                      <a:pt x="805" y="855"/>
                    </a:lnTo>
                    <a:lnTo>
                      <a:pt x="801" y="834"/>
                    </a:lnTo>
                    <a:lnTo>
                      <a:pt x="801" y="834"/>
                    </a:lnTo>
                    <a:lnTo>
                      <a:pt x="796" y="812"/>
                    </a:lnTo>
                    <a:lnTo>
                      <a:pt x="796" y="812"/>
                    </a:lnTo>
                    <a:lnTo>
                      <a:pt x="791" y="784"/>
                    </a:lnTo>
                    <a:lnTo>
                      <a:pt x="791" y="784"/>
                    </a:lnTo>
                    <a:lnTo>
                      <a:pt x="784" y="753"/>
                    </a:lnTo>
                    <a:lnTo>
                      <a:pt x="784" y="753"/>
                    </a:lnTo>
                    <a:lnTo>
                      <a:pt x="777" y="728"/>
                    </a:lnTo>
                    <a:lnTo>
                      <a:pt x="777" y="728"/>
                    </a:lnTo>
                    <a:lnTo>
                      <a:pt x="768" y="709"/>
                    </a:lnTo>
                    <a:lnTo>
                      <a:pt x="768" y="709"/>
                    </a:lnTo>
                    <a:lnTo>
                      <a:pt x="760" y="691"/>
                    </a:lnTo>
                    <a:lnTo>
                      <a:pt x="760" y="691"/>
                    </a:lnTo>
                    <a:lnTo>
                      <a:pt x="752" y="674"/>
                    </a:lnTo>
                    <a:lnTo>
                      <a:pt x="752" y="674"/>
                    </a:lnTo>
                    <a:lnTo>
                      <a:pt x="743" y="658"/>
                    </a:lnTo>
                    <a:lnTo>
                      <a:pt x="743" y="658"/>
                    </a:lnTo>
                    <a:lnTo>
                      <a:pt x="733" y="645"/>
                    </a:lnTo>
                    <a:lnTo>
                      <a:pt x="733" y="645"/>
                    </a:lnTo>
                    <a:lnTo>
                      <a:pt x="722" y="631"/>
                    </a:lnTo>
                    <a:lnTo>
                      <a:pt x="722" y="631"/>
                    </a:lnTo>
                    <a:lnTo>
                      <a:pt x="707" y="620"/>
                    </a:lnTo>
                    <a:lnTo>
                      <a:pt x="707" y="620"/>
                    </a:lnTo>
                    <a:lnTo>
                      <a:pt x="693" y="611"/>
                    </a:lnTo>
                    <a:lnTo>
                      <a:pt x="693" y="611"/>
                    </a:lnTo>
                    <a:lnTo>
                      <a:pt x="680" y="603"/>
                    </a:lnTo>
                    <a:lnTo>
                      <a:pt x="680" y="603"/>
                    </a:lnTo>
                    <a:lnTo>
                      <a:pt x="669" y="595"/>
                    </a:lnTo>
                    <a:lnTo>
                      <a:pt x="669" y="595"/>
                    </a:lnTo>
                    <a:lnTo>
                      <a:pt x="656" y="588"/>
                    </a:lnTo>
                    <a:lnTo>
                      <a:pt x="656" y="588"/>
                    </a:lnTo>
                    <a:lnTo>
                      <a:pt x="642" y="581"/>
                    </a:lnTo>
                    <a:lnTo>
                      <a:pt x="642" y="581"/>
                    </a:lnTo>
                    <a:lnTo>
                      <a:pt x="629" y="577"/>
                    </a:lnTo>
                    <a:lnTo>
                      <a:pt x="629" y="577"/>
                    </a:lnTo>
                    <a:lnTo>
                      <a:pt x="619" y="572"/>
                    </a:lnTo>
                    <a:lnTo>
                      <a:pt x="619" y="572"/>
                    </a:lnTo>
                    <a:lnTo>
                      <a:pt x="605" y="566"/>
                    </a:lnTo>
                    <a:lnTo>
                      <a:pt x="605" y="566"/>
                    </a:lnTo>
                    <a:lnTo>
                      <a:pt x="595" y="563"/>
                    </a:lnTo>
                    <a:lnTo>
                      <a:pt x="595" y="563"/>
                    </a:lnTo>
                    <a:lnTo>
                      <a:pt x="586" y="558"/>
                    </a:lnTo>
                    <a:lnTo>
                      <a:pt x="586" y="558"/>
                    </a:lnTo>
                    <a:lnTo>
                      <a:pt x="576" y="552"/>
                    </a:lnTo>
                    <a:lnTo>
                      <a:pt x="576" y="552"/>
                    </a:lnTo>
                    <a:lnTo>
                      <a:pt x="563" y="545"/>
                    </a:lnTo>
                    <a:lnTo>
                      <a:pt x="563" y="545"/>
                    </a:lnTo>
                    <a:lnTo>
                      <a:pt x="553" y="540"/>
                    </a:lnTo>
                    <a:lnTo>
                      <a:pt x="553" y="540"/>
                    </a:lnTo>
                    <a:lnTo>
                      <a:pt x="543" y="535"/>
                    </a:lnTo>
                    <a:lnTo>
                      <a:pt x="543" y="535"/>
                    </a:lnTo>
                    <a:lnTo>
                      <a:pt x="534" y="530"/>
                    </a:lnTo>
                    <a:lnTo>
                      <a:pt x="534" y="530"/>
                    </a:lnTo>
                    <a:lnTo>
                      <a:pt x="527" y="526"/>
                    </a:lnTo>
                    <a:lnTo>
                      <a:pt x="527" y="526"/>
                    </a:lnTo>
                    <a:lnTo>
                      <a:pt x="520" y="522"/>
                    </a:lnTo>
                    <a:lnTo>
                      <a:pt x="520" y="522"/>
                    </a:lnTo>
                    <a:lnTo>
                      <a:pt x="513" y="516"/>
                    </a:lnTo>
                    <a:lnTo>
                      <a:pt x="513" y="516"/>
                    </a:lnTo>
                    <a:lnTo>
                      <a:pt x="505" y="511"/>
                    </a:lnTo>
                    <a:lnTo>
                      <a:pt x="505" y="511"/>
                    </a:lnTo>
                    <a:lnTo>
                      <a:pt x="500" y="503"/>
                    </a:lnTo>
                    <a:lnTo>
                      <a:pt x="500" y="503"/>
                    </a:lnTo>
                    <a:lnTo>
                      <a:pt x="497" y="494"/>
                    </a:lnTo>
                    <a:lnTo>
                      <a:pt x="497" y="494"/>
                    </a:lnTo>
                    <a:lnTo>
                      <a:pt x="495" y="486"/>
                    </a:lnTo>
                    <a:lnTo>
                      <a:pt x="495" y="486"/>
                    </a:lnTo>
                    <a:lnTo>
                      <a:pt x="495" y="478"/>
                    </a:lnTo>
                    <a:lnTo>
                      <a:pt x="495" y="478"/>
                    </a:lnTo>
                    <a:lnTo>
                      <a:pt x="495" y="472"/>
                    </a:lnTo>
                    <a:lnTo>
                      <a:pt x="495" y="472"/>
                    </a:lnTo>
                    <a:lnTo>
                      <a:pt x="495" y="464"/>
                    </a:lnTo>
                    <a:lnTo>
                      <a:pt x="495" y="464"/>
                    </a:lnTo>
                    <a:lnTo>
                      <a:pt x="495" y="458"/>
                    </a:lnTo>
                    <a:lnTo>
                      <a:pt x="495" y="458"/>
                    </a:lnTo>
                    <a:lnTo>
                      <a:pt x="495" y="449"/>
                    </a:lnTo>
                    <a:lnTo>
                      <a:pt x="495" y="449"/>
                    </a:lnTo>
                    <a:lnTo>
                      <a:pt x="495" y="440"/>
                    </a:lnTo>
                    <a:lnTo>
                      <a:pt x="495" y="440"/>
                    </a:lnTo>
                    <a:lnTo>
                      <a:pt x="496" y="432"/>
                    </a:lnTo>
                    <a:lnTo>
                      <a:pt x="496" y="432"/>
                    </a:lnTo>
                    <a:lnTo>
                      <a:pt x="496" y="424"/>
                    </a:lnTo>
                    <a:lnTo>
                      <a:pt x="496" y="424"/>
                    </a:lnTo>
                    <a:lnTo>
                      <a:pt x="496" y="417"/>
                    </a:lnTo>
                    <a:lnTo>
                      <a:pt x="496" y="417"/>
                    </a:lnTo>
                    <a:lnTo>
                      <a:pt x="497" y="410"/>
                    </a:lnTo>
                    <a:lnTo>
                      <a:pt x="497" y="410"/>
                    </a:lnTo>
                    <a:lnTo>
                      <a:pt x="500" y="405"/>
                    </a:lnTo>
                    <a:lnTo>
                      <a:pt x="500" y="405"/>
                    </a:lnTo>
                    <a:lnTo>
                      <a:pt x="503" y="400"/>
                    </a:lnTo>
                    <a:lnTo>
                      <a:pt x="503" y="400"/>
                    </a:lnTo>
                    <a:lnTo>
                      <a:pt x="509" y="395"/>
                    </a:lnTo>
                    <a:lnTo>
                      <a:pt x="509" y="395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20" y="382"/>
                    </a:lnTo>
                    <a:lnTo>
                      <a:pt x="520" y="382"/>
                    </a:lnTo>
                    <a:lnTo>
                      <a:pt x="525" y="373"/>
                    </a:lnTo>
                    <a:lnTo>
                      <a:pt x="525" y="373"/>
                    </a:lnTo>
                    <a:lnTo>
                      <a:pt x="528" y="366"/>
                    </a:lnTo>
                    <a:lnTo>
                      <a:pt x="528" y="366"/>
                    </a:lnTo>
                    <a:lnTo>
                      <a:pt x="531" y="359"/>
                    </a:lnTo>
                    <a:lnTo>
                      <a:pt x="531" y="359"/>
                    </a:lnTo>
                    <a:lnTo>
                      <a:pt x="533" y="350"/>
                    </a:lnTo>
                    <a:lnTo>
                      <a:pt x="533" y="350"/>
                    </a:lnTo>
                    <a:lnTo>
                      <a:pt x="536" y="342"/>
                    </a:lnTo>
                    <a:lnTo>
                      <a:pt x="536" y="342"/>
                    </a:lnTo>
                    <a:lnTo>
                      <a:pt x="537" y="336"/>
                    </a:lnTo>
                    <a:lnTo>
                      <a:pt x="537" y="336"/>
                    </a:lnTo>
                    <a:lnTo>
                      <a:pt x="538" y="329"/>
                    </a:lnTo>
                    <a:lnTo>
                      <a:pt x="538" y="329"/>
                    </a:lnTo>
                    <a:lnTo>
                      <a:pt x="539" y="320"/>
                    </a:lnTo>
                    <a:lnTo>
                      <a:pt x="539" y="320"/>
                    </a:lnTo>
                    <a:lnTo>
                      <a:pt x="539" y="312"/>
                    </a:lnTo>
                    <a:lnTo>
                      <a:pt x="539" y="312"/>
                    </a:lnTo>
                    <a:lnTo>
                      <a:pt x="539" y="302"/>
                    </a:lnTo>
                    <a:lnTo>
                      <a:pt x="539" y="302"/>
                    </a:lnTo>
                    <a:lnTo>
                      <a:pt x="539" y="296"/>
                    </a:lnTo>
                    <a:lnTo>
                      <a:pt x="539" y="296"/>
                    </a:lnTo>
                    <a:lnTo>
                      <a:pt x="539" y="290"/>
                    </a:lnTo>
                    <a:lnTo>
                      <a:pt x="539" y="290"/>
                    </a:lnTo>
                    <a:lnTo>
                      <a:pt x="539" y="281"/>
                    </a:lnTo>
                    <a:lnTo>
                      <a:pt x="539" y="281"/>
                    </a:lnTo>
                    <a:lnTo>
                      <a:pt x="540" y="271"/>
                    </a:lnTo>
                    <a:lnTo>
                      <a:pt x="540" y="271"/>
                    </a:lnTo>
                    <a:lnTo>
                      <a:pt x="539" y="263"/>
                    </a:lnTo>
                    <a:lnTo>
                      <a:pt x="539" y="263"/>
                    </a:lnTo>
                    <a:lnTo>
                      <a:pt x="539" y="255"/>
                    </a:lnTo>
                    <a:lnTo>
                      <a:pt x="539" y="255"/>
                    </a:lnTo>
                    <a:lnTo>
                      <a:pt x="538" y="247"/>
                    </a:lnTo>
                    <a:lnTo>
                      <a:pt x="538" y="247"/>
                    </a:lnTo>
                    <a:lnTo>
                      <a:pt x="537" y="239"/>
                    </a:lnTo>
                    <a:lnTo>
                      <a:pt x="537" y="239"/>
                    </a:lnTo>
                    <a:lnTo>
                      <a:pt x="538" y="230"/>
                    </a:lnTo>
                    <a:lnTo>
                      <a:pt x="538" y="230"/>
                    </a:lnTo>
                    <a:lnTo>
                      <a:pt x="538" y="221"/>
                    </a:lnTo>
                    <a:lnTo>
                      <a:pt x="538" y="221"/>
                    </a:lnTo>
                    <a:lnTo>
                      <a:pt x="537" y="212"/>
                    </a:lnTo>
                    <a:lnTo>
                      <a:pt x="537" y="212"/>
                    </a:lnTo>
                    <a:lnTo>
                      <a:pt x="539" y="203"/>
                    </a:lnTo>
                    <a:lnTo>
                      <a:pt x="539" y="203"/>
                    </a:lnTo>
                    <a:lnTo>
                      <a:pt x="538" y="194"/>
                    </a:lnTo>
                    <a:lnTo>
                      <a:pt x="538" y="194"/>
                    </a:lnTo>
                    <a:lnTo>
                      <a:pt x="538" y="187"/>
                    </a:lnTo>
                    <a:lnTo>
                      <a:pt x="538" y="187"/>
                    </a:lnTo>
                    <a:lnTo>
                      <a:pt x="537" y="178"/>
                    </a:lnTo>
                    <a:lnTo>
                      <a:pt x="537" y="178"/>
                    </a:lnTo>
                    <a:lnTo>
                      <a:pt x="537" y="170"/>
                    </a:lnTo>
                    <a:lnTo>
                      <a:pt x="537" y="17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5" y="152"/>
                    </a:lnTo>
                    <a:lnTo>
                      <a:pt x="535" y="152"/>
                    </a:lnTo>
                    <a:lnTo>
                      <a:pt x="534" y="143"/>
                    </a:lnTo>
                    <a:lnTo>
                      <a:pt x="534" y="143"/>
                    </a:lnTo>
                    <a:lnTo>
                      <a:pt x="534" y="134"/>
                    </a:lnTo>
                    <a:lnTo>
                      <a:pt x="534" y="134"/>
                    </a:lnTo>
                    <a:lnTo>
                      <a:pt x="533" y="128"/>
                    </a:lnTo>
                    <a:lnTo>
                      <a:pt x="533" y="128"/>
                    </a:lnTo>
                    <a:lnTo>
                      <a:pt x="530" y="120"/>
                    </a:lnTo>
                    <a:lnTo>
                      <a:pt x="530" y="120"/>
                    </a:lnTo>
                    <a:lnTo>
                      <a:pt x="530" y="114"/>
                    </a:lnTo>
                    <a:lnTo>
                      <a:pt x="530" y="114"/>
                    </a:lnTo>
                    <a:lnTo>
                      <a:pt x="528" y="108"/>
                    </a:lnTo>
                    <a:lnTo>
                      <a:pt x="528" y="108"/>
                    </a:lnTo>
                    <a:lnTo>
                      <a:pt x="525" y="102"/>
                    </a:lnTo>
                    <a:lnTo>
                      <a:pt x="525" y="102"/>
                    </a:lnTo>
                    <a:lnTo>
                      <a:pt x="523" y="95"/>
                    </a:lnTo>
                    <a:lnTo>
                      <a:pt x="523" y="95"/>
                    </a:lnTo>
                    <a:lnTo>
                      <a:pt x="523" y="89"/>
                    </a:lnTo>
                    <a:lnTo>
                      <a:pt x="523" y="89"/>
                    </a:lnTo>
                    <a:lnTo>
                      <a:pt x="521" y="82"/>
                    </a:lnTo>
                    <a:lnTo>
                      <a:pt x="521" y="82"/>
                    </a:lnTo>
                    <a:lnTo>
                      <a:pt x="520" y="76"/>
                    </a:lnTo>
                    <a:lnTo>
                      <a:pt x="520" y="76"/>
                    </a:lnTo>
                    <a:lnTo>
                      <a:pt x="517" y="68"/>
                    </a:lnTo>
                    <a:lnTo>
                      <a:pt x="517" y="68"/>
                    </a:lnTo>
                    <a:lnTo>
                      <a:pt x="513" y="62"/>
                    </a:lnTo>
                    <a:lnTo>
                      <a:pt x="513" y="62"/>
                    </a:lnTo>
                    <a:lnTo>
                      <a:pt x="510" y="57"/>
                    </a:lnTo>
                    <a:lnTo>
                      <a:pt x="510" y="57"/>
                    </a:lnTo>
                    <a:lnTo>
                      <a:pt x="501" y="44"/>
                    </a:lnTo>
                    <a:lnTo>
                      <a:pt x="501" y="44"/>
                    </a:lnTo>
                    <a:lnTo>
                      <a:pt x="496" y="39"/>
                    </a:lnTo>
                    <a:lnTo>
                      <a:pt x="496" y="39"/>
                    </a:lnTo>
                    <a:lnTo>
                      <a:pt x="490" y="36"/>
                    </a:lnTo>
                    <a:lnTo>
                      <a:pt x="490" y="36"/>
                    </a:lnTo>
                    <a:lnTo>
                      <a:pt x="486" y="31"/>
                    </a:lnTo>
                    <a:lnTo>
                      <a:pt x="486" y="31"/>
                    </a:lnTo>
                    <a:lnTo>
                      <a:pt x="479" y="27"/>
                    </a:lnTo>
                    <a:lnTo>
                      <a:pt x="479" y="27"/>
                    </a:lnTo>
                    <a:lnTo>
                      <a:pt x="474" y="22"/>
                    </a:lnTo>
                    <a:lnTo>
                      <a:pt x="474" y="22"/>
                    </a:lnTo>
                    <a:lnTo>
                      <a:pt x="469" y="17"/>
                    </a:lnTo>
                    <a:lnTo>
                      <a:pt x="469" y="17"/>
                    </a:lnTo>
                    <a:lnTo>
                      <a:pt x="465" y="12"/>
                    </a:lnTo>
                    <a:lnTo>
                      <a:pt x="465" y="12"/>
                    </a:lnTo>
                    <a:lnTo>
                      <a:pt x="466" y="17"/>
                    </a:lnTo>
                    <a:lnTo>
                      <a:pt x="466" y="17"/>
                    </a:lnTo>
                    <a:lnTo>
                      <a:pt x="466" y="21"/>
                    </a:lnTo>
                    <a:lnTo>
                      <a:pt x="466" y="21"/>
                    </a:lnTo>
                    <a:lnTo>
                      <a:pt x="465" y="21"/>
                    </a:lnTo>
                    <a:lnTo>
                      <a:pt x="460" y="17"/>
                    </a:lnTo>
                    <a:lnTo>
                      <a:pt x="460" y="17"/>
                    </a:lnTo>
                    <a:lnTo>
                      <a:pt x="455" y="14"/>
                    </a:lnTo>
                    <a:lnTo>
                      <a:pt x="454" y="13"/>
                    </a:lnTo>
                    <a:lnTo>
                      <a:pt x="454" y="13"/>
                    </a:lnTo>
                    <a:lnTo>
                      <a:pt x="441" y="10"/>
                    </a:lnTo>
                    <a:lnTo>
                      <a:pt x="441" y="10"/>
                    </a:lnTo>
                    <a:lnTo>
                      <a:pt x="434" y="6"/>
                    </a:lnTo>
                    <a:lnTo>
                      <a:pt x="434" y="6"/>
                    </a:lnTo>
                    <a:lnTo>
                      <a:pt x="429" y="1"/>
                    </a:lnTo>
                    <a:lnTo>
                      <a:pt x="429" y="1"/>
                    </a:lnTo>
                    <a:lnTo>
                      <a:pt x="423" y="0"/>
                    </a:lnTo>
                    <a:lnTo>
                      <a:pt x="423" y="0"/>
                    </a:lnTo>
                    <a:lnTo>
                      <a:pt x="413" y="2"/>
                    </a:lnTo>
                    <a:lnTo>
                      <a:pt x="413" y="2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1" y="12"/>
                    </a:lnTo>
                    <a:lnTo>
                      <a:pt x="401" y="12"/>
                    </a:lnTo>
                    <a:lnTo>
                      <a:pt x="398" y="18"/>
                    </a:lnTo>
                    <a:lnTo>
                      <a:pt x="398" y="18"/>
                    </a:lnTo>
                    <a:lnTo>
                      <a:pt x="392" y="23"/>
                    </a:lnTo>
                    <a:lnTo>
                      <a:pt x="392" y="23"/>
                    </a:lnTo>
                    <a:lnTo>
                      <a:pt x="382" y="27"/>
                    </a:lnTo>
                    <a:lnTo>
                      <a:pt x="382" y="27"/>
                    </a:lnTo>
                    <a:lnTo>
                      <a:pt x="376" y="28"/>
                    </a:lnTo>
                    <a:lnTo>
                      <a:pt x="376" y="28"/>
                    </a:lnTo>
                    <a:lnTo>
                      <a:pt x="371" y="27"/>
                    </a:lnTo>
                    <a:lnTo>
                      <a:pt x="371" y="27"/>
                    </a:lnTo>
                    <a:lnTo>
                      <a:pt x="368" y="27"/>
                    </a:lnTo>
                    <a:lnTo>
                      <a:pt x="368" y="27"/>
                    </a:lnTo>
                    <a:lnTo>
                      <a:pt x="361" y="32"/>
                    </a:lnTo>
                    <a:lnTo>
                      <a:pt x="361" y="32"/>
                    </a:lnTo>
                    <a:lnTo>
                      <a:pt x="356" y="38"/>
                    </a:lnTo>
                    <a:lnTo>
                      <a:pt x="356" y="38"/>
                    </a:lnTo>
                    <a:lnTo>
                      <a:pt x="350" y="43"/>
                    </a:lnTo>
                    <a:lnTo>
                      <a:pt x="350" y="43"/>
                    </a:lnTo>
                    <a:lnTo>
                      <a:pt x="339" y="50"/>
                    </a:lnTo>
                    <a:lnTo>
                      <a:pt x="339" y="50"/>
                    </a:lnTo>
                    <a:lnTo>
                      <a:pt x="329" y="52"/>
                    </a:lnTo>
                    <a:lnTo>
                      <a:pt x="329" y="52"/>
                    </a:lnTo>
                    <a:lnTo>
                      <a:pt x="321" y="57"/>
                    </a:lnTo>
                    <a:lnTo>
                      <a:pt x="321" y="57"/>
                    </a:lnTo>
                    <a:lnTo>
                      <a:pt x="310" y="63"/>
                    </a:lnTo>
                    <a:lnTo>
                      <a:pt x="310" y="63"/>
                    </a:lnTo>
                    <a:lnTo>
                      <a:pt x="303" y="70"/>
                    </a:lnTo>
                    <a:lnTo>
                      <a:pt x="303" y="70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88" y="84"/>
                    </a:lnTo>
                    <a:lnTo>
                      <a:pt x="288" y="84"/>
                    </a:lnTo>
                    <a:lnTo>
                      <a:pt x="281" y="94"/>
                    </a:lnTo>
                    <a:lnTo>
                      <a:pt x="281" y="94"/>
                    </a:lnTo>
                    <a:lnTo>
                      <a:pt x="274" y="101"/>
                    </a:lnTo>
                    <a:lnTo>
                      <a:pt x="274" y="101"/>
                    </a:lnTo>
                    <a:lnTo>
                      <a:pt x="268" y="109"/>
                    </a:lnTo>
                    <a:lnTo>
                      <a:pt x="268" y="109"/>
                    </a:lnTo>
                    <a:lnTo>
                      <a:pt x="264" y="118"/>
                    </a:lnTo>
                    <a:lnTo>
                      <a:pt x="264" y="118"/>
                    </a:lnTo>
                    <a:lnTo>
                      <a:pt x="260" y="129"/>
                    </a:lnTo>
                    <a:lnTo>
                      <a:pt x="260" y="129"/>
                    </a:lnTo>
                    <a:lnTo>
                      <a:pt x="256" y="140"/>
                    </a:lnTo>
                    <a:lnTo>
                      <a:pt x="256" y="140"/>
                    </a:lnTo>
                    <a:lnTo>
                      <a:pt x="254" y="152"/>
                    </a:lnTo>
                    <a:lnTo>
                      <a:pt x="254" y="152"/>
                    </a:lnTo>
                    <a:lnTo>
                      <a:pt x="252" y="164"/>
                    </a:lnTo>
                    <a:lnTo>
                      <a:pt x="252" y="164"/>
                    </a:lnTo>
                    <a:lnTo>
                      <a:pt x="253" y="178"/>
                    </a:lnTo>
                    <a:lnTo>
                      <a:pt x="253" y="178"/>
                    </a:lnTo>
                    <a:lnTo>
                      <a:pt x="253" y="191"/>
                    </a:lnTo>
                    <a:lnTo>
                      <a:pt x="253" y="191"/>
                    </a:lnTo>
                    <a:lnTo>
                      <a:pt x="254" y="202"/>
                    </a:lnTo>
                    <a:lnTo>
                      <a:pt x="254" y="202"/>
                    </a:lnTo>
                    <a:lnTo>
                      <a:pt x="255" y="212"/>
                    </a:lnTo>
                    <a:lnTo>
                      <a:pt x="255" y="212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34"/>
                    </a:lnTo>
                    <a:lnTo>
                      <a:pt x="257" y="234"/>
                    </a:lnTo>
                    <a:lnTo>
                      <a:pt x="254" y="233"/>
                    </a:lnTo>
                    <a:lnTo>
                      <a:pt x="254" y="233"/>
                    </a:lnTo>
                    <a:lnTo>
                      <a:pt x="250" y="235"/>
                    </a:lnTo>
                    <a:lnTo>
                      <a:pt x="246" y="238"/>
                    </a:lnTo>
                    <a:lnTo>
                      <a:pt x="244" y="241"/>
                    </a:lnTo>
                    <a:lnTo>
                      <a:pt x="243" y="245"/>
                    </a:lnTo>
                    <a:lnTo>
                      <a:pt x="243" y="251"/>
                    </a:lnTo>
                    <a:lnTo>
                      <a:pt x="243" y="253"/>
                    </a:lnTo>
                    <a:lnTo>
                      <a:pt x="243" y="253"/>
                    </a:lnTo>
                    <a:lnTo>
                      <a:pt x="245" y="264"/>
                    </a:lnTo>
                    <a:lnTo>
                      <a:pt x="245" y="264"/>
                    </a:lnTo>
                    <a:lnTo>
                      <a:pt x="249" y="274"/>
                    </a:lnTo>
                    <a:lnTo>
                      <a:pt x="249" y="274"/>
                    </a:lnTo>
                    <a:lnTo>
                      <a:pt x="251" y="284"/>
                    </a:lnTo>
                    <a:lnTo>
                      <a:pt x="251" y="284"/>
                    </a:lnTo>
                    <a:lnTo>
                      <a:pt x="253" y="294"/>
                    </a:lnTo>
                    <a:lnTo>
                      <a:pt x="253" y="294"/>
                    </a:lnTo>
                    <a:lnTo>
                      <a:pt x="256" y="304"/>
                    </a:lnTo>
                    <a:lnTo>
                      <a:pt x="256" y="304"/>
                    </a:lnTo>
                    <a:lnTo>
                      <a:pt x="260" y="312"/>
                    </a:lnTo>
                    <a:lnTo>
                      <a:pt x="260" y="312"/>
                    </a:lnTo>
                    <a:lnTo>
                      <a:pt x="264" y="318"/>
                    </a:lnTo>
                    <a:lnTo>
                      <a:pt x="264" y="318"/>
                    </a:lnTo>
                    <a:lnTo>
                      <a:pt x="269" y="324"/>
                    </a:lnTo>
                    <a:lnTo>
                      <a:pt x="269" y="324"/>
                    </a:lnTo>
                    <a:lnTo>
                      <a:pt x="274" y="329"/>
                    </a:lnTo>
                    <a:lnTo>
                      <a:pt x="274" y="329"/>
                    </a:lnTo>
                    <a:lnTo>
                      <a:pt x="280" y="334"/>
                    </a:lnTo>
                    <a:lnTo>
                      <a:pt x="280" y="334"/>
                    </a:lnTo>
                    <a:lnTo>
                      <a:pt x="284" y="341"/>
                    </a:lnTo>
                    <a:lnTo>
                      <a:pt x="284" y="341"/>
                    </a:lnTo>
                    <a:lnTo>
                      <a:pt x="289" y="351"/>
                    </a:lnTo>
                    <a:lnTo>
                      <a:pt x="289" y="351"/>
                    </a:lnTo>
                    <a:lnTo>
                      <a:pt x="294" y="361"/>
                    </a:lnTo>
                    <a:lnTo>
                      <a:pt x="294" y="361"/>
                    </a:lnTo>
                    <a:lnTo>
                      <a:pt x="297" y="372"/>
                    </a:lnTo>
                    <a:lnTo>
                      <a:pt x="297" y="372"/>
                    </a:lnTo>
                    <a:lnTo>
                      <a:pt x="298" y="384"/>
                    </a:lnTo>
                    <a:lnTo>
                      <a:pt x="298" y="384"/>
                    </a:lnTo>
                    <a:lnTo>
                      <a:pt x="299" y="395"/>
                    </a:lnTo>
                    <a:lnTo>
                      <a:pt x="299" y="395"/>
                    </a:lnTo>
                    <a:lnTo>
                      <a:pt x="299" y="406"/>
                    </a:lnTo>
                    <a:lnTo>
                      <a:pt x="299" y="406"/>
                    </a:lnTo>
                    <a:lnTo>
                      <a:pt x="299" y="417"/>
                    </a:lnTo>
                    <a:lnTo>
                      <a:pt x="299" y="417"/>
                    </a:lnTo>
                    <a:lnTo>
                      <a:pt x="299" y="425"/>
                    </a:lnTo>
                    <a:lnTo>
                      <a:pt x="299" y="425"/>
                    </a:lnTo>
                    <a:lnTo>
                      <a:pt x="299" y="433"/>
                    </a:lnTo>
                    <a:lnTo>
                      <a:pt x="299" y="433"/>
                    </a:lnTo>
                    <a:lnTo>
                      <a:pt x="299" y="447"/>
                    </a:lnTo>
                    <a:lnTo>
                      <a:pt x="299" y="447"/>
                    </a:lnTo>
                    <a:lnTo>
                      <a:pt x="297" y="457"/>
                    </a:lnTo>
                    <a:lnTo>
                      <a:pt x="297" y="457"/>
                    </a:lnTo>
                    <a:lnTo>
                      <a:pt x="294" y="468"/>
                    </a:lnTo>
                    <a:lnTo>
                      <a:pt x="294" y="468"/>
                    </a:lnTo>
                    <a:lnTo>
                      <a:pt x="290" y="479"/>
                    </a:lnTo>
                    <a:lnTo>
                      <a:pt x="290" y="479"/>
                    </a:lnTo>
                    <a:lnTo>
                      <a:pt x="283" y="489"/>
                    </a:lnTo>
                    <a:lnTo>
                      <a:pt x="283" y="489"/>
                    </a:lnTo>
                    <a:lnTo>
                      <a:pt x="276" y="498"/>
                    </a:lnTo>
                    <a:lnTo>
                      <a:pt x="276" y="498"/>
                    </a:lnTo>
                    <a:lnTo>
                      <a:pt x="267" y="506"/>
                    </a:lnTo>
                    <a:lnTo>
                      <a:pt x="267" y="506"/>
                    </a:lnTo>
                    <a:lnTo>
                      <a:pt x="250" y="516"/>
                    </a:lnTo>
                    <a:lnTo>
                      <a:pt x="250" y="516"/>
                    </a:lnTo>
                    <a:lnTo>
                      <a:pt x="237" y="521"/>
                    </a:lnTo>
                    <a:lnTo>
                      <a:pt x="237" y="521"/>
                    </a:lnTo>
                    <a:lnTo>
                      <a:pt x="220" y="526"/>
                    </a:lnTo>
                    <a:lnTo>
                      <a:pt x="220" y="526"/>
                    </a:lnTo>
                    <a:lnTo>
                      <a:pt x="204" y="532"/>
                    </a:lnTo>
                    <a:lnTo>
                      <a:pt x="204" y="532"/>
                    </a:lnTo>
                    <a:lnTo>
                      <a:pt x="190" y="537"/>
                    </a:lnTo>
                    <a:lnTo>
                      <a:pt x="190" y="537"/>
                    </a:lnTo>
                    <a:lnTo>
                      <a:pt x="174" y="541"/>
                    </a:lnTo>
                    <a:lnTo>
                      <a:pt x="174" y="541"/>
                    </a:lnTo>
                    <a:lnTo>
                      <a:pt x="163" y="546"/>
                    </a:lnTo>
                    <a:lnTo>
                      <a:pt x="163" y="546"/>
                    </a:lnTo>
                    <a:lnTo>
                      <a:pt x="150" y="550"/>
                    </a:lnTo>
                    <a:lnTo>
                      <a:pt x="150" y="550"/>
                    </a:lnTo>
                    <a:lnTo>
                      <a:pt x="140" y="553"/>
                    </a:lnTo>
                    <a:lnTo>
                      <a:pt x="140" y="553"/>
                    </a:lnTo>
                    <a:lnTo>
                      <a:pt x="130" y="557"/>
                    </a:lnTo>
                    <a:lnTo>
                      <a:pt x="130" y="557"/>
                    </a:lnTo>
                    <a:lnTo>
                      <a:pt x="123" y="560"/>
                    </a:lnTo>
                    <a:lnTo>
                      <a:pt x="123" y="560"/>
                    </a:lnTo>
                    <a:lnTo>
                      <a:pt x="113" y="561"/>
                    </a:lnTo>
                    <a:lnTo>
                      <a:pt x="113" y="561"/>
                    </a:lnTo>
                    <a:lnTo>
                      <a:pt x="107" y="563"/>
                    </a:lnTo>
                    <a:lnTo>
                      <a:pt x="107" y="563"/>
                    </a:lnTo>
                    <a:lnTo>
                      <a:pt x="100" y="568"/>
                    </a:lnTo>
                    <a:lnTo>
                      <a:pt x="100" y="568"/>
                    </a:lnTo>
                    <a:lnTo>
                      <a:pt x="95" y="576"/>
                    </a:lnTo>
                    <a:lnTo>
                      <a:pt x="95" y="576"/>
                    </a:lnTo>
                    <a:lnTo>
                      <a:pt x="90" y="581"/>
                    </a:lnTo>
                    <a:lnTo>
                      <a:pt x="90" y="581"/>
                    </a:lnTo>
                    <a:lnTo>
                      <a:pt x="81" y="587"/>
                    </a:lnTo>
                    <a:lnTo>
                      <a:pt x="81" y="587"/>
                    </a:lnTo>
                    <a:lnTo>
                      <a:pt x="71" y="591"/>
                    </a:lnTo>
                    <a:lnTo>
                      <a:pt x="71" y="591"/>
                    </a:lnTo>
                    <a:lnTo>
                      <a:pt x="62" y="596"/>
                    </a:lnTo>
                    <a:lnTo>
                      <a:pt x="62" y="596"/>
                    </a:lnTo>
                    <a:lnTo>
                      <a:pt x="46" y="606"/>
                    </a:lnTo>
                    <a:lnTo>
                      <a:pt x="46" y="606"/>
                    </a:lnTo>
                    <a:lnTo>
                      <a:pt x="31" y="621"/>
                    </a:lnTo>
                    <a:lnTo>
                      <a:pt x="31" y="621"/>
                    </a:lnTo>
                    <a:lnTo>
                      <a:pt x="17" y="636"/>
                    </a:lnTo>
                    <a:lnTo>
                      <a:pt x="17" y="636"/>
                    </a:lnTo>
                    <a:lnTo>
                      <a:pt x="3" y="657"/>
                    </a:lnTo>
                    <a:lnTo>
                      <a:pt x="3" y="657"/>
                    </a:lnTo>
                    <a:lnTo>
                      <a:pt x="0" y="660"/>
                    </a:lnTo>
                    <a:lnTo>
                      <a:pt x="0" y="660"/>
                    </a:lnTo>
                    <a:lnTo>
                      <a:pt x="7" y="692"/>
                    </a:lnTo>
                    <a:lnTo>
                      <a:pt x="14" y="725"/>
                    </a:lnTo>
                    <a:lnTo>
                      <a:pt x="23" y="757"/>
                    </a:lnTo>
                    <a:lnTo>
                      <a:pt x="33" y="789"/>
                    </a:lnTo>
                    <a:lnTo>
                      <a:pt x="44" y="819"/>
                    </a:lnTo>
                    <a:lnTo>
                      <a:pt x="57" y="850"/>
                    </a:lnTo>
                    <a:lnTo>
                      <a:pt x="70" y="880"/>
                    </a:lnTo>
                    <a:lnTo>
                      <a:pt x="84" y="909"/>
                    </a:lnTo>
                    <a:lnTo>
                      <a:pt x="99" y="938"/>
                    </a:lnTo>
                    <a:lnTo>
                      <a:pt x="115" y="965"/>
                    </a:lnTo>
                    <a:lnTo>
                      <a:pt x="133" y="993"/>
                    </a:lnTo>
                    <a:lnTo>
                      <a:pt x="151" y="1020"/>
                    </a:lnTo>
                    <a:lnTo>
                      <a:pt x="169" y="1047"/>
                    </a:lnTo>
                    <a:lnTo>
                      <a:pt x="190" y="1072"/>
                    </a:lnTo>
                    <a:lnTo>
                      <a:pt x="210" y="1096"/>
                    </a:lnTo>
                    <a:lnTo>
                      <a:pt x="232" y="1121"/>
                    </a:lnTo>
                    <a:lnTo>
                      <a:pt x="255" y="1143"/>
                    </a:lnTo>
                    <a:lnTo>
                      <a:pt x="278" y="1165"/>
                    </a:lnTo>
                    <a:lnTo>
                      <a:pt x="301" y="1188"/>
                    </a:lnTo>
                    <a:lnTo>
                      <a:pt x="327" y="1208"/>
                    </a:lnTo>
                    <a:lnTo>
                      <a:pt x="352" y="1228"/>
                    </a:lnTo>
                    <a:lnTo>
                      <a:pt x="379" y="1247"/>
                    </a:lnTo>
                    <a:lnTo>
                      <a:pt x="405" y="1265"/>
                    </a:lnTo>
                    <a:lnTo>
                      <a:pt x="432" y="1282"/>
                    </a:lnTo>
                    <a:lnTo>
                      <a:pt x="461" y="1299"/>
                    </a:lnTo>
                    <a:lnTo>
                      <a:pt x="489" y="1314"/>
                    </a:lnTo>
                    <a:lnTo>
                      <a:pt x="519" y="1328"/>
                    </a:lnTo>
                    <a:lnTo>
                      <a:pt x="549" y="1341"/>
                    </a:lnTo>
                    <a:lnTo>
                      <a:pt x="580" y="1352"/>
                    </a:lnTo>
                    <a:lnTo>
                      <a:pt x="610" y="1363"/>
                    </a:lnTo>
                    <a:lnTo>
                      <a:pt x="642" y="1374"/>
                    </a:lnTo>
                    <a:lnTo>
                      <a:pt x="674" y="1383"/>
                    </a:lnTo>
                    <a:lnTo>
                      <a:pt x="672" y="1381"/>
                    </a:lnTo>
                    <a:lnTo>
                      <a:pt x="671" y="1381"/>
                    </a:lnTo>
                    <a:lnTo>
                      <a:pt x="671" y="1381"/>
                    </a:lnTo>
                    <a:lnTo>
                      <a:pt x="663" y="1372"/>
                    </a:lnTo>
                    <a:lnTo>
                      <a:pt x="663" y="1372"/>
                    </a:lnTo>
                    <a:lnTo>
                      <a:pt x="662" y="1372"/>
                    </a:lnTo>
                    <a:lnTo>
                      <a:pt x="662" y="1372"/>
                    </a:lnTo>
                    <a:lnTo>
                      <a:pt x="657" y="1363"/>
                    </a:lnTo>
                    <a:lnTo>
                      <a:pt x="650" y="1354"/>
                    </a:lnTo>
                    <a:lnTo>
                      <a:pt x="650" y="1353"/>
                    </a:lnTo>
                    <a:lnTo>
                      <a:pt x="650" y="1353"/>
                    </a:lnTo>
                    <a:lnTo>
                      <a:pt x="647" y="1345"/>
                    </a:lnTo>
                    <a:lnTo>
                      <a:pt x="646" y="1344"/>
                    </a:lnTo>
                    <a:lnTo>
                      <a:pt x="646" y="1344"/>
                    </a:lnTo>
                    <a:lnTo>
                      <a:pt x="645" y="1333"/>
                    </a:lnTo>
                    <a:lnTo>
                      <a:pt x="645" y="1333"/>
                    </a:lnTo>
                    <a:lnTo>
                      <a:pt x="645" y="1333"/>
                    </a:lnTo>
                    <a:lnTo>
                      <a:pt x="645" y="1318"/>
                    </a:lnTo>
                    <a:lnTo>
                      <a:pt x="645" y="1318"/>
                    </a:lnTo>
                    <a:lnTo>
                      <a:pt x="645" y="1317"/>
                    </a:lnTo>
                    <a:lnTo>
                      <a:pt x="647" y="1309"/>
                    </a:lnTo>
                    <a:lnTo>
                      <a:pt x="647" y="1309"/>
                    </a:lnTo>
                    <a:lnTo>
                      <a:pt x="647" y="1308"/>
                    </a:lnTo>
                    <a:lnTo>
                      <a:pt x="652" y="1301"/>
                    </a:lnTo>
                    <a:lnTo>
                      <a:pt x="652" y="1300"/>
                    </a:lnTo>
                    <a:lnTo>
                      <a:pt x="653" y="1300"/>
                    </a:lnTo>
                    <a:lnTo>
                      <a:pt x="660" y="1294"/>
                    </a:lnTo>
                    <a:lnTo>
                      <a:pt x="661" y="1293"/>
                    </a:lnTo>
                    <a:lnTo>
                      <a:pt x="661" y="1293"/>
                    </a:lnTo>
                    <a:lnTo>
                      <a:pt x="668" y="1292"/>
                    </a:lnTo>
                    <a:lnTo>
                      <a:pt x="669" y="1291"/>
                    </a:lnTo>
                    <a:lnTo>
                      <a:pt x="670" y="1292"/>
                    </a:lnTo>
                    <a:lnTo>
                      <a:pt x="675" y="1293"/>
                    </a:lnTo>
                    <a:lnTo>
                      <a:pt x="681" y="1293"/>
                    </a:lnTo>
                    <a:lnTo>
                      <a:pt x="684" y="1290"/>
                    </a:lnTo>
                    <a:lnTo>
                      <a:pt x="688" y="1286"/>
                    </a:lnTo>
                    <a:lnTo>
                      <a:pt x="690" y="1281"/>
                    </a:lnTo>
                    <a:lnTo>
                      <a:pt x="691" y="1275"/>
                    </a:lnTo>
                    <a:lnTo>
                      <a:pt x="688" y="1269"/>
                    </a:lnTo>
                    <a:lnTo>
                      <a:pt x="684" y="1264"/>
                    </a:lnTo>
                    <a:lnTo>
                      <a:pt x="678" y="1258"/>
                    </a:lnTo>
                    <a:lnTo>
                      <a:pt x="678" y="1258"/>
                    </a:lnTo>
                    <a:lnTo>
                      <a:pt x="678" y="1257"/>
                    </a:lnTo>
                    <a:lnTo>
                      <a:pt x="678" y="1257"/>
                    </a:lnTo>
                    <a:lnTo>
                      <a:pt x="671" y="1248"/>
                    </a:lnTo>
                    <a:lnTo>
                      <a:pt x="664" y="1235"/>
                    </a:lnTo>
                    <a:lnTo>
                      <a:pt x="660" y="1229"/>
                    </a:lnTo>
                    <a:lnTo>
                      <a:pt x="659" y="1229"/>
                    </a:lnTo>
                    <a:lnTo>
                      <a:pt x="659" y="1228"/>
                    </a:lnTo>
                    <a:lnTo>
                      <a:pt x="659" y="1228"/>
                    </a:lnTo>
                    <a:lnTo>
                      <a:pt x="656" y="1219"/>
                    </a:lnTo>
                    <a:lnTo>
                      <a:pt x="656" y="1219"/>
                    </a:lnTo>
                    <a:lnTo>
                      <a:pt x="651" y="1211"/>
                    </a:lnTo>
                    <a:lnTo>
                      <a:pt x="647" y="1203"/>
                    </a:lnTo>
                    <a:lnTo>
                      <a:pt x="647" y="1203"/>
                    </a:lnTo>
                    <a:lnTo>
                      <a:pt x="647" y="1203"/>
                    </a:lnTo>
                    <a:lnTo>
                      <a:pt x="644" y="1194"/>
                    </a:lnTo>
                    <a:lnTo>
                      <a:pt x="644" y="1193"/>
                    </a:lnTo>
                    <a:lnTo>
                      <a:pt x="644" y="1193"/>
                    </a:lnTo>
                    <a:lnTo>
                      <a:pt x="644" y="1193"/>
                    </a:lnTo>
                    <a:lnTo>
                      <a:pt x="645" y="1187"/>
                    </a:lnTo>
                    <a:lnTo>
                      <a:pt x="646" y="1177"/>
                    </a:lnTo>
                    <a:lnTo>
                      <a:pt x="646" y="1163"/>
                    </a:lnTo>
                    <a:lnTo>
                      <a:pt x="646" y="1163"/>
                    </a:lnTo>
                    <a:lnTo>
                      <a:pt x="646" y="1148"/>
                    </a:lnTo>
                    <a:lnTo>
                      <a:pt x="646" y="1134"/>
                    </a:lnTo>
                    <a:lnTo>
                      <a:pt x="646" y="1134"/>
                    </a:lnTo>
                    <a:lnTo>
                      <a:pt x="644" y="1123"/>
                    </a:lnTo>
                    <a:lnTo>
                      <a:pt x="644" y="1123"/>
                    </a:lnTo>
                    <a:lnTo>
                      <a:pt x="642" y="1111"/>
                    </a:lnTo>
                    <a:lnTo>
                      <a:pt x="642" y="1111"/>
                    </a:lnTo>
                    <a:lnTo>
                      <a:pt x="640" y="1102"/>
                    </a:lnTo>
                    <a:lnTo>
                      <a:pt x="637" y="1094"/>
                    </a:lnTo>
                    <a:lnTo>
                      <a:pt x="636" y="1090"/>
                    </a:lnTo>
                    <a:lnTo>
                      <a:pt x="636" y="1090"/>
                    </a:lnTo>
                    <a:lnTo>
                      <a:pt x="635" y="1090"/>
                    </a:lnTo>
                    <a:lnTo>
                      <a:pt x="634" y="1084"/>
                    </a:lnTo>
                    <a:lnTo>
                      <a:pt x="634" y="1084"/>
                    </a:lnTo>
                    <a:lnTo>
                      <a:pt x="634" y="1084"/>
                    </a:lnTo>
                    <a:lnTo>
                      <a:pt x="633" y="1077"/>
                    </a:lnTo>
                    <a:lnTo>
                      <a:pt x="633" y="1077"/>
                    </a:lnTo>
                    <a:lnTo>
                      <a:pt x="633" y="1076"/>
                    </a:lnTo>
                    <a:lnTo>
                      <a:pt x="633" y="1070"/>
                    </a:lnTo>
                    <a:lnTo>
                      <a:pt x="633" y="1070"/>
                    </a:lnTo>
                    <a:lnTo>
                      <a:pt x="633" y="1064"/>
                    </a:lnTo>
                    <a:lnTo>
                      <a:pt x="633" y="1063"/>
                    </a:lnTo>
                    <a:lnTo>
                      <a:pt x="633" y="1063"/>
                    </a:lnTo>
                    <a:lnTo>
                      <a:pt x="633" y="1063"/>
                    </a:lnTo>
                    <a:lnTo>
                      <a:pt x="636" y="1056"/>
                    </a:lnTo>
                    <a:lnTo>
                      <a:pt x="640" y="1052"/>
                    </a:lnTo>
                    <a:lnTo>
                      <a:pt x="640" y="1041"/>
                    </a:lnTo>
                    <a:lnTo>
                      <a:pt x="640" y="1041"/>
                    </a:lnTo>
                    <a:lnTo>
                      <a:pt x="640" y="1032"/>
                    </a:lnTo>
                    <a:lnTo>
                      <a:pt x="639" y="1024"/>
                    </a:lnTo>
                    <a:lnTo>
                      <a:pt x="639" y="1024"/>
                    </a:lnTo>
                    <a:lnTo>
                      <a:pt x="639" y="1024"/>
                    </a:lnTo>
                    <a:lnTo>
                      <a:pt x="639" y="1024"/>
                    </a:lnTo>
                    <a:lnTo>
                      <a:pt x="640" y="1016"/>
                    </a:lnTo>
                    <a:lnTo>
                      <a:pt x="640" y="1009"/>
                    </a:lnTo>
                    <a:lnTo>
                      <a:pt x="640" y="1002"/>
                    </a:lnTo>
                    <a:lnTo>
                      <a:pt x="640" y="1002"/>
                    </a:lnTo>
                    <a:lnTo>
                      <a:pt x="640" y="1001"/>
                    </a:lnTo>
                    <a:lnTo>
                      <a:pt x="641" y="996"/>
                    </a:lnTo>
                    <a:lnTo>
                      <a:pt x="641" y="995"/>
                    </a:lnTo>
                    <a:lnTo>
                      <a:pt x="642" y="994"/>
                    </a:lnTo>
                    <a:lnTo>
                      <a:pt x="646" y="991"/>
                    </a:lnTo>
                    <a:lnTo>
                      <a:pt x="647" y="990"/>
                    </a:lnTo>
                    <a:lnTo>
                      <a:pt x="649" y="990"/>
                    </a:lnTo>
                    <a:lnTo>
                      <a:pt x="653" y="990"/>
                    </a:lnTo>
                    <a:lnTo>
                      <a:pt x="654" y="991"/>
                    </a:lnTo>
                    <a:lnTo>
                      <a:pt x="655" y="992"/>
                    </a:lnTo>
                    <a:lnTo>
                      <a:pt x="659" y="995"/>
                    </a:lnTo>
                    <a:lnTo>
                      <a:pt x="660" y="996"/>
                    </a:lnTo>
                    <a:lnTo>
                      <a:pt x="660" y="996"/>
                    </a:lnTo>
                    <a:lnTo>
                      <a:pt x="660" y="996"/>
                    </a:lnTo>
                    <a:lnTo>
                      <a:pt x="665" y="1007"/>
                    </a:lnTo>
                    <a:lnTo>
                      <a:pt x="665" y="1007"/>
                    </a:lnTo>
                    <a:lnTo>
                      <a:pt x="669" y="1017"/>
                    </a:lnTo>
                    <a:lnTo>
                      <a:pt x="669" y="1017"/>
                    </a:lnTo>
                    <a:lnTo>
                      <a:pt x="675" y="1031"/>
                    </a:lnTo>
                    <a:lnTo>
                      <a:pt x="675" y="1031"/>
                    </a:lnTo>
                    <a:lnTo>
                      <a:pt x="680" y="1044"/>
                    </a:lnTo>
                    <a:lnTo>
                      <a:pt x="680" y="1044"/>
                    </a:lnTo>
                    <a:lnTo>
                      <a:pt x="685" y="1058"/>
                    </a:lnTo>
                    <a:lnTo>
                      <a:pt x="685" y="1058"/>
                    </a:lnTo>
                    <a:lnTo>
                      <a:pt x="689" y="1073"/>
                    </a:lnTo>
                    <a:lnTo>
                      <a:pt x="692" y="1084"/>
                    </a:lnTo>
                    <a:lnTo>
                      <a:pt x="692" y="1085"/>
                    </a:lnTo>
                    <a:lnTo>
                      <a:pt x="692" y="1085"/>
                    </a:lnTo>
                    <a:lnTo>
                      <a:pt x="692" y="1092"/>
                    </a:lnTo>
                    <a:lnTo>
                      <a:pt x="692" y="1093"/>
                    </a:lnTo>
                    <a:lnTo>
                      <a:pt x="692" y="1093"/>
                    </a:lnTo>
                    <a:lnTo>
                      <a:pt x="691" y="1103"/>
                    </a:lnTo>
                    <a:lnTo>
                      <a:pt x="690" y="1104"/>
                    </a:lnTo>
                    <a:lnTo>
                      <a:pt x="690" y="1105"/>
                    </a:lnTo>
                    <a:lnTo>
                      <a:pt x="683" y="1113"/>
                    </a:lnTo>
                    <a:lnTo>
                      <a:pt x="681" y="1118"/>
                    </a:lnTo>
                    <a:lnTo>
                      <a:pt x="681" y="1128"/>
                    </a:lnTo>
                    <a:lnTo>
                      <a:pt x="683" y="1137"/>
                    </a:lnTo>
                    <a:lnTo>
                      <a:pt x="683" y="1137"/>
                    </a:lnTo>
                    <a:lnTo>
                      <a:pt x="689" y="1143"/>
                    </a:lnTo>
                    <a:lnTo>
                      <a:pt x="689" y="1143"/>
                    </a:lnTo>
                    <a:lnTo>
                      <a:pt x="697" y="1149"/>
                    </a:lnTo>
                    <a:lnTo>
                      <a:pt x="701" y="1153"/>
                    </a:lnTo>
                    <a:lnTo>
                      <a:pt x="702" y="1153"/>
                    </a:lnTo>
                    <a:lnTo>
                      <a:pt x="702" y="1154"/>
                    </a:lnTo>
                    <a:lnTo>
                      <a:pt x="706" y="1162"/>
                    </a:lnTo>
                    <a:lnTo>
                      <a:pt x="707" y="1163"/>
                    </a:lnTo>
                    <a:lnTo>
                      <a:pt x="706" y="1164"/>
                    </a:lnTo>
                    <a:lnTo>
                      <a:pt x="706" y="1170"/>
                    </a:lnTo>
                    <a:lnTo>
                      <a:pt x="706" y="1172"/>
                    </a:lnTo>
                    <a:lnTo>
                      <a:pt x="705" y="1173"/>
                    </a:lnTo>
                    <a:lnTo>
                      <a:pt x="701" y="1176"/>
                    </a:lnTo>
                    <a:lnTo>
                      <a:pt x="699" y="1179"/>
                    </a:lnTo>
                    <a:lnTo>
                      <a:pt x="700" y="1182"/>
                    </a:lnTo>
                    <a:lnTo>
                      <a:pt x="705" y="1185"/>
                    </a:lnTo>
                    <a:lnTo>
                      <a:pt x="706" y="1186"/>
                    </a:lnTo>
                    <a:lnTo>
                      <a:pt x="706" y="1187"/>
                    </a:lnTo>
                    <a:lnTo>
                      <a:pt x="709" y="1194"/>
                    </a:lnTo>
                    <a:lnTo>
                      <a:pt x="709" y="1195"/>
                    </a:lnTo>
                    <a:lnTo>
                      <a:pt x="709" y="1195"/>
                    </a:lnTo>
                    <a:lnTo>
                      <a:pt x="709" y="1195"/>
                    </a:lnTo>
                    <a:lnTo>
                      <a:pt x="710" y="1208"/>
                    </a:lnTo>
                    <a:lnTo>
                      <a:pt x="710" y="1221"/>
                    </a:lnTo>
                    <a:lnTo>
                      <a:pt x="710" y="1221"/>
                    </a:lnTo>
                    <a:lnTo>
                      <a:pt x="710" y="1235"/>
                    </a:lnTo>
                    <a:lnTo>
                      <a:pt x="710" y="1235"/>
                    </a:lnTo>
                    <a:lnTo>
                      <a:pt x="711" y="1247"/>
                    </a:lnTo>
                    <a:lnTo>
                      <a:pt x="711" y="1247"/>
                    </a:lnTo>
                    <a:lnTo>
                      <a:pt x="711" y="1259"/>
                    </a:lnTo>
                    <a:lnTo>
                      <a:pt x="712" y="1267"/>
                    </a:lnTo>
                    <a:lnTo>
                      <a:pt x="716" y="1273"/>
                    </a:lnTo>
                    <a:lnTo>
                      <a:pt x="717" y="1273"/>
                    </a:lnTo>
                    <a:lnTo>
                      <a:pt x="717" y="1274"/>
                    </a:lnTo>
                    <a:lnTo>
                      <a:pt x="719" y="1282"/>
                    </a:lnTo>
                    <a:lnTo>
                      <a:pt x="719" y="1283"/>
                    </a:lnTo>
                    <a:lnTo>
                      <a:pt x="719" y="1284"/>
                    </a:lnTo>
                    <a:lnTo>
                      <a:pt x="717" y="1290"/>
                    </a:lnTo>
                    <a:lnTo>
                      <a:pt x="717" y="1291"/>
                    </a:lnTo>
                    <a:lnTo>
                      <a:pt x="717" y="1292"/>
                    </a:lnTo>
                    <a:lnTo>
                      <a:pt x="713" y="1296"/>
                    </a:lnTo>
                    <a:lnTo>
                      <a:pt x="712" y="1304"/>
                    </a:lnTo>
                    <a:lnTo>
                      <a:pt x="712" y="1313"/>
                    </a:lnTo>
                    <a:lnTo>
                      <a:pt x="714" y="1320"/>
                    </a:lnTo>
                    <a:lnTo>
                      <a:pt x="715" y="1321"/>
                    </a:lnTo>
                    <a:lnTo>
                      <a:pt x="715" y="1321"/>
                    </a:lnTo>
                    <a:lnTo>
                      <a:pt x="715" y="1321"/>
                    </a:lnTo>
                    <a:lnTo>
                      <a:pt x="716" y="1330"/>
                    </a:lnTo>
                    <a:lnTo>
                      <a:pt x="718" y="1343"/>
                    </a:lnTo>
                    <a:lnTo>
                      <a:pt x="718" y="1343"/>
                    </a:lnTo>
                    <a:lnTo>
                      <a:pt x="720" y="1354"/>
                    </a:lnTo>
                    <a:lnTo>
                      <a:pt x="722" y="1365"/>
                    </a:lnTo>
                    <a:lnTo>
                      <a:pt x="722" y="1366"/>
                    </a:lnTo>
                    <a:lnTo>
                      <a:pt x="722" y="1367"/>
                    </a:lnTo>
                    <a:lnTo>
                      <a:pt x="721" y="1378"/>
                    </a:lnTo>
                    <a:lnTo>
                      <a:pt x="721" y="1379"/>
                    </a:lnTo>
                    <a:lnTo>
                      <a:pt x="721" y="1379"/>
                    </a:lnTo>
                    <a:lnTo>
                      <a:pt x="717" y="1389"/>
                    </a:lnTo>
                    <a:lnTo>
                      <a:pt x="717" y="1392"/>
                    </a:lnTo>
                    <a:lnTo>
                      <a:pt x="717" y="1392"/>
                    </a:lnTo>
                    <a:lnTo>
                      <a:pt x="749" y="1398"/>
                    </a:lnTo>
                    <a:lnTo>
                      <a:pt x="783" y="1403"/>
                    </a:lnTo>
                    <a:lnTo>
                      <a:pt x="816" y="1407"/>
                    </a:lnTo>
                    <a:lnTo>
                      <a:pt x="850" y="1409"/>
                    </a:lnTo>
                    <a:lnTo>
                      <a:pt x="859" y="1319"/>
                    </a:lnTo>
                    <a:lnTo>
                      <a:pt x="859" y="1319"/>
                    </a:lnTo>
                    <a:lnTo>
                      <a:pt x="859" y="1310"/>
                    </a:lnTo>
                    <a:lnTo>
                      <a:pt x="859" y="1296"/>
                    </a:lnTo>
                    <a:lnTo>
                      <a:pt x="859" y="1296"/>
                    </a:lnTo>
                    <a:lnTo>
                      <a:pt x="859" y="1283"/>
                    </a:lnTo>
                    <a:lnTo>
                      <a:pt x="859" y="1283"/>
                    </a:lnTo>
                    <a:lnTo>
                      <a:pt x="860" y="1269"/>
                    </a:lnTo>
                    <a:lnTo>
                      <a:pt x="860" y="1269"/>
                    </a:lnTo>
                    <a:lnTo>
                      <a:pt x="860" y="1256"/>
                    </a:lnTo>
                    <a:lnTo>
                      <a:pt x="860" y="1256"/>
                    </a:lnTo>
                    <a:lnTo>
                      <a:pt x="860" y="1245"/>
                    </a:lnTo>
                    <a:lnTo>
                      <a:pt x="860" y="1245"/>
                    </a:lnTo>
                    <a:lnTo>
                      <a:pt x="860" y="1235"/>
                    </a:lnTo>
                    <a:lnTo>
                      <a:pt x="860" y="1235"/>
                    </a:lnTo>
                    <a:lnTo>
                      <a:pt x="860" y="1224"/>
                    </a:lnTo>
                    <a:lnTo>
                      <a:pt x="860" y="1224"/>
                    </a:lnTo>
                    <a:lnTo>
                      <a:pt x="860" y="1215"/>
                    </a:lnTo>
                    <a:lnTo>
                      <a:pt x="860" y="1215"/>
                    </a:lnTo>
                    <a:lnTo>
                      <a:pt x="859" y="1206"/>
                    </a:lnTo>
                    <a:lnTo>
                      <a:pt x="859" y="1206"/>
                    </a:lnTo>
                    <a:close/>
                    <a:moveTo>
                      <a:pt x="393" y="540"/>
                    </a:moveTo>
                    <a:lnTo>
                      <a:pt x="393" y="540"/>
                    </a:lnTo>
                    <a:lnTo>
                      <a:pt x="408" y="525"/>
                    </a:lnTo>
                    <a:lnTo>
                      <a:pt x="408" y="525"/>
                    </a:lnTo>
                    <a:lnTo>
                      <a:pt x="410" y="523"/>
                    </a:lnTo>
                    <a:lnTo>
                      <a:pt x="412" y="522"/>
                    </a:lnTo>
                    <a:lnTo>
                      <a:pt x="415" y="522"/>
                    </a:lnTo>
                    <a:lnTo>
                      <a:pt x="419" y="522"/>
                    </a:lnTo>
                    <a:lnTo>
                      <a:pt x="423" y="523"/>
                    </a:lnTo>
                    <a:lnTo>
                      <a:pt x="427" y="526"/>
                    </a:lnTo>
                    <a:lnTo>
                      <a:pt x="432" y="531"/>
                    </a:lnTo>
                    <a:lnTo>
                      <a:pt x="432" y="531"/>
                    </a:lnTo>
                    <a:lnTo>
                      <a:pt x="436" y="536"/>
                    </a:lnTo>
                    <a:lnTo>
                      <a:pt x="438" y="540"/>
                    </a:lnTo>
                    <a:lnTo>
                      <a:pt x="439" y="543"/>
                    </a:lnTo>
                    <a:lnTo>
                      <a:pt x="438" y="545"/>
                    </a:lnTo>
                    <a:lnTo>
                      <a:pt x="438" y="545"/>
                    </a:lnTo>
                    <a:lnTo>
                      <a:pt x="430" y="574"/>
                    </a:lnTo>
                    <a:lnTo>
                      <a:pt x="430" y="574"/>
                    </a:lnTo>
                    <a:lnTo>
                      <a:pt x="430" y="575"/>
                    </a:lnTo>
                    <a:lnTo>
                      <a:pt x="429" y="577"/>
                    </a:lnTo>
                    <a:lnTo>
                      <a:pt x="426" y="579"/>
                    </a:lnTo>
                    <a:lnTo>
                      <a:pt x="421" y="580"/>
                    </a:lnTo>
                    <a:lnTo>
                      <a:pt x="421" y="580"/>
                    </a:lnTo>
                    <a:lnTo>
                      <a:pt x="405" y="579"/>
                    </a:lnTo>
                    <a:lnTo>
                      <a:pt x="405" y="579"/>
                    </a:lnTo>
                    <a:lnTo>
                      <a:pt x="403" y="579"/>
                    </a:lnTo>
                    <a:lnTo>
                      <a:pt x="401" y="578"/>
                    </a:lnTo>
                    <a:lnTo>
                      <a:pt x="399" y="575"/>
                    </a:lnTo>
                    <a:lnTo>
                      <a:pt x="399" y="575"/>
                    </a:lnTo>
                    <a:lnTo>
                      <a:pt x="396" y="570"/>
                    </a:lnTo>
                    <a:lnTo>
                      <a:pt x="391" y="561"/>
                    </a:lnTo>
                    <a:lnTo>
                      <a:pt x="390" y="555"/>
                    </a:lnTo>
                    <a:lnTo>
                      <a:pt x="389" y="549"/>
                    </a:lnTo>
                    <a:lnTo>
                      <a:pt x="390" y="544"/>
                    </a:lnTo>
                    <a:lnTo>
                      <a:pt x="391" y="542"/>
                    </a:lnTo>
                    <a:lnTo>
                      <a:pt x="393" y="540"/>
                    </a:lnTo>
                    <a:lnTo>
                      <a:pt x="393" y="540"/>
                    </a:lnTo>
                    <a:close/>
                    <a:moveTo>
                      <a:pt x="457" y="1247"/>
                    </a:moveTo>
                    <a:lnTo>
                      <a:pt x="457" y="1247"/>
                    </a:lnTo>
                    <a:lnTo>
                      <a:pt x="437" y="1221"/>
                    </a:lnTo>
                    <a:lnTo>
                      <a:pt x="422" y="1201"/>
                    </a:lnTo>
                    <a:lnTo>
                      <a:pt x="415" y="1194"/>
                    </a:lnTo>
                    <a:lnTo>
                      <a:pt x="410" y="1190"/>
                    </a:lnTo>
                    <a:lnTo>
                      <a:pt x="410" y="1190"/>
                    </a:lnTo>
                    <a:lnTo>
                      <a:pt x="402" y="925"/>
                    </a:lnTo>
                    <a:lnTo>
                      <a:pt x="393" y="644"/>
                    </a:lnTo>
                    <a:lnTo>
                      <a:pt x="393" y="644"/>
                    </a:lnTo>
                    <a:lnTo>
                      <a:pt x="394" y="620"/>
                    </a:lnTo>
                    <a:lnTo>
                      <a:pt x="394" y="602"/>
                    </a:lnTo>
                    <a:lnTo>
                      <a:pt x="396" y="586"/>
                    </a:lnTo>
                    <a:lnTo>
                      <a:pt x="396" y="586"/>
                    </a:lnTo>
                    <a:lnTo>
                      <a:pt x="397" y="584"/>
                    </a:lnTo>
                    <a:lnTo>
                      <a:pt x="399" y="583"/>
                    </a:lnTo>
                    <a:lnTo>
                      <a:pt x="403" y="582"/>
                    </a:lnTo>
                    <a:lnTo>
                      <a:pt x="403" y="582"/>
                    </a:lnTo>
                    <a:lnTo>
                      <a:pt x="425" y="583"/>
                    </a:lnTo>
                    <a:lnTo>
                      <a:pt x="425" y="583"/>
                    </a:lnTo>
                    <a:lnTo>
                      <a:pt x="427" y="583"/>
                    </a:lnTo>
                    <a:lnTo>
                      <a:pt x="429" y="585"/>
                    </a:lnTo>
                    <a:lnTo>
                      <a:pt x="431" y="588"/>
                    </a:lnTo>
                    <a:lnTo>
                      <a:pt x="431" y="588"/>
                    </a:lnTo>
                    <a:lnTo>
                      <a:pt x="434" y="598"/>
                    </a:lnTo>
                    <a:lnTo>
                      <a:pt x="438" y="620"/>
                    </a:lnTo>
                    <a:lnTo>
                      <a:pt x="451" y="685"/>
                    </a:lnTo>
                    <a:lnTo>
                      <a:pt x="464" y="759"/>
                    </a:lnTo>
                    <a:lnTo>
                      <a:pt x="473" y="818"/>
                    </a:lnTo>
                    <a:lnTo>
                      <a:pt x="473" y="818"/>
                    </a:lnTo>
                    <a:lnTo>
                      <a:pt x="477" y="855"/>
                    </a:lnTo>
                    <a:lnTo>
                      <a:pt x="482" y="905"/>
                    </a:lnTo>
                    <a:lnTo>
                      <a:pt x="490" y="1022"/>
                    </a:lnTo>
                    <a:lnTo>
                      <a:pt x="496" y="1131"/>
                    </a:lnTo>
                    <a:lnTo>
                      <a:pt x="499" y="1190"/>
                    </a:lnTo>
                    <a:lnTo>
                      <a:pt x="457" y="1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78"/>
              <p:cNvSpPr/>
              <p:nvPr/>
            </p:nvSpPr>
            <p:spPr>
              <a:xfrm>
                <a:off x="8246160" y="803880"/>
                <a:ext cx="245880" cy="405000"/>
              </a:xfrm>
              <a:custGeom>
                <a:avLst/>
                <a:gdLst/>
                <a:ahLst/>
                <a:rect l="l" t="t" r="r" b="b"/>
                <a:pathLst>
                  <a:path w="851" h="1388">
                    <a:moveTo>
                      <a:pt x="851" y="648"/>
                    </a:moveTo>
                    <a:lnTo>
                      <a:pt x="851" y="648"/>
                    </a:lnTo>
                    <a:lnTo>
                      <a:pt x="843" y="637"/>
                    </a:lnTo>
                    <a:lnTo>
                      <a:pt x="843" y="637"/>
                    </a:lnTo>
                    <a:lnTo>
                      <a:pt x="829" y="623"/>
                    </a:lnTo>
                    <a:lnTo>
                      <a:pt x="829" y="623"/>
                    </a:lnTo>
                    <a:lnTo>
                      <a:pt x="814" y="606"/>
                    </a:lnTo>
                    <a:lnTo>
                      <a:pt x="814" y="606"/>
                    </a:lnTo>
                    <a:lnTo>
                      <a:pt x="799" y="596"/>
                    </a:lnTo>
                    <a:lnTo>
                      <a:pt x="799" y="596"/>
                    </a:lnTo>
                    <a:lnTo>
                      <a:pt x="789" y="591"/>
                    </a:lnTo>
                    <a:lnTo>
                      <a:pt x="789" y="591"/>
                    </a:lnTo>
                    <a:lnTo>
                      <a:pt x="779" y="587"/>
                    </a:lnTo>
                    <a:lnTo>
                      <a:pt x="779" y="587"/>
                    </a:lnTo>
                    <a:lnTo>
                      <a:pt x="770" y="581"/>
                    </a:lnTo>
                    <a:lnTo>
                      <a:pt x="770" y="581"/>
                    </a:lnTo>
                    <a:lnTo>
                      <a:pt x="765" y="576"/>
                    </a:lnTo>
                    <a:lnTo>
                      <a:pt x="765" y="576"/>
                    </a:lnTo>
                    <a:lnTo>
                      <a:pt x="760" y="569"/>
                    </a:lnTo>
                    <a:lnTo>
                      <a:pt x="760" y="569"/>
                    </a:lnTo>
                    <a:lnTo>
                      <a:pt x="754" y="564"/>
                    </a:lnTo>
                    <a:lnTo>
                      <a:pt x="754" y="564"/>
                    </a:lnTo>
                    <a:lnTo>
                      <a:pt x="747" y="562"/>
                    </a:lnTo>
                    <a:lnTo>
                      <a:pt x="747" y="562"/>
                    </a:lnTo>
                    <a:lnTo>
                      <a:pt x="739" y="561"/>
                    </a:lnTo>
                    <a:lnTo>
                      <a:pt x="739" y="561"/>
                    </a:lnTo>
                    <a:lnTo>
                      <a:pt x="730" y="558"/>
                    </a:lnTo>
                    <a:lnTo>
                      <a:pt x="730" y="558"/>
                    </a:lnTo>
                    <a:lnTo>
                      <a:pt x="720" y="554"/>
                    </a:lnTo>
                    <a:lnTo>
                      <a:pt x="720" y="554"/>
                    </a:lnTo>
                    <a:lnTo>
                      <a:pt x="711" y="550"/>
                    </a:lnTo>
                    <a:lnTo>
                      <a:pt x="711" y="550"/>
                    </a:lnTo>
                    <a:lnTo>
                      <a:pt x="697" y="546"/>
                    </a:lnTo>
                    <a:lnTo>
                      <a:pt x="697" y="546"/>
                    </a:lnTo>
                    <a:lnTo>
                      <a:pt x="686" y="541"/>
                    </a:lnTo>
                    <a:lnTo>
                      <a:pt x="686" y="541"/>
                    </a:lnTo>
                    <a:lnTo>
                      <a:pt x="671" y="537"/>
                    </a:lnTo>
                    <a:lnTo>
                      <a:pt x="671" y="537"/>
                    </a:lnTo>
                    <a:lnTo>
                      <a:pt x="657" y="532"/>
                    </a:lnTo>
                    <a:lnTo>
                      <a:pt x="657" y="532"/>
                    </a:lnTo>
                    <a:lnTo>
                      <a:pt x="640" y="526"/>
                    </a:lnTo>
                    <a:lnTo>
                      <a:pt x="640" y="526"/>
                    </a:lnTo>
                    <a:lnTo>
                      <a:pt x="624" y="521"/>
                    </a:lnTo>
                    <a:lnTo>
                      <a:pt x="624" y="521"/>
                    </a:lnTo>
                    <a:lnTo>
                      <a:pt x="611" y="516"/>
                    </a:lnTo>
                    <a:lnTo>
                      <a:pt x="611" y="516"/>
                    </a:lnTo>
                    <a:lnTo>
                      <a:pt x="593" y="507"/>
                    </a:lnTo>
                    <a:lnTo>
                      <a:pt x="593" y="507"/>
                    </a:lnTo>
                    <a:lnTo>
                      <a:pt x="584" y="499"/>
                    </a:lnTo>
                    <a:lnTo>
                      <a:pt x="584" y="499"/>
                    </a:lnTo>
                    <a:lnTo>
                      <a:pt x="577" y="490"/>
                    </a:lnTo>
                    <a:lnTo>
                      <a:pt x="577" y="490"/>
                    </a:lnTo>
                    <a:lnTo>
                      <a:pt x="570" y="479"/>
                    </a:lnTo>
                    <a:lnTo>
                      <a:pt x="570" y="479"/>
                    </a:lnTo>
                    <a:lnTo>
                      <a:pt x="566" y="469"/>
                    </a:lnTo>
                    <a:lnTo>
                      <a:pt x="566" y="469"/>
                    </a:lnTo>
                    <a:lnTo>
                      <a:pt x="564" y="457"/>
                    </a:lnTo>
                    <a:lnTo>
                      <a:pt x="564" y="457"/>
                    </a:lnTo>
                    <a:lnTo>
                      <a:pt x="562" y="447"/>
                    </a:lnTo>
                    <a:lnTo>
                      <a:pt x="562" y="447"/>
                    </a:lnTo>
                    <a:lnTo>
                      <a:pt x="561" y="434"/>
                    </a:lnTo>
                    <a:lnTo>
                      <a:pt x="561" y="434"/>
                    </a:lnTo>
                    <a:lnTo>
                      <a:pt x="561" y="426"/>
                    </a:lnTo>
                    <a:lnTo>
                      <a:pt x="561" y="426"/>
                    </a:lnTo>
                    <a:lnTo>
                      <a:pt x="561" y="417"/>
                    </a:lnTo>
                    <a:lnTo>
                      <a:pt x="561" y="417"/>
                    </a:lnTo>
                    <a:lnTo>
                      <a:pt x="561" y="406"/>
                    </a:lnTo>
                    <a:lnTo>
                      <a:pt x="561" y="406"/>
                    </a:lnTo>
                    <a:lnTo>
                      <a:pt x="562" y="395"/>
                    </a:lnTo>
                    <a:lnTo>
                      <a:pt x="562" y="395"/>
                    </a:lnTo>
                    <a:lnTo>
                      <a:pt x="562" y="384"/>
                    </a:lnTo>
                    <a:lnTo>
                      <a:pt x="562" y="384"/>
                    </a:lnTo>
                    <a:lnTo>
                      <a:pt x="564" y="373"/>
                    </a:lnTo>
                    <a:lnTo>
                      <a:pt x="564" y="373"/>
                    </a:lnTo>
                    <a:lnTo>
                      <a:pt x="566" y="362"/>
                    </a:lnTo>
                    <a:lnTo>
                      <a:pt x="566" y="362"/>
                    </a:lnTo>
                    <a:lnTo>
                      <a:pt x="571" y="351"/>
                    </a:lnTo>
                    <a:lnTo>
                      <a:pt x="571" y="351"/>
                    </a:lnTo>
                    <a:lnTo>
                      <a:pt x="576" y="341"/>
                    </a:lnTo>
                    <a:lnTo>
                      <a:pt x="576" y="341"/>
                    </a:lnTo>
                    <a:lnTo>
                      <a:pt x="580" y="334"/>
                    </a:lnTo>
                    <a:lnTo>
                      <a:pt x="580" y="334"/>
                    </a:lnTo>
                    <a:lnTo>
                      <a:pt x="586" y="329"/>
                    </a:lnTo>
                    <a:lnTo>
                      <a:pt x="586" y="329"/>
                    </a:lnTo>
                    <a:lnTo>
                      <a:pt x="591" y="324"/>
                    </a:lnTo>
                    <a:lnTo>
                      <a:pt x="591" y="324"/>
                    </a:lnTo>
                    <a:lnTo>
                      <a:pt x="596" y="318"/>
                    </a:lnTo>
                    <a:lnTo>
                      <a:pt x="596" y="318"/>
                    </a:lnTo>
                    <a:lnTo>
                      <a:pt x="601" y="312"/>
                    </a:lnTo>
                    <a:lnTo>
                      <a:pt x="601" y="312"/>
                    </a:lnTo>
                    <a:lnTo>
                      <a:pt x="604" y="305"/>
                    </a:lnTo>
                    <a:lnTo>
                      <a:pt x="604" y="305"/>
                    </a:lnTo>
                    <a:lnTo>
                      <a:pt x="608" y="295"/>
                    </a:lnTo>
                    <a:lnTo>
                      <a:pt x="608" y="295"/>
                    </a:lnTo>
                    <a:lnTo>
                      <a:pt x="610" y="284"/>
                    </a:lnTo>
                    <a:lnTo>
                      <a:pt x="610" y="284"/>
                    </a:lnTo>
                    <a:lnTo>
                      <a:pt x="613" y="274"/>
                    </a:lnTo>
                    <a:lnTo>
                      <a:pt x="613" y="274"/>
                    </a:lnTo>
                    <a:lnTo>
                      <a:pt x="615" y="264"/>
                    </a:lnTo>
                    <a:lnTo>
                      <a:pt x="615" y="264"/>
                    </a:lnTo>
                    <a:lnTo>
                      <a:pt x="617" y="253"/>
                    </a:lnTo>
                    <a:lnTo>
                      <a:pt x="617" y="253"/>
                    </a:lnTo>
                    <a:lnTo>
                      <a:pt x="617" y="251"/>
                    </a:lnTo>
                    <a:lnTo>
                      <a:pt x="617" y="246"/>
                    </a:lnTo>
                    <a:lnTo>
                      <a:pt x="616" y="243"/>
                    </a:lnTo>
                    <a:lnTo>
                      <a:pt x="615" y="239"/>
                    </a:lnTo>
                    <a:lnTo>
                      <a:pt x="612" y="237"/>
                    </a:lnTo>
                    <a:lnTo>
                      <a:pt x="608" y="234"/>
                    </a:lnTo>
                    <a:lnTo>
                      <a:pt x="608" y="234"/>
                    </a:lnTo>
                    <a:lnTo>
                      <a:pt x="603" y="235"/>
                    </a:lnTo>
                    <a:lnTo>
                      <a:pt x="603" y="235"/>
                    </a:lnTo>
                    <a:lnTo>
                      <a:pt x="604" y="224"/>
                    </a:lnTo>
                    <a:lnTo>
                      <a:pt x="604" y="224"/>
                    </a:lnTo>
                    <a:lnTo>
                      <a:pt x="607" y="212"/>
                    </a:lnTo>
                    <a:lnTo>
                      <a:pt x="607" y="212"/>
                    </a:lnTo>
                    <a:lnTo>
                      <a:pt x="608" y="202"/>
                    </a:lnTo>
                    <a:lnTo>
                      <a:pt x="608" y="202"/>
                    </a:lnTo>
                    <a:lnTo>
                      <a:pt x="608" y="191"/>
                    </a:lnTo>
                    <a:lnTo>
                      <a:pt x="608" y="191"/>
                    </a:lnTo>
                    <a:lnTo>
                      <a:pt x="608" y="179"/>
                    </a:lnTo>
                    <a:lnTo>
                      <a:pt x="608" y="179"/>
                    </a:lnTo>
                    <a:lnTo>
                      <a:pt x="609" y="165"/>
                    </a:lnTo>
                    <a:lnTo>
                      <a:pt x="609" y="165"/>
                    </a:lnTo>
                    <a:lnTo>
                      <a:pt x="608" y="152"/>
                    </a:lnTo>
                    <a:lnTo>
                      <a:pt x="608" y="152"/>
                    </a:lnTo>
                    <a:lnTo>
                      <a:pt x="604" y="140"/>
                    </a:lnTo>
                    <a:lnTo>
                      <a:pt x="604" y="140"/>
                    </a:lnTo>
                    <a:lnTo>
                      <a:pt x="601" y="129"/>
                    </a:lnTo>
                    <a:lnTo>
                      <a:pt x="601" y="129"/>
                    </a:lnTo>
                    <a:lnTo>
                      <a:pt x="596" y="118"/>
                    </a:lnTo>
                    <a:lnTo>
                      <a:pt x="596" y="118"/>
                    </a:lnTo>
                    <a:lnTo>
                      <a:pt x="592" y="110"/>
                    </a:lnTo>
                    <a:lnTo>
                      <a:pt x="592" y="110"/>
                    </a:lnTo>
                    <a:lnTo>
                      <a:pt x="586" y="102"/>
                    </a:lnTo>
                    <a:lnTo>
                      <a:pt x="586" y="102"/>
                    </a:lnTo>
                    <a:lnTo>
                      <a:pt x="579" y="95"/>
                    </a:lnTo>
                    <a:lnTo>
                      <a:pt x="579" y="95"/>
                    </a:lnTo>
                    <a:lnTo>
                      <a:pt x="573" y="85"/>
                    </a:lnTo>
                    <a:lnTo>
                      <a:pt x="573" y="85"/>
                    </a:lnTo>
                    <a:lnTo>
                      <a:pt x="565" y="76"/>
                    </a:lnTo>
                    <a:lnTo>
                      <a:pt x="565" y="76"/>
                    </a:lnTo>
                    <a:lnTo>
                      <a:pt x="558" y="70"/>
                    </a:lnTo>
                    <a:lnTo>
                      <a:pt x="558" y="70"/>
                    </a:lnTo>
                    <a:lnTo>
                      <a:pt x="550" y="63"/>
                    </a:lnTo>
                    <a:lnTo>
                      <a:pt x="550" y="63"/>
                    </a:lnTo>
                    <a:lnTo>
                      <a:pt x="540" y="57"/>
                    </a:lnTo>
                    <a:lnTo>
                      <a:pt x="540" y="57"/>
                    </a:lnTo>
                    <a:lnTo>
                      <a:pt x="531" y="52"/>
                    </a:lnTo>
                    <a:lnTo>
                      <a:pt x="531" y="52"/>
                    </a:lnTo>
                    <a:lnTo>
                      <a:pt x="521" y="50"/>
                    </a:lnTo>
                    <a:lnTo>
                      <a:pt x="521" y="50"/>
                    </a:lnTo>
                    <a:lnTo>
                      <a:pt x="510" y="44"/>
                    </a:lnTo>
                    <a:lnTo>
                      <a:pt x="510" y="44"/>
                    </a:lnTo>
                    <a:lnTo>
                      <a:pt x="504" y="39"/>
                    </a:lnTo>
                    <a:lnTo>
                      <a:pt x="504" y="39"/>
                    </a:lnTo>
                    <a:lnTo>
                      <a:pt x="499" y="33"/>
                    </a:lnTo>
                    <a:lnTo>
                      <a:pt x="499" y="33"/>
                    </a:lnTo>
                    <a:lnTo>
                      <a:pt x="493" y="28"/>
                    </a:lnTo>
                    <a:lnTo>
                      <a:pt x="493" y="28"/>
                    </a:lnTo>
                    <a:lnTo>
                      <a:pt x="489" y="28"/>
                    </a:lnTo>
                    <a:lnTo>
                      <a:pt x="489" y="28"/>
                    </a:lnTo>
                    <a:lnTo>
                      <a:pt x="484" y="29"/>
                    </a:lnTo>
                    <a:lnTo>
                      <a:pt x="484" y="29"/>
                    </a:lnTo>
                    <a:lnTo>
                      <a:pt x="479" y="28"/>
                    </a:lnTo>
                    <a:lnTo>
                      <a:pt x="479" y="28"/>
                    </a:lnTo>
                    <a:lnTo>
                      <a:pt x="469" y="25"/>
                    </a:lnTo>
                    <a:lnTo>
                      <a:pt x="469" y="25"/>
                    </a:lnTo>
                    <a:lnTo>
                      <a:pt x="462" y="18"/>
                    </a:lnTo>
                    <a:lnTo>
                      <a:pt x="462" y="18"/>
                    </a:lnTo>
                    <a:lnTo>
                      <a:pt x="459" y="12"/>
                    </a:lnTo>
                    <a:lnTo>
                      <a:pt x="459" y="12"/>
                    </a:lnTo>
                    <a:lnTo>
                      <a:pt x="454" y="7"/>
                    </a:lnTo>
                    <a:lnTo>
                      <a:pt x="454" y="7"/>
                    </a:lnTo>
                    <a:lnTo>
                      <a:pt x="448" y="3"/>
                    </a:lnTo>
                    <a:lnTo>
                      <a:pt x="448" y="3"/>
                    </a:lnTo>
                    <a:lnTo>
                      <a:pt x="437" y="0"/>
                    </a:lnTo>
                    <a:lnTo>
                      <a:pt x="437" y="0"/>
                    </a:lnTo>
                    <a:lnTo>
                      <a:pt x="431" y="1"/>
                    </a:lnTo>
                    <a:lnTo>
                      <a:pt x="431" y="1"/>
                    </a:lnTo>
                    <a:lnTo>
                      <a:pt x="426" y="6"/>
                    </a:lnTo>
                    <a:lnTo>
                      <a:pt x="426" y="6"/>
                    </a:lnTo>
                    <a:lnTo>
                      <a:pt x="420" y="10"/>
                    </a:lnTo>
                    <a:lnTo>
                      <a:pt x="420" y="10"/>
                    </a:lnTo>
                    <a:lnTo>
                      <a:pt x="406" y="14"/>
                    </a:lnTo>
                    <a:lnTo>
                      <a:pt x="406" y="14"/>
                    </a:lnTo>
                    <a:lnTo>
                      <a:pt x="405" y="14"/>
                    </a:lnTo>
                    <a:lnTo>
                      <a:pt x="400" y="18"/>
                    </a:lnTo>
                    <a:lnTo>
                      <a:pt x="400" y="18"/>
                    </a:lnTo>
                    <a:lnTo>
                      <a:pt x="396" y="21"/>
                    </a:lnTo>
                    <a:lnTo>
                      <a:pt x="394" y="21"/>
                    </a:lnTo>
                    <a:lnTo>
                      <a:pt x="394" y="21"/>
                    </a:lnTo>
                    <a:lnTo>
                      <a:pt x="394" y="17"/>
                    </a:lnTo>
                    <a:lnTo>
                      <a:pt x="394" y="17"/>
                    </a:lnTo>
                    <a:lnTo>
                      <a:pt x="395" y="13"/>
                    </a:lnTo>
                    <a:lnTo>
                      <a:pt x="395" y="13"/>
                    </a:lnTo>
                    <a:lnTo>
                      <a:pt x="392" y="17"/>
                    </a:lnTo>
                    <a:lnTo>
                      <a:pt x="392" y="17"/>
                    </a:lnTo>
                    <a:lnTo>
                      <a:pt x="387" y="22"/>
                    </a:lnTo>
                    <a:lnTo>
                      <a:pt x="387" y="22"/>
                    </a:lnTo>
                    <a:lnTo>
                      <a:pt x="381" y="28"/>
                    </a:lnTo>
                    <a:lnTo>
                      <a:pt x="381" y="28"/>
                    </a:lnTo>
                    <a:lnTo>
                      <a:pt x="374" y="32"/>
                    </a:lnTo>
                    <a:lnTo>
                      <a:pt x="374" y="32"/>
                    </a:lnTo>
                    <a:lnTo>
                      <a:pt x="370" y="37"/>
                    </a:lnTo>
                    <a:lnTo>
                      <a:pt x="370" y="37"/>
                    </a:lnTo>
                    <a:lnTo>
                      <a:pt x="365" y="41"/>
                    </a:lnTo>
                    <a:lnTo>
                      <a:pt x="365" y="41"/>
                    </a:lnTo>
                    <a:lnTo>
                      <a:pt x="360" y="46"/>
                    </a:lnTo>
                    <a:lnTo>
                      <a:pt x="360" y="46"/>
                    </a:lnTo>
                    <a:lnTo>
                      <a:pt x="351" y="57"/>
                    </a:lnTo>
                    <a:lnTo>
                      <a:pt x="351" y="57"/>
                    </a:lnTo>
                    <a:lnTo>
                      <a:pt x="348" y="62"/>
                    </a:lnTo>
                    <a:lnTo>
                      <a:pt x="348" y="62"/>
                    </a:lnTo>
                    <a:lnTo>
                      <a:pt x="343" y="69"/>
                    </a:lnTo>
                    <a:lnTo>
                      <a:pt x="343" y="69"/>
                    </a:lnTo>
                    <a:lnTo>
                      <a:pt x="340" y="76"/>
                    </a:lnTo>
                    <a:lnTo>
                      <a:pt x="340" y="76"/>
                    </a:lnTo>
                    <a:lnTo>
                      <a:pt x="339" y="82"/>
                    </a:lnTo>
                    <a:lnTo>
                      <a:pt x="339" y="82"/>
                    </a:lnTo>
                    <a:lnTo>
                      <a:pt x="338" y="91"/>
                    </a:lnTo>
                    <a:lnTo>
                      <a:pt x="338" y="91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5" y="103"/>
                    </a:lnTo>
                    <a:lnTo>
                      <a:pt x="335" y="103"/>
                    </a:lnTo>
                    <a:lnTo>
                      <a:pt x="333" y="109"/>
                    </a:lnTo>
                    <a:lnTo>
                      <a:pt x="333" y="109"/>
                    </a:lnTo>
                    <a:lnTo>
                      <a:pt x="330" y="114"/>
                    </a:lnTo>
                    <a:lnTo>
                      <a:pt x="330" y="114"/>
                    </a:lnTo>
                    <a:lnTo>
                      <a:pt x="330" y="120"/>
                    </a:lnTo>
                    <a:lnTo>
                      <a:pt x="330" y="120"/>
                    </a:lnTo>
                    <a:lnTo>
                      <a:pt x="328" y="128"/>
                    </a:lnTo>
                    <a:lnTo>
                      <a:pt x="328" y="128"/>
                    </a:lnTo>
                    <a:lnTo>
                      <a:pt x="327" y="135"/>
                    </a:lnTo>
                    <a:lnTo>
                      <a:pt x="327" y="135"/>
                    </a:lnTo>
                    <a:lnTo>
                      <a:pt x="326" y="143"/>
                    </a:lnTo>
                    <a:lnTo>
                      <a:pt x="326" y="143"/>
                    </a:lnTo>
                    <a:lnTo>
                      <a:pt x="326" y="152"/>
                    </a:lnTo>
                    <a:lnTo>
                      <a:pt x="326" y="152"/>
                    </a:lnTo>
                    <a:lnTo>
                      <a:pt x="324" y="161"/>
                    </a:lnTo>
                    <a:lnTo>
                      <a:pt x="324" y="161"/>
                    </a:lnTo>
                    <a:lnTo>
                      <a:pt x="323" y="171"/>
                    </a:lnTo>
                    <a:lnTo>
                      <a:pt x="323" y="171"/>
                    </a:lnTo>
                    <a:lnTo>
                      <a:pt x="323" y="179"/>
                    </a:lnTo>
                    <a:lnTo>
                      <a:pt x="323" y="179"/>
                    </a:lnTo>
                    <a:lnTo>
                      <a:pt x="322" y="187"/>
                    </a:lnTo>
                    <a:lnTo>
                      <a:pt x="322" y="187"/>
                    </a:lnTo>
                    <a:lnTo>
                      <a:pt x="322" y="195"/>
                    </a:lnTo>
                    <a:lnTo>
                      <a:pt x="322" y="195"/>
                    </a:lnTo>
                    <a:lnTo>
                      <a:pt x="322" y="203"/>
                    </a:lnTo>
                    <a:lnTo>
                      <a:pt x="322" y="203"/>
                    </a:lnTo>
                    <a:lnTo>
                      <a:pt x="323" y="212"/>
                    </a:lnTo>
                    <a:lnTo>
                      <a:pt x="323" y="212"/>
                    </a:lnTo>
                    <a:lnTo>
                      <a:pt x="322" y="221"/>
                    </a:lnTo>
                    <a:lnTo>
                      <a:pt x="322" y="221"/>
                    </a:lnTo>
                    <a:lnTo>
                      <a:pt x="322" y="231"/>
                    </a:lnTo>
                    <a:lnTo>
                      <a:pt x="322" y="231"/>
                    </a:lnTo>
                    <a:lnTo>
                      <a:pt x="323" y="240"/>
                    </a:lnTo>
                    <a:lnTo>
                      <a:pt x="323" y="240"/>
                    </a:lnTo>
                    <a:lnTo>
                      <a:pt x="322" y="247"/>
                    </a:lnTo>
                    <a:lnTo>
                      <a:pt x="322" y="247"/>
                    </a:lnTo>
                    <a:lnTo>
                      <a:pt x="322" y="255"/>
                    </a:lnTo>
                    <a:lnTo>
                      <a:pt x="322" y="255"/>
                    </a:lnTo>
                    <a:lnTo>
                      <a:pt x="321" y="263"/>
                    </a:lnTo>
                    <a:lnTo>
                      <a:pt x="321" y="263"/>
                    </a:lnTo>
                    <a:lnTo>
                      <a:pt x="321" y="272"/>
                    </a:lnTo>
                    <a:lnTo>
                      <a:pt x="321" y="272"/>
                    </a:lnTo>
                    <a:lnTo>
                      <a:pt x="321" y="281"/>
                    </a:lnTo>
                    <a:lnTo>
                      <a:pt x="321" y="281"/>
                    </a:lnTo>
                    <a:lnTo>
                      <a:pt x="321" y="291"/>
                    </a:lnTo>
                    <a:lnTo>
                      <a:pt x="321" y="291"/>
                    </a:lnTo>
                    <a:lnTo>
                      <a:pt x="321" y="297"/>
                    </a:lnTo>
                    <a:lnTo>
                      <a:pt x="321" y="297"/>
                    </a:lnTo>
                    <a:lnTo>
                      <a:pt x="321" y="304"/>
                    </a:lnTo>
                    <a:lnTo>
                      <a:pt x="321" y="304"/>
                    </a:lnTo>
                    <a:lnTo>
                      <a:pt x="321" y="312"/>
                    </a:lnTo>
                    <a:lnTo>
                      <a:pt x="321" y="312"/>
                    </a:lnTo>
                    <a:lnTo>
                      <a:pt x="322" y="321"/>
                    </a:lnTo>
                    <a:lnTo>
                      <a:pt x="322" y="321"/>
                    </a:lnTo>
                    <a:lnTo>
                      <a:pt x="322" y="329"/>
                    </a:lnTo>
                    <a:lnTo>
                      <a:pt x="322" y="329"/>
                    </a:lnTo>
                    <a:lnTo>
                      <a:pt x="323" y="336"/>
                    </a:lnTo>
                    <a:lnTo>
                      <a:pt x="323" y="336"/>
                    </a:lnTo>
                    <a:lnTo>
                      <a:pt x="324" y="343"/>
                    </a:lnTo>
                    <a:lnTo>
                      <a:pt x="324" y="343"/>
                    </a:lnTo>
                    <a:lnTo>
                      <a:pt x="327" y="350"/>
                    </a:lnTo>
                    <a:lnTo>
                      <a:pt x="327" y="350"/>
                    </a:lnTo>
                    <a:lnTo>
                      <a:pt x="329" y="360"/>
                    </a:lnTo>
                    <a:lnTo>
                      <a:pt x="329" y="360"/>
                    </a:lnTo>
                    <a:lnTo>
                      <a:pt x="332" y="367"/>
                    </a:lnTo>
                    <a:lnTo>
                      <a:pt x="332" y="367"/>
                    </a:lnTo>
                    <a:lnTo>
                      <a:pt x="335" y="374"/>
                    </a:lnTo>
                    <a:lnTo>
                      <a:pt x="335" y="374"/>
                    </a:lnTo>
                    <a:lnTo>
                      <a:pt x="340" y="382"/>
                    </a:lnTo>
                    <a:lnTo>
                      <a:pt x="340" y="382"/>
                    </a:lnTo>
                    <a:lnTo>
                      <a:pt x="347" y="388"/>
                    </a:lnTo>
                    <a:lnTo>
                      <a:pt x="347" y="388"/>
                    </a:lnTo>
                    <a:lnTo>
                      <a:pt x="352" y="395"/>
                    </a:lnTo>
                    <a:lnTo>
                      <a:pt x="352" y="395"/>
                    </a:lnTo>
                    <a:lnTo>
                      <a:pt x="357" y="400"/>
                    </a:lnTo>
                    <a:lnTo>
                      <a:pt x="357" y="400"/>
                    </a:lnTo>
                    <a:lnTo>
                      <a:pt x="360" y="405"/>
                    </a:lnTo>
                    <a:lnTo>
                      <a:pt x="360" y="405"/>
                    </a:lnTo>
                    <a:lnTo>
                      <a:pt x="363" y="410"/>
                    </a:lnTo>
                    <a:lnTo>
                      <a:pt x="363" y="410"/>
                    </a:lnTo>
                    <a:lnTo>
                      <a:pt x="365" y="417"/>
                    </a:lnTo>
                    <a:lnTo>
                      <a:pt x="365" y="417"/>
                    </a:lnTo>
                    <a:lnTo>
                      <a:pt x="365" y="426"/>
                    </a:lnTo>
                    <a:lnTo>
                      <a:pt x="365" y="426"/>
                    </a:lnTo>
                    <a:lnTo>
                      <a:pt x="365" y="433"/>
                    </a:lnTo>
                    <a:lnTo>
                      <a:pt x="365" y="433"/>
                    </a:lnTo>
                    <a:lnTo>
                      <a:pt x="365" y="442"/>
                    </a:lnTo>
                    <a:lnTo>
                      <a:pt x="365" y="442"/>
                    </a:lnTo>
                    <a:lnTo>
                      <a:pt x="365" y="449"/>
                    </a:lnTo>
                    <a:lnTo>
                      <a:pt x="365" y="449"/>
                    </a:lnTo>
                    <a:lnTo>
                      <a:pt x="365" y="458"/>
                    </a:lnTo>
                    <a:lnTo>
                      <a:pt x="365" y="458"/>
                    </a:lnTo>
                    <a:lnTo>
                      <a:pt x="365" y="464"/>
                    </a:lnTo>
                    <a:lnTo>
                      <a:pt x="365" y="464"/>
                    </a:lnTo>
                    <a:lnTo>
                      <a:pt x="365" y="472"/>
                    </a:lnTo>
                    <a:lnTo>
                      <a:pt x="365" y="472"/>
                    </a:lnTo>
                    <a:lnTo>
                      <a:pt x="365" y="478"/>
                    </a:lnTo>
                    <a:lnTo>
                      <a:pt x="365" y="478"/>
                    </a:lnTo>
                    <a:lnTo>
                      <a:pt x="365" y="487"/>
                    </a:lnTo>
                    <a:lnTo>
                      <a:pt x="365" y="487"/>
                    </a:lnTo>
                    <a:lnTo>
                      <a:pt x="363" y="495"/>
                    </a:lnTo>
                    <a:lnTo>
                      <a:pt x="363" y="495"/>
                    </a:lnTo>
                    <a:lnTo>
                      <a:pt x="361" y="504"/>
                    </a:lnTo>
                    <a:lnTo>
                      <a:pt x="361" y="504"/>
                    </a:lnTo>
                    <a:lnTo>
                      <a:pt x="356" y="511"/>
                    </a:lnTo>
                    <a:lnTo>
                      <a:pt x="356" y="511"/>
                    </a:lnTo>
                    <a:lnTo>
                      <a:pt x="349" y="516"/>
                    </a:lnTo>
                    <a:lnTo>
                      <a:pt x="349" y="516"/>
                    </a:lnTo>
                    <a:lnTo>
                      <a:pt x="340" y="523"/>
                    </a:lnTo>
                    <a:lnTo>
                      <a:pt x="340" y="523"/>
                    </a:lnTo>
                    <a:lnTo>
                      <a:pt x="333" y="526"/>
                    </a:lnTo>
                    <a:lnTo>
                      <a:pt x="333" y="526"/>
                    </a:lnTo>
                    <a:lnTo>
                      <a:pt x="327" y="530"/>
                    </a:lnTo>
                    <a:lnTo>
                      <a:pt x="327" y="530"/>
                    </a:lnTo>
                    <a:lnTo>
                      <a:pt x="317" y="535"/>
                    </a:lnTo>
                    <a:lnTo>
                      <a:pt x="317" y="535"/>
                    </a:lnTo>
                    <a:lnTo>
                      <a:pt x="307" y="540"/>
                    </a:lnTo>
                    <a:lnTo>
                      <a:pt x="307" y="540"/>
                    </a:lnTo>
                    <a:lnTo>
                      <a:pt x="297" y="545"/>
                    </a:lnTo>
                    <a:lnTo>
                      <a:pt x="297" y="545"/>
                    </a:lnTo>
                    <a:lnTo>
                      <a:pt x="285" y="553"/>
                    </a:lnTo>
                    <a:lnTo>
                      <a:pt x="285" y="553"/>
                    </a:lnTo>
                    <a:lnTo>
                      <a:pt x="274" y="559"/>
                    </a:lnTo>
                    <a:lnTo>
                      <a:pt x="274" y="559"/>
                    </a:lnTo>
                    <a:lnTo>
                      <a:pt x="265" y="564"/>
                    </a:lnTo>
                    <a:lnTo>
                      <a:pt x="265" y="564"/>
                    </a:lnTo>
                    <a:lnTo>
                      <a:pt x="256" y="568"/>
                    </a:lnTo>
                    <a:lnTo>
                      <a:pt x="256" y="568"/>
                    </a:lnTo>
                    <a:lnTo>
                      <a:pt x="241" y="574"/>
                    </a:lnTo>
                    <a:lnTo>
                      <a:pt x="241" y="574"/>
                    </a:lnTo>
                    <a:lnTo>
                      <a:pt x="231" y="577"/>
                    </a:lnTo>
                    <a:lnTo>
                      <a:pt x="231" y="577"/>
                    </a:lnTo>
                    <a:lnTo>
                      <a:pt x="219" y="581"/>
                    </a:lnTo>
                    <a:lnTo>
                      <a:pt x="219" y="581"/>
                    </a:lnTo>
                    <a:lnTo>
                      <a:pt x="204" y="588"/>
                    </a:lnTo>
                    <a:lnTo>
                      <a:pt x="204" y="588"/>
                    </a:lnTo>
                    <a:lnTo>
                      <a:pt x="191" y="595"/>
                    </a:lnTo>
                    <a:lnTo>
                      <a:pt x="191" y="595"/>
                    </a:lnTo>
                    <a:lnTo>
                      <a:pt x="180" y="603"/>
                    </a:lnTo>
                    <a:lnTo>
                      <a:pt x="180" y="603"/>
                    </a:lnTo>
                    <a:lnTo>
                      <a:pt x="168" y="611"/>
                    </a:lnTo>
                    <a:lnTo>
                      <a:pt x="168" y="611"/>
                    </a:lnTo>
                    <a:lnTo>
                      <a:pt x="154" y="621"/>
                    </a:lnTo>
                    <a:lnTo>
                      <a:pt x="154" y="621"/>
                    </a:lnTo>
                    <a:lnTo>
                      <a:pt x="138" y="633"/>
                    </a:lnTo>
                    <a:lnTo>
                      <a:pt x="138" y="633"/>
                    </a:lnTo>
                    <a:lnTo>
                      <a:pt x="127" y="645"/>
                    </a:lnTo>
                    <a:lnTo>
                      <a:pt x="127" y="645"/>
                    </a:lnTo>
                    <a:lnTo>
                      <a:pt x="117" y="658"/>
                    </a:lnTo>
                    <a:lnTo>
                      <a:pt x="117" y="658"/>
                    </a:lnTo>
                    <a:lnTo>
                      <a:pt x="108" y="674"/>
                    </a:lnTo>
                    <a:lnTo>
                      <a:pt x="108" y="674"/>
                    </a:lnTo>
                    <a:lnTo>
                      <a:pt x="100" y="692"/>
                    </a:lnTo>
                    <a:lnTo>
                      <a:pt x="100" y="692"/>
                    </a:lnTo>
                    <a:lnTo>
                      <a:pt x="92" y="710"/>
                    </a:lnTo>
                    <a:lnTo>
                      <a:pt x="92" y="710"/>
                    </a:lnTo>
                    <a:lnTo>
                      <a:pt x="85" y="728"/>
                    </a:lnTo>
                    <a:lnTo>
                      <a:pt x="85" y="728"/>
                    </a:lnTo>
                    <a:lnTo>
                      <a:pt x="76" y="755"/>
                    </a:lnTo>
                    <a:lnTo>
                      <a:pt x="76" y="755"/>
                    </a:lnTo>
                    <a:lnTo>
                      <a:pt x="69" y="784"/>
                    </a:lnTo>
                    <a:lnTo>
                      <a:pt x="69" y="784"/>
                    </a:lnTo>
                    <a:lnTo>
                      <a:pt x="64" y="812"/>
                    </a:lnTo>
                    <a:lnTo>
                      <a:pt x="64" y="812"/>
                    </a:lnTo>
                    <a:lnTo>
                      <a:pt x="59" y="835"/>
                    </a:lnTo>
                    <a:lnTo>
                      <a:pt x="59" y="835"/>
                    </a:lnTo>
                    <a:lnTo>
                      <a:pt x="55" y="855"/>
                    </a:lnTo>
                    <a:lnTo>
                      <a:pt x="55" y="855"/>
                    </a:lnTo>
                    <a:lnTo>
                      <a:pt x="52" y="877"/>
                    </a:lnTo>
                    <a:lnTo>
                      <a:pt x="52" y="877"/>
                    </a:lnTo>
                    <a:lnTo>
                      <a:pt x="47" y="900"/>
                    </a:lnTo>
                    <a:lnTo>
                      <a:pt x="47" y="900"/>
                    </a:lnTo>
                    <a:lnTo>
                      <a:pt x="42" y="928"/>
                    </a:lnTo>
                    <a:lnTo>
                      <a:pt x="42" y="928"/>
                    </a:lnTo>
                    <a:lnTo>
                      <a:pt x="38" y="946"/>
                    </a:lnTo>
                    <a:lnTo>
                      <a:pt x="38" y="946"/>
                    </a:lnTo>
                    <a:lnTo>
                      <a:pt x="36" y="957"/>
                    </a:lnTo>
                    <a:lnTo>
                      <a:pt x="36" y="957"/>
                    </a:lnTo>
                    <a:lnTo>
                      <a:pt x="33" y="969"/>
                    </a:lnTo>
                    <a:lnTo>
                      <a:pt x="33" y="969"/>
                    </a:lnTo>
                    <a:lnTo>
                      <a:pt x="29" y="982"/>
                    </a:lnTo>
                    <a:lnTo>
                      <a:pt x="29" y="982"/>
                    </a:lnTo>
                    <a:lnTo>
                      <a:pt x="27" y="992"/>
                    </a:lnTo>
                    <a:lnTo>
                      <a:pt x="27" y="992"/>
                    </a:lnTo>
                    <a:lnTo>
                      <a:pt x="24" y="1002"/>
                    </a:lnTo>
                    <a:lnTo>
                      <a:pt x="24" y="1002"/>
                    </a:lnTo>
                    <a:lnTo>
                      <a:pt x="22" y="1012"/>
                    </a:lnTo>
                    <a:lnTo>
                      <a:pt x="22" y="1012"/>
                    </a:lnTo>
                    <a:lnTo>
                      <a:pt x="23" y="1024"/>
                    </a:lnTo>
                    <a:lnTo>
                      <a:pt x="23" y="1024"/>
                    </a:lnTo>
                    <a:lnTo>
                      <a:pt x="25" y="1032"/>
                    </a:lnTo>
                    <a:lnTo>
                      <a:pt x="25" y="1032"/>
                    </a:lnTo>
                    <a:lnTo>
                      <a:pt x="28" y="1040"/>
                    </a:lnTo>
                    <a:lnTo>
                      <a:pt x="28" y="1040"/>
                    </a:lnTo>
                    <a:lnTo>
                      <a:pt x="30" y="1046"/>
                    </a:lnTo>
                    <a:lnTo>
                      <a:pt x="30" y="1046"/>
                    </a:lnTo>
                    <a:lnTo>
                      <a:pt x="29" y="1053"/>
                    </a:lnTo>
                    <a:lnTo>
                      <a:pt x="29" y="1053"/>
                    </a:lnTo>
                    <a:lnTo>
                      <a:pt x="27" y="1061"/>
                    </a:lnTo>
                    <a:lnTo>
                      <a:pt x="27" y="1061"/>
                    </a:lnTo>
                    <a:lnTo>
                      <a:pt x="24" y="1067"/>
                    </a:lnTo>
                    <a:lnTo>
                      <a:pt x="24" y="1067"/>
                    </a:lnTo>
                    <a:lnTo>
                      <a:pt x="20" y="1074"/>
                    </a:lnTo>
                    <a:lnTo>
                      <a:pt x="20" y="1074"/>
                    </a:lnTo>
                    <a:lnTo>
                      <a:pt x="15" y="1085"/>
                    </a:lnTo>
                    <a:lnTo>
                      <a:pt x="15" y="1085"/>
                    </a:lnTo>
                    <a:lnTo>
                      <a:pt x="11" y="1091"/>
                    </a:lnTo>
                    <a:lnTo>
                      <a:pt x="11" y="1091"/>
                    </a:lnTo>
                    <a:lnTo>
                      <a:pt x="8" y="1098"/>
                    </a:lnTo>
                    <a:lnTo>
                      <a:pt x="8" y="1098"/>
                    </a:lnTo>
                    <a:lnTo>
                      <a:pt x="6" y="1106"/>
                    </a:lnTo>
                    <a:lnTo>
                      <a:pt x="6" y="1106"/>
                    </a:lnTo>
                    <a:lnTo>
                      <a:pt x="6" y="1116"/>
                    </a:lnTo>
                    <a:lnTo>
                      <a:pt x="6" y="1116"/>
                    </a:lnTo>
                    <a:lnTo>
                      <a:pt x="8" y="1126"/>
                    </a:lnTo>
                    <a:lnTo>
                      <a:pt x="8" y="1126"/>
                    </a:lnTo>
                    <a:lnTo>
                      <a:pt x="10" y="1136"/>
                    </a:lnTo>
                    <a:lnTo>
                      <a:pt x="10" y="1136"/>
                    </a:lnTo>
                    <a:lnTo>
                      <a:pt x="9" y="1146"/>
                    </a:lnTo>
                    <a:lnTo>
                      <a:pt x="9" y="1146"/>
                    </a:lnTo>
                    <a:lnTo>
                      <a:pt x="8" y="1153"/>
                    </a:lnTo>
                    <a:lnTo>
                      <a:pt x="8" y="1153"/>
                    </a:lnTo>
                    <a:lnTo>
                      <a:pt x="7" y="1162"/>
                    </a:lnTo>
                    <a:lnTo>
                      <a:pt x="7" y="1162"/>
                    </a:lnTo>
                    <a:lnTo>
                      <a:pt x="4" y="1174"/>
                    </a:lnTo>
                    <a:lnTo>
                      <a:pt x="4" y="1174"/>
                    </a:lnTo>
                    <a:lnTo>
                      <a:pt x="3" y="1185"/>
                    </a:lnTo>
                    <a:lnTo>
                      <a:pt x="3" y="1185"/>
                    </a:lnTo>
                    <a:lnTo>
                      <a:pt x="2" y="1198"/>
                    </a:lnTo>
                    <a:lnTo>
                      <a:pt x="2" y="1198"/>
                    </a:lnTo>
                    <a:lnTo>
                      <a:pt x="1" y="1206"/>
                    </a:lnTo>
                    <a:lnTo>
                      <a:pt x="1" y="1206"/>
                    </a:lnTo>
                    <a:lnTo>
                      <a:pt x="0" y="1216"/>
                    </a:lnTo>
                    <a:lnTo>
                      <a:pt x="0" y="1216"/>
                    </a:lnTo>
                    <a:lnTo>
                      <a:pt x="0" y="1226"/>
                    </a:lnTo>
                    <a:lnTo>
                      <a:pt x="0" y="1226"/>
                    </a:lnTo>
                    <a:lnTo>
                      <a:pt x="0" y="1235"/>
                    </a:lnTo>
                    <a:lnTo>
                      <a:pt x="0" y="1235"/>
                    </a:lnTo>
                    <a:lnTo>
                      <a:pt x="0" y="1245"/>
                    </a:lnTo>
                    <a:lnTo>
                      <a:pt x="0" y="1245"/>
                    </a:lnTo>
                    <a:lnTo>
                      <a:pt x="0" y="1256"/>
                    </a:lnTo>
                    <a:lnTo>
                      <a:pt x="0" y="1256"/>
                    </a:lnTo>
                    <a:lnTo>
                      <a:pt x="0" y="1270"/>
                    </a:lnTo>
                    <a:lnTo>
                      <a:pt x="0" y="1270"/>
                    </a:lnTo>
                    <a:lnTo>
                      <a:pt x="1" y="1284"/>
                    </a:lnTo>
                    <a:lnTo>
                      <a:pt x="1" y="1284"/>
                    </a:lnTo>
                    <a:lnTo>
                      <a:pt x="1" y="1297"/>
                    </a:lnTo>
                    <a:lnTo>
                      <a:pt x="1" y="1310"/>
                    </a:lnTo>
                    <a:lnTo>
                      <a:pt x="1" y="1310"/>
                    </a:lnTo>
                    <a:lnTo>
                      <a:pt x="2" y="1319"/>
                    </a:lnTo>
                    <a:lnTo>
                      <a:pt x="8" y="1388"/>
                    </a:lnTo>
                    <a:lnTo>
                      <a:pt x="8" y="1388"/>
                    </a:lnTo>
                    <a:lnTo>
                      <a:pt x="42" y="1385"/>
                    </a:lnTo>
                    <a:lnTo>
                      <a:pt x="74" y="1382"/>
                    </a:lnTo>
                    <a:lnTo>
                      <a:pt x="106" y="1377"/>
                    </a:lnTo>
                    <a:lnTo>
                      <a:pt x="138" y="1371"/>
                    </a:lnTo>
                    <a:lnTo>
                      <a:pt x="137" y="1367"/>
                    </a:lnTo>
                    <a:lnTo>
                      <a:pt x="137" y="1366"/>
                    </a:lnTo>
                    <a:lnTo>
                      <a:pt x="137" y="1365"/>
                    </a:lnTo>
                    <a:lnTo>
                      <a:pt x="140" y="1356"/>
                    </a:lnTo>
                    <a:lnTo>
                      <a:pt x="140" y="1356"/>
                    </a:lnTo>
                    <a:lnTo>
                      <a:pt x="141" y="1344"/>
                    </a:lnTo>
                    <a:lnTo>
                      <a:pt x="143" y="1330"/>
                    </a:lnTo>
                    <a:lnTo>
                      <a:pt x="143" y="1330"/>
                    </a:lnTo>
                    <a:lnTo>
                      <a:pt x="145" y="1321"/>
                    </a:lnTo>
                    <a:lnTo>
                      <a:pt x="145" y="1321"/>
                    </a:lnTo>
                    <a:lnTo>
                      <a:pt x="145" y="1320"/>
                    </a:lnTo>
                    <a:lnTo>
                      <a:pt x="147" y="1313"/>
                    </a:lnTo>
                    <a:lnTo>
                      <a:pt x="147" y="1304"/>
                    </a:lnTo>
                    <a:lnTo>
                      <a:pt x="146" y="1298"/>
                    </a:lnTo>
                    <a:lnTo>
                      <a:pt x="143" y="1293"/>
                    </a:lnTo>
                    <a:lnTo>
                      <a:pt x="142" y="1292"/>
                    </a:lnTo>
                    <a:lnTo>
                      <a:pt x="142" y="1291"/>
                    </a:lnTo>
                    <a:lnTo>
                      <a:pt x="140" y="1285"/>
                    </a:lnTo>
                    <a:lnTo>
                      <a:pt x="140" y="1284"/>
                    </a:lnTo>
                    <a:lnTo>
                      <a:pt x="140" y="1283"/>
                    </a:lnTo>
                    <a:lnTo>
                      <a:pt x="142" y="1274"/>
                    </a:lnTo>
                    <a:lnTo>
                      <a:pt x="143" y="1273"/>
                    </a:lnTo>
                    <a:lnTo>
                      <a:pt x="143" y="1273"/>
                    </a:lnTo>
                    <a:lnTo>
                      <a:pt x="147" y="1267"/>
                    </a:lnTo>
                    <a:lnTo>
                      <a:pt x="148" y="1259"/>
                    </a:lnTo>
                    <a:lnTo>
                      <a:pt x="148" y="1259"/>
                    </a:lnTo>
                    <a:lnTo>
                      <a:pt x="148" y="1247"/>
                    </a:lnTo>
                    <a:lnTo>
                      <a:pt x="148" y="1247"/>
                    </a:lnTo>
                    <a:lnTo>
                      <a:pt x="149" y="1235"/>
                    </a:lnTo>
                    <a:lnTo>
                      <a:pt x="149" y="1235"/>
                    </a:lnTo>
                    <a:lnTo>
                      <a:pt x="149" y="1222"/>
                    </a:lnTo>
                    <a:lnTo>
                      <a:pt x="149" y="1208"/>
                    </a:lnTo>
                    <a:lnTo>
                      <a:pt x="149" y="1208"/>
                    </a:lnTo>
                    <a:lnTo>
                      <a:pt x="151" y="1195"/>
                    </a:lnTo>
                    <a:lnTo>
                      <a:pt x="151" y="1195"/>
                    </a:lnTo>
                    <a:lnTo>
                      <a:pt x="151" y="1194"/>
                    </a:lnTo>
                    <a:lnTo>
                      <a:pt x="154" y="1187"/>
                    </a:lnTo>
                    <a:lnTo>
                      <a:pt x="154" y="1186"/>
                    </a:lnTo>
                    <a:lnTo>
                      <a:pt x="155" y="1185"/>
                    </a:lnTo>
                    <a:lnTo>
                      <a:pt x="159" y="1182"/>
                    </a:lnTo>
                    <a:lnTo>
                      <a:pt x="160" y="1179"/>
                    </a:lnTo>
                    <a:lnTo>
                      <a:pt x="158" y="1176"/>
                    </a:lnTo>
                    <a:lnTo>
                      <a:pt x="155" y="1173"/>
                    </a:lnTo>
                    <a:lnTo>
                      <a:pt x="154" y="1172"/>
                    </a:lnTo>
                    <a:lnTo>
                      <a:pt x="154" y="1170"/>
                    </a:lnTo>
                    <a:lnTo>
                      <a:pt x="154" y="1165"/>
                    </a:lnTo>
                    <a:lnTo>
                      <a:pt x="154" y="1164"/>
                    </a:lnTo>
                    <a:lnTo>
                      <a:pt x="154" y="1163"/>
                    </a:lnTo>
                    <a:lnTo>
                      <a:pt x="157" y="1155"/>
                    </a:lnTo>
                    <a:lnTo>
                      <a:pt x="157" y="1154"/>
                    </a:lnTo>
                    <a:lnTo>
                      <a:pt x="158" y="1154"/>
                    </a:lnTo>
                    <a:lnTo>
                      <a:pt x="162" y="1150"/>
                    </a:lnTo>
                    <a:lnTo>
                      <a:pt x="162" y="1150"/>
                    </a:lnTo>
                    <a:lnTo>
                      <a:pt x="170" y="1143"/>
                    </a:lnTo>
                    <a:lnTo>
                      <a:pt x="170" y="1143"/>
                    </a:lnTo>
                    <a:lnTo>
                      <a:pt x="176" y="1137"/>
                    </a:lnTo>
                    <a:lnTo>
                      <a:pt x="179" y="1128"/>
                    </a:lnTo>
                    <a:lnTo>
                      <a:pt x="178" y="1118"/>
                    </a:lnTo>
                    <a:lnTo>
                      <a:pt x="176" y="1113"/>
                    </a:lnTo>
                    <a:lnTo>
                      <a:pt x="170" y="1105"/>
                    </a:lnTo>
                    <a:lnTo>
                      <a:pt x="169" y="1104"/>
                    </a:lnTo>
                    <a:lnTo>
                      <a:pt x="169" y="1103"/>
                    </a:lnTo>
                    <a:lnTo>
                      <a:pt x="168" y="1094"/>
                    </a:lnTo>
                    <a:lnTo>
                      <a:pt x="168" y="1094"/>
                    </a:lnTo>
                    <a:lnTo>
                      <a:pt x="168" y="1093"/>
                    </a:lnTo>
                    <a:lnTo>
                      <a:pt x="168" y="1086"/>
                    </a:lnTo>
                    <a:lnTo>
                      <a:pt x="168" y="1086"/>
                    </a:lnTo>
                    <a:lnTo>
                      <a:pt x="168" y="1085"/>
                    </a:lnTo>
                    <a:lnTo>
                      <a:pt x="170" y="1073"/>
                    </a:lnTo>
                    <a:lnTo>
                      <a:pt x="170" y="1073"/>
                    </a:lnTo>
                    <a:lnTo>
                      <a:pt x="174" y="1058"/>
                    </a:lnTo>
                    <a:lnTo>
                      <a:pt x="174" y="1058"/>
                    </a:lnTo>
                    <a:lnTo>
                      <a:pt x="179" y="1044"/>
                    </a:lnTo>
                    <a:lnTo>
                      <a:pt x="179" y="1044"/>
                    </a:lnTo>
                    <a:lnTo>
                      <a:pt x="184" y="1032"/>
                    </a:lnTo>
                    <a:lnTo>
                      <a:pt x="184" y="1032"/>
                    </a:lnTo>
                    <a:lnTo>
                      <a:pt x="190" y="1018"/>
                    </a:lnTo>
                    <a:lnTo>
                      <a:pt x="190" y="1018"/>
                    </a:lnTo>
                    <a:lnTo>
                      <a:pt x="194" y="1007"/>
                    </a:lnTo>
                    <a:lnTo>
                      <a:pt x="194" y="1007"/>
                    </a:lnTo>
                    <a:lnTo>
                      <a:pt x="199" y="996"/>
                    </a:lnTo>
                    <a:lnTo>
                      <a:pt x="200" y="996"/>
                    </a:lnTo>
                    <a:lnTo>
                      <a:pt x="200" y="995"/>
                    </a:lnTo>
                    <a:lnTo>
                      <a:pt x="204" y="992"/>
                    </a:lnTo>
                    <a:lnTo>
                      <a:pt x="205" y="991"/>
                    </a:lnTo>
                    <a:lnTo>
                      <a:pt x="206" y="990"/>
                    </a:lnTo>
                    <a:lnTo>
                      <a:pt x="210" y="990"/>
                    </a:lnTo>
                    <a:lnTo>
                      <a:pt x="212" y="990"/>
                    </a:lnTo>
                    <a:lnTo>
                      <a:pt x="213" y="991"/>
                    </a:lnTo>
                    <a:lnTo>
                      <a:pt x="218" y="994"/>
                    </a:lnTo>
                    <a:lnTo>
                      <a:pt x="219" y="995"/>
                    </a:lnTo>
                    <a:lnTo>
                      <a:pt x="219" y="996"/>
                    </a:lnTo>
                    <a:lnTo>
                      <a:pt x="220" y="1001"/>
                    </a:lnTo>
                    <a:lnTo>
                      <a:pt x="221" y="1002"/>
                    </a:lnTo>
                    <a:lnTo>
                      <a:pt x="221" y="1002"/>
                    </a:lnTo>
                    <a:lnTo>
                      <a:pt x="221" y="1009"/>
                    </a:lnTo>
                    <a:lnTo>
                      <a:pt x="221" y="1017"/>
                    </a:lnTo>
                    <a:lnTo>
                      <a:pt x="221" y="1017"/>
                    </a:lnTo>
                    <a:lnTo>
                      <a:pt x="221" y="1025"/>
                    </a:lnTo>
                    <a:lnTo>
                      <a:pt x="221" y="1025"/>
                    </a:lnTo>
                    <a:lnTo>
                      <a:pt x="221" y="1025"/>
                    </a:lnTo>
                    <a:lnTo>
                      <a:pt x="221" y="1033"/>
                    </a:lnTo>
                    <a:lnTo>
                      <a:pt x="221" y="1033"/>
                    </a:lnTo>
                    <a:lnTo>
                      <a:pt x="221" y="1041"/>
                    </a:lnTo>
                    <a:lnTo>
                      <a:pt x="221" y="1052"/>
                    </a:lnTo>
                    <a:lnTo>
                      <a:pt x="223" y="1056"/>
                    </a:lnTo>
                    <a:lnTo>
                      <a:pt x="223" y="1056"/>
                    </a:lnTo>
                    <a:lnTo>
                      <a:pt x="226" y="1063"/>
                    </a:lnTo>
                    <a:lnTo>
                      <a:pt x="226" y="1063"/>
                    </a:lnTo>
                    <a:lnTo>
                      <a:pt x="226" y="1064"/>
                    </a:lnTo>
                    <a:lnTo>
                      <a:pt x="226" y="1064"/>
                    </a:lnTo>
                    <a:lnTo>
                      <a:pt x="227" y="1070"/>
                    </a:lnTo>
                    <a:lnTo>
                      <a:pt x="227" y="1076"/>
                    </a:lnTo>
                    <a:lnTo>
                      <a:pt x="227" y="1077"/>
                    </a:lnTo>
                    <a:lnTo>
                      <a:pt x="227" y="1077"/>
                    </a:lnTo>
                    <a:lnTo>
                      <a:pt x="225" y="1085"/>
                    </a:lnTo>
                    <a:lnTo>
                      <a:pt x="225" y="1085"/>
                    </a:lnTo>
                    <a:lnTo>
                      <a:pt x="225" y="1085"/>
                    </a:lnTo>
                    <a:lnTo>
                      <a:pt x="224" y="1091"/>
                    </a:lnTo>
                    <a:lnTo>
                      <a:pt x="224" y="1091"/>
                    </a:lnTo>
                    <a:lnTo>
                      <a:pt x="224" y="1091"/>
                    </a:lnTo>
                    <a:lnTo>
                      <a:pt x="222" y="1095"/>
                    </a:lnTo>
                    <a:lnTo>
                      <a:pt x="221" y="1102"/>
                    </a:lnTo>
                    <a:lnTo>
                      <a:pt x="221" y="1102"/>
                    </a:lnTo>
                    <a:lnTo>
                      <a:pt x="218" y="1111"/>
                    </a:lnTo>
                    <a:lnTo>
                      <a:pt x="218" y="1111"/>
                    </a:lnTo>
                    <a:lnTo>
                      <a:pt x="216" y="1123"/>
                    </a:lnTo>
                    <a:lnTo>
                      <a:pt x="216" y="1123"/>
                    </a:lnTo>
                    <a:lnTo>
                      <a:pt x="214" y="1134"/>
                    </a:lnTo>
                    <a:lnTo>
                      <a:pt x="213" y="1149"/>
                    </a:lnTo>
                    <a:lnTo>
                      <a:pt x="213" y="1149"/>
                    </a:lnTo>
                    <a:lnTo>
                      <a:pt x="213" y="1164"/>
                    </a:lnTo>
                    <a:lnTo>
                      <a:pt x="213" y="1177"/>
                    </a:lnTo>
                    <a:lnTo>
                      <a:pt x="216" y="1187"/>
                    </a:lnTo>
                    <a:lnTo>
                      <a:pt x="216" y="1187"/>
                    </a:lnTo>
                    <a:lnTo>
                      <a:pt x="216" y="1193"/>
                    </a:lnTo>
                    <a:lnTo>
                      <a:pt x="216" y="1193"/>
                    </a:lnTo>
                    <a:lnTo>
                      <a:pt x="216" y="1194"/>
                    </a:lnTo>
                    <a:lnTo>
                      <a:pt x="212" y="1203"/>
                    </a:lnTo>
                    <a:lnTo>
                      <a:pt x="212" y="1203"/>
                    </a:lnTo>
                    <a:lnTo>
                      <a:pt x="212" y="1203"/>
                    </a:lnTo>
                    <a:lnTo>
                      <a:pt x="208" y="1212"/>
                    </a:lnTo>
                    <a:lnTo>
                      <a:pt x="208" y="1212"/>
                    </a:lnTo>
                    <a:lnTo>
                      <a:pt x="204" y="1220"/>
                    </a:lnTo>
                    <a:lnTo>
                      <a:pt x="204" y="1220"/>
                    </a:lnTo>
                    <a:lnTo>
                      <a:pt x="200" y="1229"/>
                    </a:lnTo>
                    <a:lnTo>
                      <a:pt x="200" y="1230"/>
                    </a:lnTo>
                    <a:lnTo>
                      <a:pt x="199" y="1230"/>
                    </a:lnTo>
                    <a:lnTo>
                      <a:pt x="195" y="1235"/>
                    </a:lnTo>
                    <a:lnTo>
                      <a:pt x="188" y="1248"/>
                    </a:lnTo>
                    <a:lnTo>
                      <a:pt x="188" y="1248"/>
                    </a:lnTo>
                    <a:lnTo>
                      <a:pt x="181" y="1258"/>
                    </a:lnTo>
                    <a:lnTo>
                      <a:pt x="181" y="1258"/>
                    </a:lnTo>
                    <a:lnTo>
                      <a:pt x="181" y="1258"/>
                    </a:lnTo>
                    <a:lnTo>
                      <a:pt x="175" y="1264"/>
                    </a:lnTo>
                    <a:lnTo>
                      <a:pt x="172" y="1269"/>
                    </a:lnTo>
                    <a:lnTo>
                      <a:pt x="168" y="1275"/>
                    </a:lnTo>
                    <a:lnTo>
                      <a:pt x="169" y="1282"/>
                    </a:lnTo>
                    <a:lnTo>
                      <a:pt x="171" y="1287"/>
                    </a:lnTo>
                    <a:lnTo>
                      <a:pt x="175" y="1291"/>
                    </a:lnTo>
                    <a:lnTo>
                      <a:pt x="179" y="1294"/>
                    </a:lnTo>
                    <a:lnTo>
                      <a:pt x="184" y="1295"/>
                    </a:lnTo>
                    <a:lnTo>
                      <a:pt x="189" y="1293"/>
                    </a:lnTo>
                    <a:lnTo>
                      <a:pt x="190" y="1292"/>
                    </a:lnTo>
                    <a:lnTo>
                      <a:pt x="191" y="1293"/>
                    </a:lnTo>
                    <a:lnTo>
                      <a:pt x="198" y="1294"/>
                    </a:lnTo>
                    <a:lnTo>
                      <a:pt x="199" y="1294"/>
                    </a:lnTo>
                    <a:lnTo>
                      <a:pt x="199" y="1295"/>
                    </a:lnTo>
                    <a:lnTo>
                      <a:pt x="206" y="1300"/>
                    </a:lnTo>
                    <a:lnTo>
                      <a:pt x="207" y="1300"/>
                    </a:lnTo>
                    <a:lnTo>
                      <a:pt x="207" y="1301"/>
                    </a:lnTo>
                    <a:lnTo>
                      <a:pt x="212" y="1308"/>
                    </a:lnTo>
                    <a:lnTo>
                      <a:pt x="212" y="1309"/>
                    </a:lnTo>
                    <a:lnTo>
                      <a:pt x="212" y="1309"/>
                    </a:lnTo>
                    <a:lnTo>
                      <a:pt x="214" y="1317"/>
                    </a:lnTo>
                    <a:lnTo>
                      <a:pt x="216" y="1318"/>
                    </a:lnTo>
                    <a:lnTo>
                      <a:pt x="216" y="1318"/>
                    </a:lnTo>
                    <a:lnTo>
                      <a:pt x="216" y="1333"/>
                    </a:lnTo>
                    <a:lnTo>
                      <a:pt x="216" y="1333"/>
                    </a:lnTo>
                    <a:lnTo>
                      <a:pt x="216" y="1333"/>
                    </a:lnTo>
                    <a:lnTo>
                      <a:pt x="213" y="1345"/>
                    </a:lnTo>
                    <a:lnTo>
                      <a:pt x="213" y="1345"/>
                    </a:lnTo>
                    <a:lnTo>
                      <a:pt x="213" y="1346"/>
                    </a:lnTo>
                    <a:lnTo>
                      <a:pt x="210" y="1353"/>
                    </a:lnTo>
                    <a:lnTo>
                      <a:pt x="210" y="1353"/>
                    </a:lnTo>
                    <a:lnTo>
                      <a:pt x="240" y="1344"/>
                    </a:lnTo>
                    <a:lnTo>
                      <a:pt x="270" y="1333"/>
                    </a:lnTo>
                    <a:lnTo>
                      <a:pt x="300" y="1322"/>
                    </a:lnTo>
                    <a:lnTo>
                      <a:pt x="328" y="1309"/>
                    </a:lnTo>
                    <a:lnTo>
                      <a:pt x="357" y="1296"/>
                    </a:lnTo>
                    <a:lnTo>
                      <a:pt x="385" y="1282"/>
                    </a:lnTo>
                    <a:lnTo>
                      <a:pt x="412" y="1266"/>
                    </a:lnTo>
                    <a:lnTo>
                      <a:pt x="439" y="1250"/>
                    </a:lnTo>
                    <a:lnTo>
                      <a:pt x="464" y="1233"/>
                    </a:lnTo>
                    <a:lnTo>
                      <a:pt x="490" y="1216"/>
                    </a:lnTo>
                    <a:lnTo>
                      <a:pt x="515" y="1196"/>
                    </a:lnTo>
                    <a:lnTo>
                      <a:pt x="539" y="1177"/>
                    </a:lnTo>
                    <a:lnTo>
                      <a:pt x="563" y="1157"/>
                    </a:lnTo>
                    <a:lnTo>
                      <a:pt x="585" y="1135"/>
                    </a:lnTo>
                    <a:lnTo>
                      <a:pt x="608" y="1114"/>
                    </a:lnTo>
                    <a:lnTo>
                      <a:pt x="629" y="1092"/>
                    </a:lnTo>
                    <a:lnTo>
                      <a:pt x="649" y="1068"/>
                    </a:lnTo>
                    <a:lnTo>
                      <a:pt x="668" y="1044"/>
                    </a:lnTo>
                    <a:lnTo>
                      <a:pt x="688" y="1020"/>
                    </a:lnTo>
                    <a:lnTo>
                      <a:pt x="706" y="994"/>
                    </a:lnTo>
                    <a:lnTo>
                      <a:pt x="723" y="969"/>
                    </a:lnTo>
                    <a:lnTo>
                      <a:pt x="740" y="941"/>
                    </a:lnTo>
                    <a:lnTo>
                      <a:pt x="755" y="915"/>
                    </a:lnTo>
                    <a:lnTo>
                      <a:pt x="770" y="887"/>
                    </a:lnTo>
                    <a:lnTo>
                      <a:pt x="783" y="859"/>
                    </a:lnTo>
                    <a:lnTo>
                      <a:pt x="796" y="830"/>
                    </a:lnTo>
                    <a:lnTo>
                      <a:pt x="808" y="801"/>
                    </a:lnTo>
                    <a:lnTo>
                      <a:pt x="819" y="771"/>
                    </a:lnTo>
                    <a:lnTo>
                      <a:pt x="828" y="741"/>
                    </a:lnTo>
                    <a:lnTo>
                      <a:pt x="837" y="710"/>
                    </a:lnTo>
                    <a:lnTo>
                      <a:pt x="845" y="679"/>
                    </a:lnTo>
                    <a:lnTo>
                      <a:pt x="851" y="648"/>
                    </a:lnTo>
                    <a:lnTo>
                      <a:pt x="851" y="648"/>
                    </a:lnTo>
                    <a:close/>
                    <a:moveTo>
                      <a:pt x="450" y="1190"/>
                    </a:moveTo>
                    <a:lnTo>
                      <a:pt x="450" y="1190"/>
                    </a:lnTo>
                    <a:lnTo>
                      <a:pt x="445" y="1194"/>
                    </a:lnTo>
                    <a:lnTo>
                      <a:pt x="439" y="1202"/>
                    </a:lnTo>
                    <a:lnTo>
                      <a:pt x="423" y="1222"/>
                    </a:lnTo>
                    <a:lnTo>
                      <a:pt x="403" y="1248"/>
                    </a:lnTo>
                    <a:lnTo>
                      <a:pt x="361" y="1190"/>
                    </a:lnTo>
                    <a:lnTo>
                      <a:pt x="361" y="1190"/>
                    </a:lnTo>
                    <a:lnTo>
                      <a:pt x="364" y="1131"/>
                    </a:lnTo>
                    <a:lnTo>
                      <a:pt x="370" y="1023"/>
                    </a:lnTo>
                    <a:lnTo>
                      <a:pt x="379" y="905"/>
                    </a:lnTo>
                    <a:lnTo>
                      <a:pt x="383" y="855"/>
                    </a:lnTo>
                    <a:lnTo>
                      <a:pt x="387" y="819"/>
                    </a:lnTo>
                    <a:lnTo>
                      <a:pt x="387" y="819"/>
                    </a:lnTo>
                    <a:lnTo>
                      <a:pt x="396" y="760"/>
                    </a:lnTo>
                    <a:lnTo>
                      <a:pt x="409" y="686"/>
                    </a:lnTo>
                    <a:lnTo>
                      <a:pt x="422" y="621"/>
                    </a:lnTo>
                    <a:lnTo>
                      <a:pt x="426" y="599"/>
                    </a:lnTo>
                    <a:lnTo>
                      <a:pt x="429" y="588"/>
                    </a:lnTo>
                    <a:lnTo>
                      <a:pt x="429" y="588"/>
                    </a:lnTo>
                    <a:lnTo>
                      <a:pt x="431" y="585"/>
                    </a:lnTo>
                    <a:lnTo>
                      <a:pt x="433" y="584"/>
                    </a:lnTo>
                    <a:lnTo>
                      <a:pt x="435" y="583"/>
                    </a:lnTo>
                    <a:lnTo>
                      <a:pt x="435" y="583"/>
                    </a:lnTo>
                    <a:lnTo>
                      <a:pt x="458" y="582"/>
                    </a:lnTo>
                    <a:lnTo>
                      <a:pt x="458" y="582"/>
                    </a:lnTo>
                    <a:lnTo>
                      <a:pt x="461" y="583"/>
                    </a:lnTo>
                    <a:lnTo>
                      <a:pt x="464" y="584"/>
                    </a:lnTo>
                    <a:lnTo>
                      <a:pt x="465" y="586"/>
                    </a:lnTo>
                    <a:lnTo>
                      <a:pt x="465" y="586"/>
                    </a:lnTo>
                    <a:lnTo>
                      <a:pt x="466" y="603"/>
                    </a:lnTo>
                    <a:lnTo>
                      <a:pt x="467" y="621"/>
                    </a:lnTo>
                    <a:lnTo>
                      <a:pt x="467" y="644"/>
                    </a:lnTo>
                    <a:lnTo>
                      <a:pt x="467" y="644"/>
                    </a:lnTo>
                    <a:lnTo>
                      <a:pt x="459" y="925"/>
                    </a:lnTo>
                    <a:lnTo>
                      <a:pt x="450" y="1190"/>
                    </a:lnTo>
                    <a:lnTo>
                      <a:pt x="450" y="1190"/>
                    </a:lnTo>
                    <a:close/>
                    <a:moveTo>
                      <a:pt x="461" y="575"/>
                    </a:moveTo>
                    <a:lnTo>
                      <a:pt x="461" y="575"/>
                    </a:lnTo>
                    <a:lnTo>
                      <a:pt x="459" y="578"/>
                    </a:lnTo>
                    <a:lnTo>
                      <a:pt x="457" y="579"/>
                    </a:lnTo>
                    <a:lnTo>
                      <a:pt x="455" y="579"/>
                    </a:lnTo>
                    <a:lnTo>
                      <a:pt x="455" y="579"/>
                    </a:lnTo>
                    <a:lnTo>
                      <a:pt x="439" y="580"/>
                    </a:lnTo>
                    <a:lnTo>
                      <a:pt x="439" y="580"/>
                    </a:lnTo>
                    <a:lnTo>
                      <a:pt x="434" y="579"/>
                    </a:lnTo>
                    <a:lnTo>
                      <a:pt x="431" y="577"/>
                    </a:lnTo>
                    <a:lnTo>
                      <a:pt x="430" y="575"/>
                    </a:lnTo>
                    <a:lnTo>
                      <a:pt x="430" y="574"/>
                    </a:lnTo>
                    <a:lnTo>
                      <a:pt x="430" y="574"/>
                    </a:lnTo>
                    <a:lnTo>
                      <a:pt x="422" y="545"/>
                    </a:lnTo>
                    <a:lnTo>
                      <a:pt x="422" y="545"/>
                    </a:lnTo>
                    <a:lnTo>
                      <a:pt x="421" y="543"/>
                    </a:lnTo>
                    <a:lnTo>
                      <a:pt x="422" y="540"/>
                    </a:lnTo>
                    <a:lnTo>
                      <a:pt x="424" y="536"/>
                    </a:lnTo>
                    <a:lnTo>
                      <a:pt x="428" y="531"/>
                    </a:lnTo>
                    <a:lnTo>
                      <a:pt x="428" y="531"/>
                    </a:lnTo>
                    <a:lnTo>
                      <a:pt x="433" y="526"/>
                    </a:lnTo>
                    <a:lnTo>
                      <a:pt x="438" y="523"/>
                    </a:lnTo>
                    <a:lnTo>
                      <a:pt x="442" y="522"/>
                    </a:lnTo>
                    <a:lnTo>
                      <a:pt x="445" y="522"/>
                    </a:lnTo>
                    <a:lnTo>
                      <a:pt x="448" y="522"/>
                    </a:lnTo>
                    <a:lnTo>
                      <a:pt x="450" y="523"/>
                    </a:lnTo>
                    <a:lnTo>
                      <a:pt x="452" y="525"/>
                    </a:lnTo>
                    <a:lnTo>
                      <a:pt x="452" y="525"/>
                    </a:lnTo>
                    <a:lnTo>
                      <a:pt x="467" y="540"/>
                    </a:lnTo>
                    <a:lnTo>
                      <a:pt x="467" y="540"/>
                    </a:lnTo>
                    <a:lnTo>
                      <a:pt x="469" y="542"/>
                    </a:lnTo>
                    <a:lnTo>
                      <a:pt x="471" y="544"/>
                    </a:lnTo>
                    <a:lnTo>
                      <a:pt x="471" y="549"/>
                    </a:lnTo>
                    <a:lnTo>
                      <a:pt x="471" y="556"/>
                    </a:lnTo>
                    <a:lnTo>
                      <a:pt x="469" y="562"/>
                    </a:lnTo>
                    <a:lnTo>
                      <a:pt x="464" y="571"/>
                    </a:lnTo>
                    <a:lnTo>
                      <a:pt x="461" y="575"/>
                    </a:lnTo>
                    <a:lnTo>
                      <a:pt x="461" y="5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" name="Picture 86" descr=""/>
          <p:cNvPicPr/>
          <p:nvPr/>
        </p:nvPicPr>
        <p:blipFill>
          <a:blip r:embed="rId3"/>
          <a:stretch/>
        </p:blipFill>
        <p:spPr>
          <a:xfrm>
            <a:off x="8574120" y="1590840"/>
            <a:ext cx="393840" cy="160200"/>
          </a:xfrm>
          <a:prstGeom prst="rect">
            <a:avLst/>
          </a:prstGeom>
          <a:ln w="0">
            <a:noFill/>
          </a:ln>
        </p:spPr>
      </p:pic>
      <p:pic>
        <p:nvPicPr>
          <p:cNvPr id="25" name="Picture 87" descr=""/>
          <p:cNvPicPr/>
          <p:nvPr/>
        </p:nvPicPr>
        <p:blipFill>
          <a:blip r:embed="rId4"/>
          <a:stretch/>
        </p:blipFill>
        <p:spPr>
          <a:xfrm>
            <a:off x="8574120" y="1590840"/>
            <a:ext cx="393840" cy="160200"/>
          </a:xfrm>
          <a:prstGeom prst="rect">
            <a:avLst/>
          </a:prstGeom>
          <a:ln w="0">
            <a:noFill/>
          </a:ln>
        </p:spPr>
      </p:pic>
      <p:sp>
        <p:nvSpPr>
          <p:cNvPr id="26" name="Freeform 88"/>
          <p:cNvSpPr/>
          <p:nvPr/>
        </p:nvSpPr>
        <p:spPr>
          <a:xfrm rot="16200000">
            <a:off x="8358120" y="1234800"/>
            <a:ext cx="217440" cy="173160"/>
          </a:xfrm>
          <a:custGeom>
            <a:avLst/>
            <a:gdLst/>
            <a:ahLst/>
            <a:rect l="l" t="t" r="r" b="b"/>
            <a:pathLst>
              <a:path w="87" h="69">
                <a:moveTo>
                  <a:pt x="7" y="69"/>
                </a:moveTo>
                <a:cubicBezTo>
                  <a:pt x="33" y="51"/>
                  <a:pt x="60" y="31"/>
                  <a:pt x="87" y="9"/>
                </a:cubicBezTo>
                <a:cubicBezTo>
                  <a:pt x="85" y="6"/>
                  <a:pt x="84" y="3"/>
                  <a:pt x="82" y="0"/>
                </a:cubicBezTo>
                <a:cubicBezTo>
                  <a:pt x="54" y="23"/>
                  <a:pt x="27" y="43"/>
                  <a:pt x="0" y="62"/>
                </a:cubicBezTo>
                <a:cubicBezTo>
                  <a:pt x="2" y="65"/>
                  <a:pt x="5" y="67"/>
                  <a:pt x="7" y="69"/>
                </a:cubicBezTo>
                <a:close/>
              </a:path>
            </a:pathLst>
          </a:custGeom>
          <a:solidFill>
            <a:srgbClr val="0099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Freeform 89"/>
          <p:cNvSpPr/>
          <p:nvPr/>
        </p:nvSpPr>
        <p:spPr>
          <a:xfrm rot="16200000">
            <a:off x="7769880" y="577080"/>
            <a:ext cx="184320" cy="210960"/>
          </a:xfrm>
          <a:custGeom>
            <a:avLst/>
            <a:gdLst/>
            <a:ahLst/>
            <a:rect l="l" t="t" r="r" b="b"/>
            <a:pathLst>
              <a:path w="74" h="85">
                <a:moveTo>
                  <a:pt x="74" y="7"/>
                </a:moveTo>
                <a:cubicBezTo>
                  <a:pt x="72" y="5"/>
                  <a:pt x="69" y="2"/>
                  <a:pt x="67" y="0"/>
                </a:cubicBezTo>
                <a:cubicBezTo>
                  <a:pt x="45" y="28"/>
                  <a:pt x="23" y="54"/>
                  <a:pt x="0" y="80"/>
                </a:cubicBezTo>
                <a:cubicBezTo>
                  <a:pt x="3" y="81"/>
                  <a:pt x="6" y="83"/>
                  <a:pt x="9" y="85"/>
                </a:cubicBezTo>
                <a:cubicBezTo>
                  <a:pt x="31" y="60"/>
                  <a:pt x="53" y="34"/>
                  <a:pt x="74" y="7"/>
                </a:cubicBezTo>
                <a:close/>
              </a:path>
            </a:pathLst>
          </a:custGeom>
          <a:solidFill>
            <a:srgbClr val="0099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Freeform 91"/>
          <p:cNvSpPr/>
          <p:nvPr/>
        </p:nvSpPr>
        <p:spPr>
          <a:xfrm rot="16200000">
            <a:off x="8501760" y="1373400"/>
            <a:ext cx="552600" cy="551160"/>
          </a:xfrm>
          <a:custGeom>
            <a:avLst/>
            <a:gdLst/>
            <a:ahLst/>
            <a:rect l="l" t="t" r="r" b="b"/>
            <a:pathLst>
              <a:path w="258" h="258">
                <a:moveTo>
                  <a:pt x="170" y="7"/>
                </a:moveTo>
                <a:cubicBezTo>
                  <a:pt x="157" y="3"/>
                  <a:pt x="143" y="0"/>
                  <a:pt x="129" y="0"/>
                </a:cubicBezTo>
                <a:cubicBezTo>
                  <a:pt x="57" y="0"/>
                  <a:pt x="0" y="58"/>
                  <a:pt x="0" y="129"/>
                </a:cubicBezTo>
                <a:cubicBezTo>
                  <a:pt x="0" y="164"/>
                  <a:pt x="13" y="195"/>
                  <a:pt x="35" y="218"/>
                </a:cubicBezTo>
                <a:cubicBezTo>
                  <a:pt x="37" y="220"/>
                  <a:pt x="40" y="223"/>
                  <a:pt x="42" y="225"/>
                </a:cubicBezTo>
                <a:cubicBezTo>
                  <a:pt x="45" y="228"/>
                  <a:pt x="49" y="230"/>
                  <a:pt x="52" y="233"/>
                </a:cubicBezTo>
                <a:cubicBezTo>
                  <a:pt x="74" y="249"/>
                  <a:pt x="100" y="258"/>
                  <a:pt x="129" y="258"/>
                </a:cubicBezTo>
                <a:cubicBezTo>
                  <a:pt x="200" y="258"/>
                  <a:pt x="258" y="200"/>
                  <a:pt x="258" y="129"/>
                </a:cubicBezTo>
                <a:cubicBezTo>
                  <a:pt x="258" y="80"/>
                  <a:pt x="231" y="38"/>
                  <a:pt x="191" y="16"/>
                </a:cubicBezTo>
                <a:cubicBezTo>
                  <a:pt x="187" y="14"/>
                  <a:pt x="184" y="12"/>
                  <a:pt x="180" y="11"/>
                </a:cubicBezTo>
                <a:cubicBezTo>
                  <a:pt x="177" y="9"/>
                  <a:pt x="174" y="8"/>
                  <a:pt x="170" y="7"/>
                </a:cubicBez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007ed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93"/>
          <p:cNvSpPr/>
          <p:nvPr/>
        </p:nvSpPr>
        <p:spPr>
          <a:xfrm rot="10800000">
            <a:off x="7197840" y="0"/>
            <a:ext cx="1946160" cy="1946160"/>
          </a:xfrm>
          <a:prstGeom prst="rtTriangl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50000">
                <a:srgbClr val="ffffff"/>
              </a:gs>
              <a:gs pos="100000">
                <a:srgbClr val="0000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94"/>
          <p:cNvSpPr/>
          <p:nvPr/>
        </p:nvSpPr>
        <p:spPr>
          <a:xfrm rot="10800000">
            <a:off x="8318160" y="-360"/>
            <a:ext cx="825480" cy="825480"/>
          </a:xfrm>
          <a:prstGeom prst="rtTriangl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50000">
                <a:srgbClr val="ffffff"/>
              </a:gs>
              <a:gs pos="100000">
                <a:srgbClr val="0000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132"/>
          <p:cNvSpPr/>
          <p:nvPr/>
        </p:nvSpPr>
        <p:spPr>
          <a:xfrm rot="5400000">
            <a:off x="8142120" y="531720"/>
            <a:ext cx="18396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4"/>
                  <a:pt x="9496" y="5080"/>
                  <a:pt x="9496" y="10800"/>
                </a:cubicBezTo>
                <a:cubicBezTo>
                  <a:pt x="9496" y="16520"/>
                  <a:pt x="15548" y="198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133"/>
          <p:cNvSpPr/>
          <p:nvPr/>
        </p:nvSpPr>
        <p:spPr>
          <a:xfrm rot="5400000">
            <a:off x="7449480" y="-34920"/>
            <a:ext cx="18432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4"/>
                  <a:pt x="9496" y="5080"/>
                  <a:pt x="9496" y="10800"/>
                </a:cubicBezTo>
                <a:cubicBezTo>
                  <a:pt x="9496" y="16520"/>
                  <a:pt x="15548" y="198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135"/>
          <p:cNvSpPr/>
          <p:nvPr/>
        </p:nvSpPr>
        <p:spPr>
          <a:xfrm rot="5400000">
            <a:off x="8142120" y="536400"/>
            <a:ext cx="18396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103" y="468"/>
                  <a:pt x="2606" y="5080"/>
                  <a:pt x="2606" y="10800"/>
                </a:cubicBezTo>
                <a:cubicBezTo>
                  <a:pt x="2606" y="16520"/>
                  <a:pt x="12103" y="2113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AutoShape 137"/>
          <p:cNvSpPr/>
          <p:nvPr/>
        </p:nvSpPr>
        <p:spPr>
          <a:xfrm rot="5400000">
            <a:off x="7449840" y="-25560"/>
            <a:ext cx="18396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103" y="468"/>
                  <a:pt x="2606" y="5080"/>
                  <a:pt x="2606" y="10800"/>
                </a:cubicBezTo>
                <a:cubicBezTo>
                  <a:pt x="2606" y="16520"/>
                  <a:pt x="12103" y="2113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AutoShape 219"/>
          <p:cNvSpPr/>
          <p:nvPr/>
        </p:nvSpPr>
        <p:spPr>
          <a:xfrm>
            <a:off x="8580600" y="1469880"/>
            <a:ext cx="393480" cy="263520"/>
          </a:xfrm>
          <a:prstGeom prst="cloudCallout">
            <a:avLst>
              <a:gd name="adj1" fmla="val 24194"/>
              <a:gd name="adj2" fmla="val 9638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AutoShape 112"/>
          <p:cNvSpPr/>
          <p:nvPr/>
        </p:nvSpPr>
        <p:spPr>
          <a:xfrm rot="5400000">
            <a:off x="8683560" y="1246320"/>
            <a:ext cx="18432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4"/>
                  <a:pt x="9496" y="5080"/>
                  <a:pt x="9496" y="10800"/>
                </a:cubicBezTo>
                <a:cubicBezTo>
                  <a:pt x="9496" y="16520"/>
                  <a:pt x="15548" y="198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AutoShape 134"/>
          <p:cNvSpPr/>
          <p:nvPr/>
        </p:nvSpPr>
        <p:spPr>
          <a:xfrm rot="5400000">
            <a:off x="8683560" y="1252440"/>
            <a:ext cx="18396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103" y="468"/>
                  <a:pt x="2606" y="5080"/>
                  <a:pt x="2606" y="10800"/>
                </a:cubicBezTo>
                <a:cubicBezTo>
                  <a:pt x="2606" y="16520"/>
                  <a:pt x="12103" y="2113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 type="title"/>
          </p:nvPr>
        </p:nvSpPr>
        <p:spPr>
          <a:xfrm>
            <a:off x="457200" y="117000"/>
            <a:ext cx="60595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4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3.png"/><Relationship Id="rId9" Type="http://schemas.openxmlformats.org/officeDocument/2006/relationships/hyperlink" Target="http://www.eeppt.com/dongtai/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2484360" y="909720"/>
            <a:ext cx="1886040" cy="2162160"/>
            <a:chOff x="2484360" y="909720"/>
            <a:chExt cx="1886040" cy="2162160"/>
          </a:xfrm>
        </p:grpSpPr>
        <p:sp>
          <p:nvSpPr>
            <p:cNvPr id="76" name="Rectangle 176"/>
            <p:cNvSpPr/>
            <p:nvPr/>
          </p:nvSpPr>
          <p:spPr>
            <a:xfrm>
              <a:off x="2484360" y="909720"/>
              <a:ext cx="188604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77"/>
            <p:cNvSpPr/>
            <p:nvPr/>
          </p:nvSpPr>
          <p:spPr>
            <a:xfrm>
              <a:off x="2498400" y="923760"/>
              <a:ext cx="185868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78"/>
            <p:cNvSpPr/>
            <p:nvPr/>
          </p:nvSpPr>
          <p:spPr>
            <a:xfrm>
              <a:off x="2518920" y="938160"/>
              <a:ext cx="182052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604600" y="1047960"/>
              <a:ext cx="1640520" cy="1395360"/>
              <a:chOff x="2604600" y="1047960"/>
              <a:chExt cx="1640520" cy="1395360"/>
            </a:xfrm>
          </p:grpSpPr>
          <p:pic>
            <p:nvPicPr>
              <p:cNvPr id="80" name="Rectangle 179" descr="Air00037"/>
              <p:cNvPicPr/>
              <p:nvPr/>
            </p:nvPicPr>
            <p:blipFill>
              <a:blip r:embed="rId1"/>
              <a:stretch/>
            </p:blipFill>
            <p:spPr>
              <a:xfrm>
                <a:off x="2604600" y="1047960"/>
                <a:ext cx="164052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2607840" y="1056960"/>
                <a:ext cx="162324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Rectangle 180"/>
            <p:cNvSpPr/>
            <p:nvPr/>
          </p:nvSpPr>
          <p:spPr>
            <a:xfrm>
              <a:off x="2614320" y="222336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81"/>
            <p:cNvSpPr/>
            <p:nvPr/>
          </p:nvSpPr>
          <p:spPr>
            <a:xfrm rot="10800000">
              <a:off x="2613960" y="106416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82"/>
            <p:cNvSpPr/>
            <p:nvPr/>
          </p:nvSpPr>
          <p:spPr>
            <a:xfrm rot="10800000">
              <a:off x="3601440" y="1066680"/>
              <a:ext cx="61992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83"/>
            <p:cNvSpPr/>
            <p:nvPr/>
          </p:nvSpPr>
          <p:spPr>
            <a:xfrm rot="5400000">
              <a:off x="2617920" y="1065600"/>
              <a:ext cx="619560" cy="619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84"/>
            <p:cNvSpPr/>
            <p:nvPr/>
          </p:nvSpPr>
          <p:spPr>
            <a:xfrm>
              <a:off x="2626200" y="207792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85"/>
            <p:cNvSpPr/>
            <p:nvPr/>
          </p:nvSpPr>
          <p:spPr>
            <a:xfrm rot="16200000">
              <a:off x="3872160" y="207756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86"/>
            <p:cNvSpPr/>
            <p:nvPr/>
          </p:nvSpPr>
          <p:spPr>
            <a:xfrm rot="10800000">
              <a:off x="2613960" y="106416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369040" y="836640"/>
            <a:ext cx="1885680" cy="2162160"/>
            <a:chOff x="5369040" y="836640"/>
            <a:chExt cx="1885680" cy="2162160"/>
          </a:xfrm>
        </p:grpSpPr>
        <p:sp>
          <p:nvSpPr>
            <p:cNvPr id="90" name="Rectangle 162"/>
            <p:cNvSpPr/>
            <p:nvPr/>
          </p:nvSpPr>
          <p:spPr>
            <a:xfrm>
              <a:off x="5369040" y="836640"/>
              <a:ext cx="188568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63"/>
            <p:cNvSpPr/>
            <p:nvPr/>
          </p:nvSpPr>
          <p:spPr>
            <a:xfrm>
              <a:off x="5383080" y="850680"/>
              <a:ext cx="185832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64"/>
            <p:cNvSpPr/>
            <p:nvPr/>
          </p:nvSpPr>
          <p:spPr>
            <a:xfrm>
              <a:off x="5403600" y="865080"/>
              <a:ext cx="182016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5487120" y="974880"/>
              <a:ext cx="1639800" cy="1395360"/>
              <a:chOff x="5487120" y="974880"/>
              <a:chExt cx="1639800" cy="1395360"/>
            </a:xfrm>
          </p:grpSpPr>
          <p:pic>
            <p:nvPicPr>
              <p:cNvPr id="94" name="Rectangle 165" descr="Meeting00042"/>
              <p:cNvPicPr/>
              <p:nvPr/>
            </p:nvPicPr>
            <p:blipFill>
              <a:blip r:embed="rId2"/>
              <a:stretch/>
            </p:blipFill>
            <p:spPr>
              <a:xfrm>
                <a:off x="5487120" y="974880"/>
                <a:ext cx="163980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5493600" y="983880"/>
                <a:ext cx="162252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166"/>
            <p:cNvSpPr/>
            <p:nvPr/>
          </p:nvSpPr>
          <p:spPr>
            <a:xfrm>
              <a:off x="549900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7"/>
            <p:cNvSpPr/>
            <p:nvPr/>
          </p:nvSpPr>
          <p:spPr>
            <a:xfrm rot="10800000">
              <a:off x="549864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68"/>
            <p:cNvSpPr/>
            <p:nvPr/>
          </p:nvSpPr>
          <p:spPr>
            <a:xfrm rot="10800000">
              <a:off x="6485400" y="99360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69"/>
            <p:cNvSpPr/>
            <p:nvPr/>
          </p:nvSpPr>
          <p:spPr>
            <a:xfrm rot="5400000">
              <a:off x="5501880" y="99288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70"/>
            <p:cNvSpPr/>
            <p:nvPr/>
          </p:nvSpPr>
          <p:spPr>
            <a:xfrm>
              <a:off x="551088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71"/>
            <p:cNvSpPr/>
            <p:nvPr/>
          </p:nvSpPr>
          <p:spPr>
            <a:xfrm rot="16200000">
              <a:off x="6756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72"/>
            <p:cNvSpPr/>
            <p:nvPr/>
          </p:nvSpPr>
          <p:spPr>
            <a:xfrm rot="10800000">
              <a:off x="549864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104" name="Freeform 91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92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93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94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43080" y="3403440"/>
            <a:ext cx="1253880" cy="1438560"/>
            <a:chOff x="343080" y="3403440"/>
            <a:chExt cx="1253880" cy="1438560"/>
          </a:xfrm>
        </p:grpSpPr>
        <p:sp>
          <p:nvSpPr>
            <p:cNvPr id="109" name="Rectangle 148"/>
            <p:cNvSpPr/>
            <p:nvPr/>
          </p:nvSpPr>
          <p:spPr>
            <a:xfrm>
              <a:off x="3430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9"/>
            <p:cNvSpPr/>
            <p:nvPr/>
          </p:nvSpPr>
          <p:spPr>
            <a:xfrm>
              <a:off x="3524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50"/>
            <p:cNvSpPr/>
            <p:nvPr/>
          </p:nvSpPr>
          <p:spPr>
            <a:xfrm>
              <a:off x="3657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20480" y="3492720"/>
              <a:ext cx="1090800" cy="932760"/>
              <a:chOff x="420480" y="3492720"/>
              <a:chExt cx="1090800" cy="932760"/>
            </a:xfrm>
          </p:grpSpPr>
          <p:pic>
            <p:nvPicPr>
              <p:cNvPr id="113" name="Rectangle 151" descr="Building00005"/>
              <p:cNvPicPr/>
              <p:nvPr/>
            </p:nvPicPr>
            <p:blipFill>
              <a:blip r:embed="rId3"/>
              <a:stretch/>
            </p:blipFill>
            <p:spPr>
              <a:xfrm>
                <a:off x="4204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4251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Rectangle 152"/>
            <p:cNvSpPr/>
            <p:nvPr/>
          </p:nvSpPr>
          <p:spPr>
            <a:xfrm>
              <a:off x="4294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53"/>
            <p:cNvSpPr/>
            <p:nvPr/>
          </p:nvSpPr>
          <p:spPr>
            <a:xfrm rot="10800000">
              <a:off x="4294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54"/>
            <p:cNvSpPr/>
            <p:nvPr/>
          </p:nvSpPr>
          <p:spPr>
            <a:xfrm rot="10800000">
              <a:off x="10854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55"/>
            <p:cNvSpPr/>
            <p:nvPr/>
          </p:nvSpPr>
          <p:spPr>
            <a:xfrm rot="5400000">
              <a:off x="4312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56"/>
            <p:cNvSpPr/>
            <p:nvPr/>
          </p:nvSpPr>
          <p:spPr>
            <a:xfrm>
              <a:off x="4374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57"/>
            <p:cNvSpPr/>
            <p:nvPr/>
          </p:nvSpPr>
          <p:spPr>
            <a:xfrm rot="16200000">
              <a:off x="12657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58"/>
            <p:cNvSpPr/>
            <p:nvPr/>
          </p:nvSpPr>
          <p:spPr>
            <a:xfrm rot="10800000">
              <a:off x="4294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123" name="Rectangle 190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91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92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127" name="Rectangle 193" descr="Callcentre00022"/>
              <p:cNvPicPr/>
              <p:nvPr/>
            </p:nvPicPr>
            <p:blipFill>
              <a:blip r:embed="rId4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Rectangle 194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95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96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97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98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99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00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137" name="Rectangle 126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27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28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141" name="Rectangle 129" descr="Building00005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Rectangle 133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34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131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35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136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137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8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556000" y="5229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87920" y="422100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相册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-0.4276 0.32176 E">
                                      <p:cBhvr>
                                        <p:cTn id="23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7037E-007 L 0.31372 3.7037E-007 E">
                                      <p:cBhvr>
                                        <p:cTn id="25" dur="8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31268 3.7037E-007 E">
                                      <p:cBhvr>
                                        <p:cTn id="27" dur="8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1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2506680" y="836640"/>
            <a:ext cx="1886040" cy="2162160"/>
            <a:chOff x="2506680" y="836640"/>
            <a:chExt cx="1886040" cy="2162160"/>
          </a:xfrm>
        </p:grpSpPr>
        <p:sp>
          <p:nvSpPr>
            <p:cNvPr id="153" name="Rectangle 280"/>
            <p:cNvSpPr/>
            <p:nvPr/>
          </p:nvSpPr>
          <p:spPr>
            <a:xfrm>
              <a:off x="2506680" y="836640"/>
              <a:ext cx="188604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81"/>
            <p:cNvSpPr/>
            <p:nvPr/>
          </p:nvSpPr>
          <p:spPr>
            <a:xfrm>
              <a:off x="2520720" y="850680"/>
              <a:ext cx="185868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82"/>
            <p:cNvSpPr/>
            <p:nvPr/>
          </p:nvSpPr>
          <p:spPr>
            <a:xfrm>
              <a:off x="2541240" y="865080"/>
              <a:ext cx="182052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2626920" y="974880"/>
              <a:ext cx="1640520" cy="1395360"/>
              <a:chOff x="2626920" y="974880"/>
              <a:chExt cx="1640520" cy="1395360"/>
            </a:xfrm>
          </p:grpSpPr>
          <p:pic>
            <p:nvPicPr>
              <p:cNvPr id="157" name="Rectangle 283" descr="Handshake00007"/>
              <p:cNvPicPr/>
              <p:nvPr/>
            </p:nvPicPr>
            <p:blipFill>
              <a:blip r:embed="rId1"/>
              <a:stretch/>
            </p:blipFill>
            <p:spPr>
              <a:xfrm>
                <a:off x="2626920" y="974880"/>
                <a:ext cx="164052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2630160" y="983880"/>
                <a:ext cx="162324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Rectangle 284"/>
            <p:cNvSpPr/>
            <p:nvPr/>
          </p:nvSpPr>
          <p:spPr>
            <a:xfrm>
              <a:off x="263664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85"/>
            <p:cNvSpPr/>
            <p:nvPr/>
          </p:nvSpPr>
          <p:spPr>
            <a:xfrm rot="10800000">
              <a:off x="263628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286"/>
            <p:cNvSpPr/>
            <p:nvPr/>
          </p:nvSpPr>
          <p:spPr>
            <a:xfrm rot="10800000">
              <a:off x="3623760" y="993600"/>
              <a:ext cx="61992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287"/>
            <p:cNvSpPr/>
            <p:nvPr/>
          </p:nvSpPr>
          <p:spPr>
            <a:xfrm rot="5400000">
              <a:off x="2640240" y="992520"/>
              <a:ext cx="619560" cy="619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288"/>
            <p:cNvSpPr/>
            <p:nvPr/>
          </p:nvSpPr>
          <p:spPr>
            <a:xfrm>
              <a:off x="264852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289"/>
            <p:cNvSpPr/>
            <p:nvPr/>
          </p:nvSpPr>
          <p:spPr>
            <a:xfrm rot="16200000">
              <a:off x="3894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90"/>
            <p:cNvSpPr/>
            <p:nvPr/>
          </p:nvSpPr>
          <p:spPr>
            <a:xfrm rot="10800000">
              <a:off x="263628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506680" y="836640"/>
            <a:ext cx="1886040" cy="2162160"/>
            <a:chOff x="2506680" y="836640"/>
            <a:chExt cx="1886040" cy="2162160"/>
          </a:xfrm>
        </p:grpSpPr>
        <p:sp>
          <p:nvSpPr>
            <p:cNvPr id="167" name="Rectangle 224"/>
            <p:cNvSpPr/>
            <p:nvPr/>
          </p:nvSpPr>
          <p:spPr>
            <a:xfrm>
              <a:off x="2506680" y="836640"/>
              <a:ext cx="188604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25"/>
            <p:cNvSpPr/>
            <p:nvPr/>
          </p:nvSpPr>
          <p:spPr>
            <a:xfrm>
              <a:off x="2520720" y="850680"/>
              <a:ext cx="185868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26"/>
            <p:cNvSpPr/>
            <p:nvPr/>
          </p:nvSpPr>
          <p:spPr>
            <a:xfrm>
              <a:off x="2541240" y="865080"/>
              <a:ext cx="182052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26920" y="974880"/>
              <a:ext cx="1640520" cy="1395360"/>
              <a:chOff x="2626920" y="974880"/>
              <a:chExt cx="1640520" cy="1395360"/>
            </a:xfrm>
          </p:grpSpPr>
          <p:pic>
            <p:nvPicPr>
              <p:cNvPr id="171" name="Rectangle 227" descr="Meeting00042"/>
              <p:cNvPicPr/>
              <p:nvPr/>
            </p:nvPicPr>
            <p:blipFill>
              <a:blip r:embed="rId2"/>
              <a:stretch/>
            </p:blipFill>
            <p:spPr>
              <a:xfrm>
                <a:off x="2626920" y="974880"/>
                <a:ext cx="164052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2630160" y="983880"/>
                <a:ext cx="162324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Rectangle 228"/>
            <p:cNvSpPr/>
            <p:nvPr/>
          </p:nvSpPr>
          <p:spPr>
            <a:xfrm>
              <a:off x="263664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29"/>
            <p:cNvSpPr/>
            <p:nvPr/>
          </p:nvSpPr>
          <p:spPr>
            <a:xfrm rot="10800000">
              <a:off x="263628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230"/>
            <p:cNvSpPr/>
            <p:nvPr/>
          </p:nvSpPr>
          <p:spPr>
            <a:xfrm rot="10800000">
              <a:off x="3623760" y="993600"/>
              <a:ext cx="61992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31"/>
            <p:cNvSpPr/>
            <p:nvPr/>
          </p:nvSpPr>
          <p:spPr>
            <a:xfrm rot="5400000">
              <a:off x="2640240" y="992520"/>
              <a:ext cx="619560" cy="619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232"/>
            <p:cNvSpPr/>
            <p:nvPr/>
          </p:nvSpPr>
          <p:spPr>
            <a:xfrm>
              <a:off x="264852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233"/>
            <p:cNvSpPr/>
            <p:nvPr/>
          </p:nvSpPr>
          <p:spPr>
            <a:xfrm rot="16200000">
              <a:off x="3894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34"/>
            <p:cNvSpPr/>
            <p:nvPr/>
          </p:nvSpPr>
          <p:spPr>
            <a:xfrm rot="10800000">
              <a:off x="263628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369040" y="836640"/>
            <a:ext cx="1885680" cy="2162160"/>
            <a:chOff x="5369040" y="836640"/>
            <a:chExt cx="1885680" cy="2162160"/>
          </a:xfrm>
        </p:grpSpPr>
        <p:sp>
          <p:nvSpPr>
            <p:cNvPr id="181" name="Rectangle 238"/>
            <p:cNvSpPr/>
            <p:nvPr/>
          </p:nvSpPr>
          <p:spPr>
            <a:xfrm>
              <a:off x="5369040" y="836640"/>
              <a:ext cx="188568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39"/>
            <p:cNvSpPr/>
            <p:nvPr/>
          </p:nvSpPr>
          <p:spPr>
            <a:xfrm>
              <a:off x="5383080" y="850680"/>
              <a:ext cx="185832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40"/>
            <p:cNvSpPr/>
            <p:nvPr/>
          </p:nvSpPr>
          <p:spPr>
            <a:xfrm>
              <a:off x="5403600" y="865080"/>
              <a:ext cx="182016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487120" y="974880"/>
              <a:ext cx="1639800" cy="1395360"/>
              <a:chOff x="5487120" y="974880"/>
              <a:chExt cx="1639800" cy="1395360"/>
            </a:xfrm>
          </p:grpSpPr>
          <p:pic>
            <p:nvPicPr>
              <p:cNvPr id="185" name="Rectangle 241" descr="Meeting00042"/>
              <p:cNvPicPr/>
              <p:nvPr/>
            </p:nvPicPr>
            <p:blipFill>
              <a:blip r:embed="rId3"/>
              <a:stretch/>
            </p:blipFill>
            <p:spPr>
              <a:xfrm>
                <a:off x="5487120" y="974880"/>
                <a:ext cx="163980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5493600" y="983880"/>
                <a:ext cx="162252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Rectangle 242"/>
            <p:cNvSpPr/>
            <p:nvPr/>
          </p:nvSpPr>
          <p:spPr>
            <a:xfrm>
              <a:off x="549900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43"/>
            <p:cNvSpPr/>
            <p:nvPr/>
          </p:nvSpPr>
          <p:spPr>
            <a:xfrm rot="10800000">
              <a:off x="549864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244"/>
            <p:cNvSpPr/>
            <p:nvPr/>
          </p:nvSpPr>
          <p:spPr>
            <a:xfrm rot="10800000">
              <a:off x="6485400" y="99360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45"/>
            <p:cNvSpPr/>
            <p:nvPr/>
          </p:nvSpPr>
          <p:spPr>
            <a:xfrm rot="5400000">
              <a:off x="5501880" y="99288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246"/>
            <p:cNvSpPr/>
            <p:nvPr/>
          </p:nvSpPr>
          <p:spPr>
            <a:xfrm>
              <a:off x="551088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47"/>
            <p:cNvSpPr/>
            <p:nvPr/>
          </p:nvSpPr>
          <p:spPr>
            <a:xfrm rot="16200000">
              <a:off x="6756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48"/>
            <p:cNvSpPr/>
            <p:nvPr/>
          </p:nvSpPr>
          <p:spPr>
            <a:xfrm rot="10800000">
              <a:off x="549864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369040" y="836640"/>
            <a:ext cx="1885680" cy="2162160"/>
            <a:chOff x="5369040" y="836640"/>
            <a:chExt cx="1885680" cy="2162160"/>
          </a:xfrm>
        </p:grpSpPr>
        <p:sp>
          <p:nvSpPr>
            <p:cNvPr id="195" name="Rectangle 210"/>
            <p:cNvSpPr/>
            <p:nvPr/>
          </p:nvSpPr>
          <p:spPr>
            <a:xfrm>
              <a:off x="5369040" y="836640"/>
              <a:ext cx="188568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11"/>
            <p:cNvSpPr/>
            <p:nvPr/>
          </p:nvSpPr>
          <p:spPr>
            <a:xfrm>
              <a:off x="5383080" y="850680"/>
              <a:ext cx="185832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12"/>
            <p:cNvSpPr/>
            <p:nvPr/>
          </p:nvSpPr>
          <p:spPr>
            <a:xfrm>
              <a:off x="5403600" y="865080"/>
              <a:ext cx="182016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487120" y="974880"/>
              <a:ext cx="1639800" cy="1395360"/>
              <a:chOff x="5487120" y="974880"/>
              <a:chExt cx="1639800" cy="1395360"/>
            </a:xfrm>
          </p:grpSpPr>
          <p:pic>
            <p:nvPicPr>
              <p:cNvPr id="199" name="Rectangle 213" descr="Air00037"/>
              <p:cNvPicPr/>
              <p:nvPr/>
            </p:nvPicPr>
            <p:blipFill>
              <a:blip r:embed="rId4"/>
              <a:stretch/>
            </p:blipFill>
            <p:spPr>
              <a:xfrm>
                <a:off x="5487120" y="974880"/>
                <a:ext cx="163980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5493600" y="983880"/>
                <a:ext cx="162252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Rectangle 214"/>
            <p:cNvSpPr/>
            <p:nvPr/>
          </p:nvSpPr>
          <p:spPr>
            <a:xfrm>
              <a:off x="549900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15"/>
            <p:cNvSpPr/>
            <p:nvPr/>
          </p:nvSpPr>
          <p:spPr>
            <a:xfrm rot="10800000">
              <a:off x="549864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216"/>
            <p:cNvSpPr/>
            <p:nvPr/>
          </p:nvSpPr>
          <p:spPr>
            <a:xfrm rot="10800000">
              <a:off x="6485400" y="99360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217"/>
            <p:cNvSpPr/>
            <p:nvPr/>
          </p:nvSpPr>
          <p:spPr>
            <a:xfrm rot="5400000">
              <a:off x="5501880" y="99288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218"/>
            <p:cNvSpPr/>
            <p:nvPr/>
          </p:nvSpPr>
          <p:spPr>
            <a:xfrm>
              <a:off x="551088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219"/>
            <p:cNvSpPr/>
            <p:nvPr/>
          </p:nvSpPr>
          <p:spPr>
            <a:xfrm rot="16200000">
              <a:off x="6756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20"/>
            <p:cNvSpPr/>
            <p:nvPr/>
          </p:nvSpPr>
          <p:spPr>
            <a:xfrm rot="10800000">
              <a:off x="549864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209" name="Freeform 149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50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51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52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728720" y="4960800"/>
            <a:ext cx="1585800" cy="1325520"/>
            <a:chOff x="1728720" y="4960800"/>
            <a:chExt cx="1585800" cy="1325520"/>
          </a:xfrm>
        </p:grpSpPr>
        <p:sp>
          <p:nvSpPr>
            <p:cNvPr id="214" name="Freeform 154"/>
            <p:cNvSpPr/>
            <p:nvPr/>
          </p:nvSpPr>
          <p:spPr>
            <a:xfrm>
              <a:off x="172872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55"/>
            <p:cNvSpPr/>
            <p:nvPr/>
          </p:nvSpPr>
          <p:spPr>
            <a:xfrm>
              <a:off x="18064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56"/>
            <p:cNvSpPr/>
            <p:nvPr/>
          </p:nvSpPr>
          <p:spPr>
            <a:xfrm>
              <a:off x="18079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57"/>
            <p:cNvSpPr/>
            <p:nvPr/>
          </p:nvSpPr>
          <p:spPr>
            <a:xfrm>
              <a:off x="183348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43080" y="3403440"/>
            <a:ext cx="1253880" cy="1438560"/>
            <a:chOff x="343080" y="3403440"/>
            <a:chExt cx="1253880" cy="1438560"/>
          </a:xfrm>
        </p:grpSpPr>
        <p:sp>
          <p:nvSpPr>
            <p:cNvPr id="219" name="Rectangle 198"/>
            <p:cNvSpPr/>
            <p:nvPr/>
          </p:nvSpPr>
          <p:spPr>
            <a:xfrm>
              <a:off x="3430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9"/>
            <p:cNvSpPr/>
            <p:nvPr/>
          </p:nvSpPr>
          <p:spPr>
            <a:xfrm>
              <a:off x="3524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0"/>
            <p:cNvSpPr/>
            <p:nvPr/>
          </p:nvSpPr>
          <p:spPr>
            <a:xfrm>
              <a:off x="3657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420480" y="3492720"/>
              <a:ext cx="1090800" cy="932760"/>
              <a:chOff x="420480" y="3492720"/>
              <a:chExt cx="1090800" cy="932760"/>
            </a:xfrm>
          </p:grpSpPr>
          <p:pic>
            <p:nvPicPr>
              <p:cNvPr id="223" name="Rectangle 201" descr="Building00005"/>
              <p:cNvPicPr/>
              <p:nvPr/>
            </p:nvPicPr>
            <p:blipFill>
              <a:blip r:embed="rId5"/>
              <a:stretch/>
            </p:blipFill>
            <p:spPr>
              <a:xfrm>
                <a:off x="4204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4251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Rectangle 202"/>
            <p:cNvSpPr/>
            <p:nvPr/>
          </p:nvSpPr>
          <p:spPr>
            <a:xfrm>
              <a:off x="4294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03"/>
            <p:cNvSpPr/>
            <p:nvPr/>
          </p:nvSpPr>
          <p:spPr>
            <a:xfrm rot="10800000">
              <a:off x="4294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204"/>
            <p:cNvSpPr/>
            <p:nvPr/>
          </p:nvSpPr>
          <p:spPr>
            <a:xfrm rot="10800000">
              <a:off x="10854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205"/>
            <p:cNvSpPr/>
            <p:nvPr/>
          </p:nvSpPr>
          <p:spPr>
            <a:xfrm rot="5400000">
              <a:off x="4312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206"/>
            <p:cNvSpPr/>
            <p:nvPr/>
          </p:nvSpPr>
          <p:spPr>
            <a:xfrm>
              <a:off x="4374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207"/>
            <p:cNvSpPr/>
            <p:nvPr/>
          </p:nvSpPr>
          <p:spPr>
            <a:xfrm rot="16200000">
              <a:off x="12657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08"/>
            <p:cNvSpPr/>
            <p:nvPr/>
          </p:nvSpPr>
          <p:spPr>
            <a:xfrm rot="10800000">
              <a:off x="4294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233" name="Rectangle 266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67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68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237" name="Rectangle 269" descr="Air00037"/>
              <p:cNvPicPr/>
              <p:nvPr/>
            </p:nvPicPr>
            <p:blipFill>
              <a:blip r:embed="rId6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Rectangle 270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71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272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273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274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275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76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247" name="Rectangle 252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53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54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251" name="Rectangle 255" descr="Callcentre00022"/>
              <p:cNvPicPr/>
              <p:nvPr/>
            </p:nvPicPr>
            <p:blipFill>
              <a:blip r:embed="rId7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Rectangle 256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57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58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59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60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261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62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793880" y="3403440"/>
            <a:ext cx="1254240" cy="1438560"/>
            <a:chOff x="1793880" y="3403440"/>
            <a:chExt cx="1254240" cy="1438560"/>
          </a:xfrm>
        </p:grpSpPr>
        <p:sp>
          <p:nvSpPr>
            <p:cNvPr id="261" name="Rectangle 293"/>
            <p:cNvSpPr/>
            <p:nvPr/>
          </p:nvSpPr>
          <p:spPr>
            <a:xfrm>
              <a:off x="179388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94"/>
            <p:cNvSpPr/>
            <p:nvPr/>
          </p:nvSpPr>
          <p:spPr>
            <a:xfrm>
              <a:off x="180324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95"/>
            <p:cNvSpPr/>
            <p:nvPr/>
          </p:nvSpPr>
          <p:spPr>
            <a:xfrm>
              <a:off x="181656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1871280" y="3492720"/>
              <a:ext cx="1090800" cy="932760"/>
              <a:chOff x="1871280" y="3492720"/>
              <a:chExt cx="1090800" cy="932760"/>
            </a:xfrm>
          </p:grpSpPr>
          <p:pic>
            <p:nvPicPr>
              <p:cNvPr id="265" name="Rectangle 296" descr="Callcentre00022"/>
              <p:cNvPicPr/>
              <p:nvPr/>
            </p:nvPicPr>
            <p:blipFill>
              <a:blip r:embed="rId8"/>
              <a:stretch/>
            </p:blipFill>
            <p:spPr>
              <a:xfrm>
                <a:off x="18712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18759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Rectangle 297"/>
            <p:cNvSpPr/>
            <p:nvPr/>
          </p:nvSpPr>
          <p:spPr>
            <a:xfrm>
              <a:off x="188028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98"/>
            <p:cNvSpPr/>
            <p:nvPr/>
          </p:nvSpPr>
          <p:spPr>
            <a:xfrm rot="10800000">
              <a:off x="187992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299"/>
            <p:cNvSpPr/>
            <p:nvPr/>
          </p:nvSpPr>
          <p:spPr>
            <a:xfrm rot="10800000">
              <a:off x="25362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300"/>
            <p:cNvSpPr/>
            <p:nvPr/>
          </p:nvSpPr>
          <p:spPr>
            <a:xfrm rot="5400000">
              <a:off x="18820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301"/>
            <p:cNvSpPr/>
            <p:nvPr/>
          </p:nvSpPr>
          <p:spPr>
            <a:xfrm>
              <a:off x="18882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302"/>
            <p:cNvSpPr/>
            <p:nvPr/>
          </p:nvSpPr>
          <p:spPr>
            <a:xfrm rot="16200000">
              <a:off x="27165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303"/>
            <p:cNvSpPr/>
            <p:nvPr/>
          </p:nvSpPr>
          <p:spPr>
            <a:xfrm rot="10800000">
              <a:off x="187992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-0.26875 0.32176 E">
                                      <p:cBhvr>
                                        <p:cTn id="48" dur="1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31268 3.7037E-007 E">
                                      <p:cBhvr>
                                        <p:cTn id="50" dur="8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31268 3.7037E-007 E">
                                      <p:cBhvr>
                                        <p:cTn id="52" dur="8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7037E-007 L 0.31372 3.7037E-007 E">
                                      <p:cBhvr>
                                        <p:cTn id="54" dur="8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7037E-007 L 0.31372 3.7037E-007 E">
                                      <p:cBhvr>
                                        <p:cTn id="56" dur="8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1000" fill="hold"/>
                                        <p:tgtEl>
                                          <p:spTgt spid="2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5369040" y="836640"/>
            <a:ext cx="1885680" cy="2162160"/>
            <a:chOff x="5369040" y="836640"/>
            <a:chExt cx="1885680" cy="2162160"/>
          </a:xfrm>
        </p:grpSpPr>
        <p:sp>
          <p:nvSpPr>
            <p:cNvPr id="275" name="Rectangle 290"/>
            <p:cNvSpPr/>
            <p:nvPr/>
          </p:nvSpPr>
          <p:spPr>
            <a:xfrm>
              <a:off x="5369040" y="836640"/>
              <a:ext cx="188568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91"/>
            <p:cNvSpPr/>
            <p:nvPr/>
          </p:nvSpPr>
          <p:spPr>
            <a:xfrm>
              <a:off x="5383080" y="850680"/>
              <a:ext cx="185832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92"/>
            <p:cNvSpPr/>
            <p:nvPr/>
          </p:nvSpPr>
          <p:spPr>
            <a:xfrm>
              <a:off x="5403600" y="865080"/>
              <a:ext cx="182016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5487120" y="974880"/>
              <a:ext cx="1639800" cy="1395360"/>
              <a:chOff x="5487120" y="974880"/>
              <a:chExt cx="1639800" cy="1395360"/>
            </a:xfrm>
          </p:grpSpPr>
          <p:pic>
            <p:nvPicPr>
              <p:cNvPr id="279" name="Rectangle 293" descr="Presentation00007"/>
              <p:cNvPicPr/>
              <p:nvPr/>
            </p:nvPicPr>
            <p:blipFill>
              <a:blip r:embed="rId1"/>
              <a:stretch/>
            </p:blipFill>
            <p:spPr>
              <a:xfrm>
                <a:off x="5487120" y="974880"/>
                <a:ext cx="163980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5493600" y="983880"/>
                <a:ext cx="162252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Rectangle 294"/>
            <p:cNvSpPr/>
            <p:nvPr/>
          </p:nvSpPr>
          <p:spPr>
            <a:xfrm>
              <a:off x="549900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95"/>
            <p:cNvSpPr/>
            <p:nvPr/>
          </p:nvSpPr>
          <p:spPr>
            <a:xfrm rot="10800000">
              <a:off x="549864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296"/>
            <p:cNvSpPr/>
            <p:nvPr/>
          </p:nvSpPr>
          <p:spPr>
            <a:xfrm rot="10800000">
              <a:off x="6485400" y="99360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297"/>
            <p:cNvSpPr/>
            <p:nvPr/>
          </p:nvSpPr>
          <p:spPr>
            <a:xfrm rot="5400000">
              <a:off x="5501880" y="99288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298"/>
            <p:cNvSpPr/>
            <p:nvPr/>
          </p:nvSpPr>
          <p:spPr>
            <a:xfrm>
              <a:off x="551088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299"/>
            <p:cNvSpPr/>
            <p:nvPr/>
          </p:nvSpPr>
          <p:spPr>
            <a:xfrm rot="16200000">
              <a:off x="6756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00"/>
            <p:cNvSpPr/>
            <p:nvPr/>
          </p:nvSpPr>
          <p:spPr>
            <a:xfrm rot="10800000">
              <a:off x="549864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369040" y="836640"/>
            <a:ext cx="1885680" cy="2162160"/>
            <a:chOff x="5369040" y="836640"/>
            <a:chExt cx="1885680" cy="2162160"/>
          </a:xfrm>
        </p:grpSpPr>
        <p:sp>
          <p:nvSpPr>
            <p:cNvPr id="289" name="Rectangle 248"/>
            <p:cNvSpPr/>
            <p:nvPr/>
          </p:nvSpPr>
          <p:spPr>
            <a:xfrm>
              <a:off x="5369040" y="836640"/>
              <a:ext cx="188568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249"/>
            <p:cNvSpPr/>
            <p:nvPr/>
          </p:nvSpPr>
          <p:spPr>
            <a:xfrm>
              <a:off x="5383080" y="850680"/>
              <a:ext cx="185832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50"/>
            <p:cNvSpPr/>
            <p:nvPr/>
          </p:nvSpPr>
          <p:spPr>
            <a:xfrm>
              <a:off x="5403600" y="865080"/>
              <a:ext cx="182016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487120" y="974880"/>
              <a:ext cx="1639800" cy="1395360"/>
              <a:chOff x="5487120" y="974880"/>
              <a:chExt cx="1639800" cy="1395360"/>
            </a:xfrm>
          </p:grpSpPr>
          <p:pic>
            <p:nvPicPr>
              <p:cNvPr id="293" name="Rectangle 251" descr="Handshake00007"/>
              <p:cNvPicPr/>
              <p:nvPr/>
            </p:nvPicPr>
            <p:blipFill>
              <a:blip r:embed="rId2"/>
              <a:stretch/>
            </p:blipFill>
            <p:spPr>
              <a:xfrm>
                <a:off x="5487120" y="974880"/>
                <a:ext cx="163980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5493600" y="983880"/>
                <a:ext cx="162252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Rectangle 252"/>
            <p:cNvSpPr/>
            <p:nvPr/>
          </p:nvSpPr>
          <p:spPr>
            <a:xfrm>
              <a:off x="549900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53"/>
            <p:cNvSpPr/>
            <p:nvPr/>
          </p:nvSpPr>
          <p:spPr>
            <a:xfrm rot="10800000">
              <a:off x="549864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254"/>
            <p:cNvSpPr/>
            <p:nvPr/>
          </p:nvSpPr>
          <p:spPr>
            <a:xfrm rot="10800000">
              <a:off x="6485400" y="99360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255"/>
            <p:cNvSpPr/>
            <p:nvPr/>
          </p:nvSpPr>
          <p:spPr>
            <a:xfrm rot="5400000">
              <a:off x="5501880" y="99288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256"/>
            <p:cNvSpPr/>
            <p:nvPr/>
          </p:nvSpPr>
          <p:spPr>
            <a:xfrm>
              <a:off x="551088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257"/>
            <p:cNvSpPr/>
            <p:nvPr/>
          </p:nvSpPr>
          <p:spPr>
            <a:xfrm rot="16200000">
              <a:off x="6756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258"/>
            <p:cNvSpPr/>
            <p:nvPr/>
          </p:nvSpPr>
          <p:spPr>
            <a:xfrm rot="10800000">
              <a:off x="549864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506680" y="836640"/>
            <a:ext cx="1886040" cy="2162160"/>
            <a:chOff x="2506680" y="836640"/>
            <a:chExt cx="1886040" cy="2162160"/>
          </a:xfrm>
        </p:grpSpPr>
        <p:sp>
          <p:nvSpPr>
            <p:cNvPr id="303" name="Rectangle 276"/>
            <p:cNvSpPr/>
            <p:nvPr/>
          </p:nvSpPr>
          <p:spPr>
            <a:xfrm>
              <a:off x="2506680" y="836640"/>
              <a:ext cx="188604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77"/>
            <p:cNvSpPr/>
            <p:nvPr/>
          </p:nvSpPr>
          <p:spPr>
            <a:xfrm>
              <a:off x="2520720" y="850680"/>
              <a:ext cx="185868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78"/>
            <p:cNvSpPr/>
            <p:nvPr/>
          </p:nvSpPr>
          <p:spPr>
            <a:xfrm>
              <a:off x="2541240" y="865080"/>
              <a:ext cx="182052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2626920" y="974880"/>
              <a:ext cx="1640520" cy="1395360"/>
              <a:chOff x="2626920" y="974880"/>
              <a:chExt cx="1640520" cy="1395360"/>
            </a:xfrm>
          </p:grpSpPr>
          <p:pic>
            <p:nvPicPr>
              <p:cNvPr id="307" name="Rectangle 279" descr="Handshake00007"/>
              <p:cNvPicPr/>
              <p:nvPr/>
            </p:nvPicPr>
            <p:blipFill>
              <a:blip r:embed="rId3"/>
              <a:stretch/>
            </p:blipFill>
            <p:spPr>
              <a:xfrm>
                <a:off x="2626920" y="974880"/>
                <a:ext cx="164052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>
                <a:off x="2630160" y="983880"/>
                <a:ext cx="162324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280"/>
            <p:cNvSpPr/>
            <p:nvPr/>
          </p:nvSpPr>
          <p:spPr>
            <a:xfrm>
              <a:off x="263664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281"/>
            <p:cNvSpPr/>
            <p:nvPr/>
          </p:nvSpPr>
          <p:spPr>
            <a:xfrm rot="10800000">
              <a:off x="263628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282"/>
            <p:cNvSpPr/>
            <p:nvPr/>
          </p:nvSpPr>
          <p:spPr>
            <a:xfrm rot="10800000">
              <a:off x="3623760" y="993600"/>
              <a:ext cx="61992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283"/>
            <p:cNvSpPr/>
            <p:nvPr/>
          </p:nvSpPr>
          <p:spPr>
            <a:xfrm rot="5400000">
              <a:off x="2640240" y="992520"/>
              <a:ext cx="619560" cy="619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284"/>
            <p:cNvSpPr/>
            <p:nvPr/>
          </p:nvSpPr>
          <p:spPr>
            <a:xfrm>
              <a:off x="264852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285"/>
            <p:cNvSpPr/>
            <p:nvPr/>
          </p:nvSpPr>
          <p:spPr>
            <a:xfrm rot="16200000">
              <a:off x="3894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286"/>
            <p:cNvSpPr/>
            <p:nvPr/>
          </p:nvSpPr>
          <p:spPr>
            <a:xfrm rot="10800000">
              <a:off x="263628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317" name="Freeform 140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41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142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143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728720" y="4960800"/>
            <a:ext cx="1585800" cy="1325520"/>
            <a:chOff x="1728720" y="4960800"/>
            <a:chExt cx="1585800" cy="1325520"/>
          </a:xfrm>
        </p:grpSpPr>
        <p:sp>
          <p:nvSpPr>
            <p:cNvPr id="322" name="Freeform 145"/>
            <p:cNvSpPr/>
            <p:nvPr/>
          </p:nvSpPr>
          <p:spPr>
            <a:xfrm>
              <a:off x="172872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146"/>
            <p:cNvSpPr/>
            <p:nvPr/>
          </p:nvSpPr>
          <p:spPr>
            <a:xfrm>
              <a:off x="18064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147"/>
            <p:cNvSpPr/>
            <p:nvPr/>
          </p:nvSpPr>
          <p:spPr>
            <a:xfrm>
              <a:off x="18079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148"/>
            <p:cNvSpPr/>
            <p:nvPr/>
          </p:nvSpPr>
          <p:spPr>
            <a:xfrm>
              <a:off x="183348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162240" y="4960800"/>
            <a:ext cx="1585800" cy="1325520"/>
            <a:chOff x="3162240" y="4960800"/>
            <a:chExt cx="1585800" cy="1325520"/>
          </a:xfrm>
        </p:grpSpPr>
        <p:sp>
          <p:nvSpPr>
            <p:cNvPr id="327" name="Freeform 150"/>
            <p:cNvSpPr/>
            <p:nvPr/>
          </p:nvSpPr>
          <p:spPr>
            <a:xfrm>
              <a:off x="316224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51"/>
            <p:cNvSpPr/>
            <p:nvPr/>
          </p:nvSpPr>
          <p:spPr>
            <a:xfrm>
              <a:off x="32446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152"/>
            <p:cNvSpPr/>
            <p:nvPr/>
          </p:nvSpPr>
          <p:spPr>
            <a:xfrm>
              <a:off x="3238560" y="4986360"/>
              <a:ext cx="12254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53"/>
            <p:cNvSpPr/>
            <p:nvPr/>
          </p:nvSpPr>
          <p:spPr>
            <a:xfrm>
              <a:off x="326556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43080" y="3403440"/>
            <a:ext cx="1253880" cy="1438560"/>
            <a:chOff x="343080" y="3403440"/>
            <a:chExt cx="1253880" cy="1438560"/>
          </a:xfrm>
        </p:grpSpPr>
        <p:sp>
          <p:nvSpPr>
            <p:cNvPr id="332" name="Rectangle 182"/>
            <p:cNvSpPr/>
            <p:nvPr/>
          </p:nvSpPr>
          <p:spPr>
            <a:xfrm>
              <a:off x="3430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83"/>
            <p:cNvSpPr/>
            <p:nvPr/>
          </p:nvSpPr>
          <p:spPr>
            <a:xfrm>
              <a:off x="3524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84"/>
            <p:cNvSpPr/>
            <p:nvPr/>
          </p:nvSpPr>
          <p:spPr>
            <a:xfrm>
              <a:off x="3657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420480" y="3492720"/>
              <a:ext cx="1090800" cy="932760"/>
              <a:chOff x="420480" y="3492720"/>
              <a:chExt cx="1090800" cy="932760"/>
            </a:xfrm>
          </p:grpSpPr>
          <p:pic>
            <p:nvPicPr>
              <p:cNvPr id="336" name="Rectangle 185" descr="Building00005"/>
              <p:cNvPicPr/>
              <p:nvPr/>
            </p:nvPicPr>
            <p:blipFill>
              <a:blip r:embed="rId4"/>
              <a:stretch/>
            </p:blipFill>
            <p:spPr>
              <a:xfrm>
                <a:off x="4204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4251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Rectangle 186"/>
            <p:cNvSpPr/>
            <p:nvPr/>
          </p:nvSpPr>
          <p:spPr>
            <a:xfrm>
              <a:off x="4294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87"/>
            <p:cNvSpPr/>
            <p:nvPr/>
          </p:nvSpPr>
          <p:spPr>
            <a:xfrm rot="10800000">
              <a:off x="4294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88"/>
            <p:cNvSpPr/>
            <p:nvPr/>
          </p:nvSpPr>
          <p:spPr>
            <a:xfrm rot="10800000">
              <a:off x="10854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9"/>
            <p:cNvSpPr/>
            <p:nvPr/>
          </p:nvSpPr>
          <p:spPr>
            <a:xfrm rot="5400000">
              <a:off x="4312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90"/>
            <p:cNvSpPr/>
            <p:nvPr/>
          </p:nvSpPr>
          <p:spPr>
            <a:xfrm>
              <a:off x="4374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91"/>
            <p:cNvSpPr/>
            <p:nvPr/>
          </p:nvSpPr>
          <p:spPr>
            <a:xfrm rot="16200000">
              <a:off x="12657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92"/>
            <p:cNvSpPr/>
            <p:nvPr/>
          </p:nvSpPr>
          <p:spPr>
            <a:xfrm rot="10800000">
              <a:off x="4294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793880" y="3403440"/>
            <a:ext cx="1254240" cy="1438560"/>
            <a:chOff x="1793880" y="3403440"/>
            <a:chExt cx="1254240" cy="1438560"/>
          </a:xfrm>
        </p:grpSpPr>
        <p:sp>
          <p:nvSpPr>
            <p:cNvPr id="346" name="Rectangle 194"/>
            <p:cNvSpPr/>
            <p:nvPr/>
          </p:nvSpPr>
          <p:spPr>
            <a:xfrm>
              <a:off x="179388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95"/>
            <p:cNvSpPr/>
            <p:nvPr/>
          </p:nvSpPr>
          <p:spPr>
            <a:xfrm>
              <a:off x="180324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96"/>
            <p:cNvSpPr/>
            <p:nvPr/>
          </p:nvSpPr>
          <p:spPr>
            <a:xfrm>
              <a:off x="181656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1871280" y="3492720"/>
              <a:ext cx="1090800" cy="932760"/>
              <a:chOff x="1871280" y="3492720"/>
              <a:chExt cx="1090800" cy="932760"/>
            </a:xfrm>
          </p:grpSpPr>
          <p:pic>
            <p:nvPicPr>
              <p:cNvPr id="350" name="Rectangle 197" descr="Callcentre00022"/>
              <p:cNvPicPr/>
              <p:nvPr/>
            </p:nvPicPr>
            <p:blipFill>
              <a:blip r:embed="rId5"/>
              <a:stretch/>
            </p:blipFill>
            <p:spPr>
              <a:xfrm>
                <a:off x="18712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"/>
              <p:cNvSpPr/>
              <p:nvPr/>
            </p:nvSpPr>
            <p:spPr>
              <a:xfrm>
                <a:off x="18759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Rectangle 198"/>
            <p:cNvSpPr/>
            <p:nvPr/>
          </p:nvSpPr>
          <p:spPr>
            <a:xfrm>
              <a:off x="188028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99"/>
            <p:cNvSpPr/>
            <p:nvPr/>
          </p:nvSpPr>
          <p:spPr>
            <a:xfrm rot="10800000">
              <a:off x="187992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200"/>
            <p:cNvSpPr/>
            <p:nvPr/>
          </p:nvSpPr>
          <p:spPr>
            <a:xfrm rot="10800000">
              <a:off x="25362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201"/>
            <p:cNvSpPr/>
            <p:nvPr/>
          </p:nvSpPr>
          <p:spPr>
            <a:xfrm rot="5400000">
              <a:off x="18820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202"/>
            <p:cNvSpPr/>
            <p:nvPr/>
          </p:nvSpPr>
          <p:spPr>
            <a:xfrm>
              <a:off x="18882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203"/>
            <p:cNvSpPr/>
            <p:nvPr/>
          </p:nvSpPr>
          <p:spPr>
            <a:xfrm rot="16200000">
              <a:off x="27165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04"/>
            <p:cNvSpPr/>
            <p:nvPr/>
          </p:nvSpPr>
          <p:spPr>
            <a:xfrm rot="10800000">
              <a:off x="187992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203640" y="3403440"/>
            <a:ext cx="1254240" cy="1438560"/>
            <a:chOff x="3203640" y="3403440"/>
            <a:chExt cx="1254240" cy="1438560"/>
          </a:xfrm>
        </p:grpSpPr>
        <p:sp>
          <p:nvSpPr>
            <p:cNvPr id="360" name="Rectangle 206"/>
            <p:cNvSpPr/>
            <p:nvPr/>
          </p:nvSpPr>
          <p:spPr>
            <a:xfrm>
              <a:off x="32036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07"/>
            <p:cNvSpPr/>
            <p:nvPr/>
          </p:nvSpPr>
          <p:spPr>
            <a:xfrm>
              <a:off x="32130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08"/>
            <p:cNvSpPr/>
            <p:nvPr/>
          </p:nvSpPr>
          <p:spPr>
            <a:xfrm>
              <a:off x="32263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279600" y="3492720"/>
              <a:ext cx="1090800" cy="932760"/>
              <a:chOff x="3279600" y="3492720"/>
              <a:chExt cx="1090800" cy="932760"/>
            </a:xfrm>
          </p:grpSpPr>
          <p:pic>
            <p:nvPicPr>
              <p:cNvPr id="364" name="Rectangle 209" descr="Air00037"/>
              <p:cNvPicPr/>
              <p:nvPr/>
            </p:nvPicPr>
            <p:blipFill>
              <a:blip r:embed="rId6"/>
              <a:stretch/>
            </p:blipFill>
            <p:spPr>
              <a:xfrm>
                <a:off x="327960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32857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Rectangle 210"/>
            <p:cNvSpPr/>
            <p:nvPr/>
          </p:nvSpPr>
          <p:spPr>
            <a:xfrm>
              <a:off x="32900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11"/>
            <p:cNvSpPr/>
            <p:nvPr/>
          </p:nvSpPr>
          <p:spPr>
            <a:xfrm rot="10800000">
              <a:off x="32896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212"/>
            <p:cNvSpPr/>
            <p:nvPr/>
          </p:nvSpPr>
          <p:spPr>
            <a:xfrm rot="10800000">
              <a:off x="39459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213"/>
            <p:cNvSpPr/>
            <p:nvPr/>
          </p:nvSpPr>
          <p:spPr>
            <a:xfrm rot="5400000">
              <a:off x="32918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214"/>
            <p:cNvSpPr/>
            <p:nvPr/>
          </p:nvSpPr>
          <p:spPr>
            <a:xfrm>
              <a:off x="32979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215"/>
            <p:cNvSpPr/>
            <p:nvPr/>
          </p:nvSpPr>
          <p:spPr>
            <a:xfrm rot="16200000">
              <a:off x="41263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16"/>
            <p:cNvSpPr/>
            <p:nvPr/>
          </p:nvSpPr>
          <p:spPr>
            <a:xfrm rot="10800000">
              <a:off x="32896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374" name="Rectangle 234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35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36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378" name="Rectangle 237" descr="Meeting00042"/>
              <p:cNvPicPr/>
              <p:nvPr/>
            </p:nvPicPr>
            <p:blipFill>
              <a:blip r:embed="rId7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Rectangle 238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39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40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41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242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243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44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506680" y="836640"/>
            <a:ext cx="1886040" cy="2162160"/>
            <a:chOff x="2506680" y="836640"/>
            <a:chExt cx="1886040" cy="2162160"/>
          </a:xfrm>
        </p:grpSpPr>
        <p:sp>
          <p:nvSpPr>
            <p:cNvPr id="388" name="Rectangle 262"/>
            <p:cNvSpPr/>
            <p:nvPr/>
          </p:nvSpPr>
          <p:spPr>
            <a:xfrm>
              <a:off x="2506680" y="836640"/>
              <a:ext cx="188604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263"/>
            <p:cNvSpPr/>
            <p:nvPr/>
          </p:nvSpPr>
          <p:spPr>
            <a:xfrm>
              <a:off x="2520720" y="850680"/>
              <a:ext cx="185868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264"/>
            <p:cNvSpPr/>
            <p:nvPr/>
          </p:nvSpPr>
          <p:spPr>
            <a:xfrm>
              <a:off x="2541240" y="865080"/>
              <a:ext cx="182052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2626920" y="974880"/>
              <a:ext cx="1640520" cy="1395360"/>
              <a:chOff x="2626920" y="974880"/>
              <a:chExt cx="1640520" cy="1395360"/>
            </a:xfrm>
          </p:grpSpPr>
          <p:pic>
            <p:nvPicPr>
              <p:cNvPr id="392" name="Rectangle 265" descr="Meeting00042"/>
              <p:cNvPicPr/>
              <p:nvPr/>
            </p:nvPicPr>
            <p:blipFill>
              <a:blip r:embed="rId8"/>
              <a:stretch/>
            </p:blipFill>
            <p:spPr>
              <a:xfrm>
                <a:off x="2626920" y="974880"/>
                <a:ext cx="164052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"/>
              <p:cNvSpPr/>
              <p:nvPr/>
            </p:nvSpPr>
            <p:spPr>
              <a:xfrm>
                <a:off x="2630160" y="983880"/>
                <a:ext cx="162324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Rectangle 266"/>
            <p:cNvSpPr/>
            <p:nvPr/>
          </p:nvSpPr>
          <p:spPr>
            <a:xfrm>
              <a:off x="263664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67"/>
            <p:cNvSpPr/>
            <p:nvPr/>
          </p:nvSpPr>
          <p:spPr>
            <a:xfrm rot="10800000">
              <a:off x="263628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268"/>
            <p:cNvSpPr/>
            <p:nvPr/>
          </p:nvSpPr>
          <p:spPr>
            <a:xfrm rot="10800000">
              <a:off x="3623760" y="993600"/>
              <a:ext cx="61992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269"/>
            <p:cNvSpPr/>
            <p:nvPr/>
          </p:nvSpPr>
          <p:spPr>
            <a:xfrm rot="5400000">
              <a:off x="2640240" y="992520"/>
              <a:ext cx="619560" cy="619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270"/>
            <p:cNvSpPr/>
            <p:nvPr/>
          </p:nvSpPr>
          <p:spPr>
            <a:xfrm>
              <a:off x="264852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271"/>
            <p:cNvSpPr/>
            <p:nvPr/>
          </p:nvSpPr>
          <p:spPr>
            <a:xfrm rot="16200000">
              <a:off x="3894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272"/>
            <p:cNvSpPr/>
            <p:nvPr/>
          </p:nvSpPr>
          <p:spPr>
            <a:xfrm rot="10800000">
              <a:off x="263628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402" name="Rectangle 220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21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222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406" name="Rectangle 223" descr="Air00037"/>
              <p:cNvPicPr/>
              <p:nvPr/>
            </p:nvPicPr>
            <p:blipFill>
              <a:blip r:embed="rId9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Rectangle 224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225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26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227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228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29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30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-0.11458 0.32176 E">
                                      <p:cBhvr>
                                        <p:cTn id="81" dur="1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31268 3.7037E-007 E">
                                      <p:cBhvr>
                                        <p:cTn id="83" dur="8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7037E-007 L 0.31372 3.7037E-007 E">
                                      <p:cBhvr>
                                        <p:cTn id="85" dur="8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31268 3.7037E-007 E">
                                      <p:cBhvr>
                                        <p:cTn id="87" dur="8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7037E-007 L 0.31372 3.7037E-007 E">
                                      <p:cBhvr>
                                        <p:cTn id="89" dur="8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1000" fill="hold"/>
                                        <p:tgtEl>
                                          <p:spTgt spid="40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2506680" y="836640"/>
            <a:ext cx="1886040" cy="2162160"/>
            <a:chOff x="2506680" y="836640"/>
            <a:chExt cx="1886040" cy="2162160"/>
          </a:xfrm>
        </p:grpSpPr>
        <p:sp>
          <p:nvSpPr>
            <p:cNvPr id="416" name="Rectangle 272"/>
            <p:cNvSpPr/>
            <p:nvPr/>
          </p:nvSpPr>
          <p:spPr>
            <a:xfrm>
              <a:off x="2506680" y="836640"/>
              <a:ext cx="188604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73"/>
            <p:cNvSpPr/>
            <p:nvPr/>
          </p:nvSpPr>
          <p:spPr>
            <a:xfrm>
              <a:off x="2520720" y="850680"/>
              <a:ext cx="185868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74"/>
            <p:cNvSpPr/>
            <p:nvPr/>
          </p:nvSpPr>
          <p:spPr>
            <a:xfrm>
              <a:off x="2541240" y="865080"/>
              <a:ext cx="182052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2626920" y="974880"/>
              <a:ext cx="1640520" cy="1395360"/>
              <a:chOff x="2626920" y="974880"/>
              <a:chExt cx="1640520" cy="1395360"/>
            </a:xfrm>
          </p:grpSpPr>
          <p:pic>
            <p:nvPicPr>
              <p:cNvPr id="420" name="Rectangle 275" descr="Presentation00007"/>
              <p:cNvPicPr/>
              <p:nvPr/>
            </p:nvPicPr>
            <p:blipFill>
              <a:blip r:embed="rId1"/>
              <a:stretch/>
            </p:blipFill>
            <p:spPr>
              <a:xfrm>
                <a:off x="2626920" y="974880"/>
                <a:ext cx="164052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2630160" y="983880"/>
                <a:ext cx="162324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Rectangle 276"/>
            <p:cNvSpPr/>
            <p:nvPr/>
          </p:nvSpPr>
          <p:spPr>
            <a:xfrm>
              <a:off x="263664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77"/>
            <p:cNvSpPr/>
            <p:nvPr/>
          </p:nvSpPr>
          <p:spPr>
            <a:xfrm rot="10800000">
              <a:off x="263628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278"/>
            <p:cNvSpPr/>
            <p:nvPr/>
          </p:nvSpPr>
          <p:spPr>
            <a:xfrm rot="10800000">
              <a:off x="3623760" y="993600"/>
              <a:ext cx="61992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279"/>
            <p:cNvSpPr/>
            <p:nvPr/>
          </p:nvSpPr>
          <p:spPr>
            <a:xfrm rot="5400000">
              <a:off x="2640240" y="992520"/>
              <a:ext cx="619560" cy="619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280"/>
            <p:cNvSpPr/>
            <p:nvPr/>
          </p:nvSpPr>
          <p:spPr>
            <a:xfrm>
              <a:off x="264852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281"/>
            <p:cNvSpPr/>
            <p:nvPr/>
          </p:nvSpPr>
          <p:spPr>
            <a:xfrm rot="16200000">
              <a:off x="3894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82"/>
            <p:cNvSpPr/>
            <p:nvPr/>
          </p:nvSpPr>
          <p:spPr>
            <a:xfrm rot="10800000">
              <a:off x="263628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369040" y="836640"/>
            <a:ext cx="1885680" cy="2162160"/>
            <a:chOff x="5369040" y="836640"/>
            <a:chExt cx="1885680" cy="2162160"/>
          </a:xfrm>
        </p:grpSpPr>
        <p:sp>
          <p:nvSpPr>
            <p:cNvPr id="430" name="Rectangle 258"/>
            <p:cNvSpPr/>
            <p:nvPr/>
          </p:nvSpPr>
          <p:spPr>
            <a:xfrm>
              <a:off x="5369040" y="836640"/>
              <a:ext cx="188568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59"/>
            <p:cNvSpPr/>
            <p:nvPr/>
          </p:nvSpPr>
          <p:spPr>
            <a:xfrm>
              <a:off x="5383080" y="850680"/>
              <a:ext cx="185832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60"/>
            <p:cNvSpPr/>
            <p:nvPr/>
          </p:nvSpPr>
          <p:spPr>
            <a:xfrm>
              <a:off x="5403600" y="865080"/>
              <a:ext cx="182016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487120" y="974880"/>
              <a:ext cx="1639800" cy="1395360"/>
              <a:chOff x="5487120" y="974880"/>
              <a:chExt cx="1639800" cy="1395360"/>
            </a:xfrm>
          </p:grpSpPr>
          <p:pic>
            <p:nvPicPr>
              <p:cNvPr id="434" name="Rectangle 261" descr="Handshake00007"/>
              <p:cNvPicPr/>
              <p:nvPr/>
            </p:nvPicPr>
            <p:blipFill>
              <a:blip r:embed="rId2"/>
              <a:stretch/>
            </p:blipFill>
            <p:spPr>
              <a:xfrm>
                <a:off x="5487120" y="974880"/>
                <a:ext cx="163980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"/>
              <p:cNvSpPr/>
              <p:nvPr/>
            </p:nvSpPr>
            <p:spPr>
              <a:xfrm>
                <a:off x="5493600" y="983880"/>
                <a:ext cx="162252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Rectangle 262"/>
            <p:cNvSpPr/>
            <p:nvPr/>
          </p:nvSpPr>
          <p:spPr>
            <a:xfrm>
              <a:off x="549900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63"/>
            <p:cNvSpPr/>
            <p:nvPr/>
          </p:nvSpPr>
          <p:spPr>
            <a:xfrm rot="10800000">
              <a:off x="549864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264"/>
            <p:cNvSpPr/>
            <p:nvPr/>
          </p:nvSpPr>
          <p:spPr>
            <a:xfrm rot="10800000">
              <a:off x="6485400" y="99360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265"/>
            <p:cNvSpPr/>
            <p:nvPr/>
          </p:nvSpPr>
          <p:spPr>
            <a:xfrm rot="5400000">
              <a:off x="5501880" y="99288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266"/>
            <p:cNvSpPr/>
            <p:nvPr/>
          </p:nvSpPr>
          <p:spPr>
            <a:xfrm>
              <a:off x="551088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267"/>
            <p:cNvSpPr/>
            <p:nvPr/>
          </p:nvSpPr>
          <p:spPr>
            <a:xfrm rot="16200000">
              <a:off x="6756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268"/>
            <p:cNvSpPr/>
            <p:nvPr/>
          </p:nvSpPr>
          <p:spPr>
            <a:xfrm rot="10800000">
              <a:off x="549864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444" name="Freeform 152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53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154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155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728720" y="4960800"/>
            <a:ext cx="1585800" cy="1325520"/>
            <a:chOff x="1728720" y="4960800"/>
            <a:chExt cx="1585800" cy="1325520"/>
          </a:xfrm>
        </p:grpSpPr>
        <p:sp>
          <p:nvSpPr>
            <p:cNvPr id="449" name="Freeform 157"/>
            <p:cNvSpPr/>
            <p:nvPr/>
          </p:nvSpPr>
          <p:spPr>
            <a:xfrm>
              <a:off x="172872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158"/>
            <p:cNvSpPr/>
            <p:nvPr/>
          </p:nvSpPr>
          <p:spPr>
            <a:xfrm>
              <a:off x="18064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159"/>
            <p:cNvSpPr/>
            <p:nvPr/>
          </p:nvSpPr>
          <p:spPr>
            <a:xfrm>
              <a:off x="18079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160"/>
            <p:cNvSpPr/>
            <p:nvPr/>
          </p:nvSpPr>
          <p:spPr>
            <a:xfrm>
              <a:off x="183348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3162240" y="4960800"/>
            <a:ext cx="1585800" cy="1325520"/>
            <a:chOff x="3162240" y="4960800"/>
            <a:chExt cx="1585800" cy="1325520"/>
          </a:xfrm>
        </p:grpSpPr>
        <p:sp>
          <p:nvSpPr>
            <p:cNvPr id="454" name="Freeform 162"/>
            <p:cNvSpPr/>
            <p:nvPr/>
          </p:nvSpPr>
          <p:spPr>
            <a:xfrm>
              <a:off x="316224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163"/>
            <p:cNvSpPr/>
            <p:nvPr/>
          </p:nvSpPr>
          <p:spPr>
            <a:xfrm>
              <a:off x="32446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164"/>
            <p:cNvSpPr/>
            <p:nvPr/>
          </p:nvSpPr>
          <p:spPr>
            <a:xfrm>
              <a:off x="3238560" y="4986360"/>
              <a:ext cx="12254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165"/>
            <p:cNvSpPr/>
            <p:nvPr/>
          </p:nvSpPr>
          <p:spPr>
            <a:xfrm>
              <a:off x="326556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4595760" y="4959360"/>
            <a:ext cx="1587600" cy="1325520"/>
            <a:chOff x="4595760" y="4959360"/>
            <a:chExt cx="1587600" cy="1325520"/>
          </a:xfrm>
        </p:grpSpPr>
        <p:sp>
          <p:nvSpPr>
            <p:cNvPr id="459" name="Freeform 167"/>
            <p:cNvSpPr/>
            <p:nvPr/>
          </p:nvSpPr>
          <p:spPr>
            <a:xfrm>
              <a:off x="4595760" y="4959360"/>
              <a:ext cx="15876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68"/>
            <p:cNvSpPr/>
            <p:nvPr/>
          </p:nvSpPr>
          <p:spPr>
            <a:xfrm>
              <a:off x="4672080" y="5419800"/>
              <a:ext cx="1224000" cy="396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69"/>
            <p:cNvSpPr/>
            <p:nvPr/>
          </p:nvSpPr>
          <p:spPr>
            <a:xfrm>
              <a:off x="4670280" y="4986360"/>
              <a:ext cx="122580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170"/>
            <p:cNvSpPr/>
            <p:nvPr/>
          </p:nvSpPr>
          <p:spPr>
            <a:xfrm>
              <a:off x="47005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43080" y="3403440"/>
            <a:ext cx="1253880" cy="1438560"/>
            <a:chOff x="343080" y="3403440"/>
            <a:chExt cx="1253880" cy="1438560"/>
          </a:xfrm>
        </p:grpSpPr>
        <p:sp>
          <p:nvSpPr>
            <p:cNvPr id="464" name="Rectangle 182"/>
            <p:cNvSpPr/>
            <p:nvPr/>
          </p:nvSpPr>
          <p:spPr>
            <a:xfrm>
              <a:off x="3430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83"/>
            <p:cNvSpPr/>
            <p:nvPr/>
          </p:nvSpPr>
          <p:spPr>
            <a:xfrm>
              <a:off x="3524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84"/>
            <p:cNvSpPr/>
            <p:nvPr/>
          </p:nvSpPr>
          <p:spPr>
            <a:xfrm>
              <a:off x="3657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420480" y="3492720"/>
              <a:ext cx="1090800" cy="932760"/>
              <a:chOff x="420480" y="3492720"/>
              <a:chExt cx="1090800" cy="932760"/>
            </a:xfrm>
          </p:grpSpPr>
          <p:pic>
            <p:nvPicPr>
              <p:cNvPr id="468" name="Rectangle 185" descr="Building00005"/>
              <p:cNvPicPr/>
              <p:nvPr/>
            </p:nvPicPr>
            <p:blipFill>
              <a:blip r:embed="rId3"/>
              <a:stretch/>
            </p:blipFill>
            <p:spPr>
              <a:xfrm>
                <a:off x="4204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"/>
              <p:cNvSpPr/>
              <p:nvPr/>
            </p:nvSpPr>
            <p:spPr>
              <a:xfrm>
                <a:off x="4251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Rectangle 186"/>
            <p:cNvSpPr/>
            <p:nvPr/>
          </p:nvSpPr>
          <p:spPr>
            <a:xfrm>
              <a:off x="4294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87"/>
            <p:cNvSpPr/>
            <p:nvPr/>
          </p:nvSpPr>
          <p:spPr>
            <a:xfrm rot="10800000">
              <a:off x="4294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88"/>
            <p:cNvSpPr/>
            <p:nvPr/>
          </p:nvSpPr>
          <p:spPr>
            <a:xfrm rot="10800000">
              <a:off x="10854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189"/>
            <p:cNvSpPr/>
            <p:nvPr/>
          </p:nvSpPr>
          <p:spPr>
            <a:xfrm rot="5400000">
              <a:off x="4312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190"/>
            <p:cNvSpPr/>
            <p:nvPr/>
          </p:nvSpPr>
          <p:spPr>
            <a:xfrm>
              <a:off x="4374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191"/>
            <p:cNvSpPr/>
            <p:nvPr/>
          </p:nvSpPr>
          <p:spPr>
            <a:xfrm rot="16200000">
              <a:off x="12657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92"/>
            <p:cNvSpPr/>
            <p:nvPr/>
          </p:nvSpPr>
          <p:spPr>
            <a:xfrm rot="10800000">
              <a:off x="4294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793880" y="3403440"/>
            <a:ext cx="1254240" cy="1438560"/>
            <a:chOff x="1793880" y="3403440"/>
            <a:chExt cx="1254240" cy="1438560"/>
          </a:xfrm>
        </p:grpSpPr>
        <p:sp>
          <p:nvSpPr>
            <p:cNvPr id="478" name="Rectangle 194"/>
            <p:cNvSpPr/>
            <p:nvPr/>
          </p:nvSpPr>
          <p:spPr>
            <a:xfrm>
              <a:off x="179388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95"/>
            <p:cNvSpPr/>
            <p:nvPr/>
          </p:nvSpPr>
          <p:spPr>
            <a:xfrm>
              <a:off x="180324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96"/>
            <p:cNvSpPr/>
            <p:nvPr/>
          </p:nvSpPr>
          <p:spPr>
            <a:xfrm>
              <a:off x="181656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1871280" y="3492720"/>
              <a:ext cx="1090800" cy="932760"/>
              <a:chOff x="1871280" y="3492720"/>
              <a:chExt cx="1090800" cy="932760"/>
            </a:xfrm>
          </p:grpSpPr>
          <p:pic>
            <p:nvPicPr>
              <p:cNvPr id="482" name="Rectangle 197" descr="Callcentre00022"/>
              <p:cNvPicPr/>
              <p:nvPr/>
            </p:nvPicPr>
            <p:blipFill>
              <a:blip r:embed="rId4"/>
              <a:stretch/>
            </p:blipFill>
            <p:spPr>
              <a:xfrm>
                <a:off x="18712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"/>
              <p:cNvSpPr/>
              <p:nvPr/>
            </p:nvSpPr>
            <p:spPr>
              <a:xfrm>
                <a:off x="18759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Rectangle 198"/>
            <p:cNvSpPr/>
            <p:nvPr/>
          </p:nvSpPr>
          <p:spPr>
            <a:xfrm>
              <a:off x="188028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199"/>
            <p:cNvSpPr/>
            <p:nvPr/>
          </p:nvSpPr>
          <p:spPr>
            <a:xfrm rot="10800000">
              <a:off x="187992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200"/>
            <p:cNvSpPr/>
            <p:nvPr/>
          </p:nvSpPr>
          <p:spPr>
            <a:xfrm rot="10800000">
              <a:off x="25362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201"/>
            <p:cNvSpPr/>
            <p:nvPr/>
          </p:nvSpPr>
          <p:spPr>
            <a:xfrm rot="5400000">
              <a:off x="18820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202"/>
            <p:cNvSpPr/>
            <p:nvPr/>
          </p:nvSpPr>
          <p:spPr>
            <a:xfrm>
              <a:off x="18882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203"/>
            <p:cNvSpPr/>
            <p:nvPr/>
          </p:nvSpPr>
          <p:spPr>
            <a:xfrm rot="16200000">
              <a:off x="27165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204"/>
            <p:cNvSpPr/>
            <p:nvPr/>
          </p:nvSpPr>
          <p:spPr>
            <a:xfrm rot="10800000">
              <a:off x="187992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3203640" y="3403440"/>
            <a:ext cx="1254240" cy="1438560"/>
            <a:chOff x="3203640" y="3403440"/>
            <a:chExt cx="1254240" cy="1438560"/>
          </a:xfrm>
        </p:grpSpPr>
        <p:sp>
          <p:nvSpPr>
            <p:cNvPr id="492" name="Rectangle 206"/>
            <p:cNvSpPr/>
            <p:nvPr/>
          </p:nvSpPr>
          <p:spPr>
            <a:xfrm>
              <a:off x="32036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207"/>
            <p:cNvSpPr/>
            <p:nvPr/>
          </p:nvSpPr>
          <p:spPr>
            <a:xfrm>
              <a:off x="32130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08"/>
            <p:cNvSpPr/>
            <p:nvPr/>
          </p:nvSpPr>
          <p:spPr>
            <a:xfrm>
              <a:off x="32263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279600" y="3492720"/>
              <a:ext cx="1090800" cy="932760"/>
              <a:chOff x="3279600" y="3492720"/>
              <a:chExt cx="1090800" cy="932760"/>
            </a:xfrm>
          </p:grpSpPr>
          <p:pic>
            <p:nvPicPr>
              <p:cNvPr id="496" name="Rectangle 209" descr="Air00037"/>
              <p:cNvPicPr/>
              <p:nvPr/>
            </p:nvPicPr>
            <p:blipFill>
              <a:blip r:embed="rId5"/>
              <a:stretch/>
            </p:blipFill>
            <p:spPr>
              <a:xfrm>
                <a:off x="327960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7" name=""/>
              <p:cNvSpPr/>
              <p:nvPr/>
            </p:nvSpPr>
            <p:spPr>
              <a:xfrm>
                <a:off x="32857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Rectangle 210"/>
            <p:cNvSpPr/>
            <p:nvPr/>
          </p:nvSpPr>
          <p:spPr>
            <a:xfrm>
              <a:off x="32900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211"/>
            <p:cNvSpPr/>
            <p:nvPr/>
          </p:nvSpPr>
          <p:spPr>
            <a:xfrm rot="10800000">
              <a:off x="32896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212"/>
            <p:cNvSpPr/>
            <p:nvPr/>
          </p:nvSpPr>
          <p:spPr>
            <a:xfrm rot="10800000">
              <a:off x="39459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213"/>
            <p:cNvSpPr/>
            <p:nvPr/>
          </p:nvSpPr>
          <p:spPr>
            <a:xfrm rot="5400000">
              <a:off x="32918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214"/>
            <p:cNvSpPr/>
            <p:nvPr/>
          </p:nvSpPr>
          <p:spPr>
            <a:xfrm>
              <a:off x="32979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215"/>
            <p:cNvSpPr/>
            <p:nvPr/>
          </p:nvSpPr>
          <p:spPr>
            <a:xfrm rot="16200000">
              <a:off x="41263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216"/>
            <p:cNvSpPr/>
            <p:nvPr/>
          </p:nvSpPr>
          <p:spPr>
            <a:xfrm rot="10800000">
              <a:off x="32896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4659480" y="3403440"/>
            <a:ext cx="1253880" cy="1438560"/>
            <a:chOff x="4659480" y="3403440"/>
            <a:chExt cx="1253880" cy="1438560"/>
          </a:xfrm>
        </p:grpSpPr>
        <p:sp>
          <p:nvSpPr>
            <p:cNvPr id="506" name="Rectangle 218"/>
            <p:cNvSpPr/>
            <p:nvPr/>
          </p:nvSpPr>
          <p:spPr>
            <a:xfrm>
              <a:off x="46594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219"/>
            <p:cNvSpPr/>
            <p:nvPr/>
          </p:nvSpPr>
          <p:spPr>
            <a:xfrm>
              <a:off x="46688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220"/>
            <p:cNvSpPr/>
            <p:nvPr/>
          </p:nvSpPr>
          <p:spPr>
            <a:xfrm>
              <a:off x="46821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4736160" y="3492720"/>
              <a:ext cx="1090800" cy="932760"/>
              <a:chOff x="4736160" y="3492720"/>
              <a:chExt cx="1090800" cy="932760"/>
            </a:xfrm>
          </p:grpSpPr>
          <p:pic>
            <p:nvPicPr>
              <p:cNvPr id="510" name="Rectangle 221" descr="Meeting00042"/>
              <p:cNvPicPr/>
              <p:nvPr/>
            </p:nvPicPr>
            <p:blipFill>
              <a:blip r:embed="rId6"/>
              <a:stretch/>
            </p:blipFill>
            <p:spPr>
              <a:xfrm>
                <a:off x="473616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"/>
              <p:cNvSpPr/>
              <p:nvPr/>
            </p:nvSpPr>
            <p:spPr>
              <a:xfrm>
                <a:off x="474120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Rectangle 222"/>
            <p:cNvSpPr/>
            <p:nvPr/>
          </p:nvSpPr>
          <p:spPr>
            <a:xfrm>
              <a:off x="47458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223"/>
            <p:cNvSpPr/>
            <p:nvPr/>
          </p:nvSpPr>
          <p:spPr>
            <a:xfrm rot="10800000">
              <a:off x="47458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224"/>
            <p:cNvSpPr/>
            <p:nvPr/>
          </p:nvSpPr>
          <p:spPr>
            <a:xfrm rot="10800000">
              <a:off x="54018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225"/>
            <p:cNvSpPr/>
            <p:nvPr/>
          </p:nvSpPr>
          <p:spPr>
            <a:xfrm rot="5400000">
              <a:off x="47476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226"/>
            <p:cNvSpPr/>
            <p:nvPr/>
          </p:nvSpPr>
          <p:spPr>
            <a:xfrm>
              <a:off x="47538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227"/>
            <p:cNvSpPr/>
            <p:nvPr/>
          </p:nvSpPr>
          <p:spPr>
            <a:xfrm rot="16200000">
              <a:off x="55821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228"/>
            <p:cNvSpPr/>
            <p:nvPr/>
          </p:nvSpPr>
          <p:spPr>
            <a:xfrm rot="10800000">
              <a:off x="47458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520" name="Rectangle 246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247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248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524" name="Rectangle 249" descr="Handshake00007"/>
              <p:cNvPicPr/>
              <p:nvPr/>
            </p:nvPicPr>
            <p:blipFill>
              <a:blip r:embed="rId7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5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250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251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252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253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254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255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256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534" name="Rectangle 232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233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234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538" name="Rectangle 235" descr="Meeting00042"/>
              <p:cNvPicPr/>
              <p:nvPr/>
            </p:nvPicPr>
            <p:blipFill>
              <a:blip r:embed="rId8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Rectangle 236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237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238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239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240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241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242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684360" y="76500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0a2"/>
                </a:solidFill>
                <a:uFillTx/>
                <a:latin typeface="Arial"/>
                <a:hlinkClick r:id="rId9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31268 3.7037E-007 E">
                                      <p:cBhvr>
                                        <p:cTn id="114" dur="8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7037E-007 L 0.31372 3.7037E-007 E">
                                      <p:cBhvr>
                                        <p:cTn id="116" dur="8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0.04445 0.32176 E">
                                      <p:cBhvr>
                                        <p:cTn id="118" dur="1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3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1000" fill="hold"/>
                                        <p:tgtEl>
                                          <p:spTgt spid="53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5369040" y="836640"/>
            <a:ext cx="1885680" cy="2162160"/>
            <a:chOff x="5369040" y="836640"/>
            <a:chExt cx="1885680" cy="2162160"/>
          </a:xfrm>
        </p:grpSpPr>
        <p:sp>
          <p:nvSpPr>
            <p:cNvPr id="549" name="Rectangle 264"/>
            <p:cNvSpPr/>
            <p:nvPr/>
          </p:nvSpPr>
          <p:spPr>
            <a:xfrm>
              <a:off x="5369040" y="836640"/>
              <a:ext cx="188568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65"/>
            <p:cNvSpPr/>
            <p:nvPr/>
          </p:nvSpPr>
          <p:spPr>
            <a:xfrm>
              <a:off x="5383080" y="850680"/>
              <a:ext cx="185832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266"/>
            <p:cNvSpPr/>
            <p:nvPr/>
          </p:nvSpPr>
          <p:spPr>
            <a:xfrm>
              <a:off x="5403600" y="865080"/>
              <a:ext cx="182016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5487120" y="974880"/>
              <a:ext cx="1639800" cy="1395360"/>
              <a:chOff x="5487120" y="974880"/>
              <a:chExt cx="1639800" cy="1395360"/>
            </a:xfrm>
          </p:grpSpPr>
          <p:pic>
            <p:nvPicPr>
              <p:cNvPr id="553" name="Rectangle 267" descr="Presentation00007"/>
              <p:cNvPicPr/>
              <p:nvPr/>
            </p:nvPicPr>
            <p:blipFill>
              <a:blip r:embed="rId1"/>
              <a:stretch/>
            </p:blipFill>
            <p:spPr>
              <a:xfrm>
                <a:off x="5487120" y="974880"/>
                <a:ext cx="163980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4" name=""/>
              <p:cNvSpPr/>
              <p:nvPr/>
            </p:nvSpPr>
            <p:spPr>
              <a:xfrm>
                <a:off x="5493600" y="983880"/>
                <a:ext cx="162252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Rectangle 268"/>
            <p:cNvSpPr/>
            <p:nvPr/>
          </p:nvSpPr>
          <p:spPr>
            <a:xfrm>
              <a:off x="549900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269"/>
            <p:cNvSpPr/>
            <p:nvPr/>
          </p:nvSpPr>
          <p:spPr>
            <a:xfrm rot="10800000">
              <a:off x="549864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270"/>
            <p:cNvSpPr/>
            <p:nvPr/>
          </p:nvSpPr>
          <p:spPr>
            <a:xfrm rot="10800000">
              <a:off x="6485400" y="99360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271"/>
            <p:cNvSpPr/>
            <p:nvPr/>
          </p:nvSpPr>
          <p:spPr>
            <a:xfrm rot="5400000">
              <a:off x="5501880" y="99288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272"/>
            <p:cNvSpPr/>
            <p:nvPr/>
          </p:nvSpPr>
          <p:spPr>
            <a:xfrm>
              <a:off x="551088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273"/>
            <p:cNvSpPr/>
            <p:nvPr/>
          </p:nvSpPr>
          <p:spPr>
            <a:xfrm rot="16200000">
              <a:off x="6756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274"/>
            <p:cNvSpPr/>
            <p:nvPr/>
          </p:nvSpPr>
          <p:spPr>
            <a:xfrm rot="10800000">
              <a:off x="549864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563" name="Freeform 158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59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160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161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1728720" y="4960800"/>
            <a:ext cx="1585800" cy="1325520"/>
            <a:chOff x="1728720" y="4960800"/>
            <a:chExt cx="1585800" cy="1325520"/>
          </a:xfrm>
        </p:grpSpPr>
        <p:sp>
          <p:nvSpPr>
            <p:cNvPr id="568" name="Freeform 163"/>
            <p:cNvSpPr/>
            <p:nvPr/>
          </p:nvSpPr>
          <p:spPr>
            <a:xfrm>
              <a:off x="172872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164"/>
            <p:cNvSpPr/>
            <p:nvPr/>
          </p:nvSpPr>
          <p:spPr>
            <a:xfrm>
              <a:off x="18064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165"/>
            <p:cNvSpPr/>
            <p:nvPr/>
          </p:nvSpPr>
          <p:spPr>
            <a:xfrm>
              <a:off x="18079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166"/>
            <p:cNvSpPr/>
            <p:nvPr/>
          </p:nvSpPr>
          <p:spPr>
            <a:xfrm>
              <a:off x="183348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3162240" y="4960800"/>
            <a:ext cx="1585800" cy="1325520"/>
            <a:chOff x="3162240" y="4960800"/>
            <a:chExt cx="1585800" cy="1325520"/>
          </a:xfrm>
        </p:grpSpPr>
        <p:sp>
          <p:nvSpPr>
            <p:cNvPr id="573" name="Freeform 168"/>
            <p:cNvSpPr/>
            <p:nvPr/>
          </p:nvSpPr>
          <p:spPr>
            <a:xfrm>
              <a:off x="316224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169"/>
            <p:cNvSpPr/>
            <p:nvPr/>
          </p:nvSpPr>
          <p:spPr>
            <a:xfrm>
              <a:off x="32446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170"/>
            <p:cNvSpPr/>
            <p:nvPr/>
          </p:nvSpPr>
          <p:spPr>
            <a:xfrm>
              <a:off x="3238560" y="4986360"/>
              <a:ext cx="12254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171"/>
            <p:cNvSpPr/>
            <p:nvPr/>
          </p:nvSpPr>
          <p:spPr>
            <a:xfrm>
              <a:off x="326556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4595760" y="4959360"/>
            <a:ext cx="1587600" cy="1325520"/>
            <a:chOff x="4595760" y="4959360"/>
            <a:chExt cx="1587600" cy="1325520"/>
          </a:xfrm>
        </p:grpSpPr>
        <p:sp>
          <p:nvSpPr>
            <p:cNvPr id="578" name="Freeform 173"/>
            <p:cNvSpPr/>
            <p:nvPr/>
          </p:nvSpPr>
          <p:spPr>
            <a:xfrm>
              <a:off x="4595760" y="4959360"/>
              <a:ext cx="15876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74"/>
            <p:cNvSpPr/>
            <p:nvPr/>
          </p:nvSpPr>
          <p:spPr>
            <a:xfrm>
              <a:off x="4672080" y="5419800"/>
              <a:ext cx="1224000" cy="396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175"/>
            <p:cNvSpPr/>
            <p:nvPr/>
          </p:nvSpPr>
          <p:spPr>
            <a:xfrm>
              <a:off x="4670280" y="4986360"/>
              <a:ext cx="122580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76"/>
            <p:cNvSpPr/>
            <p:nvPr/>
          </p:nvSpPr>
          <p:spPr>
            <a:xfrm>
              <a:off x="47005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031080" y="4960800"/>
            <a:ext cx="1587240" cy="1325520"/>
            <a:chOff x="6031080" y="4960800"/>
            <a:chExt cx="1587240" cy="1325520"/>
          </a:xfrm>
        </p:grpSpPr>
        <p:sp>
          <p:nvSpPr>
            <p:cNvPr id="583" name="Freeform 178"/>
            <p:cNvSpPr/>
            <p:nvPr/>
          </p:nvSpPr>
          <p:spPr>
            <a:xfrm>
              <a:off x="6031080" y="4960800"/>
              <a:ext cx="158724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79"/>
            <p:cNvSpPr/>
            <p:nvPr/>
          </p:nvSpPr>
          <p:spPr>
            <a:xfrm>
              <a:off x="6097320" y="5419440"/>
              <a:ext cx="122364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180"/>
            <p:cNvSpPr/>
            <p:nvPr/>
          </p:nvSpPr>
          <p:spPr>
            <a:xfrm>
              <a:off x="6095880" y="4986360"/>
              <a:ext cx="122508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181"/>
            <p:cNvSpPr/>
            <p:nvPr/>
          </p:nvSpPr>
          <p:spPr>
            <a:xfrm>
              <a:off x="6122880" y="4995720"/>
              <a:ext cx="116964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343080" y="3403440"/>
            <a:ext cx="1253880" cy="1438560"/>
            <a:chOff x="343080" y="3403440"/>
            <a:chExt cx="1253880" cy="1438560"/>
          </a:xfrm>
        </p:grpSpPr>
        <p:sp>
          <p:nvSpPr>
            <p:cNvPr id="588" name="Rectangle 188"/>
            <p:cNvSpPr/>
            <p:nvPr/>
          </p:nvSpPr>
          <p:spPr>
            <a:xfrm>
              <a:off x="3430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89"/>
            <p:cNvSpPr/>
            <p:nvPr/>
          </p:nvSpPr>
          <p:spPr>
            <a:xfrm>
              <a:off x="3524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90"/>
            <p:cNvSpPr/>
            <p:nvPr/>
          </p:nvSpPr>
          <p:spPr>
            <a:xfrm>
              <a:off x="3657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420480" y="3492720"/>
              <a:ext cx="1090800" cy="932760"/>
              <a:chOff x="420480" y="3492720"/>
              <a:chExt cx="1090800" cy="932760"/>
            </a:xfrm>
          </p:grpSpPr>
          <p:pic>
            <p:nvPicPr>
              <p:cNvPr id="592" name="Rectangle 191" descr="Building00005"/>
              <p:cNvPicPr/>
              <p:nvPr/>
            </p:nvPicPr>
            <p:blipFill>
              <a:blip r:embed="rId2"/>
              <a:stretch/>
            </p:blipFill>
            <p:spPr>
              <a:xfrm>
                <a:off x="4204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3" name=""/>
              <p:cNvSpPr/>
              <p:nvPr/>
            </p:nvSpPr>
            <p:spPr>
              <a:xfrm>
                <a:off x="4251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Rectangle 192"/>
            <p:cNvSpPr/>
            <p:nvPr/>
          </p:nvSpPr>
          <p:spPr>
            <a:xfrm>
              <a:off x="4294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193"/>
            <p:cNvSpPr/>
            <p:nvPr/>
          </p:nvSpPr>
          <p:spPr>
            <a:xfrm rot="10800000">
              <a:off x="4294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194"/>
            <p:cNvSpPr/>
            <p:nvPr/>
          </p:nvSpPr>
          <p:spPr>
            <a:xfrm rot="10800000">
              <a:off x="10854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195"/>
            <p:cNvSpPr/>
            <p:nvPr/>
          </p:nvSpPr>
          <p:spPr>
            <a:xfrm rot="5400000">
              <a:off x="4312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196"/>
            <p:cNvSpPr/>
            <p:nvPr/>
          </p:nvSpPr>
          <p:spPr>
            <a:xfrm>
              <a:off x="4374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197"/>
            <p:cNvSpPr/>
            <p:nvPr/>
          </p:nvSpPr>
          <p:spPr>
            <a:xfrm rot="16200000">
              <a:off x="12657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198"/>
            <p:cNvSpPr/>
            <p:nvPr/>
          </p:nvSpPr>
          <p:spPr>
            <a:xfrm rot="10800000">
              <a:off x="4294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793880" y="3403440"/>
            <a:ext cx="1254240" cy="1438560"/>
            <a:chOff x="1793880" y="3403440"/>
            <a:chExt cx="1254240" cy="1438560"/>
          </a:xfrm>
        </p:grpSpPr>
        <p:sp>
          <p:nvSpPr>
            <p:cNvPr id="602" name="Rectangle 200"/>
            <p:cNvSpPr/>
            <p:nvPr/>
          </p:nvSpPr>
          <p:spPr>
            <a:xfrm>
              <a:off x="179388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01"/>
            <p:cNvSpPr/>
            <p:nvPr/>
          </p:nvSpPr>
          <p:spPr>
            <a:xfrm>
              <a:off x="180324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02"/>
            <p:cNvSpPr/>
            <p:nvPr/>
          </p:nvSpPr>
          <p:spPr>
            <a:xfrm>
              <a:off x="181656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1871280" y="3492720"/>
              <a:ext cx="1090800" cy="932760"/>
              <a:chOff x="1871280" y="3492720"/>
              <a:chExt cx="1090800" cy="932760"/>
            </a:xfrm>
          </p:grpSpPr>
          <p:pic>
            <p:nvPicPr>
              <p:cNvPr id="606" name="Rectangle 203" descr="Callcentre00022"/>
              <p:cNvPicPr/>
              <p:nvPr/>
            </p:nvPicPr>
            <p:blipFill>
              <a:blip r:embed="rId3"/>
              <a:stretch/>
            </p:blipFill>
            <p:spPr>
              <a:xfrm>
                <a:off x="18712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"/>
              <p:cNvSpPr/>
              <p:nvPr/>
            </p:nvSpPr>
            <p:spPr>
              <a:xfrm>
                <a:off x="18759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Rectangle 204"/>
            <p:cNvSpPr/>
            <p:nvPr/>
          </p:nvSpPr>
          <p:spPr>
            <a:xfrm>
              <a:off x="188028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205"/>
            <p:cNvSpPr/>
            <p:nvPr/>
          </p:nvSpPr>
          <p:spPr>
            <a:xfrm rot="10800000">
              <a:off x="187992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206"/>
            <p:cNvSpPr/>
            <p:nvPr/>
          </p:nvSpPr>
          <p:spPr>
            <a:xfrm rot="10800000">
              <a:off x="25362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AutoShape 207"/>
            <p:cNvSpPr/>
            <p:nvPr/>
          </p:nvSpPr>
          <p:spPr>
            <a:xfrm rot="5400000">
              <a:off x="18820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208"/>
            <p:cNvSpPr/>
            <p:nvPr/>
          </p:nvSpPr>
          <p:spPr>
            <a:xfrm>
              <a:off x="18882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AutoShape 209"/>
            <p:cNvSpPr/>
            <p:nvPr/>
          </p:nvSpPr>
          <p:spPr>
            <a:xfrm rot="16200000">
              <a:off x="27165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10"/>
            <p:cNvSpPr/>
            <p:nvPr/>
          </p:nvSpPr>
          <p:spPr>
            <a:xfrm rot="10800000">
              <a:off x="187992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03640" y="3403440"/>
            <a:ext cx="1254240" cy="1438560"/>
            <a:chOff x="3203640" y="3403440"/>
            <a:chExt cx="1254240" cy="1438560"/>
          </a:xfrm>
        </p:grpSpPr>
        <p:sp>
          <p:nvSpPr>
            <p:cNvPr id="616" name="Rectangle 212"/>
            <p:cNvSpPr/>
            <p:nvPr/>
          </p:nvSpPr>
          <p:spPr>
            <a:xfrm>
              <a:off x="32036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213"/>
            <p:cNvSpPr/>
            <p:nvPr/>
          </p:nvSpPr>
          <p:spPr>
            <a:xfrm>
              <a:off x="32130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14"/>
            <p:cNvSpPr/>
            <p:nvPr/>
          </p:nvSpPr>
          <p:spPr>
            <a:xfrm>
              <a:off x="32263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3279600" y="3492720"/>
              <a:ext cx="1090800" cy="932760"/>
              <a:chOff x="3279600" y="3492720"/>
              <a:chExt cx="1090800" cy="932760"/>
            </a:xfrm>
          </p:grpSpPr>
          <p:pic>
            <p:nvPicPr>
              <p:cNvPr id="620" name="Rectangle 215" descr="Air00037"/>
              <p:cNvPicPr/>
              <p:nvPr/>
            </p:nvPicPr>
            <p:blipFill>
              <a:blip r:embed="rId4"/>
              <a:stretch/>
            </p:blipFill>
            <p:spPr>
              <a:xfrm>
                <a:off x="327960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>
                <a:off x="32857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Rectangle 216"/>
            <p:cNvSpPr/>
            <p:nvPr/>
          </p:nvSpPr>
          <p:spPr>
            <a:xfrm>
              <a:off x="32900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17"/>
            <p:cNvSpPr/>
            <p:nvPr/>
          </p:nvSpPr>
          <p:spPr>
            <a:xfrm rot="10800000">
              <a:off x="32896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218"/>
            <p:cNvSpPr/>
            <p:nvPr/>
          </p:nvSpPr>
          <p:spPr>
            <a:xfrm rot="10800000">
              <a:off x="39459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219"/>
            <p:cNvSpPr/>
            <p:nvPr/>
          </p:nvSpPr>
          <p:spPr>
            <a:xfrm rot="5400000">
              <a:off x="32918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utoShape 220"/>
            <p:cNvSpPr/>
            <p:nvPr/>
          </p:nvSpPr>
          <p:spPr>
            <a:xfrm>
              <a:off x="32979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221"/>
            <p:cNvSpPr/>
            <p:nvPr/>
          </p:nvSpPr>
          <p:spPr>
            <a:xfrm rot="16200000">
              <a:off x="41263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22"/>
            <p:cNvSpPr/>
            <p:nvPr/>
          </p:nvSpPr>
          <p:spPr>
            <a:xfrm rot="10800000">
              <a:off x="32896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659480" y="3403440"/>
            <a:ext cx="1253880" cy="1438560"/>
            <a:chOff x="4659480" y="3403440"/>
            <a:chExt cx="1253880" cy="1438560"/>
          </a:xfrm>
        </p:grpSpPr>
        <p:sp>
          <p:nvSpPr>
            <p:cNvPr id="630" name="Rectangle 224"/>
            <p:cNvSpPr/>
            <p:nvPr/>
          </p:nvSpPr>
          <p:spPr>
            <a:xfrm>
              <a:off x="46594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25"/>
            <p:cNvSpPr/>
            <p:nvPr/>
          </p:nvSpPr>
          <p:spPr>
            <a:xfrm>
              <a:off x="46688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26"/>
            <p:cNvSpPr/>
            <p:nvPr/>
          </p:nvSpPr>
          <p:spPr>
            <a:xfrm>
              <a:off x="46821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4736160" y="3492720"/>
              <a:ext cx="1090800" cy="932760"/>
              <a:chOff x="4736160" y="3492720"/>
              <a:chExt cx="1090800" cy="932760"/>
            </a:xfrm>
          </p:grpSpPr>
          <p:pic>
            <p:nvPicPr>
              <p:cNvPr id="634" name="Rectangle 227" descr="Meeting00042"/>
              <p:cNvPicPr/>
              <p:nvPr/>
            </p:nvPicPr>
            <p:blipFill>
              <a:blip r:embed="rId5"/>
              <a:stretch/>
            </p:blipFill>
            <p:spPr>
              <a:xfrm>
                <a:off x="473616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"/>
              <p:cNvSpPr/>
              <p:nvPr/>
            </p:nvSpPr>
            <p:spPr>
              <a:xfrm>
                <a:off x="474120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Rectangle 228"/>
            <p:cNvSpPr/>
            <p:nvPr/>
          </p:nvSpPr>
          <p:spPr>
            <a:xfrm>
              <a:off x="47458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29"/>
            <p:cNvSpPr/>
            <p:nvPr/>
          </p:nvSpPr>
          <p:spPr>
            <a:xfrm rot="10800000">
              <a:off x="47458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230"/>
            <p:cNvSpPr/>
            <p:nvPr/>
          </p:nvSpPr>
          <p:spPr>
            <a:xfrm rot="10800000">
              <a:off x="54018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231"/>
            <p:cNvSpPr/>
            <p:nvPr/>
          </p:nvSpPr>
          <p:spPr>
            <a:xfrm rot="5400000">
              <a:off x="47476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AutoShape 232"/>
            <p:cNvSpPr/>
            <p:nvPr/>
          </p:nvSpPr>
          <p:spPr>
            <a:xfrm>
              <a:off x="47538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233"/>
            <p:cNvSpPr/>
            <p:nvPr/>
          </p:nvSpPr>
          <p:spPr>
            <a:xfrm rot="16200000">
              <a:off x="55821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234"/>
            <p:cNvSpPr/>
            <p:nvPr/>
          </p:nvSpPr>
          <p:spPr>
            <a:xfrm rot="10800000">
              <a:off x="47458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644" name="Rectangle 250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251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252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648" name="Rectangle 253" descr="Presentation00007"/>
              <p:cNvPicPr/>
              <p:nvPr/>
            </p:nvPicPr>
            <p:blipFill>
              <a:blip r:embed="rId6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9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Rectangle 254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255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256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257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258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259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260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658" name="Rectangle 236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237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238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662" name="Rectangle 239" descr="Handshake00007"/>
              <p:cNvPicPr/>
              <p:nvPr/>
            </p:nvPicPr>
            <p:blipFill>
              <a:blip r:embed="rId7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Rectangle 240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241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242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243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244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245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246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6080040" y="3403440"/>
            <a:ext cx="1254240" cy="1438560"/>
            <a:chOff x="6080040" y="3403440"/>
            <a:chExt cx="1254240" cy="1438560"/>
          </a:xfrm>
        </p:grpSpPr>
        <p:sp>
          <p:nvSpPr>
            <p:cNvPr id="672" name="Rectangle 278"/>
            <p:cNvSpPr/>
            <p:nvPr/>
          </p:nvSpPr>
          <p:spPr>
            <a:xfrm>
              <a:off x="60800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279"/>
            <p:cNvSpPr/>
            <p:nvPr/>
          </p:nvSpPr>
          <p:spPr>
            <a:xfrm>
              <a:off x="60894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280"/>
            <p:cNvSpPr/>
            <p:nvPr/>
          </p:nvSpPr>
          <p:spPr>
            <a:xfrm>
              <a:off x="61027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6156720" y="3492720"/>
              <a:ext cx="1090800" cy="932760"/>
              <a:chOff x="6156720" y="3492720"/>
              <a:chExt cx="1090800" cy="932760"/>
            </a:xfrm>
          </p:grpSpPr>
          <p:pic>
            <p:nvPicPr>
              <p:cNvPr id="676" name="Rectangle 281" descr="Handshake00007"/>
              <p:cNvPicPr/>
              <p:nvPr/>
            </p:nvPicPr>
            <p:blipFill>
              <a:blip r:embed="rId8"/>
              <a:stretch/>
            </p:blipFill>
            <p:spPr>
              <a:xfrm>
                <a:off x="615672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"/>
              <p:cNvSpPr/>
              <p:nvPr/>
            </p:nvSpPr>
            <p:spPr>
              <a:xfrm>
                <a:off x="61621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8" name="Rectangle 282"/>
            <p:cNvSpPr/>
            <p:nvPr/>
          </p:nvSpPr>
          <p:spPr>
            <a:xfrm>
              <a:off x="61664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283"/>
            <p:cNvSpPr/>
            <p:nvPr/>
          </p:nvSpPr>
          <p:spPr>
            <a:xfrm rot="10800000">
              <a:off x="61660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AutoShape 284"/>
            <p:cNvSpPr/>
            <p:nvPr/>
          </p:nvSpPr>
          <p:spPr>
            <a:xfrm rot="10800000">
              <a:off x="68223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AutoShape 285"/>
            <p:cNvSpPr/>
            <p:nvPr/>
          </p:nvSpPr>
          <p:spPr>
            <a:xfrm rot="5400000">
              <a:off x="61682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AutoShape 286"/>
            <p:cNvSpPr/>
            <p:nvPr/>
          </p:nvSpPr>
          <p:spPr>
            <a:xfrm>
              <a:off x="61743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AutoShape 287"/>
            <p:cNvSpPr/>
            <p:nvPr/>
          </p:nvSpPr>
          <p:spPr>
            <a:xfrm rot="16200000">
              <a:off x="70027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288"/>
            <p:cNvSpPr/>
            <p:nvPr/>
          </p:nvSpPr>
          <p:spPr>
            <a:xfrm rot="10800000">
              <a:off x="61660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33333E-006 L -0.15504 0.00092 E">
                                      <p:cBhvr>
                                        <p:cTn id="142" dur="8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0.2 0.32176 E">
                                      <p:cBhvr>
                                        <p:cTn id="144" dur="1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1000" fill="hold"/>
                                        <p:tgtEl>
                                          <p:spTgt spid="65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800" fill="hold"/>
                                        <p:tgtEl>
                                          <p:spTgt spid="548"/>
                                        </p:tgtEl>
                                      </p:cBhvr>
                                      <p:to x="133000" y="133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686" name="Freeform 158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159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160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161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1728720" y="4960800"/>
            <a:ext cx="1585800" cy="1325520"/>
            <a:chOff x="1728720" y="4960800"/>
            <a:chExt cx="1585800" cy="1325520"/>
          </a:xfrm>
        </p:grpSpPr>
        <p:sp>
          <p:nvSpPr>
            <p:cNvPr id="691" name="Freeform 163"/>
            <p:cNvSpPr/>
            <p:nvPr/>
          </p:nvSpPr>
          <p:spPr>
            <a:xfrm>
              <a:off x="172872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64"/>
            <p:cNvSpPr/>
            <p:nvPr/>
          </p:nvSpPr>
          <p:spPr>
            <a:xfrm>
              <a:off x="18064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165"/>
            <p:cNvSpPr/>
            <p:nvPr/>
          </p:nvSpPr>
          <p:spPr>
            <a:xfrm>
              <a:off x="18079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166"/>
            <p:cNvSpPr/>
            <p:nvPr/>
          </p:nvSpPr>
          <p:spPr>
            <a:xfrm>
              <a:off x="183348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162240" y="4960800"/>
            <a:ext cx="1585800" cy="1325520"/>
            <a:chOff x="3162240" y="4960800"/>
            <a:chExt cx="1585800" cy="1325520"/>
          </a:xfrm>
        </p:grpSpPr>
        <p:sp>
          <p:nvSpPr>
            <p:cNvPr id="696" name="Freeform 168"/>
            <p:cNvSpPr/>
            <p:nvPr/>
          </p:nvSpPr>
          <p:spPr>
            <a:xfrm>
              <a:off x="316224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169"/>
            <p:cNvSpPr/>
            <p:nvPr/>
          </p:nvSpPr>
          <p:spPr>
            <a:xfrm>
              <a:off x="32446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AutoShape 170"/>
            <p:cNvSpPr/>
            <p:nvPr/>
          </p:nvSpPr>
          <p:spPr>
            <a:xfrm>
              <a:off x="3238560" y="4986360"/>
              <a:ext cx="12254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171"/>
            <p:cNvSpPr/>
            <p:nvPr/>
          </p:nvSpPr>
          <p:spPr>
            <a:xfrm>
              <a:off x="326556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4595760" y="4959360"/>
            <a:ext cx="1587600" cy="1325520"/>
            <a:chOff x="4595760" y="4959360"/>
            <a:chExt cx="1587600" cy="1325520"/>
          </a:xfrm>
        </p:grpSpPr>
        <p:sp>
          <p:nvSpPr>
            <p:cNvPr id="701" name="Freeform 173"/>
            <p:cNvSpPr/>
            <p:nvPr/>
          </p:nvSpPr>
          <p:spPr>
            <a:xfrm>
              <a:off x="4595760" y="4959360"/>
              <a:ext cx="15876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174"/>
            <p:cNvSpPr/>
            <p:nvPr/>
          </p:nvSpPr>
          <p:spPr>
            <a:xfrm>
              <a:off x="4672080" y="5419800"/>
              <a:ext cx="1224000" cy="396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AutoShape 175"/>
            <p:cNvSpPr/>
            <p:nvPr/>
          </p:nvSpPr>
          <p:spPr>
            <a:xfrm>
              <a:off x="4670280" y="4986360"/>
              <a:ext cx="122580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176"/>
            <p:cNvSpPr/>
            <p:nvPr/>
          </p:nvSpPr>
          <p:spPr>
            <a:xfrm>
              <a:off x="47005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6031080" y="4960800"/>
            <a:ext cx="1587240" cy="1325520"/>
            <a:chOff x="6031080" y="4960800"/>
            <a:chExt cx="1587240" cy="1325520"/>
          </a:xfrm>
        </p:grpSpPr>
        <p:sp>
          <p:nvSpPr>
            <p:cNvPr id="706" name="Freeform 178"/>
            <p:cNvSpPr/>
            <p:nvPr/>
          </p:nvSpPr>
          <p:spPr>
            <a:xfrm>
              <a:off x="6031080" y="4960800"/>
              <a:ext cx="158724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79"/>
            <p:cNvSpPr/>
            <p:nvPr/>
          </p:nvSpPr>
          <p:spPr>
            <a:xfrm>
              <a:off x="6097320" y="5419440"/>
              <a:ext cx="122364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180"/>
            <p:cNvSpPr/>
            <p:nvPr/>
          </p:nvSpPr>
          <p:spPr>
            <a:xfrm>
              <a:off x="6095880" y="4986360"/>
              <a:ext cx="122508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181"/>
            <p:cNvSpPr/>
            <p:nvPr/>
          </p:nvSpPr>
          <p:spPr>
            <a:xfrm>
              <a:off x="6122880" y="4995720"/>
              <a:ext cx="116964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7466040" y="4960800"/>
            <a:ext cx="1373040" cy="1325520"/>
            <a:chOff x="7466040" y="4960800"/>
            <a:chExt cx="1373040" cy="1325520"/>
          </a:xfrm>
        </p:grpSpPr>
        <p:sp>
          <p:nvSpPr>
            <p:cNvPr id="711" name="Freeform 183"/>
            <p:cNvSpPr/>
            <p:nvPr/>
          </p:nvSpPr>
          <p:spPr>
            <a:xfrm>
              <a:off x="7466040" y="4960800"/>
              <a:ext cx="1373040" cy="1325520"/>
            </a:xfrm>
            <a:custGeom>
              <a:avLst/>
              <a:gdLst/>
              <a:ahLst/>
              <a:rect l="l" t="t" r="r" b="b"/>
              <a:pathLst>
                <a:path w="1796" h="1730">
                  <a:moveTo>
                    <a:pt x="1540" y="0"/>
                  </a:moveTo>
                  <a:lnTo>
                    <a:pt x="256" y="0"/>
                  </a:lnTo>
                  <a:lnTo>
                    <a:pt x="256" y="0"/>
                  </a:lnTo>
                  <a:lnTo>
                    <a:pt x="231" y="2"/>
                  </a:lnTo>
                  <a:lnTo>
                    <a:pt x="205" y="5"/>
                  </a:lnTo>
                  <a:lnTo>
                    <a:pt x="180" y="12"/>
                  </a:lnTo>
                  <a:lnTo>
                    <a:pt x="157" y="20"/>
                  </a:lnTo>
                  <a:lnTo>
                    <a:pt x="135" y="30"/>
                  </a:lnTo>
                  <a:lnTo>
                    <a:pt x="114" y="42"/>
                  </a:lnTo>
                  <a:lnTo>
                    <a:pt x="94" y="57"/>
                  </a:lnTo>
                  <a:lnTo>
                    <a:pt x="75" y="73"/>
                  </a:lnTo>
                  <a:lnTo>
                    <a:pt x="59" y="90"/>
                  </a:lnTo>
                  <a:lnTo>
                    <a:pt x="45" y="109"/>
                  </a:lnTo>
                  <a:lnTo>
                    <a:pt x="32" y="130"/>
                  </a:lnTo>
                  <a:lnTo>
                    <a:pt x="21" y="151"/>
                  </a:lnTo>
                  <a:lnTo>
                    <a:pt x="13" y="173"/>
                  </a:lnTo>
                  <a:lnTo>
                    <a:pt x="6" y="198"/>
                  </a:lnTo>
                  <a:lnTo>
                    <a:pt x="3" y="222"/>
                  </a:lnTo>
                  <a:lnTo>
                    <a:pt x="0" y="247"/>
                  </a:lnTo>
                  <a:lnTo>
                    <a:pt x="0" y="571"/>
                  </a:lnTo>
                  <a:lnTo>
                    <a:pt x="295" y="864"/>
                  </a:lnTo>
                  <a:lnTo>
                    <a:pt x="0" y="1159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3" y="1508"/>
                  </a:lnTo>
                  <a:lnTo>
                    <a:pt x="6" y="1532"/>
                  </a:lnTo>
                  <a:lnTo>
                    <a:pt x="13" y="1556"/>
                  </a:lnTo>
                  <a:lnTo>
                    <a:pt x="21" y="1579"/>
                  </a:lnTo>
                  <a:lnTo>
                    <a:pt x="32" y="1600"/>
                  </a:lnTo>
                  <a:lnTo>
                    <a:pt x="45" y="1621"/>
                  </a:lnTo>
                  <a:lnTo>
                    <a:pt x="59" y="1640"/>
                  </a:lnTo>
                  <a:lnTo>
                    <a:pt x="75" y="1657"/>
                  </a:lnTo>
                  <a:lnTo>
                    <a:pt x="94" y="1673"/>
                  </a:lnTo>
                  <a:lnTo>
                    <a:pt x="114" y="1688"/>
                  </a:lnTo>
                  <a:lnTo>
                    <a:pt x="135" y="1700"/>
                  </a:lnTo>
                  <a:lnTo>
                    <a:pt x="157" y="1710"/>
                  </a:lnTo>
                  <a:lnTo>
                    <a:pt x="180" y="1718"/>
                  </a:lnTo>
                  <a:lnTo>
                    <a:pt x="205" y="1725"/>
                  </a:lnTo>
                  <a:lnTo>
                    <a:pt x="231" y="1728"/>
                  </a:lnTo>
                  <a:lnTo>
                    <a:pt x="256" y="1730"/>
                  </a:lnTo>
                  <a:lnTo>
                    <a:pt x="1540" y="1730"/>
                  </a:lnTo>
                  <a:lnTo>
                    <a:pt x="1540" y="1730"/>
                  </a:lnTo>
                  <a:lnTo>
                    <a:pt x="1566" y="1728"/>
                  </a:lnTo>
                  <a:lnTo>
                    <a:pt x="1592" y="1725"/>
                  </a:lnTo>
                  <a:lnTo>
                    <a:pt x="1616" y="1718"/>
                  </a:lnTo>
                  <a:lnTo>
                    <a:pt x="1640" y="1710"/>
                  </a:lnTo>
                  <a:lnTo>
                    <a:pt x="1662" y="1700"/>
                  </a:lnTo>
                  <a:lnTo>
                    <a:pt x="1683" y="1688"/>
                  </a:lnTo>
                  <a:lnTo>
                    <a:pt x="1703" y="1673"/>
                  </a:lnTo>
                  <a:lnTo>
                    <a:pt x="1721" y="1657"/>
                  </a:lnTo>
                  <a:lnTo>
                    <a:pt x="1737" y="1640"/>
                  </a:lnTo>
                  <a:lnTo>
                    <a:pt x="1752" y="1621"/>
                  </a:lnTo>
                  <a:lnTo>
                    <a:pt x="1766" y="1600"/>
                  </a:lnTo>
                  <a:lnTo>
                    <a:pt x="1777" y="1579"/>
                  </a:lnTo>
                  <a:lnTo>
                    <a:pt x="1785" y="1556"/>
                  </a:lnTo>
                  <a:lnTo>
                    <a:pt x="1791" y="1532"/>
                  </a:lnTo>
                  <a:lnTo>
                    <a:pt x="1795" y="1508"/>
                  </a:lnTo>
                  <a:lnTo>
                    <a:pt x="1796" y="1483"/>
                  </a:lnTo>
                  <a:lnTo>
                    <a:pt x="1796" y="247"/>
                  </a:lnTo>
                  <a:lnTo>
                    <a:pt x="1796" y="247"/>
                  </a:lnTo>
                  <a:lnTo>
                    <a:pt x="1795" y="222"/>
                  </a:lnTo>
                  <a:lnTo>
                    <a:pt x="1791" y="198"/>
                  </a:lnTo>
                  <a:lnTo>
                    <a:pt x="1785" y="173"/>
                  </a:lnTo>
                  <a:lnTo>
                    <a:pt x="1777" y="151"/>
                  </a:lnTo>
                  <a:lnTo>
                    <a:pt x="1766" y="130"/>
                  </a:lnTo>
                  <a:lnTo>
                    <a:pt x="1752" y="109"/>
                  </a:lnTo>
                  <a:lnTo>
                    <a:pt x="1737" y="90"/>
                  </a:lnTo>
                  <a:lnTo>
                    <a:pt x="1721" y="73"/>
                  </a:lnTo>
                  <a:lnTo>
                    <a:pt x="1703" y="57"/>
                  </a:lnTo>
                  <a:lnTo>
                    <a:pt x="1683" y="42"/>
                  </a:lnTo>
                  <a:lnTo>
                    <a:pt x="1662" y="30"/>
                  </a:lnTo>
                  <a:lnTo>
                    <a:pt x="1640" y="20"/>
                  </a:lnTo>
                  <a:lnTo>
                    <a:pt x="1616" y="12"/>
                  </a:lnTo>
                  <a:lnTo>
                    <a:pt x="1592" y="5"/>
                  </a:lnTo>
                  <a:lnTo>
                    <a:pt x="1566" y="2"/>
                  </a:lnTo>
                  <a:lnTo>
                    <a:pt x="1540" y="0"/>
                  </a:lnTo>
                  <a:lnTo>
                    <a:pt x="154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84"/>
            <p:cNvSpPr/>
            <p:nvPr/>
          </p:nvSpPr>
          <p:spPr>
            <a:xfrm>
              <a:off x="754056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85"/>
            <p:cNvSpPr/>
            <p:nvPr/>
          </p:nvSpPr>
          <p:spPr>
            <a:xfrm>
              <a:off x="75373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86"/>
            <p:cNvSpPr/>
            <p:nvPr/>
          </p:nvSpPr>
          <p:spPr>
            <a:xfrm>
              <a:off x="75643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43080" y="3403440"/>
            <a:ext cx="1253880" cy="1438560"/>
            <a:chOff x="343080" y="3403440"/>
            <a:chExt cx="1253880" cy="1438560"/>
          </a:xfrm>
        </p:grpSpPr>
        <p:sp>
          <p:nvSpPr>
            <p:cNvPr id="716" name="Rectangle 188"/>
            <p:cNvSpPr/>
            <p:nvPr/>
          </p:nvSpPr>
          <p:spPr>
            <a:xfrm>
              <a:off x="3430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89"/>
            <p:cNvSpPr/>
            <p:nvPr/>
          </p:nvSpPr>
          <p:spPr>
            <a:xfrm>
              <a:off x="3524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90"/>
            <p:cNvSpPr/>
            <p:nvPr/>
          </p:nvSpPr>
          <p:spPr>
            <a:xfrm>
              <a:off x="3657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420480" y="3492720"/>
              <a:ext cx="1090800" cy="932760"/>
              <a:chOff x="420480" y="3492720"/>
              <a:chExt cx="1090800" cy="932760"/>
            </a:xfrm>
          </p:grpSpPr>
          <p:pic>
            <p:nvPicPr>
              <p:cNvPr id="720" name="Rectangle 191" descr="Building00005"/>
              <p:cNvPicPr/>
              <p:nvPr/>
            </p:nvPicPr>
            <p:blipFill>
              <a:blip r:embed="rId1"/>
              <a:stretch/>
            </p:blipFill>
            <p:spPr>
              <a:xfrm>
                <a:off x="4204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1" name=""/>
              <p:cNvSpPr/>
              <p:nvPr/>
            </p:nvSpPr>
            <p:spPr>
              <a:xfrm>
                <a:off x="4251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Rectangle 192"/>
            <p:cNvSpPr/>
            <p:nvPr/>
          </p:nvSpPr>
          <p:spPr>
            <a:xfrm>
              <a:off x="4294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93"/>
            <p:cNvSpPr/>
            <p:nvPr/>
          </p:nvSpPr>
          <p:spPr>
            <a:xfrm rot="10800000">
              <a:off x="4294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AutoShape 194"/>
            <p:cNvSpPr/>
            <p:nvPr/>
          </p:nvSpPr>
          <p:spPr>
            <a:xfrm rot="10800000">
              <a:off x="10854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195"/>
            <p:cNvSpPr/>
            <p:nvPr/>
          </p:nvSpPr>
          <p:spPr>
            <a:xfrm rot="5400000">
              <a:off x="4312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196"/>
            <p:cNvSpPr/>
            <p:nvPr/>
          </p:nvSpPr>
          <p:spPr>
            <a:xfrm>
              <a:off x="4374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AutoShape 197"/>
            <p:cNvSpPr/>
            <p:nvPr/>
          </p:nvSpPr>
          <p:spPr>
            <a:xfrm rot="16200000">
              <a:off x="12657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98"/>
            <p:cNvSpPr/>
            <p:nvPr/>
          </p:nvSpPr>
          <p:spPr>
            <a:xfrm rot="10800000">
              <a:off x="4294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793880" y="3403440"/>
            <a:ext cx="1254240" cy="1438560"/>
            <a:chOff x="1793880" y="3403440"/>
            <a:chExt cx="1254240" cy="1438560"/>
          </a:xfrm>
        </p:grpSpPr>
        <p:sp>
          <p:nvSpPr>
            <p:cNvPr id="730" name="Rectangle 200"/>
            <p:cNvSpPr/>
            <p:nvPr/>
          </p:nvSpPr>
          <p:spPr>
            <a:xfrm>
              <a:off x="179388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201"/>
            <p:cNvSpPr/>
            <p:nvPr/>
          </p:nvSpPr>
          <p:spPr>
            <a:xfrm>
              <a:off x="180324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202"/>
            <p:cNvSpPr/>
            <p:nvPr/>
          </p:nvSpPr>
          <p:spPr>
            <a:xfrm>
              <a:off x="181656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1871280" y="3492720"/>
              <a:ext cx="1090800" cy="932760"/>
              <a:chOff x="1871280" y="3492720"/>
              <a:chExt cx="1090800" cy="932760"/>
            </a:xfrm>
          </p:grpSpPr>
          <p:pic>
            <p:nvPicPr>
              <p:cNvPr id="734" name="Rectangle 203" descr="Callcentre00022"/>
              <p:cNvPicPr/>
              <p:nvPr/>
            </p:nvPicPr>
            <p:blipFill>
              <a:blip r:embed="rId2"/>
              <a:stretch/>
            </p:blipFill>
            <p:spPr>
              <a:xfrm>
                <a:off x="18712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>
                <a:off x="18759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Rectangle 204"/>
            <p:cNvSpPr/>
            <p:nvPr/>
          </p:nvSpPr>
          <p:spPr>
            <a:xfrm>
              <a:off x="188028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05"/>
            <p:cNvSpPr/>
            <p:nvPr/>
          </p:nvSpPr>
          <p:spPr>
            <a:xfrm rot="10800000">
              <a:off x="187992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206"/>
            <p:cNvSpPr/>
            <p:nvPr/>
          </p:nvSpPr>
          <p:spPr>
            <a:xfrm rot="10800000">
              <a:off x="25362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207"/>
            <p:cNvSpPr/>
            <p:nvPr/>
          </p:nvSpPr>
          <p:spPr>
            <a:xfrm rot="5400000">
              <a:off x="18820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208"/>
            <p:cNvSpPr/>
            <p:nvPr/>
          </p:nvSpPr>
          <p:spPr>
            <a:xfrm>
              <a:off x="18882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209"/>
            <p:cNvSpPr/>
            <p:nvPr/>
          </p:nvSpPr>
          <p:spPr>
            <a:xfrm rot="16200000">
              <a:off x="27165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210"/>
            <p:cNvSpPr/>
            <p:nvPr/>
          </p:nvSpPr>
          <p:spPr>
            <a:xfrm rot="10800000">
              <a:off x="187992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3203640" y="3403440"/>
            <a:ext cx="1254240" cy="1438560"/>
            <a:chOff x="3203640" y="3403440"/>
            <a:chExt cx="1254240" cy="1438560"/>
          </a:xfrm>
        </p:grpSpPr>
        <p:sp>
          <p:nvSpPr>
            <p:cNvPr id="744" name="Rectangle 212"/>
            <p:cNvSpPr/>
            <p:nvPr/>
          </p:nvSpPr>
          <p:spPr>
            <a:xfrm>
              <a:off x="32036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213"/>
            <p:cNvSpPr/>
            <p:nvPr/>
          </p:nvSpPr>
          <p:spPr>
            <a:xfrm>
              <a:off x="32130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214"/>
            <p:cNvSpPr/>
            <p:nvPr/>
          </p:nvSpPr>
          <p:spPr>
            <a:xfrm>
              <a:off x="32263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3279600" y="3492720"/>
              <a:ext cx="1090800" cy="932760"/>
              <a:chOff x="3279600" y="3492720"/>
              <a:chExt cx="1090800" cy="932760"/>
            </a:xfrm>
          </p:grpSpPr>
          <p:pic>
            <p:nvPicPr>
              <p:cNvPr id="748" name="Rectangle 215" descr="Air00037"/>
              <p:cNvPicPr/>
              <p:nvPr/>
            </p:nvPicPr>
            <p:blipFill>
              <a:blip r:embed="rId3"/>
              <a:stretch/>
            </p:blipFill>
            <p:spPr>
              <a:xfrm>
                <a:off x="327960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9" name=""/>
              <p:cNvSpPr/>
              <p:nvPr/>
            </p:nvSpPr>
            <p:spPr>
              <a:xfrm>
                <a:off x="32857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Rectangle 216"/>
            <p:cNvSpPr/>
            <p:nvPr/>
          </p:nvSpPr>
          <p:spPr>
            <a:xfrm>
              <a:off x="32900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217"/>
            <p:cNvSpPr/>
            <p:nvPr/>
          </p:nvSpPr>
          <p:spPr>
            <a:xfrm rot="10800000">
              <a:off x="32896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218"/>
            <p:cNvSpPr/>
            <p:nvPr/>
          </p:nvSpPr>
          <p:spPr>
            <a:xfrm rot="10800000">
              <a:off x="39459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AutoShape 219"/>
            <p:cNvSpPr/>
            <p:nvPr/>
          </p:nvSpPr>
          <p:spPr>
            <a:xfrm rot="5400000">
              <a:off x="32918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AutoShape 220"/>
            <p:cNvSpPr/>
            <p:nvPr/>
          </p:nvSpPr>
          <p:spPr>
            <a:xfrm>
              <a:off x="32979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221"/>
            <p:cNvSpPr/>
            <p:nvPr/>
          </p:nvSpPr>
          <p:spPr>
            <a:xfrm rot="16200000">
              <a:off x="41263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222"/>
            <p:cNvSpPr/>
            <p:nvPr/>
          </p:nvSpPr>
          <p:spPr>
            <a:xfrm rot="10800000">
              <a:off x="32896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659480" y="3403440"/>
            <a:ext cx="1253880" cy="1438560"/>
            <a:chOff x="4659480" y="3403440"/>
            <a:chExt cx="1253880" cy="1438560"/>
          </a:xfrm>
        </p:grpSpPr>
        <p:sp>
          <p:nvSpPr>
            <p:cNvPr id="758" name="Rectangle 224"/>
            <p:cNvSpPr/>
            <p:nvPr/>
          </p:nvSpPr>
          <p:spPr>
            <a:xfrm>
              <a:off x="46594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225"/>
            <p:cNvSpPr/>
            <p:nvPr/>
          </p:nvSpPr>
          <p:spPr>
            <a:xfrm>
              <a:off x="46688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226"/>
            <p:cNvSpPr/>
            <p:nvPr/>
          </p:nvSpPr>
          <p:spPr>
            <a:xfrm>
              <a:off x="46821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4736160" y="3492720"/>
              <a:ext cx="1090800" cy="932760"/>
              <a:chOff x="4736160" y="3492720"/>
              <a:chExt cx="1090800" cy="932760"/>
            </a:xfrm>
          </p:grpSpPr>
          <p:pic>
            <p:nvPicPr>
              <p:cNvPr id="762" name="Rectangle 227" descr="Meeting00042"/>
              <p:cNvPicPr/>
              <p:nvPr/>
            </p:nvPicPr>
            <p:blipFill>
              <a:blip r:embed="rId4"/>
              <a:stretch/>
            </p:blipFill>
            <p:spPr>
              <a:xfrm>
                <a:off x="473616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3" name=""/>
              <p:cNvSpPr/>
              <p:nvPr/>
            </p:nvSpPr>
            <p:spPr>
              <a:xfrm>
                <a:off x="474120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" name="Rectangle 228"/>
            <p:cNvSpPr/>
            <p:nvPr/>
          </p:nvSpPr>
          <p:spPr>
            <a:xfrm>
              <a:off x="47458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229"/>
            <p:cNvSpPr/>
            <p:nvPr/>
          </p:nvSpPr>
          <p:spPr>
            <a:xfrm rot="10800000">
              <a:off x="47458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230"/>
            <p:cNvSpPr/>
            <p:nvPr/>
          </p:nvSpPr>
          <p:spPr>
            <a:xfrm rot="10800000">
              <a:off x="54018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231"/>
            <p:cNvSpPr/>
            <p:nvPr/>
          </p:nvSpPr>
          <p:spPr>
            <a:xfrm rot="5400000">
              <a:off x="47476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utoShape 232"/>
            <p:cNvSpPr/>
            <p:nvPr/>
          </p:nvSpPr>
          <p:spPr>
            <a:xfrm>
              <a:off x="47538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233"/>
            <p:cNvSpPr/>
            <p:nvPr/>
          </p:nvSpPr>
          <p:spPr>
            <a:xfrm rot="16200000">
              <a:off x="55821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234"/>
            <p:cNvSpPr/>
            <p:nvPr/>
          </p:nvSpPr>
          <p:spPr>
            <a:xfrm rot="10800000">
              <a:off x="47458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6080040" y="3403440"/>
            <a:ext cx="1254240" cy="1438560"/>
            <a:chOff x="6080040" y="3403440"/>
            <a:chExt cx="1254240" cy="1438560"/>
          </a:xfrm>
        </p:grpSpPr>
        <p:sp>
          <p:nvSpPr>
            <p:cNvPr id="772" name="Rectangle 236"/>
            <p:cNvSpPr/>
            <p:nvPr/>
          </p:nvSpPr>
          <p:spPr>
            <a:xfrm>
              <a:off x="60800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237"/>
            <p:cNvSpPr/>
            <p:nvPr/>
          </p:nvSpPr>
          <p:spPr>
            <a:xfrm>
              <a:off x="60894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238"/>
            <p:cNvSpPr/>
            <p:nvPr/>
          </p:nvSpPr>
          <p:spPr>
            <a:xfrm>
              <a:off x="61027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6156720" y="3492720"/>
              <a:ext cx="1090800" cy="932760"/>
              <a:chOff x="6156720" y="3492720"/>
              <a:chExt cx="1090800" cy="932760"/>
            </a:xfrm>
          </p:grpSpPr>
          <p:pic>
            <p:nvPicPr>
              <p:cNvPr id="776" name="Rectangle 239" descr="Handshake00007"/>
              <p:cNvPicPr/>
              <p:nvPr/>
            </p:nvPicPr>
            <p:blipFill>
              <a:blip r:embed="rId5"/>
              <a:stretch/>
            </p:blipFill>
            <p:spPr>
              <a:xfrm>
                <a:off x="615672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7" name=""/>
              <p:cNvSpPr/>
              <p:nvPr/>
            </p:nvSpPr>
            <p:spPr>
              <a:xfrm>
                <a:off x="61621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" name="Rectangle 240"/>
            <p:cNvSpPr/>
            <p:nvPr/>
          </p:nvSpPr>
          <p:spPr>
            <a:xfrm>
              <a:off x="61664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241"/>
            <p:cNvSpPr/>
            <p:nvPr/>
          </p:nvSpPr>
          <p:spPr>
            <a:xfrm rot="10800000">
              <a:off x="61660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AutoShape 242"/>
            <p:cNvSpPr/>
            <p:nvPr/>
          </p:nvSpPr>
          <p:spPr>
            <a:xfrm rot="10800000">
              <a:off x="68223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AutoShape 243"/>
            <p:cNvSpPr/>
            <p:nvPr/>
          </p:nvSpPr>
          <p:spPr>
            <a:xfrm rot="5400000">
              <a:off x="61682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244"/>
            <p:cNvSpPr/>
            <p:nvPr/>
          </p:nvSpPr>
          <p:spPr>
            <a:xfrm>
              <a:off x="61743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utoShape 245"/>
            <p:cNvSpPr/>
            <p:nvPr/>
          </p:nvSpPr>
          <p:spPr>
            <a:xfrm rot="16200000">
              <a:off x="70027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246"/>
            <p:cNvSpPr/>
            <p:nvPr/>
          </p:nvSpPr>
          <p:spPr>
            <a:xfrm rot="10800000">
              <a:off x="61660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786" name="Rectangle 248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249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250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790" name="Rectangle 251" descr="Presentation00007"/>
              <p:cNvPicPr/>
              <p:nvPr/>
            </p:nvPicPr>
            <p:blipFill>
              <a:blip r:embed="rId6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Rectangle 252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253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254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AutoShape 255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AutoShape 256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257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258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7523280" y="3403440"/>
            <a:ext cx="1253880" cy="1438560"/>
            <a:chOff x="7523280" y="3403440"/>
            <a:chExt cx="1253880" cy="1438560"/>
          </a:xfrm>
        </p:grpSpPr>
        <p:sp>
          <p:nvSpPr>
            <p:cNvPr id="800" name="Rectangle 262"/>
            <p:cNvSpPr/>
            <p:nvPr/>
          </p:nvSpPr>
          <p:spPr>
            <a:xfrm>
              <a:off x="75232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263"/>
            <p:cNvSpPr/>
            <p:nvPr/>
          </p:nvSpPr>
          <p:spPr>
            <a:xfrm>
              <a:off x="75326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264"/>
            <p:cNvSpPr/>
            <p:nvPr/>
          </p:nvSpPr>
          <p:spPr>
            <a:xfrm>
              <a:off x="75459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7601760" y="3492720"/>
              <a:ext cx="1090440" cy="932760"/>
              <a:chOff x="7601760" y="3492720"/>
              <a:chExt cx="1090440" cy="932760"/>
            </a:xfrm>
          </p:grpSpPr>
          <p:pic>
            <p:nvPicPr>
              <p:cNvPr id="804" name="Rectangle 265" descr="Presentation00007"/>
              <p:cNvPicPr/>
              <p:nvPr/>
            </p:nvPicPr>
            <p:blipFill>
              <a:blip r:embed="rId7"/>
              <a:stretch/>
            </p:blipFill>
            <p:spPr>
              <a:xfrm>
                <a:off x="7601760" y="3492720"/>
                <a:ext cx="109044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5" name=""/>
              <p:cNvSpPr/>
              <p:nvPr/>
            </p:nvSpPr>
            <p:spPr>
              <a:xfrm>
                <a:off x="7605360" y="3501360"/>
                <a:ext cx="107820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Rectangle 266"/>
            <p:cNvSpPr/>
            <p:nvPr/>
          </p:nvSpPr>
          <p:spPr>
            <a:xfrm>
              <a:off x="76096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267"/>
            <p:cNvSpPr/>
            <p:nvPr/>
          </p:nvSpPr>
          <p:spPr>
            <a:xfrm rot="10800000">
              <a:off x="76096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268"/>
            <p:cNvSpPr/>
            <p:nvPr/>
          </p:nvSpPr>
          <p:spPr>
            <a:xfrm rot="10800000">
              <a:off x="82656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269"/>
            <p:cNvSpPr/>
            <p:nvPr/>
          </p:nvSpPr>
          <p:spPr>
            <a:xfrm rot="5400000">
              <a:off x="76114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270"/>
            <p:cNvSpPr/>
            <p:nvPr/>
          </p:nvSpPr>
          <p:spPr>
            <a:xfrm>
              <a:off x="76176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utoShape 271"/>
            <p:cNvSpPr/>
            <p:nvPr/>
          </p:nvSpPr>
          <p:spPr>
            <a:xfrm rot="16200000">
              <a:off x="84459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272"/>
            <p:cNvSpPr/>
            <p:nvPr/>
          </p:nvSpPr>
          <p:spPr>
            <a:xfrm rot="10800000">
              <a:off x="76096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7037E-007 L 0.35782 0.32176 E">
                                      <p:cBhvr>
                                        <p:cTn id="165" dur="10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1000" fill="hold"/>
                                        <p:tgtEl>
                                          <p:spTgt spid="78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GB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GB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F47D-5E94-470A-B60B-3ADFA81835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817" name="Freeform 85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86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AutoShape 87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AutoShape 88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1728720" y="4960800"/>
            <a:ext cx="1585800" cy="1325520"/>
            <a:chOff x="1728720" y="4960800"/>
            <a:chExt cx="1585800" cy="1325520"/>
          </a:xfrm>
        </p:grpSpPr>
        <p:sp>
          <p:nvSpPr>
            <p:cNvPr id="822" name="Freeform 22"/>
            <p:cNvSpPr/>
            <p:nvPr/>
          </p:nvSpPr>
          <p:spPr>
            <a:xfrm>
              <a:off x="172872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Text Box 23"/>
            <p:cNvSpPr/>
            <p:nvPr/>
          </p:nvSpPr>
          <p:spPr>
            <a:xfrm>
              <a:off x="18064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AutoShape 24"/>
            <p:cNvSpPr/>
            <p:nvPr/>
          </p:nvSpPr>
          <p:spPr>
            <a:xfrm>
              <a:off x="18079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AutoShape 25"/>
            <p:cNvSpPr/>
            <p:nvPr/>
          </p:nvSpPr>
          <p:spPr>
            <a:xfrm>
              <a:off x="183348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3162240" y="4960800"/>
            <a:ext cx="1585800" cy="1325520"/>
            <a:chOff x="3162240" y="4960800"/>
            <a:chExt cx="1585800" cy="1325520"/>
          </a:xfrm>
        </p:grpSpPr>
        <p:sp>
          <p:nvSpPr>
            <p:cNvPr id="827" name="Freeform 27"/>
            <p:cNvSpPr/>
            <p:nvPr/>
          </p:nvSpPr>
          <p:spPr>
            <a:xfrm>
              <a:off x="316224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28"/>
            <p:cNvSpPr/>
            <p:nvPr/>
          </p:nvSpPr>
          <p:spPr>
            <a:xfrm>
              <a:off x="32446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AutoShape 29"/>
            <p:cNvSpPr/>
            <p:nvPr/>
          </p:nvSpPr>
          <p:spPr>
            <a:xfrm>
              <a:off x="3238560" y="4986360"/>
              <a:ext cx="12254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AutoShape 30"/>
            <p:cNvSpPr/>
            <p:nvPr/>
          </p:nvSpPr>
          <p:spPr>
            <a:xfrm>
              <a:off x="326556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595760" y="4959360"/>
            <a:ext cx="1587600" cy="1325520"/>
            <a:chOff x="4595760" y="4959360"/>
            <a:chExt cx="1587600" cy="1325520"/>
          </a:xfrm>
        </p:grpSpPr>
        <p:sp>
          <p:nvSpPr>
            <p:cNvPr id="832" name="Freeform 32"/>
            <p:cNvSpPr/>
            <p:nvPr/>
          </p:nvSpPr>
          <p:spPr>
            <a:xfrm>
              <a:off x="4595760" y="4959360"/>
              <a:ext cx="15876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Text Box 33"/>
            <p:cNvSpPr/>
            <p:nvPr/>
          </p:nvSpPr>
          <p:spPr>
            <a:xfrm>
              <a:off x="4672080" y="5419800"/>
              <a:ext cx="1224000" cy="396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AutoShape 34"/>
            <p:cNvSpPr/>
            <p:nvPr/>
          </p:nvSpPr>
          <p:spPr>
            <a:xfrm>
              <a:off x="4670280" y="4986360"/>
              <a:ext cx="122580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AutoShape 35"/>
            <p:cNvSpPr/>
            <p:nvPr/>
          </p:nvSpPr>
          <p:spPr>
            <a:xfrm>
              <a:off x="47005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6031080" y="4960800"/>
            <a:ext cx="1587240" cy="1325520"/>
            <a:chOff x="6031080" y="4960800"/>
            <a:chExt cx="1587240" cy="1325520"/>
          </a:xfrm>
        </p:grpSpPr>
        <p:sp>
          <p:nvSpPr>
            <p:cNvPr id="837" name="Freeform 37"/>
            <p:cNvSpPr/>
            <p:nvPr/>
          </p:nvSpPr>
          <p:spPr>
            <a:xfrm>
              <a:off x="6031080" y="4960800"/>
              <a:ext cx="158724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38"/>
            <p:cNvSpPr/>
            <p:nvPr/>
          </p:nvSpPr>
          <p:spPr>
            <a:xfrm>
              <a:off x="6097320" y="5419440"/>
              <a:ext cx="122364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AutoShape 39"/>
            <p:cNvSpPr/>
            <p:nvPr/>
          </p:nvSpPr>
          <p:spPr>
            <a:xfrm>
              <a:off x="6095880" y="4986360"/>
              <a:ext cx="122508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AutoShape 40"/>
            <p:cNvSpPr/>
            <p:nvPr/>
          </p:nvSpPr>
          <p:spPr>
            <a:xfrm>
              <a:off x="6122880" y="4995720"/>
              <a:ext cx="116964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7466040" y="4960800"/>
            <a:ext cx="1373040" cy="1325520"/>
            <a:chOff x="7466040" y="4960800"/>
            <a:chExt cx="1373040" cy="1325520"/>
          </a:xfrm>
        </p:grpSpPr>
        <p:sp>
          <p:nvSpPr>
            <p:cNvPr id="842" name="Freeform 42"/>
            <p:cNvSpPr/>
            <p:nvPr/>
          </p:nvSpPr>
          <p:spPr>
            <a:xfrm>
              <a:off x="7466040" y="4960800"/>
              <a:ext cx="1373040" cy="1325520"/>
            </a:xfrm>
            <a:custGeom>
              <a:avLst/>
              <a:gdLst/>
              <a:ahLst/>
              <a:rect l="l" t="t" r="r" b="b"/>
              <a:pathLst>
                <a:path w="1796" h="1730">
                  <a:moveTo>
                    <a:pt x="1540" y="0"/>
                  </a:moveTo>
                  <a:lnTo>
                    <a:pt x="256" y="0"/>
                  </a:lnTo>
                  <a:lnTo>
                    <a:pt x="256" y="0"/>
                  </a:lnTo>
                  <a:lnTo>
                    <a:pt x="231" y="2"/>
                  </a:lnTo>
                  <a:lnTo>
                    <a:pt x="205" y="5"/>
                  </a:lnTo>
                  <a:lnTo>
                    <a:pt x="180" y="12"/>
                  </a:lnTo>
                  <a:lnTo>
                    <a:pt x="157" y="20"/>
                  </a:lnTo>
                  <a:lnTo>
                    <a:pt x="135" y="30"/>
                  </a:lnTo>
                  <a:lnTo>
                    <a:pt x="114" y="42"/>
                  </a:lnTo>
                  <a:lnTo>
                    <a:pt x="94" y="57"/>
                  </a:lnTo>
                  <a:lnTo>
                    <a:pt x="75" y="73"/>
                  </a:lnTo>
                  <a:lnTo>
                    <a:pt x="59" y="90"/>
                  </a:lnTo>
                  <a:lnTo>
                    <a:pt x="45" y="109"/>
                  </a:lnTo>
                  <a:lnTo>
                    <a:pt x="32" y="130"/>
                  </a:lnTo>
                  <a:lnTo>
                    <a:pt x="21" y="151"/>
                  </a:lnTo>
                  <a:lnTo>
                    <a:pt x="13" y="173"/>
                  </a:lnTo>
                  <a:lnTo>
                    <a:pt x="6" y="198"/>
                  </a:lnTo>
                  <a:lnTo>
                    <a:pt x="3" y="222"/>
                  </a:lnTo>
                  <a:lnTo>
                    <a:pt x="0" y="247"/>
                  </a:lnTo>
                  <a:lnTo>
                    <a:pt x="0" y="571"/>
                  </a:lnTo>
                  <a:lnTo>
                    <a:pt x="295" y="864"/>
                  </a:lnTo>
                  <a:lnTo>
                    <a:pt x="0" y="1159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3" y="1508"/>
                  </a:lnTo>
                  <a:lnTo>
                    <a:pt x="6" y="1532"/>
                  </a:lnTo>
                  <a:lnTo>
                    <a:pt x="13" y="1556"/>
                  </a:lnTo>
                  <a:lnTo>
                    <a:pt x="21" y="1579"/>
                  </a:lnTo>
                  <a:lnTo>
                    <a:pt x="32" y="1600"/>
                  </a:lnTo>
                  <a:lnTo>
                    <a:pt x="45" y="1621"/>
                  </a:lnTo>
                  <a:lnTo>
                    <a:pt x="59" y="1640"/>
                  </a:lnTo>
                  <a:lnTo>
                    <a:pt x="75" y="1657"/>
                  </a:lnTo>
                  <a:lnTo>
                    <a:pt x="94" y="1673"/>
                  </a:lnTo>
                  <a:lnTo>
                    <a:pt x="114" y="1688"/>
                  </a:lnTo>
                  <a:lnTo>
                    <a:pt x="135" y="1700"/>
                  </a:lnTo>
                  <a:lnTo>
                    <a:pt x="157" y="1710"/>
                  </a:lnTo>
                  <a:lnTo>
                    <a:pt x="180" y="1718"/>
                  </a:lnTo>
                  <a:lnTo>
                    <a:pt x="205" y="1725"/>
                  </a:lnTo>
                  <a:lnTo>
                    <a:pt x="231" y="1728"/>
                  </a:lnTo>
                  <a:lnTo>
                    <a:pt x="256" y="1730"/>
                  </a:lnTo>
                  <a:lnTo>
                    <a:pt x="1540" y="1730"/>
                  </a:lnTo>
                  <a:lnTo>
                    <a:pt x="1540" y="1730"/>
                  </a:lnTo>
                  <a:lnTo>
                    <a:pt x="1566" y="1728"/>
                  </a:lnTo>
                  <a:lnTo>
                    <a:pt x="1592" y="1725"/>
                  </a:lnTo>
                  <a:lnTo>
                    <a:pt x="1616" y="1718"/>
                  </a:lnTo>
                  <a:lnTo>
                    <a:pt x="1640" y="1710"/>
                  </a:lnTo>
                  <a:lnTo>
                    <a:pt x="1662" y="1700"/>
                  </a:lnTo>
                  <a:lnTo>
                    <a:pt x="1683" y="1688"/>
                  </a:lnTo>
                  <a:lnTo>
                    <a:pt x="1703" y="1673"/>
                  </a:lnTo>
                  <a:lnTo>
                    <a:pt x="1721" y="1657"/>
                  </a:lnTo>
                  <a:lnTo>
                    <a:pt x="1737" y="1640"/>
                  </a:lnTo>
                  <a:lnTo>
                    <a:pt x="1752" y="1621"/>
                  </a:lnTo>
                  <a:lnTo>
                    <a:pt x="1766" y="1600"/>
                  </a:lnTo>
                  <a:lnTo>
                    <a:pt x="1777" y="1579"/>
                  </a:lnTo>
                  <a:lnTo>
                    <a:pt x="1785" y="1556"/>
                  </a:lnTo>
                  <a:lnTo>
                    <a:pt x="1791" y="1532"/>
                  </a:lnTo>
                  <a:lnTo>
                    <a:pt x="1795" y="1508"/>
                  </a:lnTo>
                  <a:lnTo>
                    <a:pt x="1796" y="1483"/>
                  </a:lnTo>
                  <a:lnTo>
                    <a:pt x="1796" y="247"/>
                  </a:lnTo>
                  <a:lnTo>
                    <a:pt x="1796" y="247"/>
                  </a:lnTo>
                  <a:lnTo>
                    <a:pt x="1795" y="222"/>
                  </a:lnTo>
                  <a:lnTo>
                    <a:pt x="1791" y="198"/>
                  </a:lnTo>
                  <a:lnTo>
                    <a:pt x="1785" y="173"/>
                  </a:lnTo>
                  <a:lnTo>
                    <a:pt x="1777" y="151"/>
                  </a:lnTo>
                  <a:lnTo>
                    <a:pt x="1766" y="130"/>
                  </a:lnTo>
                  <a:lnTo>
                    <a:pt x="1752" y="109"/>
                  </a:lnTo>
                  <a:lnTo>
                    <a:pt x="1737" y="90"/>
                  </a:lnTo>
                  <a:lnTo>
                    <a:pt x="1721" y="73"/>
                  </a:lnTo>
                  <a:lnTo>
                    <a:pt x="1703" y="57"/>
                  </a:lnTo>
                  <a:lnTo>
                    <a:pt x="1683" y="42"/>
                  </a:lnTo>
                  <a:lnTo>
                    <a:pt x="1662" y="30"/>
                  </a:lnTo>
                  <a:lnTo>
                    <a:pt x="1640" y="20"/>
                  </a:lnTo>
                  <a:lnTo>
                    <a:pt x="1616" y="12"/>
                  </a:lnTo>
                  <a:lnTo>
                    <a:pt x="1592" y="5"/>
                  </a:lnTo>
                  <a:lnTo>
                    <a:pt x="1566" y="2"/>
                  </a:lnTo>
                  <a:lnTo>
                    <a:pt x="1540" y="0"/>
                  </a:lnTo>
                  <a:lnTo>
                    <a:pt x="154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 Box 43"/>
            <p:cNvSpPr/>
            <p:nvPr/>
          </p:nvSpPr>
          <p:spPr>
            <a:xfrm>
              <a:off x="754056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AutoShape 44"/>
            <p:cNvSpPr/>
            <p:nvPr/>
          </p:nvSpPr>
          <p:spPr>
            <a:xfrm>
              <a:off x="75373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AutoShape 45"/>
            <p:cNvSpPr/>
            <p:nvPr/>
          </p:nvSpPr>
          <p:spPr>
            <a:xfrm>
              <a:off x="75643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43080" y="3403440"/>
            <a:ext cx="1253880" cy="1438560"/>
            <a:chOff x="343080" y="3403440"/>
            <a:chExt cx="1253880" cy="1438560"/>
          </a:xfrm>
        </p:grpSpPr>
        <p:sp>
          <p:nvSpPr>
            <p:cNvPr id="847" name="Rectangle 116"/>
            <p:cNvSpPr/>
            <p:nvPr/>
          </p:nvSpPr>
          <p:spPr>
            <a:xfrm>
              <a:off x="3430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117"/>
            <p:cNvSpPr/>
            <p:nvPr/>
          </p:nvSpPr>
          <p:spPr>
            <a:xfrm>
              <a:off x="3524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118"/>
            <p:cNvSpPr/>
            <p:nvPr/>
          </p:nvSpPr>
          <p:spPr>
            <a:xfrm>
              <a:off x="3657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420480" y="3492720"/>
              <a:ext cx="1090800" cy="932760"/>
              <a:chOff x="420480" y="3492720"/>
              <a:chExt cx="1090800" cy="932760"/>
            </a:xfrm>
          </p:grpSpPr>
          <p:pic>
            <p:nvPicPr>
              <p:cNvPr id="851" name="Rectangle 119" descr="Building00005"/>
              <p:cNvPicPr/>
              <p:nvPr/>
            </p:nvPicPr>
            <p:blipFill>
              <a:blip r:embed="rId1"/>
              <a:stretch/>
            </p:blipFill>
            <p:spPr>
              <a:xfrm>
                <a:off x="4204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2" name=""/>
              <p:cNvSpPr/>
              <p:nvPr/>
            </p:nvSpPr>
            <p:spPr>
              <a:xfrm>
                <a:off x="4251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Rectangle 120"/>
            <p:cNvSpPr/>
            <p:nvPr/>
          </p:nvSpPr>
          <p:spPr>
            <a:xfrm>
              <a:off x="4294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121"/>
            <p:cNvSpPr/>
            <p:nvPr/>
          </p:nvSpPr>
          <p:spPr>
            <a:xfrm rot="10800000">
              <a:off x="4294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AutoShape 122"/>
            <p:cNvSpPr/>
            <p:nvPr/>
          </p:nvSpPr>
          <p:spPr>
            <a:xfrm rot="10800000">
              <a:off x="10854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AutoShape 123"/>
            <p:cNvSpPr/>
            <p:nvPr/>
          </p:nvSpPr>
          <p:spPr>
            <a:xfrm rot="5400000">
              <a:off x="4312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AutoShape 124"/>
            <p:cNvSpPr/>
            <p:nvPr/>
          </p:nvSpPr>
          <p:spPr>
            <a:xfrm>
              <a:off x="4374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AutoShape 125"/>
            <p:cNvSpPr/>
            <p:nvPr/>
          </p:nvSpPr>
          <p:spPr>
            <a:xfrm rot="16200000">
              <a:off x="12657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126"/>
            <p:cNvSpPr/>
            <p:nvPr/>
          </p:nvSpPr>
          <p:spPr>
            <a:xfrm rot="10800000">
              <a:off x="4294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1793880" y="3403440"/>
            <a:ext cx="1254240" cy="1438560"/>
            <a:chOff x="1793880" y="3403440"/>
            <a:chExt cx="1254240" cy="1438560"/>
          </a:xfrm>
        </p:grpSpPr>
        <p:sp>
          <p:nvSpPr>
            <p:cNvPr id="861" name="Rectangle 128"/>
            <p:cNvSpPr/>
            <p:nvPr/>
          </p:nvSpPr>
          <p:spPr>
            <a:xfrm>
              <a:off x="179388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29"/>
            <p:cNvSpPr/>
            <p:nvPr/>
          </p:nvSpPr>
          <p:spPr>
            <a:xfrm>
              <a:off x="180324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130"/>
            <p:cNvSpPr/>
            <p:nvPr/>
          </p:nvSpPr>
          <p:spPr>
            <a:xfrm>
              <a:off x="181656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1871280" y="3492720"/>
              <a:ext cx="1090800" cy="932760"/>
              <a:chOff x="1871280" y="3492720"/>
              <a:chExt cx="1090800" cy="932760"/>
            </a:xfrm>
          </p:grpSpPr>
          <p:pic>
            <p:nvPicPr>
              <p:cNvPr id="865" name="Rectangle 131" descr="Callcentre00022"/>
              <p:cNvPicPr/>
              <p:nvPr/>
            </p:nvPicPr>
            <p:blipFill>
              <a:blip r:embed="rId2"/>
              <a:stretch/>
            </p:blipFill>
            <p:spPr>
              <a:xfrm>
                <a:off x="18712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6" name=""/>
              <p:cNvSpPr/>
              <p:nvPr/>
            </p:nvSpPr>
            <p:spPr>
              <a:xfrm>
                <a:off x="18759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7" name="Rectangle 132"/>
            <p:cNvSpPr/>
            <p:nvPr/>
          </p:nvSpPr>
          <p:spPr>
            <a:xfrm>
              <a:off x="188028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33"/>
            <p:cNvSpPr/>
            <p:nvPr/>
          </p:nvSpPr>
          <p:spPr>
            <a:xfrm rot="10800000">
              <a:off x="187992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AutoShape 134"/>
            <p:cNvSpPr/>
            <p:nvPr/>
          </p:nvSpPr>
          <p:spPr>
            <a:xfrm rot="10800000">
              <a:off x="25362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AutoShape 135"/>
            <p:cNvSpPr/>
            <p:nvPr/>
          </p:nvSpPr>
          <p:spPr>
            <a:xfrm rot="5400000">
              <a:off x="18820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AutoShape 136"/>
            <p:cNvSpPr/>
            <p:nvPr/>
          </p:nvSpPr>
          <p:spPr>
            <a:xfrm>
              <a:off x="18882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AutoShape 137"/>
            <p:cNvSpPr/>
            <p:nvPr/>
          </p:nvSpPr>
          <p:spPr>
            <a:xfrm rot="16200000">
              <a:off x="27165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138"/>
            <p:cNvSpPr/>
            <p:nvPr/>
          </p:nvSpPr>
          <p:spPr>
            <a:xfrm rot="10800000">
              <a:off x="187992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3203640" y="3403440"/>
            <a:ext cx="1254240" cy="1438560"/>
            <a:chOff x="3203640" y="3403440"/>
            <a:chExt cx="1254240" cy="1438560"/>
          </a:xfrm>
        </p:grpSpPr>
        <p:sp>
          <p:nvSpPr>
            <p:cNvPr id="875" name="Rectangle 140"/>
            <p:cNvSpPr/>
            <p:nvPr/>
          </p:nvSpPr>
          <p:spPr>
            <a:xfrm>
              <a:off x="32036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41"/>
            <p:cNvSpPr/>
            <p:nvPr/>
          </p:nvSpPr>
          <p:spPr>
            <a:xfrm>
              <a:off x="32130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42"/>
            <p:cNvSpPr/>
            <p:nvPr/>
          </p:nvSpPr>
          <p:spPr>
            <a:xfrm>
              <a:off x="32263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3279600" y="3492720"/>
              <a:ext cx="1090800" cy="932760"/>
              <a:chOff x="3279600" y="3492720"/>
              <a:chExt cx="1090800" cy="932760"/>
            </a:xfrm>
          </p:grpSpPr>
          <p:pic>
            <p:nvPicPr>
              <p:cNvPr id="879" name="Rectangle 143" descr="Air00037"/>
              <p:cNvPicPr/>
              <p:nvPr/>
            </p:nvPicPr>
            <p:blipFill>
              <a:blip r:embed="rId3"/>
              <a:stretch/>
            </p:blipFill>
            <p:spPr>
              <a:xfrm>
                <a:off x="327960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32857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Rectangle 144"/>
            <p:cNvSpPr/>
            <p:nvPr/>
          </p:nvSpPr>
          <p:spPr>
            <a:xfrm>
              <a:off x="32900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45"/>
            <p:cNvSpPr/>
            <p:nvPr/>
          </p:nvSpPr>
          <p:spPr>
            <a:xfrm rot="10800000">
              <a:off x="32896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AutoShape 146"/>
            <p:cNvSpPr/>
            <p:nvPr/>
          </p:nvSpPr>
          <p:spPr>
            <a:xfrm rot="10800000">
              <a:off x="39459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AutoShape 147"/>
            <p:cNvSpPr/>
            <p:nvPr/>
          </p:nvSpPr>
          <p:spPr>
            <a:xfrm rot="5400000">
              <a:off x="32918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AutoShape 148"/>
            <p:cNvSpPr/>
            <p:nvPr/>
          </p:nvSpPr>
          <p:spPr>
            <a:xfrm>
              <a:off x="32979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AutoShape 149"/>
            <p:cNvSpPr/>
            <p:nvPr/>
          </p:nvSpPr>
          <p:spPr>
            <a:xfrm rot="16200000">
              <a:off x="41263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150"/>
            <p:cNvSpPr/>
            <p:nvPr/>
          </p:nvSpPr>
          <p:spPr>
            <a:xfrm rot="10800000">
              <a:off x="32896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4659480" y="3403440"/>
            <a:ext cx="1253880" cy="1438560"/>
            <a:chOff x="4659480" y="3403440"/>
            <a:chExt cx="1253880" cy="1438560"/>
          </a:xfrm>
        </p:grpSpPr>
        <p:sp>
          <p:nvSpPr>
            <p:cNvPr id="889" name="Rectangle 152"/>
            <p:cNvSpPr/>
            <p:nvPr/>
          </p:nvSpPr>
          <p:spPr>
            <a:xfrm>
              <a:off x="46594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153"/>
            <p:cNvSpPr/>
            <p:nvPr/>
          </p:nvSpPr>
          <p:spPr>
            <a:xfrm>
              <a:off x="46688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154"/>
            <p:cNvSpPr/>
            <p:nvPr/>
          </p:nvSpPr>
          <p:spPr>
            <a:xfrm>
              <a:off x="46821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4736160" y="3492720"/>
              <a:ext cx="1090800" cy="932760"/>
              <a:chOff x="4736160" y="3492720"/>
              <a:chExt cx="1090800" cy="932760"/>
            </a:xfrm>
          </p:grpSpPr>
          <p:pic>
            <p:nvPicPr>
              <p:cNvPr id="893" name="Rectangle 155" descr="Meeting00042"/>
              <p:cNvPicPr/>
              <p:nvPr/>
            </p:nvPicPr>
            <p:blipFill>
              <a:blip r:embed="rId4"/>
              <a:stretch/>
            </p:blipFill>
            <p:spPr>
              <a:xfrm>
                <a:off x="473616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"/>
              <p:cNvSpPr/>
              <p:nvPr/>
            </p:nvSpPr>
            <p:spPr>
              <a:xfrm>
                <a:off x="474120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5" name="Rectangle 156"/>
            <p:cNvSpPr/>
            <p:nvPr/>
          </p:nvSpPr>
          <p:spPr>
            <a:xfrm>
              <a:off x="47458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157"/>
            <p:cNvSpPr/>
            <p:nvPr/>
          </p:nvSpPr>
          <p:spPr>
            <a:xfrm rot="10800000">
              <a:off x="47458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AutoShape 158"/>
            <p:cNvSpPr/>
            <p:nvPr/>
          </p:nvSpPr>
          <p:spPr>
            <a:xfrm rot="10800000">
              <a:off x="54018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AutoShape 159"/>
            <p:cNvSpPr/>
            <p:nvPr/>
          </p:nvSpPr>
          <p:spPr>
            <a:xfrm rot="5400000">
              <a:off x="47476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160"/>
            <p:cNvSpPr/>
            <p:nvPr/>
          </p:nvSpPr>
          <p:spPr>
            <a:xfrm>
              <a:off x="47538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AutoShape 161"/>
            <p:cNvSpPr/>
            <p:nvPr/>
          </p:nvSpPr>
          <p:spPr>
            <a:xfrm rot="16200000">
              <a:off x="55821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162"/>
            <p:cNvSpPr/>
            <p:nvPr/>
          </p:nvSpPr>
          <p:spPr>
            <a:xfrm rot="10800000">
              <a:off x="47458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6080040" y="3403440"/>
            <a:ext cx="1254240" cy="1438560"/>
            <a:chOff x="6080040" y="3403440"/>
            <a:chExt cx="1254240" cy="1438560"/>
          </a:xfrm>
        </p:grpSpPr>
        <p:sp>
          <p:nvSpPr>
            <p:cNvPr id="903" name="Rectangle 164"/>
            <p:cNvSpPr/>
            <p:nvPr/>
          </p:nvSpPr>
          <p:spPr>
            <a:xfrm>
              <a:off x="60800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165"/>
            <p:cNvSpPr/>
            <p:nvPr/>
          </p:nvSpPr>
          <p:spPr>
            <a:xfrm>
              <a:off x="60894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166"/>
            <p:cNvSpPr/>
            <p:nvPr/>
          </p:nvSpPr>
          <p:spPr>
            <a:xfrm>
              <a:off x="61027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6156720" y="3492720"/>
              <a:ext cx="1090800" cy="932760"/>
              <a:chOff x="6156720" y="3492720"/>
              <a:chExt cx="1090800" cy="932760"/>
            </a:xfrm>
          </p:grpSpPr>
          <p:pic>
            <p:nvPicPr>
              <p:cNvPr id="907" name="Rectangle 167" descr="Handshake00007"/>
              <p:cNvPicPr/>
              <p:nvPr/>
            </p:nvPicPr>
            <p:blipFill>
              <a:blip r:embed="rId5"/>
              <a:stretch/>
            </p:blipFill>
            <p:spPr>
              <a:xfrm>
                <a:off x="615672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8" name=""/>
              <p:cNvSpPr/>
              <p:nvPr/>
            </p:nvSpPr>
            <p:spPr>
              <a:xfrm>
                <a:off x="61621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9" name="Rectangle 168"/>
            <p:cNvSpPr/>
            <p:nvPr/>
          </p:nvSpPr>
          <p:spPr>
            <a:xfrm>
              <a:off x="61664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169"/>
            <p:cNvSpPr/>
            <p:nvPr/>
          </p:nvSpPr>
          <p:spPr>
            <a:xfrm rot="10800000">
              <a:off x="61660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utoShape 170"/>
            <p:cNvSpPr/>
            <p:nvPr/>
          </p:nvSpPr>
          <p:spPr>
            <a:xfrm rot="10800000">
              <a:off x="68223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AutoShape 171"/>
            <p:cNvSpPr/>
            <p:nvPr/>
          </p:nvSpPr>
          <p:spPr>
            <a:xfrm rot="5400000">
              <a:off x="61682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AutoShape 172"/>
            <p:cNvSpPr/>
            <p:nvPr/>
          </p:nvSpPr>
          <p:spPr>
            <a:xfrm>
              <a:off x="61743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AutoShape 173"/>
            <p:cNvSpPr/>
            <p:nvPr/>
          </p:nvSpPr>
          <p:spPr>
            <a:xfrm rot="16200000">
              <a:off x="70027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174"/>
            <p:cNvSpPr/>
            <p:nvPr/>
          </p:nvSpPr>
          <p:spPr>
            <a:xfrm rot="10800000">
              <a:off x="61660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7523280" y="3403440"/>
            <a:ext cx="1253880" cy="1438560"/>
            <a:chOff x="7523280" y="3403440"/>
            <a:chExt cx="1253880" cy="1438560"/>
          </a:xfrm>
        </p:grpSpPr>
        <p:sp>
          <p:nvSpPr>
            <p:cNvPr id="917" name="Rectangle 176"/>
            <p:cNvSpPr/>
            <p:nvPr/>
          </p:nvSpPr>
          <p:spPr>
            <a:xfrm>
              <a:off x="75232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77"/>
            <p:cNvSpPr/>
            <p:nvPr/>
          </p:nvSpPr>
          <p:spPr>
            <a:xfrm>
              <a:off x="75326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78"/>
            <p:cNvSpPr/>
            <p:nvPr/>
          </p:nvSpPr>
          <p:spPr>
            <a:xfrm>
              <a:off x="75459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7601760" y="3492720"/>
              <a:ext cx="1090440" cy="932760"/>
              <a:chOff x="7601760" y="3492720"/>
              <a:chExt cx="1090440" cy="932760"/>
            </a:xfrm>
          </p:grpSpPr>
          <p:pic>
            <p:nvPicPr>
              <p:cNvPr id="921" name="Rectangle 179" descr="Presentation00007"/>
              <p:cNvPicPr/>
              <p:nvPr/>
            </p:nvPicPr>
            <p:blipFill>
              <a:blip r:embed="rId6"/>
              <a:stretch/>
            </p:blipFill>
            <p:spPr>
              <a:xfrm>
                <a:off x="7601760" y="3492720"/>
                <a:ext cx="109044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2" name=""/>
              <p:cNvSpPr/>
              <p:nvPr/>
            </p:nvSpPr>
            <p:spPr>
              <a:xfrm>
                <a:off x="7605360" y="3501360"/>
                <a:ext cx="107820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Rectangle 180"/>
            <p:cNvSpPr/>
            <p:nvPr/>
          </p:nvSpPr>
          <p:spPr>
            <a:xfrm>
              <a:off x="76096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181"/>
            <p:cNvSpPr/>
            <p:nvPr/>
          </p:nvSpPr>
          <p:spPr>
            <a:xfrm rot="10800000">
              <a:off x="76096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AutoShape 182"/>
            <p:cNvSpPr/>
            <p:nvPr/>
          </p:nvSpPr>
          <p:spPr>
            <a:xfrm rot="10800000">
              <a:off x="82656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AutoShape 183"/>
            <p:cNvSpPr/>
            <p:nvPr/>
          </p:nvSpPr>
          <p:spPr>
            <a:xfrm rot="5400000">
              <a:off x="76114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AutoShape 184"/>
            <p:cNvSpPr/>
            <p:nvPr/>
          </p:nvSpPr>
          <p:spPr>
            <a:xfrm>
              <a:off x="76176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AutoShape 185"/>
            <p:cNvSpPr/>
            <p:nvPr/>
          </p:nvSpPr>
          <p:spPr>
            <a:xfrm rot="16200000">
              <a:off x="84459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86"/>
            <p:cNvSpPr/>
            <p:nvPr/>
          </p:nvSpPr>
          <p:spPr>
            <a:xfrm rot="10800000">
              <a:off x="76096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931" name="Freeform 17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70ba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18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AutoShape 19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AutoShape 20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57200" y="83664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4:48:0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1:06:51Z</dcterms:modified>
  <cp:revision>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