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I:\yoyo\新建文件夹 (2)\内页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I:\yoyo\新建文件夹 (2)\封面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0800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05000" y="2060640"/>
            <a:ext cx="3211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移动公司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G3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cc0000"/>
              </a:solidFill>
              <a:latin typeface="Times New Roman"/>
              <a:ea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cc0000"/>
              </a:solidFill>
              <a:latin typeface="Times New Roman"/>
              <a:ea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3:17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5:41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