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5D76C-A09E-46BC-BF01-FA536E298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0CED8-97DC-4ECC-B360-7D5C8D5B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E362C-BEA1-4CAC-A6F0-D530D116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38A7F-BB31-4251-A295-5366B40D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BF59E-55BB-4679-82B5-9DEBBAD5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50560" y="289080"/>
            <a:ext cx="8086680" cy="24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16F8B-6193-4BE4-B664-8B4F8D28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DF647-48B7-493E-802D-62DDAC15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D1893-1759-47F2-8A4F-39E24C4C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44E62-7D71-4657-BA6B-05C828E4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4FCB0-DD80-4126-BF92-859BD569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99CFD-E15E-4D6C-AD92-E6501AB2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45FC2-81AE-46B4-8E89-82F284D3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50560" y="289080"/>
            <a:ext cx="8086680" cy="24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世博会0204-11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黑体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3004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黑体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2" descr="世博会0204-1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15"/>
          <p:cNvSpPr/>
          <p:nvPr/>
        </p:nvSpPr>
        <p:spPr>
          <a:xfrm>
            <a:off x="71280" y="5300640"/>
            <a:ext cx="176400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41" name="Picture 17" descr="7"/>
          <p:cNvPicPr/>
          <p:nvPr/>
        </p:nvPicPr>
        <p:blipFill>
          <a:blip r:embed="rId3"/>
          <a:stretch/>
        </p:blipFill>
        <p:spPr>
          <a:xfrm>
            <a:off x="0" y="5734080"/>
            <a:ext cx="1187280" cy="1123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黑体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3004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黑体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C29E-0048-4A93-ADE8-48203B0F483C}" type="slidenum">
              <a:rPr b="0" lang="en-US" sz="1400" spc="-1" strike="noStrike">
                <a:solidFill>
                  <a:srgbClr val="000000"/>
                </a:solidFill>
                <a:latin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qiye/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280" y="1704960"/>
            <a:ext cx="7774200" cy="201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66840" y="479700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YYY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85" name="Picture 5" descr="7"/>
          <p:cNvPicPr/>
          <p:nvPr/>
        </p:nvPicPr>
        <p:blipFill>
          <a:blip r:embed="rId1"/>
          <a:stretch/>
        </p:blipFill>
        <p:spPr>
          <a:xfrm>
            <a:off x="3708360" y="189000"/>
            <a:ext cx="1440000" cy="1368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55640" y="2060640"/>
            <a:ext cx="46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黑体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黑体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7" name=""/>
          <p:cNvSpPr/>
          <p:nvPr/>
        </p:nvSpPr>
        <p:spPr>
          <a:xfrm>
            <a:off x="573480" y="836640"/>
            <a:ext cx="2822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移动公司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素材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4149720"/>
            <a:ext cx="5616720" cy="3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黑体"/>
                <a:hlinkClick r:id="rId1"/>
              </a:rPr>
              <a:t>企业ppt模板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</a:rPr>
              <a:t>http://www.eeppt.com/moban/qiye/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</a:rPr>
              <a:t>使用规范说明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C083B-F5AD-49CD-B79D-41A3895BED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08:46:2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6T12:39:48Z</dcterms:modified>
  <cp:revision>103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