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A08-F382-46F1-8D46-55DD79D2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546-5D8D-4614-940C-2B55213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777-AE70-4340-A6EB-7130188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008-F6E9-4CC6-8EA9-00784923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CA1-26F1-4A14-81EC-FC7F6FEB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DFC-AA3F-4038-8672-2E2ADBA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B56-3FBA-406B-93CA-4DACCDA5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560-E59C-453B-AF47-34E6CB02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2CA-AEE7-4148-81FD-377E36B7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D44-BE57-46BD-A966-0636DD82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EF0-9395-4E4B-9BAA-65C0C88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03A-A56A-4879-9E5B-90CA56D2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609-6FAE-485F-8533-64C8888BF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1720" y="549360"/>
            <a:ext cx="31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渔夫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6"/>
          <p:cNvSpPr/>
          <p:nvPr/>
        </p:nvSpPr>
        <p:spPr>
          <a:xfrm>
            <a:off x="228600" y="150012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魔鬼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夫说道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罗门已经死了一千八百年了，你是怎么钻到这个瓶子里的呢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渔夫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个魔鬼，我是个堂堂的人。我的智慧一定能压制他的妖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我非常生气，我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今以后，谁要是来解救我，我一定要杀死他，不过准许他选择怎样死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，魔鬼摇身一变，变成一团青烟，逐渐缩成一缕，慢慢地钻进胆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5562720" y="1874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语言描写   诚实善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486400" y="3017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心理描写      勇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30"/>
          <p:cNvSpPr/>
          <p:nvPr/>
        </p:nvSpPr>
        <p:spPr>
          <a:xfrm>
            <a:off x="5495760" y="4724280"/>
            <a:ext cx="37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语言描写      凶残虚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1"/>
          <p:cNvSpPr/>
          <p:nvPr/>
        </p:nvSpPr>
        <p:spPr>
          <a:xfrm>
            <a:off x="5562720" y="61419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动作描写      愚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32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下列各句所使用的描写方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塑造了什么样的人物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rrr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33520" y="228600"/>
            <a:ext cx="7086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个 故 事 说 明 了 什 么 道 理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752480"/>
            <a:ext cx="3429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义力量一定能战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恶势力，对付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样的凶恶敌人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抱有幻想、施加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慈，而要敢于斗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依靠自己的智慧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量去战胜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80880" y="495288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未标题-3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未标题-5"/>
          <p:cNvPicPr/>
          <p:nvPr/>
        </p:nvPicPr>
        <p:blipFill>
          <a:blip r:embed="rId3"/>
          <a:stretch/>
        </p:blipFill>
        <p:spPr>
          <a:xfrm>
            <a:off x="0" y="2438280"/>
            <a:ext cx="464832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未标题-4"/>
          <p:cNvPicPr/>
          <p:nvPr/>
        </p:nvPicPr>
        <p:blipFill>
          <a:blip r:embed="rId4"/>
          <a:stretch/>
        </p:blipFill>
        <p:spPr>
          <a:xfrm>
            <a:off x="4648320" y="2438280"/>
            <a:ext cx="449568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04920" y="4292640"/>
            <a:ext cx="8839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→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→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现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→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逞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入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676520" y="4267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完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F71-E9EB-40F8-B40C-B31BA6D54E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14400" y="2286000"/>
            <a:ext cx="5791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未标题-1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253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渔夫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渔夫和魔鬼前后心理各发生了怎样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825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63760" y="1143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46376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971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鲜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8720" y="4581360"/>
            <a:ext cx="106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447920" y="25830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rrr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33520" y="228600"/>
            <a:ext cx="7086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个 故 事 说 明 了 什 么 道 理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752480"/>
            <a:ext cx="3429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义力量一定能战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恶势力，对付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样的凶恶敌人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抱有幻想、施加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慈，而要敢于斗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依靠自己的智慧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量去战胜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57400" y="228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突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5292720" y="1141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未标题-2"/>
          <p:cNvPicPr/>
          <p:nvPr/>
        </p:nvPicPr>
        <p:blipFill>
          <a:blip r:embed="rId1"/>
          <a:stretch/>
        </p:blipFill>
        <p:spPr>
          <a:xfrm>
            <a:off x="3495600" y="0"/>
            <a:ext cx="5639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29120" y="137160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 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未标题-3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97600" y="1447920"/>
            <a:ext cx="2009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开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-485280" y="1447920"/>
            <a:ext cx="2009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现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身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未标题-5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81760" y="1371600"/>
            <a:ext cx="2009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逞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未标题-4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6440" y="1066680"/>
            <a:ext cx="2009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00520" y="1066680"/>
            <a:ext cx="2009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464832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未标题-3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未标题-5"/>
          <p:cNvPicPr/>
          <p:nvPr/>
        </p:nvPicPr>
        <p:blipFill>
          <a:blip r:embed="rId3"/>
          <a:stretch/>
        </p:blipFill>
        <p:spPr>
          <a:xfrm>
            <a:off x="0" y="2895480"/>
            <a:ext cx="464832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未标题-4"/>
          <p:cNvPicPr/>
          <p:nvPr/>
        </p:nvPicPr>
        <p:blipFill>
          <a:blip r:embed="rId4"/>
          <a:stretch/>
        </p:blipFill>
        <p:spPr>
          <a:xfrm>
            <a:off x="4648320" y="2895480"/>
            <a:ext cx="4495680" cy="266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0" y="502128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99880" y="4284720"/>
            <a:ext cx="883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09480" y="569916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渔夫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rrr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3520" y="19051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用了什么修辞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371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采用了什么描写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09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2438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表现了魔鬼的什么特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未标题-5"/>
          <p:cNvPicPr/>
          <p:nvPr/>
        </p:nvPicPr>
        <p:blipFill>
          <a:blip r:embed="rId1"/>
          <a:stretch/>
        </p:blipFill>
        <p:spPr>
          <a:xfrm>
            <a:off x="42670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33520" y="533520"/>
            <a:ext cx="3733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魔鬼头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灯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腿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铁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桅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堡垒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眼睛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山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牙齿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白石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鼻孔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喇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样子非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凶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未标题-1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335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渔夫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渔夫和魔鬼前后心理各发生了怎样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907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907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9216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907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21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50:43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