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12DE-0CC0-4EE4-A1B7-0923ECB4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E3A-1C6E-49E8-8C3C-7C2C4CA9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B4EA-6954-4E4D-9CD7-85563093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CB2-B3F8-49B3-9400-DFB4EF7B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4D1-1B30-4189-92F8-BAD58A23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13A-869B-4EE8-BF74-9BCFEB6C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E93-FA28-4281-B9CF-37433BF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AAD-3020-48CA-B313-FEDBE616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DB9-446D-483A-BDA4-D24FA99A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C25-BC61-449E-8116-5DE9403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EBB-8F67-4FA9-A8B0-EC5BE15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E82-1A14-4217-A8DD-E51139F5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0F1B-63E6-41B9-86F8-209D30FE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opy.wav" TargetMode="External"/><Relationship Id="rId2" Type="http://schemas.microsoft.com/office/2007/relationships/media" Target="file:///tmp/home/.config/libreoffice/4/user/gallery/copy.wav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95280" y="242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矩形 11"/>
          <p:cNvSpPr/>
          <p:nvPr/>
        </p:nvSpPr>
        <p:spPr>
          <a:xfrm>
            <a:off x="1258920" y="661500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86600" y="90972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水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23736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AEA-0839-4828-AD85-61A3998EB2E5}" type="slidenum">
              <a:t>2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2:26:4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9:46:32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