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2D0-7F41-4436-9E1B-5F92F1B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59C-7A7D-4E5F-8B62-C385474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981-B402-4ACB-96D3-A9EA96BB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1DC-9F61-4C83-8B45-36FA501A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BC9-8B7D-4B13-87C6-A02CCBBD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4F4-21C7-4D8F-8952-672B7107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305-07ED-40ED-B6AC-A467225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0A8-4924-487E-B0A7-DBB93B94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46E-3A2A-40E7-98EF-BE61088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7B0-B23E-4D65-A23B-89933A6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A43-65D9-47F1-9B98-EA786A8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FAB-9957-4C2F-B95C-D799F4E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7C22-5CEB-4E39-9742-64785A464B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7E91-CDFD-4D11-A9CB-37631C85CA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25560" y="-68400"/>
            <a:ext cx="9323640" cy="69580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84240" y="-98280"/>
            <a:ext cx="9394920" cy="7145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-108000" y="1628640"/>
            <a:ext cx="6769080" cy="503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ww.eeppt.com/moban/zhongguofeng/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-34920" y="-98280"/>
            <a:ext cx="9321840" cy="697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9080" y="4724280"/>
            <a:ext cx="7840800" cy="192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03720" y="98100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风水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9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8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F:\PPT 任务\水晶图片\抠图PNG\墨痕.png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32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9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" descr="F:\PPT 任务\水晶图片\抠图PNG\墨痕.png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37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9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F:\PPT 任务\水晶图片\抠图PNG\墨痕.png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537-DF4F-4D39-AA9E-849F190BC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2843280" y="26028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  文  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108684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8496360" y="220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3:5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