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8C2-3DF4-486A-B3AB-7BB7624E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E182-B03F-4A71-BFAE-4671C9EA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868-A0BB-41FA-9C57-D9D82675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9D6-BB00-4CD4-9D36-504EAB68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A997-8E06-4D8B-BE0B-B6DA9C35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A11A-3111-4BD2-B927-AB816312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C5C6-CB15-4623-B1D3-05C80D67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A80-BECC-4758-B203-3EB5A8E4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5B38-1F29-42E4-9494-E12B1D06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2684-5464-495A-9739-1229C50B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3C0-2EE1-48D1-BE58-62C998F0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C92-DA94-439C-A284-3583C0A7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69A9-2149-42A3-9444-FB517ED593B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5A93-4A9C-48D3-8CE0-C44818847D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70760" y="201456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7c6e5"/>
                </a:solidFill>
                <a:latin typeface="Arial"/>
              </a:rPr>
              <a:t>总结</a:t>
            </a:r>
            <a:r>
              <a:rPr b="0" lang="en-US" sz="3200" spc="-1" strike="noStrike">
                <a:solidFill>
                  <a:srgbClr val="a7c6e5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a7c6e5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659-A515-43DE-9F03-B7505C545A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10:02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