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gif" ContentType="image/gif"/>
  <Override PartName="/ppt/media/image11.gif" ContentType="image/gif"/>
  <Override PartName="/ppt/media/image7.gif" ContentType="image/gif"/>
  <Override PartName="/ppt/media/image9.gif" ContentType="image/gif"/>
  <Override PartName="/ppt/media/image10.gif" ContentType="image/gi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97B-183B-4439-9978-75EB6A0B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DAF5-30AD-4B40-A30F-08489AAC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464A-AEA8-4C39-9F4B-651D5893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7B7-CB9E-4765-838F-B0694C66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412-09B6-4AB0-9611-ADBCC9AB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58A-9A36-4DF6-8EBB-3FE6EC3E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0B09-4BBB-479B-BD20-F5071168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EA7-0C6D-47B4-A35A-655E4528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F857-4830-4C7F-9D65-5AA18D6B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FBA-A58C-48C5-AAE0-84FA74A5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0F9-9BF7-432D-B3DF-368A43C5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9E2-E14F-4CB8-AB53-989F5DEE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AB29-F4B3-42CE-8C48-39E41173390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img_titani01"/>
          <p:cNvPicPr/>
          <p:nvPr/>
        </p:nvPicPr>
        <p:blipFill>
          <a:blip r:embed="rId2"/>
          <a:stretch/>
        </p:blipFill>
        <p:spPr>
          <a:xfrm>
            <a:off x="1547640" y="5084640"/>
            <a:ext cx="5639040" cy="1420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13080" y="2997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560" y="765000"/>
            <a:ext cx="37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自然之道教学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71640" y="270828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不按照自然规律办事，往往会产生与我们的愿望相反的结果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447920" y="533520"/>
            <a:ext cx="26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警示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12_1807_149"/>
          <p:cNvPicPr/>
          <p:nvPr/>
        </p:nvPicPr>
        <p:blipFill>
          <a:blip r:embed="rId2"/>
          <a:stretch/>
        </p:blipFill>
        <p:spPr>
          <a:xfrm>
            <a:off x="1905120" y="4876920"/>
            <a:ext cx="5875200" cy="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1143000" y="2133720"/>
            <a:ext cx="76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侦察    企图    情愿    蠢事   补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143000" y="6094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挑   战   自   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0004"/>
          <p:cNvPicPr/>
          <p:nvPr/>
        </p:nvPicPr>
        <p:blipFill>
          <a:blip r:embed="rId2"/>
          <a:stretch/>
        </p:blipFill>
        <p:spPr>
          <a:xfrm>
            <a:off x="7391520" y="5029200"/>
            <a:ext cx="1123920" cy="1292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258920" y="342900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争先恐后   欲出又止  若无其事  见死不救   鱼贯而出  愚不可及    气喘吁吁   响彻云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E14-F8A2-41E0-ABC1-9958BB42AE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1476360" y="1844640"/>
            <a:ext cx="70866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１、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突然，一只幼龟把头探出巢穴，却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欲出又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似乎在侦察外面是否安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523880" y="403848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２、 向导抱走幼龟不久，成群的幼龟从巢口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鱼贯而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143000" y="304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朗读体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0005"/>
          <p:cNvPicPr/>
          <p:nvPr/>
        </p:nvPicPr>
        <p:blipFill>
          <a:blip r:embed="rId2"/>
          <a:stretch/>
        </p:blipFill>
        <p:spPr>
          <a:xfrm>
            <a:off x="7086600" y="5105520"/>
            <a:ext cx="838080" cy="63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0005"/>
          <p:cNvPicPr/>
          <p:nvPr/>
        </p:nvPicPr>
        <p:blipFill>
          <a:blip r:embed="rId3"/>
          <a:stretch/>
        </p:blipFill>
        <p:spPr>
          <a:xfrm>
            <a:off x="3962520" y="5791320"/>
            <a:ext cx="838080" cy="63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0005"/>
          <p:cNvPicPr/>
          <p:nvPr/>
        </p:nvPicPr>
        <p:blipFill>
          <a:blip r:embed="rId4"/>
          <a:stretch/>
        </p:blipFill>
        <p:spPr>
          <a:xfrm>
            <a:off x="5943600" y="5638680"/>
            <a:ext cx="838080" cy="63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0005"/>
          <p:cNvPicPr/>
          <p:nvPr/>
        </p:nvPicPr>
        <p:blipFill>
          <a:blip r:embed="rId5"/>
          <a:stretch/>
        </p:blipFill>
        <p:spPr>
          <a:xfrm>
            <a:off x="1600200" y="5486400"/>
            <a:ext cx="838080" cy="63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0005"/>
          <p:cNvPicPr/>
          <p:nvPr/>
        </p:nvPicPr>
        <p:blipFill>
          <a:blip r:embed="rId6"/>
          <a:stretch/>
        </p:blipFill>
        <p:spPr>
          <a:xfrm>
            <a:off x="4876920" y="533520"/>
            <a:ext cx="838080" cy="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066320" y="28191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向导却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若无其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地答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叼就叼去吧，自然之道，就是这样的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4267080" y="304920"/>
            <a:ext cx="4427640" cy="1873080"/>
          </a:xfrm>
          <a:prstGeom prst="cloudCallout">
            <a:avLst>
              <a:gd name="adj1" fmla="val -34296"/>
              <a:gd name="adj2" fmla="val 69236"/>
            </a:avLst>
          </a:prstGeom>
          <a:solidFill>
            <a:srgbClr val="1eb6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想一想：向导为什么这么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64533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514600" y="53352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大家一起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295280" y="2362320"/>
            <a:ext cx="7162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以小组为单位确定本组要解决的问题，在文中寻找答案，读一读并交流看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371600" y="2057400"/>
            <a:ext cx="6781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１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向导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极不情愿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地抱起那只小龟，朝大海走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523880" y="3886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２、向导抱起那只小龟，朝大海走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1" descr="0007"/>
          <p:cNvPicPr/>
          <p:nvPr/>
        </p:nvPicPr>
        <p:blipFill>
          <a:blip r:embed="rId2"/>
          <a:stretch/>
        </p:blipFill>
        <p:spPr>
          <a:xfrm>
            <a:off x="5638680" y="5029200"/>
            <a:ext cx="114300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219320" y="1905120"/>
            <a:ext cx="6858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１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和同伴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紧张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看着眼前的一幕，其中一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焦急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向导说：“你得想想办法啊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bt66"/>
          <p:cNvPicPr/>
          <p:nvPr/>
        </p:nvPicPr>
        <p:blipFill>
          <a:blip r:embed="rId2"/>
          <a:stretch/>
        </p:blipFill>
        <p:spPr>
          <a:xfrm>
            <a:off x="1523880" y="5638680"/>
            <a:ext cx="6934320" cy="554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619280" y="43657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２、“天啊！看我们做些了什么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619280" y="2637000"/>
            <a:ext cx="6705720" cy="18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果不是我们，这些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龟根本就不会受到伤害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708360" y="9079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悲叹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64533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2:49:18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07-15T07:51:39Z</dcterms:modified>
  <cp:revision>10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