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9661-775A-48EC-8EFF-3B455159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826-9F59-4AA4-B898-42E1DD5A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6C6-E304-49FF-978B-42DD5F20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BD5-231E-4B44-BCB2-1AFB7DC2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CA4B-8515-4BF3-ABC9-2505E0C5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E505-B3B8-488A-B904-B63C7C3E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AE68-D6BE-4DCB-9B24-80E406CC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076-D577-4D3A-AD04-13A5ED45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43F-5125-4512-AB1E-F4ED3536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C585-450A-4B01-8B0D-7F88D241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5B2-C8F5-459B-8250-D28987E3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ACC-3B91-41B6-900C-4F6BAABC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2533-F6B4-4FD0-AD1E-548A6E7F9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38080" y="1386000"/>
            <a:ext cx="5943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627280" y="3733920"/>
            <a:ext cx="354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《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晏子春秋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38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1052640"/>
            <a:ext cx="5473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Times New Roman"/>
              </a:rPr>
              <a:t>晏子使楚</a:t>
            </a:r>
            <a:r>
              <a:rPr b="0" lang="zh-CN" sz="45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Times New Roman"/>
              </a:rPr>
              <a:t>课件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09480" y="53352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Times New Roman"/>
                <a:ea typeface="楷体_GB2312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533520" y="14479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、魏晋时期文学家孔融小时候很聪明。有个傲慢的大官很瞧不起他，说：“小时候聪明，大了就未必。”你知道孔融是怎么回答的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蚱蜢"/>
          <p:cNvPicPr/>
          <p:nvPr/>
        </p:nvPicPr>
        <p:blipFill>
          <a:blip r:embed="rId1"/>
          <a:stretch/>
        </p:blipFill>
        <p:spPr>
          <a:xfrm>
            <a:off x="0" y="48006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1828800" y="4419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看来你小时侯一定很聪明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544500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762120" y="9144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、美国记者采访周总理时问：“我们美国人走路抬头挺胸，为什么你们中国人走路老低着头？”你能替周总理回答这个问题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447920" y="37339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因为我们走的是上坡路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荷花"/>
          <p:cNvPicPr/>
          <p:nvPr/>
        </p:nvPicPr>
        <p:blipFill>
          <a:blip r:embed="rId1"/>
          <a:stretch/>
        </p:blipFill>
        <p:spPr>
          <a:xfrm>
            <a:off x="5715000" y="426708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26"/>
          <p:cNvSpPr/>
          <p:nvPr/>
        </p:nvSpPr>
        <p:spPr>
          <a:xfrm>
            <a:off x="7400880" y="55990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荷花"/>
          <p:cNvPicPr/>
          <p:nvPr/>
        </p:nvPicPr>
        <p:blipFill>
          <a:blip r:embed="rId1"/>
          <a:stretch/>
        </p:blipFill>
        <p:spPr>
          <a:xfrm>
            <a:off x="5715000" y="426708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0" y="22860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晏  子  将  使  楚。 楚王     闻        之，         谓  左右  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晏婴，齐  之    习     辞     者     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今    方   来，吾  欲  辱  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何      以      也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     左右对曰：“为 其 来也，臣请        缚  一人过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行。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王曰，何  为  者  也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  曰：齐人也。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王  曰，何           坐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曰，  坐   盗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143000" y="685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出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124080" y="6858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听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4038480" y="685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代这个消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5867280" y="685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对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…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判断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1371600" y="1905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05740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熟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3200400" y="1905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51814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将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7620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代晏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宾语前置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25146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回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809880" y="281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è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5029200" y="2971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请允许干某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7467480" y="2971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0" y="3962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宾语前置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为何  为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é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5181480" y="4038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宾语前置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坐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7772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犯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533520" y="5105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犯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0" y="57150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楚国君臣事前的密谋策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838080" y="38088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0" y="68580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晏子至，楚王    赐    晏子酒。  酒             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吏二缚 一人 诣 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王曰：“缚者     曷     为  者也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对曰：“齐人也，坐   盗。”王    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晏子曰“齐人   固     善    盗乎？”晏子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避  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对曰：“婴  闻         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橘 生   淮南  则  为  橘，生 于 淮北则为枳，叶徒相似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实味不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      以          然    者    何？   水土   异    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8288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赏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343400" y="1143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喝酒喝得正高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9343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807732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0" y="2209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宾语前置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1828800" y="2209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通假字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曷”通“何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什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1371600" y="3352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本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2286000" y="3352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善于擅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4648320" y="3352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离开座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7543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代这样的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1619280" y="4365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2050920" y="4437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变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6095880" y="4343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只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6948360" y="44370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它们的果    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的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2057400" y="548640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代词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,    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这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495288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不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228600" y="1447920"/>
            <a:ext cx="8915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今民生长于齐不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楚则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得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楚 之 水土 使民   善  盗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王笑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“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圣   人  非  所  与         熙          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寡人  反 取  病  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495680" y="1981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莫非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难道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514600" y="2971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581280" y="2895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熙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通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“嬉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：开玩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6201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819520" y="518148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第二段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晏子机智地挫败了楚国君臣的阴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8" descr="蚱蜢"/>
          <p:cNvPicPr/>
          <p:nvPr/>
        </p:nvPicPr>
        <p:blipFill>
          <a:blip r:embed="rId1"/>
          <a:stretch/>
        </p:blipFill>
        <p:spPr>
          <a:xfrm>
            <a:off x="0" y="48006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xiaoniao"/>
          <p:cNvPicPr/>
          <p:nvPr/>
        </p:nvPicPr>
        <p:blipFill>
          <a:blip r:embed="rId1"/>
          <a:stretch/>
        </p:blipFill>
        <p:spPr>
          <a:xfrm>
            <a:off x="6858000" y="4805280"/>
            <a:ext cx="2286000" cy="2052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304920" y="304920"/>
            <a:ext cx="16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结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04920" y="10666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古今异义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 坐、其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04920" y="1676520"/>
            <a:ext cx="6788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通假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王曰：“缚者曷为者也？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王笑曰：“圣人非所与熙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”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867280" y="1676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715000" y="16002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曷”通“何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什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6705720" y="23623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029200" y="2743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638680" y="2666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410080" y="2590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熙”通“嬉”：开玩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228600" y="3200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词类活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善：形容词用作动词：善于、擅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04920" y="3962520"/>
            <a:ext cx="8305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常见文言句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固定格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  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莫非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难道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判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宾语前置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5">
            <a:hlinkClick r:id="" action="ppaction://hlinkshowjump?jump=nextslide"/>
            <a:hlinkClick r:id="rId2"/>
          </p:cNvPr>
          <p:cNvSpPr/>
          <p:nvPr/>
        </p:nvSpPr>
        <p:spPr>
          <a:xfrm>
            <a:off x="2590920" y="5638680"/>
            <a:ext cx="533160" cy="304920"/>
          </a:xfrm>
          <a:custGeom>
            <a:avLst/>
            <a:gdLst>
              <a:gd name="textAreaLeft" fmla="*/ 19080 w 533160"/>
              <a:gd name="textAreaRight" fmla="*/ 514440 w 53316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99" y="1350"/>
                </a:lnTo>
                <a:lnTo>
                  <a:pt x="1350" y="135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99" y="20250"/>
                </a:lnTo>
                <a:lnTo>
                  <a:pt x="36399" y="135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399" y="2025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49" h="21600">
                <a:moveTo>
                  <a:pt x="18875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37749" h="21600">
                <a:moveTo>
                  <a:pt x="19986" y="14300"/>
                </a:moveTo>
                <a:lnTo>
                  <a:pt x="19986" y="12331"/>
                </a:lnTo>
                <a:cubicBezTo>
                  <a:pt x="19986" y="11500"/>
                  <a:pt x="20318" y="10800"/>
                  <a:pt x="20922" y="10800"/>
                </a:cubicBezTo>
                <a:cubicBezTo>
                  <a:pt x="22060" y="10800"/>
                  <a:pt x="22961" y="9426"/>
                  <a:pt x="22961" y="7834"/>
                </a:cubicBezTo>
                <a:cubicBezTo>
                  <a:pt x="22961" y="5506"/>
                  <a:pt x="21097" y="3756"/>
                  <a:pt x="18875" y="3756"/>
                </a:cubicBezTo>
                <a:cubicBezTo>
                  <a:pt x="16652" y="3756"/>
                  <a:pt x="14972" y="5506"/>
                  <a:pt x="14972" y="7834"/>
                </a:cubicBezTo>
                <a:lnTo>
                  <a:pt x="16836" y="7834"/>
                </a:lnTo>
                <a:cubicBezTo>
                  <a:pt x="16836" y="6688"/>
                  <a:pt x="17763" y="5795"/>
                  <a:pt x="18875" y="5795"/>
                </a:cubicBezTo>
                <a:cubicBezTo>
                  <a:pt x="19986" y="5795"/>
                  <a:pt x="20922" y="6688"/>
                  <a:pt x="20922" y="7834"/>
                </a:cubicBezTo>
                <a:cubicBezTo>
                  <a:pt x="20922" y="8578"/>
                  <a:pt x="20450" y="9313"/>
                  <a:pt x="19986" y="9313"/>
                </a:cubicBezTo>
                <a:cubicBezTo>
                  <a:pt x="18875" y="9313"/>
                  <a:pt x="17763" y="10800"/>
                  <a:pt x="17763" y="12331"/>
                </a:cubicBezTo>
                <a:lnTo>
                  <a:pt x="17763" y="143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6">
            <a:hlinkClick r:id="" action="ppaction://hlinkshowjump?jump=nextslide"/>
            <a:hlinkClick r:id="rId3"/>
          </p:cNvPr>
          <p:cNvSpPr/>
          <p:nvPr/>
        </p:nvSpPr>
        <p:spPr>
          <a:xfrm>
            <a:off x="1828800" y="4952880"/>
            <a:ext cx="457200" cy="381240"/>
          </a:xfrm>
          <a:custGeom>
            <a:avLst/>
            <a:gdLst>
              <a:gd name="textAreaLeft" fmla="*/ 23760 w 457200"/>
              <a:gd name="textAreaRight" fmla="*/ 433440 w 457200"/>
              <a:gd name="textAreaTop" fmla="*/ 23760 h 381240"/>
              <a:gd name="textAreaBottom" fmla="*/ 35748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50" y="1350"/>
                </a:lnTo>
                <a:lnTo>
                  <a:pt x="1350" y="135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50" y="20250"/>
                </a:lnTo>
                <a:lnTo>
                  <a:pt x="24550" y="135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50" y="2025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900" h="21600">
                <a:moveTo>
                  <a:pt x="5906" y="3756"/>
                </a:moveTo>
                <a:lnTo>
                  <a:pt x="19994" y="10800"/>
                </a:lnTo>
                <a:lnTo>
                  <a:pt x="5906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80880" y="685800"/>
            <a:ext cx="8763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判断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晏婴，齐 之 习  辞 者 也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圣人 非 所与 熙 也。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前置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何 以 也？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什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何  为  者  也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干什么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王  曰，何 坐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坐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犯了什么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YW00089"/>
          <p:cNvPicPr/>
          <p:nvPr/>
        </p:nvPicPr>
        <p:blipFill>
          <a:blip r:embed="rId1"/>
          <a:stretch/>
        </p:blipFill>
        <p:spPr>
          <a:xfrm>
            <a:off x="5303880" y="0"/>
            <a:ext cx="38401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304920" y="380880"/>
            <a:ext cx="4876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晏子使楚。楚人以晏子短，为小门于大门之侧而延晏子。晏子不入，曰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04920" y="2743200"/>
            <a:ext cx="5181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使狗国者，从狗门入。今臣使楚，不当从此门入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752480" y="403848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04920" y="4572000"/>
            <a:ext cx="46479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傧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ī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者更道，从大门入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3" descr="YW00089"/>
          <p:cNvPicPr/>
          <p:nvPr/>
        </p:nvPicPr>
        <p:blipFill>
          <a:blip r:embed="rId1"/>
          <a:stretch/>
        </p:blipFill>
        <p:spPr>
          <a:xfrm>
            <a:off x="0" y="0"/>
            <a:ext cx="38401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3886200" y="0"/>
            <a:ext cx="5257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见楚王。王曰：“齐无人耶，使子为使？”晏子对曰：“齐之临淄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z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三百闾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，张袂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è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成阴，挥汗成雨，比肩继踵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hǒ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在，何为无人！”王曰：“然则何为使子？”晏子对曰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191120" y="4094280"/>
            <a:ext cx="49528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齐命使，各有所主。其贤者使使贤主，不肖者使使不肖主。婴最不肖，故宜使楚矣！”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EFB-C52B-4FD4-B2B9-5B0958B832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9T06:54:4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41:22Z</dcterms:modified>
  <cp:revision>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