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push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25D-93C7-4900-ACEF-48F31580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585-806F-45F1-A02D-1327BBF0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F5D-B5B3-4AF0-A022-DD5A1F85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E55-A7CE-4E3C-8829-0D3278D4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58A-74DC-4E9F-8DEB-417DC96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B5BC-CE4A-48ED-8ECE-D7CB9002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E5B-EA85-4371-88EC-75346FF0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3D2-533B-464C-847B-F35BDC41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DB3-14C8-4C28-8CE3-B2315701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DC9-64DC-4206-AB54-CE1BE6A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5AB-6A3F-4057-95BB-D3422360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A0AC-0DAB-4EA7-926A-97356072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F2B9-560E-4A13-B80D-CAED9DFBE9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EC48-B018-4B5B-9313-18FF8B6E0B9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eeppt.com/tubiao/" TargetMode="External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audio" Target="../media/push.wav"/><Relationship Id="rId2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1"/>
          <p:cNvGrpSpPr/>
          <p:nvPr/>
        </p:nvGrpSpPr>
        <p:grpSpPr>
          <a:xfrm>
            <a:off x="1546200" y="2070000"/>
            <a:ext cx="3124080" cy="3073320"/>
            <a:chOff x="1546200" y="2070000"/>
            <a:chExt cx="3124080" cy="3073320"/>
          </a:xfrm>
        </p:grpSpPr>
        <p:pic>
          <p:nvPicPr>
            <p:cNvPr id="43" name="Picture 4" descr="Blue"/>
            <p:cNvPicPr/>
            <p:nvPr/>
          </p:nvPicPr>
          <p:blipFill>
            <a:blip r:embed="rId2"/>
            <a:stretch/>
          </p:blipFill>
          <p:spPr>
            <a:xfrm>
              <a:off x="1546200" y="2070000"/>
              <a:ext cx="3124080" cy="30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2292480" y="3924360"/>
              <a:ext cx="160020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2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ddfbff"/>
                  </a:solidFill>
                  <a:latin typeface="Arial"/>
                </a:rPr>
                <a:t>33%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Text Box 7"/>
          <p:cNvSpPr/>
          <p:nvPr/>
        </p:nvSpPr>
        <p:spPr>
          <a:xfrm>
            <a:off x="250920" y="4746600"/>
            <a:ext cx="3047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60"/>
                </a:solidFill>
                <a:latin typeface="Arial"/>
              </a:rPr>
              <a:t>Successful meeting </a:t>
            </a:r>
            <a:r>
              <a:rPr b="1" i="1" lang="en-US" sz="2000" spc="-1" strike="noStrike">
                <a:solidFill>
                  <a:srgbClr val="002760"/>
                </a:solidFill>
                <a:latin typeface="Arial"/>
              </a:rPr>
              <a:t>without</a:t>
            </a:r>
            <a:r>
              <a:rPr b="1" lang="en-US" sz="2000" spc="-1" strike="noStrike">
                <a:solidFill>
                  <a:srgbClr val="002760"/>
                </a:solidFill>
                <a:latin typeface="Arial"/>
              </a:rPr>
              <a:t> vis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5356080" y="1700280"/>
            <a:ext cx="3581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60"/>
                </a:solidFill>
                <a:latin typeface="Arial"/>
              </a:rPr>
              <a:t>Successful meeting </a:t>
            </a:r>
            <a:r>
              <a:rPr b="1" i="1" lang="en-US" sz="2400" spc="-1" strike="noStrike">
                <a:solidFill>
                  <a:srgbClr val="002760"/>
                </a:solidFill>
                <a:latin typeface="Arial"/>
              </a:rPr>
              <a:t>using</a:t>
            </a:r>
            <a:r>
              <a:rPr b="1" lang="en-US" sz="2400" spc="-1" strike="noStrike">
                <a:solidFill>
                  <a:srgbClr val="002760"/>
                </a:solidFill>
                <a:latin typeface="Arial"/>
              </a:rPr>
              <a:t> vis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2"/>
          <p:cNvGrpSpPr/>
          <p:nvPr/>
        </p:nvGrpSpPr>
        <p:grpSpPr>
          <a:xfrm>
            <a:off x="3060720" y="2060640"/>
            <a:ext cx="3578040" cy="3517920"/>
            <a:chOff x="3060720" y="2060640"/>
            <a:chExt cx="3578040" cy="3517920"/>
          </a:xfrm>
        </p:grpSpPr>
        <p:pic>
          <p:nvPicPr>
            <p:cNvPr id="48" name="Picture 9" descr="Blue2"/>
            <p:cNvPicPr/>
            <p:nvPr/>
          </p:nvPicPr>
          <p:blipFill>
            <a:blip r:embed="rId3"/>
            <a:stretch/>
          </p:blipFill>
          <p:spPr>
            <a:xfrm>
              <a:off x="3060720" y="2060640"/>
              <a:ext cx="35780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3850920" y="3444840"/>
              <a:ext cx="198576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2760"/>
                  </a:solidFill>
                  <a:latin typeface="Arial"/>
                </a:rPr>
                <a:t>67%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3"/>
          <p:cNvSpPr/>
          <p:nvPr/>
        </p:nvSpPr>
        <p:spPr>
          <a:xfrm>
            <a:off x="6499080" y="4213080"/>
            <a:ext cx="2394000" cy="609840"/>
          </a:xfrm>
          <a:prstGeom prst="rect">
            <a:avLst/>
          </a:prstGeom>
          <a:solidFill>
            <a:srgbClr val="ffffff">
              <a:alpha val="74000"/>
            </a:srgbClr>
          </a:solidFill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Power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: Circles &amp; Sph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609300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4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04480" y="44280"/>
            <a:ext cx="265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百分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5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C25-1294-4EF5-93CF-41501A359090}" type="slidenum">
              <a:t>2</a:t>
            </a:fld>
          </a:p>
        </p:txBody>
      </p:sp>
    </p:spTree>
  </p:cSld>
  <p:transition spd="med" advTm="2000">
    <p:split dir="out" orient="horz"/>
    <p:sndAc>
      <p:stSnd>
        <p:snd r:embed="rId27" name="pu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13T13:34:48Z</dcterms:modified>
  <cp:revision>8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