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gif" ContentType="image/gif"/>
  <Override PartName="/ppt/media/image8.jpeg" ContentType="image/jpe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4B7-B449-412F-A1F6-C7C22F50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F02-8940-4687-964C-4DFE4554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6B8-1583-420B-BBB7-07FCCFBA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43E-8C47-433F-B25D-A99E6862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E8F-2F5B-448D-B756-BF93E4B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9BA-80E1-4D71-9B6D-4553E7E2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903-26BC-41D4-A272-11E7F082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459-7790-43AE-8727-11303DE6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D8C-17A6-4439-A251-85858FF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7E7-8B13-4AD3-8F74-98C2943F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681-4A85-467B-94BF-78AD2E0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CCB-FE1F-4FAC-BE1A-F550FC5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960-E729-41CA-A376-4EB102FA1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-181080" y="-5302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530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8320" y="105264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百分数的意义和写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3"/>
          <p:cNvSpPr/>
          <p:nvPr/>
        </p:nvSpPr>
        <p:spPr>
          <a:xfrm>
            <a:off x="942840" y="547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6"/>
          <p:cNvSpPr/>
          <p:nvPr/>
        </p:nvSpPr>
        <p:spPr>
          <a:xfrm>
            <a:off x="2057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生活中的百分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85800" y="134136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深圳拥有轿车的家庭占全部家庭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六十五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7240" y="1828800"/>
            <a:ext cx="96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西部儿童入学率为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二十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入学率达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九十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685800" y="2239920"/>
            <a:ext cx="60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学生毕业生中，自己创业的达到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十九点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685800" y="2744640"/>
            <a:ext cx="49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年家庭的收入是去年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一百五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685800" y="324792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种钙奶含钙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三点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85800" y="3753000"/>
            <a:ext cx="67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商场九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按原价钱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九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出售商品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685800" y="42559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种布料含棉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一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-152280"/>
          <a:ext cx="929628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29628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3"/>
          <p:cNvSpPr/>
          <p:nvPr/>
        </p:nvSpPr>
        <p:spPr>
          <a:xfrm>
            <a:off x="27432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总学生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1972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三好学生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5238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六年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9718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48320" y="2209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4479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五年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0481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2428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8380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哪个年级三好学生占 全年级学生的比率大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905120" y="3200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1355760" y="192240"/>
            <a:ext cx="618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生产、工作和生活中，进行调查统计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分析比较时，经常要用到百分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771640" y="494172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924360" y="3860640"/>
                <a:ext cx="677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Text Box 18"/>
          <p:cNvSpPr/>
          <p:nvPr/>
        </p:nvSpPr>
        <p:spPr>
          <a:xfrm>
            <a:off x="2700360" y="450864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59280" y="3860640"/>
                <a:ext cx="534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Text Box 20"/>
          <p:cNvSpPr/>
          <p:nvPr/>
        </p:nvSpPr>
        <p:spPr>
          <a:xfrm>
            <a:off x="3635280" y="400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059280" y="4941720"/>
            <a:ext cx="201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059280" y="4724280"/>
                <a:ext cx="576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Text Box 23"/>
          <p:cNvSpPr/>
          <p:nvPr/>
        </p:nvSpPr>
        <p:spPr>
          <a:xfrm>
            <a:off x="3635280" y="4941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924360" y="472428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995640" y="4724280"/>
                <a:ext cx="647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Text Box 26"/>
          <p:cNvSpPr/>
          <p:nvPr/>
        </p:nvSpPr>
        <p:spPr>
          <a:xfrm>
            <a:off x="4932360" y="4581360"/>
            <a:ext cx="7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59280" y="5589720"/>
                <a:ext cx="720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28"/>
          <p:cNvSpPr/>
          <p:nvPr/>
        </p:nvSpPr>
        <p:spPr>
          <a:xfrm>
            <a:off x="3564000" y="5734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5796000" y="472428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995640" y="5589720"/>
                <a:ext cx="674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0" y="0"/>
                <a:ext cx="9144000" cy="708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Text Box 3"/>
          <p:cNvSpPr/>
          <p:nvPr/>
        </p:nvSpPr>
        <p:spPr>
          <a:xfrm>
            <a:off x="324000" y="2276640"/>
            <a:ext cx="849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工厂从第一批产品中抽出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件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经检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9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件合格。由此推算出这批产品合格的比率是　　，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以写成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       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380360" y="2852640"/>
          <a:ext cx="5014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852640"/>
                    <a:ext cx="501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050920" y="3500280"/>
                <a:ext cx="425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00000" y="4581360"/>
                <a:ext cx="432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1332000" y="465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916360" y="465300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示合格产品是产品总数的百分之九十八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Rectangle 3"/>
              <p:cNvSpPr txBox="1"/>
              <p:nvPr/>
            </p:nvSpPr>
            <p:spPr>
              <a:xfrm>
                <a:off x="2451240" y="2774880"/>
                <a:ext cx="279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Rectangle 3"/>
              <p:cNvSpPr txBox="1"/>
              <p:nvPr/>
            </p:nvSpPr>
            <p:spPr>
              <a:xfrm>
                <a:off x="6413400" y="2774880"/>
                <a:ext cx="279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Rectangle 3"/>
              <p:cNvSpPr txBox="1"/>
              <p:nvPr/>
            </p:nvSpPr>
            <p:spPr>
              <a:xfrm>
                <a:off x="2451240" y="4908600"/>
                <a:ext cx="279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4" descr="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00000" y="1989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、说一说，　、　、　都表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Rectangle 3"/>
              <p:cNvSpPr txBox="1"/>
              <p:nvPr/>
            </p:nvSpPr>
            <p:spPr>
              <a:xfrm>
                <a:off x="3276720" y="1989000"/>
                <a:ext cx="463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51280" y="1989000"/>
                <a:ext cx="43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00720" y="1989000"/>
                <a:ext cx="43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Text Box 20"/>
          <p:cNvSpPr/>
          <p:nvPr/>
        </p:nvSpPr>
        <p:spPr>
          <a:xfrm>
            <a:off x="971640" y="270828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表示一个数是另一个数的百分之几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539640" y="342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结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468360" y="393372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表示一个数是另一个数的百分之几的数，叫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百分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分数也叫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百分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百分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574560" y="50846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讨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分数表示两数之间的什么关系？应不应有单位名称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9640" y="1634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百分数应该用什么形式表示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95280" y="7682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１）写法：写百分数时，通常不写成分数形式，而采用％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示。写百分数时，去掉分数线和分母，在分子后面添上百分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55640" y="1876320"/>
            <a:ext cx="8066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例如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百分之九十　　　　　写作　　９０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百分之六十四　　　　写作　　６４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百分之一百零八点五　写作　１０８．５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24000" y="4076640"/>
            <a:ext cx="8424720" cy="27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２）读法：读百分数时，只要把百分数看作分母是１００，百分号前面的数看作分子，就可以和分数一样读了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例如：７５％　　　读作：　百分之七十五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　　　　　１５０％　　读作：　百分之一百五十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　　　　　０．８％　　读作：　百分之零点八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34"/>
          <p:cNvPicPr/>
          <p:nvPr/>
        </p:nvPicPr>
        <p:blipFill>
          <a:blip r:embed="rId2"/>
          <a:stretch/>
        </p:blipFill>
        <p:spPr>
          <a:xfrm>
            <a:off x="7380360" y="5157720"/>
            <a:ext cx="1547640" cy="1413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-36360" y="0"/>
            <a:ext cx="179280" cy="7101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8964720" y="0"/>
            <a:ext cx="360360" cy="7101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-27000"/>
            <a:ext cx="9144000" cy="260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800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62E-40C7-44E5-A0F0-0EBAD77684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28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百分数与分数的联系与区别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（１）本班女生占全班人数的４８％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（２）一根电线长　　米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（３）面粉重量是大米的　　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504720" cy="53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140360" y="2708280"/>
            <a:ext cx="50292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684360" y="3645000"/>
            <a:ext cx="79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百分数是分数中的一种情况．分数既可以表示一个具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体数量，又可以表示一个数是另一个数的几分之几，所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数后面既可以有单位，也可以没有单位，而百分数只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示两数之间的倍数关系，所以没有计量单位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826920" y="0"/>
            <a:ext cx="1800360" cy="1125360"/>
            <a:chOff x="826920" y="0"/>
            <a:chExt cx="1800360" cy="1125360"/>
          </a:xfrm>
        </p:grpSpPr>
        <p:sp>
          <p:nvSpPr>
            <p:cNvPr id="125" name="AutoShape 12"/>
            <p:cNvSpPr/>
            <p:nvPr/>
          </p:nvSpPr>
          <p:spPr>
            <a:xfrm>
              <a:off x="826920" y="0"/>
              <a:ext cx="1800360" cy="1125360"/>
            </a:xfrm>
            <a:custGeom>
              <a:avLst/>
              <a:gdLst>
                <a:gd name="textAreaLeft" fmla="*/ 280800 w 1800360"/>
                <a:gd name="textAreaRight" fmla="*/ 1575000 w 1800360"/>
                <a:gd name="textAreaTop" fmla="*/ 280800 h 1125360"/>
                <a:gd name="textAreaBottom" fmla="*/ 844560 h 11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5724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116000" y="260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Times New Roman"/>
                  <a:ea typeface="华文新魏"/>
                </a:rPr>
                <a:t>讨论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87280" y="335772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ject 2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447920" y="-457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69236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百发百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69236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拿九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百里挑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1828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676520" y="3276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分为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6765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百战百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65888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半壁江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581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10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581280" y="1981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9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5812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1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581280" y="3276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3581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10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36576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371600" y="228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根据成语写出相关的百分数</a:t>
            </a:r>
            <a:r>
              <a:rPr b="1" lang="en-US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15:37Z</dcterms:created>
  <dc:creator/>
  <dc:description/>
  <cp:keywords>幻灯片之家 http:/www.eeppt.com</cp:keywords>
  <dc:language>en-US</dc:language>
  <cp:lastModifiedBy/>
  <dcterms:modified xsi:type="dcterms:W3CDTF">2015-07-04T13:37:18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