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C8E-2646-40B8-8FC6-1DB76E62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285-53D9-4B02-B629-ED809EAC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AB8-9568-4A4A-AAE4-98A508A9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96A-1E70-4C3B-BE0D-123F2D15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EEF2-E7CA-4F23-94C5-6D077586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C50F-DF55-4562-BA87-3C62995A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0286-1A7B-44E0-8CAF-075F7445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ACDB-1DCB-400F-8469-BFE3F98C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E4BB-FCB9-4637-B486-9A7742A9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36D4-12AA-4ECF-9CAC-47811DAD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4E78-9492-4207-8AAB-2732BAF7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DF9F-C317-469C-B5DA-94DE0450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888B-C673-4DF9-B383-88A021FE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71E1-3C7F-4BB5-8BDA-60A55F01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5BC7-5B52-4EC8-ABDB-C9BBEEB1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0D7D-EB02-4F98-9E69-19073AE5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024E-834C-44B7-AC2D-D2AE430C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A75-4596-4508-9E0A-FE84F4A0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2E8-08C0-4350-9332-03882C00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7412-25F3-47A2-82DF-5D02EE05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E90E-60E7-43E7-8785-A412B6D9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DF32-A9B8-4766-AB7A-70DEF29A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7FC-B97A-468F-86C4-DFDEB8E6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4154-6BB2-4B4A-A274-83D4E8DC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2097-2673-45EA-BFE0-3B878C8D42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00F9-4143-42B6-90B2-E787FB52F89F}" type="slidenum"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09480"/>
            <a:ext cx="8534160" cy="1143000"/>
          </a:xfrm>
          <a:prstGeom prst="roundRect">
            <a:avLst>
              <a:gd name="adj" fmla="val 50000"/>
            </a:avLst>
          </a:prstGeom>
          <a:solidFill>
            <a:srgbClr val="003399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8.jpeg"/><Relationship Id="rId7" Type="http://schemas.openxmlformats.org/officeDocument/2006/relationships/image" Target="../media/image3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the Spotlig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subtitl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760" y="-34920"/>
            <a:ext cx="31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颁奖典礼动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608040" y="609480"/>
            <a:ext cx="9371160" cy="1143000"/>
          </a:xfrm>
          <a:prstGeom prst="roundRect">
            <a:avLst>
              <a:gd name="adj" fmla="val 50000"/>
            </a:avLst>
          </a:prstGeom>
          <a:solidFill>
            <a:srgbClr val="003399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the Spotlig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553080" y="6172200"/>
            <a:ext cx="2438280" cy="523800"/>
            <a:chOff x="6553080" y="6172200"/>
            <a:chExt cx="2438280" cy="523800"/>
          </a:xfrm>
        </p:grpSpPr>
        <p:sp>
          <p:nvSpPr>
            <p:cNvPr id="90" name=""/>
            <p:cNvSpPr/>
            <p:nvPr/>
          </p:nvSpPr>
          <p:spPr>
            <a:xfrm>
              <a:off x="6553080" y="6172200"/>
              <a:ext cx="2438280" cy="52380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Leadership" descr=""/>
            <p:cNvPicPr/>
            <p:nvPr/>
          </p:nvPicPr>
          <p:blipFill>
            <a:blip r:embed="rId2"/>
            <a:stretch/>
          </p:blipFill>
          <p:spPr>
            <a:xfrm>
              <a:off x="6553080" y="6172200"/>
              <a:ext cx="2438280" cy="5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971640" y="4510080"/>
            <a:ext cx="564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动态ppt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dongtai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able P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608040" y="609480"/>
            <a:ext cx="9371160" cy="1143000"/>
          </a:xfrm>
          <a:prstGeom prst="roundRect">
            <a:avLst>
              <a:gd name="adj" fmla="val 50000"/>
            </a:avLst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15F-F1AE-4B60-B8BE-D5FEE3E3D5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609480"/>
            <a:ext cx="8686800" cy="1143000"/>
          </a:xfrm>
          <a:prstGeom prst="roundRect">
            <a:avLst>
              <a:gd name="adj" fmla="val 50000"/>
            </a:avLst>
          </a:prstGeom>
          <a:solidFill>
            <a:srgbClr val="003399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P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08040" y="76320"/>
            <a:ext cx="9371160" cy="1143000"/>
          </a:xfrm>
          <a:prstGeom prst="roundRect">
            <a:avLst>
              <a:gd name="adj" fmla="val 50000"/>
            </a:avLst>
          </a:prstGeom>
          <a:solidFill>
            <a:srgbClr val="003399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ments  P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man1_in_spotlight_cert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981080" cy="1585800"/>
          </a:xfrm>
          <a:prstGeom prst="rect">
            <a:avLst/>
          </a:prstGeom>
          <a:ln w="0">
            <a:noFill/>
          </a:ln>
        </p:spPr>
      </p:pic>
      <p:pic>
        <p:nvPicPr>
          <p:cNvPr id="104" name="woman1_in_spotlight_cert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1981440" cy="1584360"/>
          </a:xfrm>
          <a:prstGeom prst="rect">
            <a:avLst/>
          </a:prstGeom>
          <a:ln w="0">
            <a:noFill/>
          </a:ln>
        </p:spPr>
      </p:pic>
      <p:pic>
        <p:nvPicPr>
          <p:cNvPr id="105" name="spotlight_trans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1981080" cy="1585800"/>
          </a:xfrm>
          <a:prstGeom prst="rect">
            <a:avLst/>
          </a:prstGeom>
          <a:ln w="0">
            <a:noFill/>
          </a:ln>
        </p:spPr>
      </p:pic>
      <p:pic>
        <p:nvPicPr>
          <p:cNvPr id="106" name="spotlight_title1" descr=""/>
          <p:cNvPicPr/>
          <p:nvPr/>
        </p:nvPicPr>
        <p:blipFill>
          <a:blip r:embed="rId4"/>
          <a:stretch/>
        </p:blipFill>
        <p:spPr>
          <a:xfrm>
            <a:off x="380880" y="1828800"/>
            <a:ext cx="1981440" cy="1584360"/>
          </a:xfrm>
          <a:prstGeom prst="rect">
            <a:avLst/>
          </a:prstGeom>
          <a:ln w="0">
            <a:noFill/>
          </a:ln>
        </p:spPr>
      </p:pic>
      <p:pic>
        <p:nvPicPr>
          <p:cNvPr id="107" name="man1_in_spotlight_cert_print" descr=""/>
          <p:cNvPicPr/>
          <p:nvPr/>
        </p:nvPicPr>
        <p:blipFill>
          <a:blip r:embed="rId5"/>
          <a:stretch/>
        </p:blipFill>
        <p:spPr>
          <a:xfrm>
            <a:off x="380880" y="5181480"/>
            <a:ext cx="1981440" cy="1586160"/>
          </a:xfrm>
          <a:prstGeom prst="rect">
            <a:avLst/>
          </a:prstGeom>
          <a:ln w="0">
            <a:noFill/>
          </a:ln>
        </p:spPr>
      </p:pic>
      <p:pic>
        <p:nvPicPr>
          <p:cNvPr id="108" name="woman1_in_spotlight_cert_print" descr=""/>
          <p:cNvPicPr/>
          <p:nvPr/>
        </p:nvPicPr>
        <p:blipFill>
          <a:blip r:embed="rId6"/>
          <a:stretch/>
        </p:blipFill>
        <p:spPr>
          <a:xfrm>
            <a:off x="2514600" y="5181480"/>
            <a:ext cx="1981080" cy="1586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920" y="1295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 this page when finished with 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562720" y="2511360"/>
            <a:ext cx="2438280" cy="523800"/>
            <a:chOff x="5562720" y="2511360"/>
            <a:chExt cx="2438280" cy="523800"/>
          </a:xfrm>
        </p:grpSpPr>
        <p:sp>
          <p:nvSpPr>
            <p:cNvPr id="111" name=""/>
            <p:cNvSpPr/>
            <p:nvPr/>
          </p:nvSpPr>
          <p:spPr>
            <a:xfrm>
              <a:off x="5562720" y="2511360"/>
              <a:ext cx="2438280" cy="52380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Leadership" descr=""/>
            <p:cNvPicPr/>
            <p:nvPr/>
          </p:nvPicPr>
          <p:blipFill>
            <a:blip r:embed="rId7"/>
            <a:stretch/>
          </p:blipFill>
          <p:spPr>
            <a:xfrm>
              <a:off x="5562720" y="2511360"/>
              <a:ext cx="2438280" cy="52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5738760" y="3273480"/>
            <a:ext cx="2109960" cy="515880"/>
            <a:chOff x="5738760" y="3273480"/>
            <a:chExt cx="2109960" cy="515880"/>
          </a:xfrm>
        </p:grpSpPr>
        <p:sp>
          <p:nvSpPr>
            <p:cNvPr id="114" name=""/>
            <p:cNvSpPr/>
            <p:nvPr/>
          </p:nvSpPr>
          <p:spPr>
            <a:xfrm>
              <a:off x="5738760" y="3273480"/>
              <a:ext cx="2109960" cy="51444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Creativity" descr=""/>
            <p:cNvPicPr/>
            <p:nvPr/>
          </p:nvPicPr>
          <p:blipFill>
            <a:blip r:embed="rId8"/>
            <a:stretch/>
          </p:blipFill>
          <p:spPr>
            <a:xfrm>
              <a:off x="5738760" y="3273480"/>
              <a:ext cx="2106720" cy="51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6172200" y="3959280"/>
            <a:ext cx="1219320" cy="523800"/>
            <a:chOff x="6172200" y="3959280"/>
            <a:chExt cx="1219320" cy="523800"/>
          </a:xfrm>
        </p:grpSpPr>
        <p:sp>
          <p:nvSpPr>
            <p:cNvPr id="117" name=""/>
            <p:cNvSpPr/>
            <p:nvPr/>
          </p:nvSpPr>
          <p:spPr>
            <a:xfrm>
              <a:off x="6172200" y="3959280"/>
              <a:ext cx="1219320" cy="52380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" name="Effort" descr=""/>
            <p:cNvPicPr/>
            <p:nvPr/>
          </p:nvPicPr>
          <p:blipFill>
            <a:blip r:embed="rId9"/>
            <a:stretch/>
          </p:blipFill>
          <p:spPr>
            <a:xfrm>
              <a:off x="6172200" y="3959280"/>
              <a:ext cx="1211400" cy="52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5372280" y="4645080"/>
            <a:ext cx="2933640" cy="528480"/>
            <a:chOff x="5372280" y="4645080"/>
            <a:chExt cx="2933640" cy="528480"/>
          </a:xfrm>
        </p:grpSpPr>
        <p:sp>
          <p:nvSpPr>
            <p:cNvPr id="120" name=""/>
            <p:cNvSpPr/>
            <p:nvPr/>
          </p:nvSpPr>
          <p:spPr>
            <a:xfrm>
              <a:off x="5372280" y="4645080"/>
              <a:ext cx="2933640" cy="52380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Improvement" descr=""/>
            <p:cNvPicPr/>
            <p:nvPr/>
          </p:nvPicPr>
          <p:blipFill>
            <a:blip r:embed="rId10"/>
            <a:stretch/>
          </p:blipFill>
          <p:spPr>
            <a:xfrm>
              <a:off x="5372280" y="4645080"/>
              <a:ext cx="2933640" cy="52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5853240" y="5407200"/>
            <a:ext cx="1995480" cy="536400"/>
            <a:chOff x="5853240" y="5407200"/>
            <a:chExt cx="1995480" cy="536400"/>
          </a:xfrm>
        </p:grpSpPr>
        <p:sp>
          <p:nvSpPr>
            <p:cNvPr id="123" name=""/>
            <p:cNvSpPr/>
            <p:nvPr/>
          </p:nvSpPr>
          <p:spPr>
            <a:xfrm>
              <a:off x="5853240" y="5407200"/>
              <a:ext cx="199548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Initiative" descr=""/>
            <p:cNvPicPr/>
            <p:nvPr/>
          </p:nvPicPr>
          <p:blipFill>
            <a:blip r:embed="rId11"/>
            <a:stretch/>
          </p:blipFill>
          <p:spPr>
            <a:xfrm>
              <a:off x="5853240" y="5407200"/>
              <a:ext cx="1989000" cy="536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5:53:19Z</dcterms:created>
  <dc:creator/>
  <dc:description/>
  <cp:keywords>幻灯片之家 http:/www.eeppt.com</cp:keywords>
  <dc:language>en-US</dc:language>
  <cp:lastModifiedBy/>
  <dcterms:modified xsi:type="dcterms:W3CDTF">2015-07-13T13:29:5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