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8ED-9CD6-4421-BD6C-E1515A0F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835-BE8F-48F7-8D64-8634B9CC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2FC-B47C-495C-8F59-2A824ECD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F8E-6F54-4BE6-B238-BCA0199E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67D-F6EE-40F9-BF25-B1C006C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02B-6F0D-448F-A1D4-E7FBDB76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947-4170-4FDD-AB6D-84B3073C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336-1560-4978-AB8C-1A5F1B38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D3C-1067-44C8-B73F-D13CF565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C3F-349B-4EBD-8450-D9C4185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DD3-74AB-4CCA-9679-F530C280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D56-CE4F-4F29-A7D7-8643D3DC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2D5-8903-47AA-BBFA-F8D25DBCF2A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67CE-D70B-4397-BF55-29B54B44037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765000"/>
            <a:ext cx="9191520" cy="537228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21"/>
          <p:cNvGrpSpPr/>
          <p:nvPr/>
        </p:nvGrpSpPr>
        <p:grpSpPr>
          <a:xfrm>
            <a:off x="3625920" y="1316160"/>
            <a:ext cx="1807920" cy="1490400"/>
            <a:chOff x="3625920" y="1316160"/>
            <a:chExt cx="1807920" cy="1490400"/>
          </a:xfrm>
        </p:grpSpPr>
        <p:sp>
          <p:nvSpPr>
            <p:cNvPr id="44" name="六边形 22"/>
            <p:cNvSpPr/>
            <p:nvPr/>
          </p:nvSpPr>
          <p:spPr>
            <a:xfrm>
              <a:off x="3665520" y="1316160"/>
              <a:ext cx="1728720" cy="1490400"/>
            </a:xfrm>
            <a:prstGeom prst="hexagon">
              <a:avLst>
                <a:gd name="adj" fmla="val 24997"/>
                <a:gd name="vf" fmla="val 115470"/>
              </a:avLst>
            </a:prstGeom>
            <a:solidFill>
              <a:srgbClr val="3b7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23"/>
            <p:cNvSpPr/>
            <p:nvPr/>
          </p:nvSpPr>
          <p:spPr>
            <a:xfrm>
              <a:off x="3625920" y="1643760"/>
              <a:ext cx="1807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剑之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拓展训练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24"/>
          <p:cNvGrpSpPr/>
          <p:nvPr/>
        </p:nvGrpSpPr>
        <p:grpSpPr>
          <a:xfrm>
            <a:off x="2195640" y="2098800"/>
            <a:ext cx="1807920" cy="1488960"/>
            <a:chOff x="2195640" y="2098800"/>
            <a:chExt cx="1807920" cy="1488960"/>
          </a:xfrm>
        </p:grpSpPr>
        <p:sp>
          <p:nvSpPr>
            <p:cNvPr id="47" name="六边形 25"/>
            <p:cNvSpPr/>
            <p:nvPr/>
          </p:nvSpPr>
          <p:spPr>
            <a:xfrm>
              <a:off x="2235240" y="2098800"/>
              <a:ext cx="1728720" cy="1488960"/>
            </a:xfrm>
            <a:prstGeom prst="hexagon">
              <a:avLst>
                <a:gd name="adj" fmla="val 25021"/>
                <a:gd name="vf" fmla="val 115470"/>
              </a:avLst>
            </a:prstGeom>
            <a:solidFill>
              <a:srgbClr val="7bc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26"/>
            <p:cNvSpPr/>
            <p:nvPr/>
          </p:nvSpPr>
          <p:spPr>
            <a:xfrm>
              <a:off x="2195640" y="2426040"/>
              <a:ext cx="1807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融入之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人入职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27"/>
          <p:cNvGrpSpPr/>
          <p:nvPr/>
        </p:nvGrpSpPr>
        <p:grpSpPr>
          <a:xfrm>
            <a:off x="5057640" y="2098800"/>
            <a:ext cx="1808280" cy="1488960"/>
            <a:chOff x="5057640" y="2098800"/>
            <a:chExt cx="1808280" cy="1488960"/>
          </a:xfrm>
        </p:grpSpPr>
        <p:sp>
          <p:nvSpPr>
            <p:cNvPr id="50" name="六边形 28"/>
            <p:cNvSpPr/>
            <p:nvPr/>
          </p:nvSpPr>
          <p:spPr>
            <a:xfrm>
              <a:off x="5097240" y="2098800"/>
              <a:ext cx="1729080" cy="1488960"/>
            </a:xfrm>
            <a:prstGeom prst="hexagon">
              <a:avLst>
                <a:gd name="adj" fmla="val 25026"/>
                <a:gd name="vf" fmla="val 115470"/>
              </a:avLst>
            </a:prstGeom>
            <a:solidFill>
              <a:srgbClr val="8a3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49"/>
            <p:cNvSpPr/>
            <p:nvPr/>
          </p:nvSpPr>
          <p:spPr>
            <a:xfrm>
              <a:off x="5057640" y="2426040"/>
              <a:ext cx="1808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英之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进阶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50"/>
          <p:cNvGrpSpPr/>
          <p:nvPr/>
        </p:nvGrpSpPr>
        <p:grpSpPr>
          <a:xfrm>
            <a:off x="5057640" y="3654360"/>
            <a:ext cx="1808280" cy="1490760"/>
            <a:chOff x="5057640" y="3654360"/>
            <a:chExt cx="1808280" cy="1490760"/>
          </a:xfrm>
        </p:grpSpPr>
        <p:sp>
          <p:nvSpPr>
            <p:cNvPr id="53" name="六边形 51"/>
            <p:cNvSpPr/>
            <p:nvPr/>
          </p:nvSpPr>
          <p:spPr>
            <a:xfrm>
              <a:off x="5097240" y="3654360"/>
              <a:ext cx="1729080" cy="149076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52"/>
            <p:cNvSpPr/>
            <p:nvPr/>
          </p:nvSpPr>
          <p:spPr>
            <a:xfrm>
              <a:off x="5057640" y="3981960"/>
              <a:ext cx="1808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跨越之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进阶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53"/>
          <p:cNvGrpSpPr/>
          <p:nvPr/>
        </p:nvGrpSpPr>
        <p:grpSpPr>
          <a:xfrm>
            <a:off x="3625920" y="2874960"/>
            <a:ext cx="1807920" cy="1490760"/>
            <a:chOff x="3625920" y="2874960"/>
            <a:chExt cx="1807920" cy="1490760"/>
          </a:xfrm>
        </p:grpSpPr>
        <p:sp>
          <p:nvSpPr>
            <p:cNvPr id="56" name="六边形 54"/>
            <p:cNvSpPr/>
            <p:nvPr/>
          </p:nvSpPr>
          <p:spPr>
            <a:xfrm>
              <a:off x="3665520" y="2874960"/>
              <a:ext cx="1728720" cy="1490760"/>
            </a:xfrm>
            <a:prstGeom prst="hexagon">
              <a:avLst>
                <a:gd name="adj" fmla="val 24991"/>
                <a:gd name="vf" fmla="val 11547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55"/>
            <p:cNvSpPr/>
            <p:nvPr/>
          </p:nvSpPr>
          <p:spPr>
            <a:xfrm>
              <a:off x="3625920" y="3202560"/>
              <a:ext cx="1807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京东之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核心价值观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56"/>
          <p:cNvGrpSpPr/>
          <p:nvPr/>
        </p:nvGrpSpPr>
        <p:grpSpPr>
          <a:xfrm>
            <a:off x="2195640" y="3654360"/>
            <a:ext cx="1807920" cy="1490760"/>
            <a:chOff x="2195640" y="3654360"/>
            <a:chExt cx="1807920" cy="1490760"/>
          </a:xfrm>
        </p:grpSpPr>
        <p:sp>
          <p:nvSpPr>
            <p:cNvPr id="59" name="六边形 57"/>
            <p:cNvSpPr/>
            <p:nvPr/>
          </p:nvSpPr>
          <p:spPr>
            <a:xfrm>
              <a:off x="2235240" y="3654360"/>
              <a:ext cx="1728720" cy="1490760"/>
            </a:xfrm>
            <a:prstGeom prst="hexagon">
              <a:avLst>
                <a:gd name="adj" fmla="val 24991"/>
                <a:gd name="vf" fmla="val 11547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58"/>
            <p:cNvSpPr/>
            <p:nvPr/>
          </p:nvSpPr>
          <p:spPr>
            <a:xfrm>
              <a:off x="2195640" y="3981960"/>
              <a:ext cx="1807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日之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职业化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9"/>
          <p:cNvGrpSpPr/>
          <p:nvPr/>
        </p:nvGrpSpPr>
        <p:grpSpPr>
          <a:xfrm>
            <a:off x="3625920" y="4435560"/>
            <a:ext cx="1807920" cy="1488960"/>
            <a:chOff x="3625920" y="4435560"/>
            <a:chExt cx="1807920" cy="1488960"/>
          </a:xfrm>
        </p:grpSpPr>
        <p:sp>
          <p:nvSpPr>
            <p:cNvPr id="62" name="六边形 60"/>
            <p:cNvSpPr/>
            <p:nvPr/>
          </p:nvSpPr>
          <p:spPr>
            <a:xfrm>
              <a:off x="3665520" y="4435560"/>
              <a:ext cx="1728720" cy="1488960"/>
            </a:xfrm>
            <a:prstGeom prst="hexagon">
              <a:avLst>
                <a:gd name="adj" fmla="val 25021"/>
                <a:gd name="vf" fmla="val 115470"/>
              </a:avLst>
            </a:prstGeom>
            <a:solidFill>
              <a:srgbClr val="fd7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1"/>
            <p:cNvSpPr/>
            <p:nvPr/>
          </p:nvSpPr>
          <p:spPr>
            <a:xfrm>
              <a:off x="3625920" y="4762800"/>
              <a:ext cx="1807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胜之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导力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52360" y="6021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7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7480" y="33336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并列关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3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1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57E-439E-4C73-B9C8-34BA6C5A86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7T02:48:39Z</dcterms:modified>
  <cp:revision>11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