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46D-C3BC-4728-B2C9-70623E74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B9A-EED7-471F-8D8B-F5B8B61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4AF-80B6-42E1-8EAA-C5515E86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4D3-298D-429F-B6FE-4FBC64BC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3ED-85A5-4C1D-A0BE-07746500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442-8E1A-4DAB-B6AD-2CD77D8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DE8-06DA-4ECF-B386-C81C4F7C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3F1-A1CA-45EC-9554-3AB9ECB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738-319F-48B8-AA9B-B146640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F15-E73B-4D9C-AAB9-61242C9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6E4-67AB-4720-8EDD-9525D75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B58-CB98-4C44-B684-3572AFF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A94F-A26E-41E3-9C93-D170A381BE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E8D-1FE1-4DE6-AD04-2BD9DDE9C4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31"/>
          <p:cNvSpPr/>
          <p:nvPr/>
        </p:nvSpPr>
        <p:spPr>
          <a:xfrm>
            <a:off x="2147760" y="4451400"/>
            <a:ext cx="3048120" cy="99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2"/>
          <p:cNvGrpSpPr/>
          <p:nvPr/>
        </p:nvGrpSpPr>
        <p:grpSpPr>
          <a:xfrm>
            <a:off x="4433760" y="4073400"/>
            <a:ext cx="4022640" cy="1442880"/>
            <a:chOff x="4433760" y="4073400"/>
            <a:chExt cx="4022640" cy="1442880"/>
          </a:xfrm>
        </p:grpSpPr>
        <p:sp>
          <p:nvSpPr>
            <p:cNvPr id="45" name="Freeform 33"/>
            <p:cNvSpPr/>
            <p:nvPr/>
          </p:nvSpPr>
          <p:spPr>
            <a:xfrm>
              <a:off x="4433760" y="4725720"/>
              <a:ext cx="4017960" cy="781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7381800" y="4073400"/>
              <a:ext cx="1068480" cy="8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4435200" y="4076640"/>
              <a:ext cx="2949840" cy="10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6"/>
            <p:cNvSpPr/>
            <p:nvPr/>
          </p:nvSpPr>
          <p:spPr>
            <a:xfrm>
              <a:off x="4438440" y="4082760"/>
              <a:ext cx="4017960" cy="28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7"/>
            <p:cNvSpPr/>
            <p:nvPr/>
          </p:nvSpPr>
          <p:spPr>
            <a:xfrm>
              <a:off x="5153040" y="4140000"/>
              <a:ext cx="3294000" cy="137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8"/>
            <p:cNvSpPr/>
            <p:nvPr/>
          </p:nvSpPr>
          <p:spPr>
            <a:xfrm>
              <a:off x="4433760" y="4219560"/>
              <a:ext cx="723960" cy="129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39"/>
          <p:cNvGrpSpPr/>
          <p:nvPr/>
        </p:nvGrpSpPr>
        <p:grpSpPr>
          <a:xfrm>
            <a:off x="4446720" y="1555920"/>
            <a:ext cx="3993480" cy="1501200"/>
            <a:chOff x="4446720" y="1555920"/>
            <a:chExt cx="3993480" cy="1501200"/>
          </a:xfrm>
        </p:grpSpPr>
        <p:sp>
          <p:nvSpPr>
            <p:cNvPr id="52" name="Freeform 40"/>
            <p:cNvSpPr/>
            <p:nvPr/>
          </p:nvSpPr>
          <p:spPr>
            <a:xfrm>
              <a:off x="4446720" y="1555920"/>
              <a:ext cx="688680" cy="13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1"/>
            <p:cNvSpPr/>
            <p:nvPr/>
          </p:nvSpPr>
          <p:spPr>
            <a:xfrm>
              <a:off x="5133600" y="1555920"/>
              <a:ext cx="3306600" cy="145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2"/>
            <p:cNvSpPr/>
            <p:nvPr/>
          </p:nvSpPr>
          <p:spPr>
            <a:xfrm>
              <a:off x="4446720" y="1555920"/>
              <a:ext cx="3982680" cy="91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3"/>
            <p:cNvSpPr/>
            <p:nvPr/>
          </p:nvSpPr>
          <p:spPr>
            <a:xfrm>
              <a:off x="7376760" y="2274840"/>
              <a:ext cx="1055520" cy="74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4"/>
            <p:cNvSpPr/>
            <p:nvPr/>
          </p:nvSpPr>
          <p:spPr>
            <a:xfrm>
              <a:off x="4446720" y="2747880"/>
              <a:ext cx="3960360" cy="30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5"/>
          <p:cNvGrpSpPr/>
          <p:nvPr/>
        </p:nvGrpSpPr>
        <p:grpSpPr>
          <a:xfrm>
            <a:off x="4433760" y="2927520"/>
            <a:ext cx="4022640" cy="1156680"/>
            <a:chOff x="4433760" y="2927520"/>
            <a:chExt cx="4022640" cy="1156680"/>
          </a:xfrm>
        </p:grpSpPr>
        <p:sp>
          <p:nvSpPr>
            <p:cNvPr id="58" name="Freeform 46"/>
            <p:cNvSpPr/>
            <p:nvPr/>
          </p:nvSpPr>
          <p:spPr>
            <a:xfrm>
              <a:off x="4433760" y="2931840"/>
              <a:ext cx="723960" cy="1152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7"/>
            <p:cNvSpPr/>
            <p:nvPr/>
          </p:nvSpPr>
          <p:spPr>
            <a:xfrm>
              <a:off x="5157720" y="2931840"/>
              <a:ext cx="3294000" cy="1152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8"/>
            <p:cNvSpPr/>
            <p:nvPr/>
          </p:nvSpPr>
          <p:spPr>
            <a:xfrm>
              <a:off x="4456080" y="2927520"/>
              <a:ext cx="3938400" cy="34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9"/>
            <p:cNvSpPr/>
            <p:nvPr/>
          </p:nvSpPr>
          <p:spPr>
            <a:xfrm>
              <a:off x="7412040" y="3179520"/>
              <a:ext cx="1044360" cy="80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7418160" y="3276360"/>
              <a:ext cx="6480" cy="631440"/>
            </a:xfrm>
            <a:prstGeom prst="pi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4438440" y="3917880"/>
              <a:ext cx="3996000" cy="15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1600" y="2368440"/>
            <a:ext cx="4197240" cy="6480"/>
            <a:chOff x="471600" y="2368440"/>
            <a:chExt cx="4197240" cy="6480"/>
          </a:xfrm>
        </p:grpSpPr>
        <p:sp>
          <p:nvSpPr>
            <p:cNvPr id="65" name="Line 52"/>
            <p:cNvSpPr/>
            <p:nvPr/>
          </p:nvSpPr>
          <p:spPr>
            <a:xfrm>
              <a:off x="471600" y="2368440"/>
              <a:ext cx="4197240" cy="648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471600" y="2368440"/>
              <a:ext cx="4197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53"/>
          <p:cNvSpPr/>
          <p:nvPr/>
        </p:nvSpPr>
        <p:spPr>
          <a:xfrm>
            <a:off x="395280" y="2013120"/>
            <a:ext cx="304812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1600" y="3460680"/>
            <a:ext cx="4228920" cy="360"/>
            <a:chOff x="471600" y="3460680"/>
            <a:chExt cx="4228920" cy="360"/>
          </a:xfrm>
        </p:grpSpPr>
        <p:sp>
          <p:nvSpPr>
            <p:cNvPr id="69" name="Line 54"/>
            <p:cNvSpPr/>
            <p:nvPr/>
          </p:nvSpPr>
          <p:spPr>
            <a:xfrm>
              <a:off x="471600" y="3460680"/>
              <a:ext cx="4228920" cy="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71600" y="3460680"/>
              <a:ext cx="422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5"/>
          <p:cNvSpPr/>
          <p:nvPr/>
        </p:nvSpPr>
        <p:spPr>
          <a:xfrm>
            <a:off x="395280" y="3102120"/>
            <a:ext cx="3048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71600" y="4616280"/>
            <a:ext cx="4238640" cy="360"/>
            <a:chOff x="471600" y="4616280"/>
            <a:chExt cx="4238640" cy="360"/>
          </a:xfrm>
        </p:grpSpPr>
        <p:sp>
          <p:nvSpPr>
            <p:cNvPr id="73" name="Line 56"/>
            <p:cNvSpPr/>
            <p:nvPr/>
          </p:nvSpPr>
          <p:spPr>
            <a:xfrm>
              <a:off x="471600" y="4616280"/>
              <a:ext cx="423864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71600" y="4616280"/>
              <a:ext cx="42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57"/>
          <p:cNvSpPr/>
          <p:nvPr/>
        </p:nvSpPr>
        <p:spPr>
          <a:xfrm>
            <a:off x="395280" y="4257720"/>
            <a:ext cx="3048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127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4240" y="47628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并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589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D1E-7B26-4C2B-91FF-DCE6D32B2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2:45:39Z</dcterms:modified>
  <cp:revision>11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