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push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A443-370D-48F7-ADC0-F08F245E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56C1-BA99-450D-97BC-A5E819A7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31E-AE09-46FA-B313-4F915669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96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96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E2A-9971-4FCC-85EA-E24F7CCA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ED83-E76D-4B9C-A10D-A16879AD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5400-43CE-4A21-B969-94C4D70D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D941-A540-4374-AB13-7AA514AB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AC96-EF2A-482A-B57D-3EF4E99A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496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80FA-F096-43E5-8897-DF193FA9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DCD0-6E85-4D2F-8BA7-C3ACB98A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846A-05FD-447C-B4D1-3452F7FE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A29-1FB6-4B3C-9024-096683D0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7840" indent="73656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0360" indent="554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36400" indent="37800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FD39-30E8-4DAE-998B-D4F951661F5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57360" y="6356520"/>
            <a:ext cx="422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66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5196-0DB8-441C-9AD7-436CDDBD49F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eeppt.com/tubiao/" TargetMode="External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audio" Target="../media/push.wav"/><Relationship Id="rId2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42" name="그룹 14"/>
          <p:cNvGrpSpPr/>
          <p:nvPr/>
        </p:nvGrpSpPr>
        <p:grpSpPr>
          <a:xfrm>
            <a:off x="468360" y="765000"/>
            <a:ext cx="8429400" cy="5400720"/>
            <a:chOff x="468360" y="765000"/>
            <a:chExt cx="8429400" cy="5400720"/>
          </a:xfrm>
        </p:grpSpPr>
        <p:sp>
          <p:nvSpPr>
            <p:cNvPr id="43" name="Oval 117"/>
            <p:cNvSpPr/>
            <p:nvPr/>
          </p:nvSpPr>
          <p:spPr>
            <a:xfrm>
              <a:off x="625320" y="4093920"/>
              <a:ext cx="7286400" cy="207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그룹 13"/>
            <p:cNvGrpSpPr/>
            <p:nvPr/>
          </p:nvGrpSpPr>
          <p:grpSpPr>
            <a:xfrm>
              <a:off x="468360" y="1022040"/>
              <a:ext cx="8429400" cy="3975120"/>
              <a:chOff x="468360" y="1022040"/>
              <a:chExt cx="8429400" cy="3975120"/>
            </a:xfrm>
          </p:grpSpPr>
          <p:sp>
            <p:nvSpPr>
              <p:cNvPr id="45" name="AutoShape 812"/>
              <p:cNvSpPr/>
              <p:nvPr/>
            </p:nvSpPr>
            <p:spPr>
              <a:xfrm>
                <a:off x="468360" y="1022040"/>
                <a:ext cx="8429400" cy="3975120"/>
              </a:xfrm>
              <a:prstGeom prst="roundRect">
                <a:avLst>
                  <a:gd name="adj" fmla="val 447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AutoShape 813"/>
              <p:cNvSpPr/>
              <p:nvPr/>
            </p:nvSpPr>
            <p:spPr>
              <a:xfrm>
                <a:off x="602280" y="1086840"/>
                <a:ext cx="8164440" cy="384120"/>
              </a:xfrm>
              <a:prstGeom prst="roundRect">
                <a:avLst>
                  <a:gd name="adj" fmla="val 2646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118800" anchor="t">
                <a:noAutofit/>
              </a:bodyPr>
              <a:p>
                <a:pPr algn="ctr">
                  <a:lnSpc>
                    <a:spcPct val="13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AutoShape 278"/>
            <p:cNvSpPr/>
            <p:nvPr/>
          </p:nvSpPr>
          <p:spPr>
            <a:xfrm>
              <a:off x="2163600" y="765000"/>
              <a:ext cx="5027400" cy="612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차트 3" descr=""/>
            <p:cNvPicPr/>
            <p:nvPr/>
          </p:nvPicPr>
          <p:blipFill>
            <a:blip r:embed="rId2"/>
            <a:stretch/>
          </p:blipFill>
          <p:spPr>
            <a:xfrm>
              <a:off x="839520" y="836280"/>
              <a:ext cx="757224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AutoShape 257"/>
            <p:cNvSpPr/>
            <p:nvPr/>
          </p:nvSpPr>
          <p:spPr>
            <a:xfrm>
              <a:off x="2341440" y="804600"/>
              <a:ext cx="4665600" cy="253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16" descr="빛"/>
            <p:cNvPicPr/>
            <p:nvPr/>
          </p:nvPicPr>
          <p:blipFill>
            <a:blip r:embed="rId3"/>
            <a:stretch/>
          </p:blipFill>
          <p:spPr>
            <a:xfrm>
              <a:off x="3911400" y="2450880"/>
              <a:ext cx="4000320" cy="219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" name="Group 84"/>
            <p:cNvGrpSpPr/>
            <p:nvPr/>
          </p:nvGrpSpPr>
          <p:grpSpPr>
            <a:xfrm>
              <a:off x="3682800" y="2593800"/>
              <a:ext cx="1856880" cy="856800"/>
              <a:chOff x="3682800" y="2593800"/>
              <a:chExt cx="1856880" cy="856800"/>
            </a:xfrm>
          </p:grpSpPr>
          <p:sp>
            <p:nvSpPr>
              <p:cNvPr id="52" name="Oval 49"/>
              <p:cNvSpPr/>
              <p:nvPr/>
            </p:nvSpPr>
            <p:spPr>
              <a:xfrm>
                <a:off x="3682800" y="2593800"/>
                <a:ext cx="1856880" cy="851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val 50"/>
              <p:cNvSpPr/>
              <p:nvPr/>
            </p:nvSpPr>
            <p:spPr>
              <a:xfrm>
                <a:off x="3769200" y="2727000"/>
                <a:ext cx="1675440" cy="723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Text Box 15"/>
            <p:cNvSpPr/>
            <p:nvPr/>
          </p:nvSpPr>
          <p:spPr>
            <a:xfrm>
              <a:off x="1153440" y="55846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汉仪中圆简"/>
                  <a:ea typeface="汉仪中圆简"/>
                </a:rPr>
                <a:t>文字描述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08000" y="6453360"/>
            <a:ext cx="7611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00000"/>
                </a:solidFill>
                <a:uFillTx/>
                <a:latin typeface="Arial"/>
                <a:hlinkClick r:id="rId4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3880" y="189000"/>
            <a:ext cx="37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饼状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2720" y="1413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5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C99-BA2B-4B9A-8CD2-F2BAC94C2749}" type="slidenum">
              <a:t>2</a:t>
            </a:fld>
          </a:p>
        </p:txBody>
      </p:sp>
    </p:spTree>
  </p:cSld>
  <p:transition spd="med" advTm="2000">
    <p:split dir="out" orient="horz"/>
    <p:sndAc>
      <p:stSnd>
        <p:snd r:embed="rId27" name="pu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6:04:00Z</dcterms:created>
  <dc:creator/>
  <dc:description/>
  <cp:keywords>幻灯片之家 http:/www.eeppt.com</cp:keywords>
  <dc:language>en-US</dc:language>
  <cp:lastModifiedBy/>
  <dcterms:modified xsi:type="dcterms:W3CDTF">2015-07-07T02:39:28Z</dcterms:modified>
  <cp:revision>4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