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3D9-FA5F-43CD-A0A5-B8A60B90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326-560D-4129-A81F-DCEB22D1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622-16DF-41EB-B437-6AABEE65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EE4-193B-4108-A381-266FC0A2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36FB-3411-47B0-914F-D9B9E91D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67B2-896A-4FA4-B754-8D6CF904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63D6-8F96-485D-A3A9-BCA9732A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6EA4-17F0-467D-9C9B-46D8CB43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7A2-E3B3-44F0-BF57-5ADB6EE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59F5-2BD5-4F05-8834-F793742B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54A0-F68C-41F4-B3F0-BECB9F98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A91-48DE-4B92-9B5D-C18B496B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0DC4-F6D4-4D73-B2EC-C51ECFE4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6012-B68D-48E6-B8B8-53428BD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2970-71BF-4193-B24D-FA05FB3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5DD8-5A4F-4D65-85AE-F9D0CAAB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A28-5FD5-450E-A6ED-73A6F0F1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820-9809-426D-827E-08C90FD3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E6E-9F71-4F1C-8C07-EA5CA34F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DD4-C200-4DCF-9261-67EF318B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3A7-08F6-48CF-98CD-051A54AA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168-428D-45F7-833D-F78C4B71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AAE-36C8-48C2-8EBE-58AB0793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834-032B-4E55-BFFF-4AB581A0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19E3-FB40-4929-90B9-00D9CCC59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9B57-88E6-4B96-8BA3-7B269FBDF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360" y="11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城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6640" y="2070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9F0-4114-4C63-901A-880E45C1CD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7:58:27Z</dcterms:created>
  <dc:creator/>
  <dc:description/>
  <cp:keywords>幻灯片之家 http:/www.eeppt.com</cp:keywords>
  <dc:language>en-US</dc:language>
  <cp:lastModifiedBy/>
  <dcterms:modified xsi:type="dcterms:W3CDTF">2015-07-09T01:41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