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6E1-03DA-4DFE-A40D-B95B3E4D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A70-EF64-4AC8-A221-57C5A6E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F81-0BB6-49F5-8B17-99F6FB32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6F8-25F9-4BC4-852C-8EF4F6A1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45B-2A4E-4540-8508-441BD90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140-E6A3-430E-A4D3-8C23D7B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D35-D95D-4753-9640-2406196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CA4-8BE5-47D7-8DAA-C48F6F3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EB2-DA3C-49F5-9F90-0F1F20A5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98A-DAC1-4995-82DE-527F7D1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78A-3F24-495F-A29F-59A4BC8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386-3524-40BB-B070-67F8E76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DD9-E5EF-4D94-A7D7-0E285183A1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3492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mic Sans MS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omic Sans MS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16640" y="476280"/>
            <a:ext cx="306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zh-CN" sz="4500" spc="-1" strike="noStrike">
                <a:solidFill>
                  <a:srgbClr val="ffffff"/>
                </a:solidFill>
                <a:latin typeface="Comic Sans MS"/>
              </a:rPr>
              <a:t>翠鸟</a:t>
            </a:r>
            <a:r>
              <a:rPr b="0" lang="zh-CN" sz="45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Comic Sans MS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4" descr="003ac"/>
          <p:cNvPicPr/>
          <p:nvPr/>
        </p:nvPicPr>
        <p:blipFill>
          <a:blip r:embed="rId2">
            <a:lum bright="72000"/>
          </a:blip>
          <a:srcRect l="0" t="0" r="1299" b="7635"/>
          <a:stretch/>
        </p:blipFill>
        <p:spPr>
          <a:xfrm>
            <a:off x="179280" y="620640"/>
            <a:ext cx="8785440" cy="5962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826920" y="184464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  <a:ea typeface="宋体"/>
              </a:rPr>
              <a:t>  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  <a:ea typeface="宋体"/>
              </a:rPr>
              <a:t>1.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宋体"/>
              </a:rPr>
              <a:t>用你喜欢的方式读课文，课文的题目就叫“翠鸟”，想想课文讲了翠鸟的哪些特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5280" y="9079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11280" y="4292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课文翠鸟的外形、活动特点、捉鱼情景和我们要保护小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13" descr="2139347-A-embed"/>
          <p:cNvPicPr/>
          <p:nvPr/>
        </p:nvPicPr>
        <p:blipFill>
          <a:blip r:embed="rId2"/>
          <a:srcRect l="0" t="0" r="-178" b="13144"/>
          <a:stretch/>
        </p:blipFill>
        <p:spPr>
          <a:xfrm>
            <a:off x="179280" y="566640"/>
            <a:ext cx="8785440" cy="6291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57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宋体"/>
              </a:rPr>
              <a:t>1 .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宋体"/>
              </a:rPr>
              <a:t>课文是从哪几个方面描写了翠鸟的外形呢？作者又是怎样把翠鸟的颜色写具体的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332000" y="371628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头上：橄榄色头巾，翠绿色花纹。</a:t>
            </a:r>
            <a:br>
              <a:rPr sz="3600"/>
            </a:b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背上：浅绿色的外衣。</a:t>
            </a:r>
            <a:br>
              <a:rPr sz="3600"/>
            </a:b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腹部：赤褐色的衬衫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50920" y="6508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0" descr="2139347-A-embed"/>
          <p:cNvPicPr/>
          <p:nvPr/>
        </p:nvPicPr>
        <p:blipFill>
          <a:blip r:embed="rId2">
            <a:lum bright="-6000"/>
          </a:blip>
          <a:srcRect l="0" t="0" r="-178" b="13144"/>
          <a:stretch/>
        </p:blipFill>
        <p:spPr>
          <a:xfrm>
            <a:off x="179280" y="620640"/>
            <a:ext cx="8856720" cy="5977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11280" y="285264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思考：为什么作者用“头巾” “外衣”“衬衫”来打比方？体现了作者怎样的一种感情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403280" y="13478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2.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联系上文，理解“鲜艳”的意思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3964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114560" y="5013360"/>
            <a:ext cx="655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（对翠鸟的喜爱之情。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042920" y="2139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（形容颜色又鲜明又美丽。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0" descr="2139347-A-embed"/>
          <p:cNvPicPr/>
          <p:nvPr/>
        </p:nvPicPr>
        <p:blipFill>
          <a:blip r:embed="rId2"/>
          <a:srcRect l="0" t="0" r="-178" b="13144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179280" y="76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外形特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971640" y="1587600"/>
            <a:ext cx="691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4.“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小巧玲珑”是什么意思？哪些地方能看出它小巧玲珑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579480" y="3116160"/>
            <a:ext cx="25153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小巧玲珑：形容又小又灵巧精致。 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眼：透亮灵活。　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66ff33"/>
                </a:solidFill>
                <a:latin typeface="Arial"/>
              </a:rPr>
              <a:t>嘴：又尖又长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0" descr="pic_63998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79280" y="630360"/>
            <a:ext cx="8785440" cy="5894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"/>
          <p:cNvSpPr/>
          <p:nvPr/>
        </p:nvSpPr>
        <p:spPr>
          <a:xfrm>
            <a:off x="539640" y="155736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翠鸟鸣声清脆，爱贴着水面疾飞。才见它飞起，一眨眼，它又轻轻地停在苇秆上了。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50920" y="54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341960" y="907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一句：动作敏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68360" y="32097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这句话表现了翠鸟行动迅速而敏捷的特点。翠鸟在“疾飞”中，眨眼间“轻轻地停在”细软的苇秆上。在“疾飞”与“轻停”的联系中，“敏捷”便显露出来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这里一是讲翠鸟飞得低而快，二是讲停得急而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pic_63998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755640" y="3716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“一动不动” “注视” “等待”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宋体"/>
              </a:rPr>
              <a:t>这些词语表现了翠鸟捉鱼时另一个特点是等待小鱼时非常专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6836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016440" y="13730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第二句：专心机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611280" y="2205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它一动不动地注视着泛着微波的水面，等待游到水面上来的小鱼。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9" descr="pic_6399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79280" y="612720"/>
            <a:ext cx="8785440" cy="5911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39528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539640" y="4941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Comic Sans MS"/>
              </a:rPr>
              <a:t>这说明翠鸟的目光锐利极了，课文中的“锐利”指翠鸟的感觉非常灵敏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84360" y="3284640"/>
            <a:ext cx="770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  <a:ea typeface="宋体"/>
              </a:rPr>
              <a:t>课文先说小鱼非常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“机灵”，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  <a:ea typeface="宋体"/>
              </a:rPr>
              <a:t>再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“还是难以逃脱”。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  <a:ea typeface="宋体"/>
              </a:rPr>
              <a:t>这样写有什么作用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611280" y="1413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尽管小鱼是那样机灵，只悄悄地把头露出水面来吹了个小泡泡，可还是难以逃脱翠鸟锐利的眼睛。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5" descr="pic_6399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603360"/>
            <a:ext cx="9144000" cy="6281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339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翠鸟（       ）苇秆，（                 ）过去，（         ）那条小鱼，（         ）水面往远处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这句话活灵活现地再现了翠鸟捉鱼的经过。括号里的词语是翠鸟捉鱼时一连串的动作，都是在一瞬间进行的，甚至连机灵的小鱼都没有反应过来。说明翠鸟捉鱼的动作熟练、连贯、毫不犹豫，而且从未落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007440" y="137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蹬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012000" y="134136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像箭一样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268360" y="191304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叼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6734160" y="19130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贴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982240" y="2489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飞走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50920" y="549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9" descr="pic_63999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123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停在苇秆上“一动不动地注视着泛着微波的水面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目光“锐利”，能发现机灵的小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在疾飞中叼起水中的小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翠鸟为什么能贴着水面低飞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96720" y="6174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说说翠鸟捉鱼的本领与它的外形有什么关系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068560" y="1484280"/>
            <a:ext cx="4785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（因为它有一双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紧紧抓住苇秆”的小爪子。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875760" y="3068640"/>
            <a:ext cx="2567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（因为它有一双“透亮灵活”的眼睛。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3649320" y="400536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（因为它有一张“又尖又长”的嘴。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188520" y="4986360"/>
            <a:ext cx="2204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（那是因为它“小巧玲珑”。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1788840" y="5516640"/>
            <a:ext cx="56851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翠鸟捉鱼的本领是由它的外形决定的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并且是由各部分的特点整体发挥作用的结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4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5" descr="358719-DSCF0735_2-embed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7993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在欣赏了翠鸟美丽的外形和捉鱼的精彩表演之后，你会产生什么想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但这种想法可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于是，我们只能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…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 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假如你有机会接近甚至捉到了翠鸟，你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8000" y="579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保护翠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55640" y="227664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真想捉一只翠鸟来饲养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”强调“真想”，感受那种非常喜爱、迫不及待的心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26920" y="4508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从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远远地看着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”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希望它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多停一会儿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”中感受对翠鸟的喜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292720" y="342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不可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445080" y="6381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36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"/>
          <p:cNvSpPr/>
          <p:nvPr/>
        </p:nvSpPr>
        <p:spPr>
          <a:xfrm>
            <a:off x="684360" y="1628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翠鸟，又叫翡翠。它全身翠蓝色，腹面棕色，平时以直挺姿势，栖息在水旁，很长时间一动不动，等待鱼虾游过。每当看到鱼虾，立刻以迅速凶猛的姿势，直扑水中，用嘴捕取。翠鸟的巢常筑在田野堤岸的砂土中，掘成隧道，深为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厘米左右。翠鸟的翠羽由于折光缘故，闪闪发光。中国的翠鸟有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种：斑头翠鸟、蓝耳翠鸟和普通翠鸟。最后一种常见，分布也广。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3203640" y="62064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翠 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B03-7915-4A04-A3D4-F867C4066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28" descr="20041012104256169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324000" y="1844640"/>
            <a:ext cx="84596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　①一眨眼，翠鸟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轻轻地停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在苇秆上了。</a:t>
            </a:r>
            <a:br>
              <a:rPr sz="3200"/>
            </a:b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②一会儿，翠鸟又站在苇秆上了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　①翠鸟鸣声清脆，爱贴着水面飞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　②翠鸟鸣声清脆，爱贴着水面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疾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飞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①翠鸟蹬开苇秆，很快的飞过去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　②翠鸟蹬开苇秆，像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箭一样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飞过去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①它一动不动地看着泛着微波的水面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　②它一动不动地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注视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宋体"/>
              </a:rPr>
              <a:t>着泛着微波的水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3447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08000" y="4348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巩固训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21"/>
          <p:cNvSpPr/>
          <p:nvPr/>
        </p:nvSpPr>
        <p:spPr>
          <a:xfrm>
            <a:off x="755640" y="155736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2"/>
          <p:cNvSpPr/>
          <p:nvPr/>
        </p:nvSpPr>
        <p:spPr>
          <a:xfrm>
            <a:off x="539640" y="2205000"/>
            <a:ext cx="216000" cy="7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539640" y="3429000"/>
            <a:ext cx="144720" cy="720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4"/>
          <p:cNvSpPr/>
          <p:nvPr/>
        </p:nvSpPr>
        <p:spPr>
          <a:xfrm>
            <a:off x="468360" y="465300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25"/>
          <p:cNvSpPr/>
          <p:nvPr/>
        </p:nvSpPr>
        <p:spPr>
          <a:xfrm>
            <a:off x="468360" y="587844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684360" y="9428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比较下面的句子，看看哪句话用得好，好在哪里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26" descr="015ao"/>
          <p:cNvPicPr/>
          <p:nvPr/>
        </p:nvPicPr>
        <p:blipFill>
          <a:blip r:embed="rId2"/>
          <a:stretch/>
        </p:blipFill>
        <p:spPr>
          <a:xfrm>
            <a:off x="179280" y="612720"/>
            <a:ext cx="8785440" cy="59850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27"/>
          <p:cNvSpPr txBox="1"/>
          <p:nvPr/>
        </p:nvSpPr>
        <p:spPr>
          <a:xfrm>
            <a:off x="2268360" y="2421000"/>
            <a:ext cx="5257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再见</a:t>
            </a:r>
            <a:endParaRPr b="0" lang="en-US" sz="1800" spc="1" strike="noStrike">
              <a:ln w="12600">
                <a:solidFill>
                  <a:srgbClr val="808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"/>
          <p:cNvSpPr/>
          <p:nvPr/>
        </p:nvSpPr>
        <p:spPr>
          <a:xfrm>
            <a:off x="82872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28" descr="200615122548487"/>
          <p:cNvPicPr/>
          <p:nvPr/>
        </p:nvPicPr>
        <p:blipFill>
          <a:blip r:embed="rId2">
            <a:lum bright="54000"/>
          </a:blip>
          <a:srcRect l="2735" t="2749" r="2735" b="2749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611280" y="1822320"/>
            <a:ext cx="77756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幼圆"/>
                <a:ea typeface="幼圆"/>
              </a:rPr>
              <a:t>　  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．正确、流利、有感情地朗读课文。　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．认识翠鸟的外形，了解翠鸟的生活习性及捉鱼的本领，体验翠鸟静立、飞翔的美感，懂得爱鸟、护鸟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　  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．学习作者观察的顺序和抓特点进行观察的方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059280" y="10112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2124000" y="321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3" descr="017aq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4000" y="69228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</a:rPr>
              <a:t>课文范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5">
            <a:hlinkClick r:id="rId3"/>
          </p:cNvPr>
          <p:cNvSpPr/>
          <p:nvPr/>
        </p:nvSpPr>
        <p:spPr>
          <a:xfrm>
            <a:off x="2987640" y="1125360"/>
            <a:ext cx="504720" cy="360720"/>
          </a:xfrm>
          <a:custGeom>
            <a:avLst/>
            <a:gdLst>
              <a:gd name="textAreaLeft" fmla="*/ 22320 w 504720"/>
              <a:gd name="textAreaRight" fmla="*/ 482400 w 504720"/>
              <a:gd name="textAreaTop" fmla="*/ 22320 h 360720"/>
              <a:gd name="textAreaBottom" fmla="*/ 338400 h 360720"/>
            </a:gdLst>
            <a:ahLst/>
            <a:rect l="textAreaLeft" t="textAreaTop" r="textAreaRight" b="textAreaBottom"/>
            <a:pathLst>
              <a:path w="30214" h="21600">
                <a:moveTo>
                  <a:pt x="0" y="0"/>
                </a:moveTo>
                <a:lnTo>
                  <a:pt x="30214" y="0"/>
                </a:lnTo>
                <a:lnTo>
                  <a:pt x="30214" y="21600"/>
                </a:lnTo>
                <a:lnTo>
                  <a:pt x="0" y="21600"/>
                </a:lnTo>
                <a:close/>
              </a:path>
              <a:path fill="lightenLess" w="30214" h="21600">
                <a:moveTo>
                  <a:pt x="0" y="0"/>
                </a:moveTo>
                <a:lnTo>
                  <a:pt x="30214" y="0"/>
                </a:lnTo>
                <a:lnTo>
                  <a:pt x="28864" y="1350"/>
                </a:lnTo>
                <a:lnTo>
                  <a:pt x="1350" y="1350"/>
                </a:lnTo>
                <a:close/>
              </a:path>
              <a:path fill="darken" w="30214" h="21600">
                <a:moveTo>
                  <a:pt x="30214" y="0"/>
                </a:moveTo>
                <a:lnTo>
                  <a:pt x="30214" y="21600"/>
                </a:lnTo>
                <a:lnTo>
                  <a:pt x="28864" y="20250"/>
                </a:lnTo>
                <a:lnTo>
                  <a:pt x="28864" y="1350"/>
                </a:lnTo>
                <a:close/>
              </a:path>
              <a:path fill="darkenLess" w="30214" h="21600">
                <a:moveTo>
                  <a:pt x="3021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64" y="20250"/>
                </a:lnTo>
                <a:close/>
              </a:path>
              <a:path fill="lighten" w="3021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14" h="21600">
                <a:moveTo>
                  <a:pt x="8063" y="8394"/>
                </a:moveTo>
                <a:lnTo>
                  <a:pt x="12517" y="8394"/>
                </a:lnTo>
                <a:lnTo>
                  <a:pt x="16962" y="3756"/>
                </a:lnTo>
                <a:lnTo>
                  <a:pt x="16962" y="17844"/>
                </a:lnTo>
                <a:lnTo>
                  <a:pt x="12517" y="13206"/>
                </a:lnTo>
                <a:lnTo>
                  <a:pt x="8063" y="13206"/>
                </a:lnTo>
                <a:close/>
              </a:path>
              <a:path fill="darken" w="30214" h="21600">
                <a:moveTo>
                  <a:pt x="18625" y="10800"/>
                </a:moveTo>
                <a:lnTo>
                  <a:pt x="22151" y="10800"/>
                </a:lnTo>
              </a:path>
              <a:path fill="darken" w="30214" h="21600">
                <a:moveTo>
                  <a:pt x="18625" y="8394"/>
                </a:moveTo>
                <a:lnTo>
                  <a:pt x="22151" y="5611"/>
                </a:lnTo>
              </a:path>
              <a:path fill="darken" w="30214" h="21600">
                <a:moveTo>
                  <a:pt x="18625" y="13206"/>
                </a:moveTo>
                <a:lnTo>
                  <a:pt x="22151" y="15989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19" descr="20053192330167946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停               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秆               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               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07672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wě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4764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t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í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846520" y="1916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停住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30072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芦苇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248436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19280" y="29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g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84472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苇秆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4836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i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30072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绣花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692360" y="4005360"/>
            <a:ext cx="18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f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844720" y="400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腹部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219640" y="40086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h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300720" y="400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褐色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619280" y="501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tu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84328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逃脱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20053192330167946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锐               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箭               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漾               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翁               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076720" y="191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d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836720" y="191628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ru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89440" y="19130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锐利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445080" y="1916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蹬开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76220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989440" y="2924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火箭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07672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diā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443640" y="29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叼住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547640" y="400536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y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987640" y="4002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荡漾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292720" y="40086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s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443640" y="400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饲养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1547640" y="5013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w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98764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渔翁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219640" y="5013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dǎ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443640" y="501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逮住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1" descr="20053192330167946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79280" y="614520"/>
            <a:ext cx="8785440" cy="5983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"/>
          <p:cNvGrpSpPr/>
          <p:nvPr/>
        </p:nvGrpSpPr>
        <p:grpSpPr>
          <a:xfrm>
            <a:off x="2628720" y="4149720"/>
            <a:ext cx="1224000" cy="1224000"/>
            <a:chOff x="2628720" y="4149720"/>
            <a:chExt cx="1224000" cy="1224000"/>
          </a:xfrm>
        </p:grpSpPr>
        <p:sp>
          <p:nvSpPr>
            <p:cNvPr id="95" name="Rectangle 4"/>
            <p:cNvSpPr/>
            <p:nvPr/>
          </p:nvSpPr>
          <p:spPr>
            <a:xfrm>
              <a:off x="2629080" y="4149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Line 5"/>
            <p:cNvSpPr/>
            <p:nvPr/>
          </p:nvSpPr>
          <p:spPr>
            <a:xfrm flipH="1">
              <a:off x="2628720" y="4761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24108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8" name="Group 7"/>
          <p:cNvGrpSpPr/>
          <p:nvPr/>
        </p:nvGrpSpPr>
        <p:grpSpPr>
          <a:xfrm>
            <a:off x="3852720" y="4149720"/>
            <a:ext cx="1224000" cy="1224000"/>
            <a:chOff x="3852720" y="4149720"/>
            <a:chExt cx="1224000" cy="1224000"/>
          </a:xfrm>
        </p:grpSpPr>
        <p:sp>
          <p:nvSpPr>
            <p:cNvPr id="99" name="Rectangle 8"/>
            <p:cNvSpPr/>
            <p:nvPr/>
          </p:nvSpPr>
          <p:spPr>
            <a:xfrm>
              <a:off x="385272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H="1">
              <a:off x="385272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446508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1403280" y="4149720"/>
            <a:ext cx="1224000" cy="1224000"/>
            <a:chOff x="1403280" y="4149720"/>
            <a:chExt cx="1224000" cy="1224000"/>
          </a:xfrm>
        </p:grpSpPr>
        <p:sp>
          <p:nvSpPr>
            <p:cNvPr id="103" name="Rectangle 12"/>
            <p:cNvSpPr/>
            <p:nvPr/>
          </p:nvSpPr>
          <p:spPr>
            <a:xfrm>
              <a:off x="140328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 flipH="1">
              <a:off x="140328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201564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2628720" y="2421000"/>
            <a:ext cx="1224000" cy="1224000"/>
            <a:chOff x="2628720" y="2421000"/>
            <a:chExt cx="1224000" cy="1224000"/>
          </a:xfrm>
        </p:grpSpPr>
        <p:sp>
          <p:nvSpPr>
            <p:cNvPr id="107" name="Rectangle 16"/>
            <p:cNvSpPr/>
            <p:nvPr/>
          </p:nvSpPr>
          <p:spPr>
            <a:xfrm>
              <a:off x="2629080" y="242100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 flipH="1">
              <a:off x="2628720" y="303300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3241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1403280" y="2421000"/>
            <a:ext cx="1224000" cy="1224000"/>
            <a:chOff x="1403280" y="2421000"/>
            <a:chExt cx="1224000" cy="1224000"/>
          </a:xfrm>
        </p:grpSpPr>
        <p:sp>
          <p:nvSpPr>
            <p:cNvPr id="111" name="Rectangle 20"/>
            <p:cNvSpPr/>
            <p:nvPr/>
          </p:nvSpPr>
          <p:spPr>
            <a:xfrm>
              <a:off x="140328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140328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22"/>
            <p:cNvSpPr/>
            <p:nvPr/>
          </p:nvSpPr>
          <p:spPr>
            <a:xfrm>
              <a:off x="201564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5076720" y="2421000"/>
            <a:ext cx="1224000" cy="1224000"/>
            <a:chOff x="5076720" y="2421000"/>
            <a:chExt cx="1224000" cy="1224000"/>
          </a:xfrm>
        </p:grpSpPr>
        <p:sp>
          <p:nvSpPr>
            <p:cNvPr id="115" name="Rectangle 24"/>
            <p:cNvSpPr/>
            <p:nvPr/>
          </p:nvSpPr>
          <p:spPr>
            <a:xfrm>
              <a:off x="5076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 flipH="1">
              <a:off x="5076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5689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" name="Group 27"/>
          <p:cNvGrpSpPr/>
          <p:nvPr/>
        </p:nvGrpSpPr>
        <p:grpSpPr>
          <a:xfrm>
            <a:off x="3852720" y="2421000"/>
            <a:ext cx="1224000" cy="1224000"/>
            <a:chOff x="3852720" y="2421000"/>
            <a:chExt cx="1224000" cy="1224000"/>
          </a:xfrm>
        </p:grpSpPr>
        <p:sp>
          <p:nvSpPr>
            <p:cNvPr id="119" name="Rectangle 28"/>
            <p:cNvSpPr/>
            <p:nvPr/>
          </p:nvSpPr>
          <p:spPr>
            <a:xfrm>
              <a:off x="3852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9"/>
            <p:cNvSpPr/>
            <p:nvPr/>
          </p:nvSpPr>
          <p:spPr>
            <a:xfrm flipH="1">
              <a:off x="3852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0"/>
            <p:cNvSpPr/>
            <p:nvPr/>
          </p:nvSpPr>
          <p:spPr>
            <a:xfrm>
              <a:off x="4465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5072040" y="4149720"/>
            <a:ext cx="1224000" cy="1224000"/>
            <a:chOff x="5072040" y="4149720"/>
            <a:chExt cx="1224000" cy="1224000"/>
          </a:xfrm>
        </p:grpSpPr>
        <p:sp>
          <p:nvSpPr>
            <p:cNvPr id="123" name="Rectangle 33"/>
            <p:cNvSpPr/>
            <p:nvPr/>
          </p:nvSpPr>
          <p:spPr>
            <a:xfrm>
              <a:off x="507204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507204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568440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6296040" y="4149720"/>
            <a:ext cx="1224000" cy="1224000"/>
            <a:chOff x="6296040" y="4149720"/>
            <a:chExt cx="1224000" cy="1224000"/>
          </a:xfrm>
        </p:grpSpPr>
        <p:sp>
          <p:nvSpPr>
            <p:cNvPr id="127" name="Rectangle 37"/>
            <p:cNvSpPr/>
            <p:nvPr/>
          </p:nvSpPr>
          <p:spPr>
            <a:xfrm>
              <a:off x="6296040" y="4149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296040" y="4761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6908400" y="4179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" name="Text Box 40"/>
          <p:cNvSpPr/>
          <p:nvPr/>
        </p:nvSpPr>
        <p:spPr>
          <a:xfrm>
            <a:off x="1403280" y="414972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箭叼处陡峭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42"/>
          <p:cNvGrpSpPr/>
          <p:nvPr/>
        </p:nvGrpSpPr>
        <p:grpSpPr>
          <a:xfrm>
            <a:off x="6300720" y="2421000"/>
            <a:ext cx="1224000" cy="1224000"/>
            <a:chOff x="6300720" y="2421000"/>
            <a:chExt cx="1224000" cy="1224000"/>
          </a:xfrm>
        </p:grpSpPr>
        <p:sp>
          <p:nvSpPr>
            <p:cNvPr id="132" name="Rectangle 43"/>
            <p:cNvSpPr/>
            <p:nvPr/>
          </p:nvSpPr>
          <p:spPr>
            <a:xfrm>
              <a:off x="6300720" y="242100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 flipH="1">
              <a:off x="6300720" y="303300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45"/>
            <p:cNvSpPr/>
            <p:nvPr/>
          </p:nvSpPr>
          <p:spPr>
            <a:xfrm>
              <a:off x="6913080" y="245124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" name="Text Box 31"/>
          <p:cNvSpPr/>
          <p:nvPr/>
        </p:nvSpPr>
        <p:spPr>
          <a:xfrm>
            <a:off x="1403280" y="24210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停玲珑等脱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4" descr="20053192330167946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6920" y="133956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翠鸟        苇秆         腹部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衬衫        透亮      又尖又长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清脆        疾飞      一眨眼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泡泡        逃脱         饲养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渔翁     石壁       打消       念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Picture 16" descr="20053192330167946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79280" y="612720"/>
            <a:ext cx="8785440" cy="6056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2"/>
          <p:cNvSpPr/>
          <p:nvPr/>
        </p:nvSpPr>
        <p:spPr>
          <a:xfrm>
            <a:off x="539640" y="719280"/>
            <a:ext cx="1728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鲜艳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疾飞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等待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锐利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饲养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注视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逃脱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荡漾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83528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色彩很鲜美、很明亮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835280" y="1484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疾”是“快”的意思，即很快地飞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1690560" y="22114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 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待”是守候，即等着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763640" y="2997360"/>
            <a:ext cx="66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锐”是尖利，尖锐，锋利。这里是说眼睛很尖，一眼就看到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908000" y="3940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喂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1763640" y="45878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集中精力地看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1763640" y="5373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逃跑，顺利逃掉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1619280" y="602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（水波）一起一伏地动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13T08:53:10Z</dcterms:modified>
  <cp:revision>7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