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DAC7-8753-4B02-9095-06190F921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E821-2A27-4051-9923-ABE0BC24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1213-5E90-4597-A6FA-AB1B89F7C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F6A2-52D9-4386-B40F-7E29C45CC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E414-FFDB-4944-823A-FB9483FA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E98C-3D13-436C-A709-6C7B6A71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C7A9-F1A2-4AB3-95D4-1277C8D5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1B61-DDE0-4438-BAA2-822F9F46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7717-65B6-46CC-A3B3-765EAA21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616C-9588-4E76-A2DA-C86EF2A0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7CE9-B29E-4CAA-AF00-CF1B6CB4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8F54-B51F-4179-8050-C6C70CC1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9ECD-5222-4817-A649-10751FC1324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1D02-E8D8-4C55-8C08-CC4D1C6B730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moban/shangwu/" TargetMode="Externa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2875320" y="1225440"/>
            <a:ext cx="3393360" cy="2636640"/>
            <a:chOff x="2875320" y="1225440"/>
            <a:chExt cx="3393360" cy="2636640"/>
          </a:xfrm>
        </p:grpSpPr>
        <p:sp>
          <p:nvSpPr>
            <p:cNvPr id="43" name="矩形 9"/>
            <p:cNvSpPr/>
            <p:nvPr/>
          </p:nvSpPr>
          <p:spPr>
            <a:xfrm>
              <a:off x="2948400" y="1225440"/>
              <a:ext cx="32468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 PROFIL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矩形 10"/>
            <p:cNvSpPr/>
            <p:nvPr/>
          </p:nvSpPr>
          <p:spPr>
            <a:xfrm>
              <a:off x="2875320" y="1722960"/>
              <a:ext cx="3393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c00000"/>
                  </a:solidFill>
                  <a:latin typeface="Calibri"/>
                  <a:ea typeface="Calibri"/>
                </a:rPr>
                <a:t>INSERT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11"/>
            <p:cNvSpPr/>
            <p:nvPr/>
          </p:nvSpPr>
          <p:spPr>
            <a:xfrm>
              <a:off x="2877480" y="2626560"/>
              <a:ext cx="3388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e36c09"/>
                  </a:solidFill>
                  <a:latin typeface="Calibri"/>
                  <a:ea typeface="Calibri"/>
                </a:rPr>
                <a:t>YOUR NAM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12"/>
            <p:cNvSpPr/>
            <p:nvPr/>
          </p:nvSpPr>
          <p:spPr>
            <a:xfrm>
              <a:off x="2897280" y="3097800"/>
              <a:ext cx="3349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FOR EXEMPL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84040" y="47610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58720" y="42228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超炫动画商务演示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5" dur="2200" fill="hold"/>
                                        <p:tgtEl>
                                          <p:spTgt spid="42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2340000" y="482760"/>
            <a:ext cx="144360" cy="3384360"/>
            <a:chOff x="2340000" y="482760"/>
            <a:chExt cx="144360" cy="3384360"/>
          </a:xfrm>
        </p:grpSpPr>
        <p:sp>
          <p:nvSpPr>
            <p:cNvPr id="226" name="矩形 3"/>
            <p:cNvSpPr/>
            <p:nvPr/>
          </p:nvSpPr>
          <p:spPr>
            <a:xfrm>
              <a:off x="2340000" y="482760"/>
              <a:ext cx="46440" cy="3384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矩形 4"/>
            <p:cNvSpPr/>
            <p:nvPr/>
          </p:nvSpPr>
          <p:spPr>
            <a:xfrm>
              <a:off x="2340720" y="482760"/>
              <a:ext cx="143640" cy="7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矩形 5"/>
            <p:cNvSpPr/>
            <p:nvPr/>
          </p:nvSpPr>
          <p:spPr>
            <a:xfrm>
              <a:off x="2340720" y="2141280"/>
              <a:ext cx="143640" cy="7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矩形 6"/>
            <p:cNvSpPr/>
            <p:nvPr/>
          </p:nvSpPr>
          <p:spPr>
            <a:xfrm>
              <a:off x="2340720" y="3795120"/>
              <a:ext cx="143640" cy="7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矩形 8"/>
          <p:cNvSpPr/>
          <p:nvPr/>
        </p:nvSpPr>
        <p:spPr>
          <a:xfrm>
            <a:off x="2581560" y="3795840"/>
            <a:ext cx="400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NCREASE YOUR S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10"/>
          <p:cNvSpPr/>
          <p:nvPr/>
        </p:nvSpPr>
        <p:spPr>
          <a:xfrm>
            <a:off x="2728800" y="-73836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20"/>
          <p:cNvSpPr/>
          <p:nvPr/>
        </p:nvSpPr>
        <p:spPr>
          <a:xfrm>
            <a:off x="3351240" y="-124632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30"/>
          <p:cNvSpPr/>
          <p:nvPr/>
        </p:nvSpPr>
        <p:spPr>
          <a:xfrm>
            <a:off x="4007880" y="-153036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40"/>
          <p:cNvSpPr/>
          <p:nvPr/>
        </p:nvSpPr>
        <p:spPr>
          <a:xfrm>
            <a:off x="4647600" y="-188748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50"/>
          <p:cNvSpPr/>
          <p:nvPr/>
        </p:nvSpPr>
        <p:spPr>
          <a:xfrm>
            <a:off x="5295960" y="-234936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60"/>
          <p:cNvSpPr/>
          <p:nvPr/>
        </p:nvSpPr>
        <p:spPr>
          <a:xfrm>
            <a:off x="5933520" y="-268272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1"/>
          <p:cNvSpPr/>
          <p:nvPr/>
        </p:nvSpPr>
        <p:spPr>
          <a:xfrm>
            <a:off x="2725560" y="3363840"/>
            <a:ext cx="503280" cy="4683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2"/>
          <p:cNvSpPr/>
          <p:nvPr/>
        </p:nvSpPr>
        <p:spPr>
          <a:xfrm>
            <a:off x="3348000" y="2860560"/>
            <a:ext cx="503280" cy="971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3"/>
          <p:cNvSpPr/>
          <p:nvPr/>
        </p:nvSpPr>
        <p:spPr>
          <a:xfrm>
            <a:off x="3995640" y="2571840"/>
            <a:ext cx="505080" cy="12603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4"/>
          <p:cNvSpPr/>
          <p:nvPr/>
        </p:nvSpPr>
        <p:spPr>
          <a:xfrm>
            <a:off x="4643280" y="2214720"/>
            <a:ext cx="505080" cy="16174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5"/>
          <p:cNvSpPr/>
          <p:nvPr/>
        </p:nvSpPr>
        <p:spPr>
          <a:xfrm>
            <a:off x="5292720" y="1779480"/>
            <a:ext cx="503280" cy="205272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6"/>
          <p:cNvSpPr/>
          <p:nvPr/>
        </p:nvSpPr>
        <p:spPr>
          <a:xfrm>
            <a:off x="5940360" y="1419120"/>
            <a:ext cx="504720" cy="24130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0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2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2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6" dur="2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9" dur="2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2" dur="2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2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dur="indefinite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61111E-006 0.70802 L 0.00052 0.79506 E">
                                      <p:cBhvr>
                                        <p:cTn id="937" dur="1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8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939" dur="200" fill="hold"/>
                                        <p:tgtEl>
                                          <p:spTgt spid="23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40" dur="indefinite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941" dur="100" fill="hold"/>
                                        <p:tgtEl>
                                          <p:spTgt spid="231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942" dur="indefinite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8.33333E-007 0.70802 L 0.00052 0.79506 E">
                                      <p:cBhvr>
                                        <p:cTn id="943" dur="1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4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945" dur="200" fill="hold"/>
                                        <p:tgtEl>
                                          <p:spTgt spid="23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46" dur="indefinite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947" dur="100" fill="hold"/>
                                        <p:tgtEl>
                                          <p:spTgt spid="232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948" dur="indefinite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5.55556E-007 0.70803 L 0.00052 0.79507 E">
                                      <p:cBhvr>
                                        <p:cTn id="949" dur="1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0" dur="indefinite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951" dur="200" fill="hold"/>
                                        <p:tgtEl>
                                          <p:spTgt spid="23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52" dur="indefinite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953" dur="100" fill="hold"/>
                                        <p:tgtEl>
                                          <p:spTgt spid="233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954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16667E-006 0.70802 L 0.00052 0.79506 E">
                                      <p:cBhvr>
                                        <p:cTn id="955" dur="1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6" dur="indefinite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957" dur="200" fill="hold"/>
                                        <p:tgtEl>
                                          <p:spTgt spid="23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58" dur="indefinite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959" dur="100" fill="hold"/>
                                        <p:tgtEl>
                                          <p:spTgt spid="234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960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2.77778E-006 0.70803 L 0.00052 0.79507 E">
                                      <p:cBhvr>
                                        <p:cTn id="961" dur="1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2" dur="indefinite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963" dur="200" fill="hold"/>
                                        <p:tgtEl>
                                          <p:spTgt spid="23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64" dur="indefinite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965" dur="100" fill="hold"/>
                                        <p:tgtEl>
                                          <p:spTgt spid="235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966" dur="indefinite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8.33333E-007 0.70802 L 0.00052 0.79506 E">
                                      <p:cBhvr>
                                        <p:cTn id="967" dur="1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8" dur="indefinite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969" dur="200" fill="hold"/>
                                        <p:tgtEl>
                                          <p:spTgt spid="23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70" dur="indefinite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971" dur="100" fill="hold"/>
                                        <p:tgtEl>
                                          <p:spTgt spid="23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97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6" dur="1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978" dur="300" fill="hold"/>
                                        <p:tgtEl>
                                          <p:spTgt spid="23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79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980" dur="200" fill="hold"/>
                                        <p:tgtEl>
                                          <p:spTgt spid="230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981" dur="indefinite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982" dur="200" fill="hold"/>
                                        <p:tgtEl>
                                          <p:spTgt spid="2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83" dur="indefinite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984" dur="100" fill="hold"/>
                                        <p:tgtEl>
                                          <p:spTgt spid="230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98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矩形 1"/>
          <p:cNvSpPr/>
          <p:nvPr/>
        </p:nvSpPr>
        <p:spPr>
          <a:xfrm>
            <a:off x="495360" y="1509840"/>
            <a:ext cx="8143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  <a:ea typeface="Calibri"/>
              </a:rPr>
              <a:t>NEED TO KNOW MO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  <a:ea typeface="Calibri"/>
              </a:rPr>
              <a:t>ABOUT ME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0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6" dur="1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998" dur="200" fill="hold"/>
                                        <p:tgtEl>
                                          <p:spTgt spid="243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999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000" dur="1200" fill="hold"/>
                                        <p:tgtEl>
                                          <p:spTgt spid="243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矩形 1"/>
          <p:cNvSpPr/>
          <p:nvPr/>
        </p:nvSpPr>
        <p:spPr>
          <a:xfrm>
            <a:off x="1752840" y="2017800"/>
            <a:ext cx="563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  <a:ea typeface="Calibri"/>
              </a:rPr>
              <a:t>CONTACT ME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4360" y="765000"/>
            <a:ext cx="6337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8120" y="928800"/>
            <a:ext cx="6251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商务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0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1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9" dur="1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011" dur="200" fill="hold"/>
                                        <p:tgtEl>
                                          <p:spTgt spid="244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1012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013" dur="1200" fill="hold"/>
                                        <p:tgtEl>
                                          <p:spTgt spid="244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46BA-45BF-4D7C-8C91-0904441DDF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同心圆 3"/>
          <p:cNvSpPr/>
          <p:nvPr/>
        </p:nvSpPr>
        <p:spPr>
          <a:xfrm>
            <a:off x="5435640" y="1060560"/>
            <a:ext cx="1103400" cy="1101600"/>
          </a:xfrm>
          <a:prstGeom prst="donut">
            <a:avLst>
              <a:gd name="adj" fmla="val 481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同心圆 4"/>
          <p:cNvSpPr/>
          <p:nvPr/>
        </p:nvSpPr>
        <p:spPr>
          <a:xfrm>
            <a:off x="3635280" y="1611360"/>
            <a:ext cx="1513080" cy="1511280"/>
          </a:xfrm>
          <a:prstGeom prst="donut">
            <a:avLst>
              <a:gd name="adj" fmla="val 481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同心圆 5"/>
          <p:cNvSpPr/>
          <p:nvPr/>
        </p:nvSpPr>
        <p:spPr>
          <a:xfrm>
            <a:off x="1581120" y="2109960"/>
            <a:ext cx="1109520" cy="1109520"/>
          </a:xfrm>
          <a:prstGeom prst="donut">
            <a:avLst>
              <a:gd name="adj" fmla="val 481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同心圆 6"/>
          <p:cNvSpPr/>
          <p:nvPr/>
        </p:nvSpPr>
        <p:spPr>
          <a:xfrm>
            <a:off x="990720" y="2874960"/>
            <a:ext cx="1512720" cy="1512720"/>
          </a:xfrm>
          <a:prstGeom prst="donut">
            <a:avLst>
              <a:gd name="adj" fmla="val 481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同心圆 7"/>
          <p:cNvSpPr/>
          <p:nvPr/>
        </p:nvSpPr>
        <p:spPr>
          <a:xfrm>
            <a:off x="2411280" y="2181240"/>
            <a:ext cx="1908360" cy="1908000"/>
          </a:xfrm>
          <a:prstGeom prst="donut">
            <a:avLst>
              <a:gd name="adj" fmla="val 481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同心圆 8"/>
          <p:cNvSpPr/>
          <p:nvPr/>
        </p:nvSpPr>
        <p:spPr>
          <a:xfrm>
            <a:off x="6108840" y="1060560"/>
            <a:ext cx="1325520" cy="1323720"/>
          </a:xfrm>
          <a:prstGeom prst="donut">
            <a:avLst>
              <a:gd name="adj" fmla="val 481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同心圆 9"/>
          <p:cNvSpPr/>
          <p:nvPr/>
        </p:nvSpPr>
        <p:spPr>
          <a:xfrm>
            <a:off x="4861080" y="1541520"/>
            <a:ext cx="1677960" cy="1677960"/>
          </a:xfrm>
          <a:prstGeom prst="donut">
            <a:avLst>
              <a:gd name="adj" fmla="val 481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同心圆 10"/>
          <p:cNvSpPr/>
          <p:nvPr/>
        </p:nvSpPr>
        <p:spPr>
          <a:xfrm>
            <a:off x="623880" y="1251000"/>
            <a:ext cx="1511280" cy="1512720"/>
          </a:xfrm>
          <a:prstGeom prst="donut">
            <a:avLst>
              <a:gd name="adj" fmla="val 481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同心圆 11"/>
          <p:cNvSpPr/>
          <p:nvPr/>
        </p:nvSpPr>
        <p:spPr>
          <a:xfrm>
            <a:off x="6099120" y="2006640"/>
            <a:ext cx="1511280" cy="1512720"/>
          </a:xfrm>
          <a:prstGeom prst="donut">
            <a:avLst>
              <a:gd name="adj" fmla="val 481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0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2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4" dur="2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dur="indefinite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2" dur="2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dur="indefinite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0" dur="2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2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8" dur="2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6" dur="2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" dur="indefinite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4" dur="2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6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dur="indefinite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72" dur="2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dur="indefinite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0" dur="2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2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dur="indefinite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8" dur="2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3008880" y="1758960"/>
            <a:ext cx="3126600" cy="1641240"/>
            <a:chOff x="3008880" y="1758960"/>
            <a:chExt cx="3126600" cy="1641240"/>
          </a:xfrm>
        </p:grpSpPr>
        <p:sp>
          <p:nvSpPr>
            <p:cNvPr id="50" name="矩形 4"/>
            <p:cNvSpPr/>
            <p:nvPr/>
          </p:nvSpPr>
          <p:spPr>
            <a:xfrm>
              <a:off x="3008880" y="1758960"/>
              <a:ext cx="3126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WHAT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6"/>
            <p:cNvSpPr/>
            <p:nvPr/>
          </p:nvSpPr>
          <p:spPr>
            <a:xfrm>
              <a:off x="3274200" y="2757600"/>
              <a:ext cx="259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e36c09"/>
                  </a:solidFill>
                  <a:latin typeface="Calibri"/>
                  <a:ea typeface="Calibri"/>
                </a:rPr>
                <a:t>ABOUT ME 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同心圆 5"/>
          <p:cNvSpPr/>
          <p:nvPr/>
        </p:nvSpPr>
        <p:spPr>
          <a:xfrm>
            <a:off x="3713040" y="1722600"/>
            <a:ext cx="1702080" cy="1701720"/>
          </a:xfrm>
          <a:prstGeom prst="donut">
            <a:avLst>
              <a:gd name="adj" fmla="val 843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同心圆 9"/>
          <p:cNvSpPr/>
          <p:nvPr/>
        </p:nvSpPr>
        <p:spPr>
          <a:xfrm>
            <a:off x="3635280" y="1644480"/>
            <a:ext cx="1855800" cy="1854360"/>
          </a:xfrm>
          <a:prstGeom prst="donut">
            <a:avLst>
              <a:gd name="adj" fmla="val 37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11" descr=""/>
          <p:cNvPicPr/>
          <p:nvPr/>
        </p:nvPicPr>
        <p:blipFill>
          <a:blip r:embed="rId1"/>
          <a:stretch/>
        </p:blipFill>
        <p:spPr>
          <a:xfrm>
            <a:off x="3708360" y="1652760"/>
            <a:ext cx="1806480" cy="22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" dur="2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26" dur="200" fill="hold"/>
                                        <p:tgtEl>
                                          <p:spTgt spid="4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8" dur="1300" fill="hold"/>
                                        <p:tgtEl>
                                          <p:spTgt spid="49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xit" presetID="45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" dur="11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1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1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0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" dur="1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" dur="1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" dur="1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45" dur="200" fill="hold"/>
                                        <p:tgtEl>
                                          <p:spTgt spid="54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47" dur="100" fill="hold"/>
                                        <p:tgtEl>
                                          <p:spTgt spid="54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" dur="2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" dur="2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4930200" y="-1284120"/>
            <a:ext cx="1659600" cy="1163520"/>
            <a:chOff x="4930200" y="-1284120"/>
            <a:chExt cx="1659600" cy="1163520"/>
          </a:xfrm>
        </p:grpSpPr>
        <p:grpSp>
          <p:nvGrpSpPr>
            <p:cNvPr id="56" name=""/>
            <p:cNvGrpSpPr/>
            <p:nvPr/>
          </p:nvGrpSpPr>
          <p:grpSpPr>
            <a:xfrm>
              <a:off x="5068080" y="-1284120"/>
              <a:ext cx="1338480" cy="1163520"/>
              <a:chOff x="5068080" y="-1284120"/>
              <a:chExt cx="1338480" cy="1163520"/>
            </a:xfrm>
          </p:grpSpPr>
          <p:sp>
            <p:nvSpPr>
              <p:cNvPr id="57" name="等腰三角形 4"/>
              <p:cNvSpPr/>
              <p:nvPr/>
            </p:nvSpPr>
            <p:spPr>
              <a:xfrm rot="14711400">
                <a:off x="5458320" y="-796680"/>
                <a:ext cx="362520" cy="721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圆角矩形 3"/>
              <p:cNvSpPr/>
              <p:nvPr/>
            </p:nvSpPr>
            <p:spPr>
              <a:xfrm rot="1297800">
                <a:off x="5159880" y="-1096560"/>
                <a:ext cx="1154160" cy="721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矩形 21"/>
            <p:cNvSpPr/>
            <p:nvPr/>
          </p:nvSpPr>
          <p:spPr>
            <a:xfrm rot="1297800">
              <a:off x="4946040" y="-936360"/>
              <a:ext cx="162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xt 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5226480" y="-1386000"/>
            <a:ext cx="1180800" cy="1298160"/>
            <a:chOff x="5226480" y="-1386000"/>
            <a:chExt cx="1180800" cy="1298160"/>
          </a:xfrm>
        </p:grpSpPr>
        <p:grpSp>
          <p:nvGrpSpPr>
            <p:cNvPr id="61" name=""/>
            <p:cNvGrpSpPr/>
            <p:nvPr/>
          </p:nvGrpSpPr>
          <p:grpSpPr>
            <a:xfrm>
              <a:off x="5226480" y="-1386000"/>
              <a:ext cx="1180800" cy="1281240"/>
              <a:chOff x="5226480" y="-1386000"/>
              <a:chExt cx="1180800" cy="1281240"/>
            </a:xfrm>
          </p:grpSpPr>
          <p:sp>
            <p:nvSpPr>
              <p:cNvPr id="62" name="等腰三角形 7"/>
              <p:cNvSpPr/>
              <p:nvPr/>
            </p:nvSpPr>
            <p:spPr>
              <a:xfrm rot="18075600">
                <a:off x="5447160" y="-1019160"/>
                <a:ext cx="362520" cy="721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圆角矩形 8"/>
              <p:cNvSpPr/>
              <p:nvPr/>
            </p:nvSpPr>
            <p:spPr>
              <a:xfrm rot="4662000">
                <a:off x="5354640" y="-1105560"/>
                <a:ext cx="1154160" cy="721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矩形 22"/>
            <p:cNvSpPr/>
            <p:nvPr/>
          </p:nvSpPr>
          <p:spPr>
            <a:xfrm rot="4662000">
              <a:off x="5220360" y="-1064520"/>
              <a:ext cx="1125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xt Tw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004640" y="6329160"/>
            <a:ext cx="1422720" cy="1189080"/>
            <a:chOff x="4004640" y="6329160"/>
            <a:chExt cx="1422720" cy="1189080"/>
          </a:xfrm>
        </p:grpSpPr>
        <p:grpSp>
          <p:nvGrpSpPr>
            <p:cNvPr id="66" name=""/>
            <p:cNvGrpSpPr/>
            <p:nvPr/>
          </p:nvGrpSpPr>
          <p:grpSpPr>
            <a:xfrm>
              <a:off x="4123800" y="6329160"/>
              <a:ext cx="1292400" cy="1189080"/>
              <a:chOff x="4123800" y="6329160"/>
              <a:chExt cx="1292400" cy="1189080"/>
            </a:xfrm>
          </p:grpSpPr>
          <p:sp>
            <p:nvSpPr>
              <p:cNvPr id="67" name="等腰三角形 10"/>
              <p:cNvSpPr/>
              <p:nvPr/>
            </p:nvSpPr>
            <p:spPr>
              <a:xfrm rot="1785600">
                <a:off x="4494960" y="6371640"/>
                <a:ext cx="362520" cy="7200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圆角矩形 11"/>
              <p:cNvSpPr/>
              <p:nvPr/>
            </p:nvSpPr>
            <p:spPr>
              <a:xfrm rot="9972000">
                <a:off x="4192920" y="6671160"/>
                <a:ext cx="1153800" cy="7200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矩形 23"/>
            <p:cNvSpPr/>
            <p:nvPr/>
          </p:nvSpPr>
          <p:spPr>
            <a:xfrm rot="9972000">
              <a:off x="4069800" y="6545160"/>
              <a:ext cx="1292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xt Thre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734920" y="5931360"/>
            <a:ext cx="1411560" cy="1321200"/>
            <a:chOff x="2734920" y="5931360"/>
            <a:chExt cx="1411560" cy="1321200"/>
          </a:xfrm>
        </p:grpSpPr>
        <p:grpSp>
          <p:nvGrpSpPr>
            <p:cNvPr id="71" name=""/>
            <p:cNvGrpSpPr/>
            <p:nvPr/>
          </p:nvGrpSpPr>
          <p:grpSpPr>
            <a:xfrm>
              <a:off x="2734920" y="6068880"/>
              <a:ext cx="1357920" cy="1183680"/>
              <a:chOff x="2734920" y="6068880"/>
              <a:chExt cx="1357920" cy="1183680"/>
            </a:xfrm>
          </p:grpSpPr>
          <p:sp>
            <p:nvSpPr>
              <p:cNvPr id="72" name="等腰三角形 13"/>
              <p:cNvSpPr/>
              <p:nvPr/>
            </p:nvSpPr>
            <p:spPr>
              <a:xfrm rot="4326600">
                <a:off x="3364560" y="6015960"/>
                <a:ext cx="362520" cy="719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圆角矩形 14"/>
              <p:cNvSpPr/>
              <p:nvPr/>
            </p:nvSpPr>
            <p:spPr>
              <a:xfrm rot="12512400">
                <a:off x="2836440" y="6300720"/>
                <a:ext cx="1154520" cy="719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矩形 24"/>
            <p:cNvSpPr/>
            <p:nvPr/>
          </p:nvSpPr>
          <p:spPr>
            <a:xfrm rot="12512400">
              <a:off x="2887560" y="6165720"/>
              <a:ext cx="1161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xt Fou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714760" y="-1458000"/>
            <a:ext cx="1344960" cy="1403280"/>
            <a:chOff x="2714760" y="-1458000"/>
            <a:chExt cx="1344960" cy="1403280"/>
          </a:xfrm>
        </p:grpSpPr>
        <p:grpSp>
          <p:nvGrpSpPr>
            <p:cNvPr id="76" name=""/>
            <p:cNvGrpSpPr/>
            <p:nvPr/>
          </p:nvGrpSpPr>
          <p:grpSpPr>
            <a:xfrm>
              <a:off x="2714760" y="-1458000"/>
              <a:ext cx="1216080" cy="1360440"/>
              <a:chOff x="2714760" y="-1458000"/>
              <a:chExt cx="1216080" cy="1360440"/>
            </a:xfrm>
          </p:grpSpPr>
          <p:sp>
            <p:nvSpPr>
              <p:cNvPr id="77" name="等腰三角形 16"/>
              <p:cNvSpPr/>
              <p:nvPr/>
            </p:nvSpPr>
            <p:spPr>
              <a:xfrm rot="9899400">
                <a:off x="3419640" y="-991080"/>
                <a:ext cx="362520" cy="7200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圆角矩形 17"/>
              <p:cNvSpPr/>
              <p:nvPr/>
            </p:nvSpPr>
            <p:spPr>
              <a:xfrm rot="18085800">
                <a:off x="2745720" y="-1137600"/>
                <a:ext cx="1154160" cy="7200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矩形 25"/>
            <p:cNvSpPr/>
            <p:nvPr/>
          </p:nvSpPr>
          <p:spPr>
            <a:xfrm rot="18085800">
              <a:off x="2916000" y="-1062720"/>
              <a:ext cx="1108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xt F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716280" y="-1171440"/>
            <a:ext cx="1279440" cy="1179000"/>
            <a:chOff x="3716280" y="-1171440"/>
            <a:chExt cx="1279440" cy="1179000"/>
          </a:xfrm>
        </p:grpSpPr>
        <p:grpSp>
          <p:nvGrpSpPr>
            <p:cNvPr id="81" name=""/>
            <p:cNvGrpSpPr/>
            <p:nvPr/>
          </p:nvGrpSpPr>
          <p:grpSpPr>
            <a:xfrm>
              <a:off x="3716280" y="-1171440"/>
              <a:ext cx="1279440" cy="1179000"/>
              <a:chOff x="3716280" y="-1171440"/>
              <a:chExt cx="1279440" cy="1179000"/>
            </a:xfrm>
          </p:grpSpPr>
          <p:sp>
            <p:nvSpPr>
              <p:cNvPr id="82" name="等腰三角形 19"/>
              <p:cNvSpPr/>
              <p:nvPr/>
            </p:nvSpPr>
            <p:spPr>
              <a:xfrm rot="12688800">
                <a:off x="4259880" y="-754920"/>
                <a:ext cx="362520" cy="721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圆角矩形 20"/>
              <p:cNvSpPr/>
              <p:nvPr/>
            </p:nvSpPr>
            <p:spPr>
              <a:xfrm rot="20875200">
                <a:off x="3778920" y="-1058400"/>
                <a:ext cx="1154160" cy="721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矩形 26"/>
            <p:cNvSpPr/>
            <p:nvPr/>
          </p:nvSpPr>
          <p:spPr>
            <a:xfrm rot="20875200">
              <a:off x="3896280" y="-901080"/>
              <a:ext cx="982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ext Si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椭圆 33"/>
          <p:cNvSpPr/>
          <p:nvPr/>
        </p:nvSpPr>
        <p:spPr>
          <a:xfrm>
            <a:off x="3780000" y="1781280"/>
            <a:ext cx="1584000" cy="1582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2" descr=""/>
          <p:cNvPicPr/>
          <p:nvPr/>
        </p:nvPicPr>
        <p:blipFill>
          <a:blip r:embed="rId1"/>
          <a:srcRect l="12510" t="12150" r="17060" b="32196"/>
          <a:stretch/>
        </p:blipFill>
        <p:spPr>
          <a:xfrm>
            <a:off x="3933720" y="1930320"/>
            <a:ext cx="1273320" cy="127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200" fill="hold"/>
                                        <p:tgtEl>
                                          <p:spTgt spid="8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path" presetID="13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2.5E-006 2.71605E-006 L -0.02326 -0.01729 L 0.00903 -0.04013 L -2.5E-006 2.71605E-006 Z">
                                      <p:cBhvr>
                                        <p:cTn id="71" dur="4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0017 0.73673 L -0.13211 0.63889 E">
                                      <p:cBhvr>
                                        <p:cTn id="73" dur="2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035 -0.58943 L -0.01545 -0.83905 E">
                                      <p:cBhvr>
                                        <p:cTn id="75" dur="2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00035 0.47778 L -0.12326 0.61358 E">
                                      <p:cBhvr>
                                        <p:cTn id="77" dur="2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035 -0.62284 L 0.11945 -0.76698 E">
                                      <p:cBhvr>
                                        <p:cTn id="79" dur="2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035 0.55895 L 0.12188 0.6358 E">
                                      <p:cBhvr>
                                        <p:cTn id="81" dur="2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0035 0.36049 L 0.01997 0.60617 E">
                                      <p:cBhvr>
                                        <p:cTn id="83" dur="2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"/>
          <p:cNvSpPr/>
          <p:nvPr/>
        </p:nvSpPr>
        <p:spPr>
          <a:xfrm rot="20626800">
            <a:off x="4187880" y="-12045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Y"/>
          <p:cNvSpPr/>
          <p:nvPr/>
        </p:nvSpPr>
        <p:spPr>
          <a:xfrm rot="18677400">
            <a:off x="3781080" y="-93492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N"/>
          <p:cNvSpPr/>
          <p:nvPr/>
        </p:nvSpPr>
        <p:spPr>
          <a:xfrm rot="1252800">
            <a:off x="4694400" y="-1190160"/>
            <a:ext cx="34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"/>
          <p:cNvSpPr/>
          <p:nvPr/>
        </p:nvSpPr>
        <p:spPr>
          <a:xfrm rot="1890000">
            <a:off x="4860360" y="-109980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M"/>
          <p:cNvSpPr/>
          <p:nvPr/>
        </p:nvSpPr>
        <p:spPr>
          <a:xfrm rot="2767200">
            <a:off x="4983120" y="-96552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E"/>
          <p:cNvSpPr/>
          <p:nvPr/>
        </p:nvSpPr>
        <p:spPr>
          <a:xfrm rot="3528000">
            <a:off x="5142600" y="-83376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"/>
          <p:cNvSpPr/>
          <p:nvPr/>
        </p:nvSpPr>
        <p:spPr>
          <a:xfrm rot="19320600">
            <a:off x="3867480" y="-1047240"/>
            <a:ext cx="35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U"/>
          <p:cNvSpPr/>
          <p:nvPr/>
        </p:nvSpPr>
        <p:spPr>
          <a:xfrm rot="19938600">
            <a:off x="4019040" y="-114444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2" descr=""/>
          <p:cNvPicPr/>
          <p:nvPr/>
        </p:nvPicPr>
        <p:blipFill>
          <a:blip r:embed="rId1"/>
          <a:stretch/>
        </p:blipFill>
        <p:spPr>
          <a:xfrm>
            <a:off x="2544840" y="558720"/>
            <a:ext cx="4054320" cy="4025880"/>
          </a:xfrm>
          <a:prstGeom prst="rect">
            <a:avLst/>
          </a:prstGeom>
          <a:ln w="0">
            <a:noFill/>
          </a:ln>
        </p:spPr>
      </p:pic>
      <p:pic>
        <p:nvPicPr>
          <p:cNvPr id="96" name="遮挡" descr=""/>
          <p:cNvPicPr/>
          <p:nvPr/>
        </p:nvPicPr>
        <p:blipFill>
          <a:blip r:embed="rId2"/>
          <a:srcRect l="46921" t="39035" r="47011" b="39349"/>
          <a:stretch/>
        </p:blipFill>
        <p:spPr>
          <a:xfrm>
            <a:off x="4311720" y="2009880"/>
            <a:ext cx="557280" cy="111276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" descr=""/>
          <p:cNvPicPr/>
          <p:nvPr/>
        </p:nvPicPr>
        <p:blipFill>
          <a:blip r:embed="rId3"/>
          <a:srcRect l="12510" t="12150" r="17060" b="32196"/>
          <a:stretch/>
        </p:blipFill>
        <p:spPr>
          <a:xfrm>
            <a:off x="3755880" y="1774800"/>
            <a:ext cx="1594080" cy="1593720"/>
          </a:xfrm>
          <a:prstGeom prst="rect">
            <a:avLst/>
          </a:prstGeom>
          <a:ln w="0">
            <a:noFill/>
          </a:ln>
        </p:spPr>
      </p:pic>
      <p:pic>
        <p:nvPicPr>
          <p:cNvPr id="98" name="ren" descr=""/>
          <p:cNvPicPr/>
          <p:nvPr/>
        </p:nvPicPr>
        <p:blipFill>
          <a:blip r:embed="rId4"/>
          <a:srcRect l="14259" t="16041" r="18144" b="24448"/>
          <a:stretch/>
        </p:blipFill>
        <p:spPr>
          <a:xfrm>
            <a:off x="3728880" y="1720800"/>
            <a:ext cx="1690920" cy="1690560"/>
          </a:xfrm>
          <a:prstGeom prst="rect">
            <a:avLst/>
          </a:prstGeom>
          <a:ln w="0">
            <a:noFill/>
          </a:ln>
        </p:spPr>
      </p:pic>
      <p:sp>
        <p:nvSpPr>
          <p:cNvPr id="99" name="内圆"/>
          <p:cNvSpPr/>
          <p:nvPr/>
        </p:nvSpPr>
        <p:spPr>
          <a:xfrm>
            <a:off x="3610080" y="1601640"/>
            <a:ext cx="1927080" cy="1927440"/>
          </a:xfrm>
          <a:prstGeom prst="donut">
            <a:avLst>
              <a:gd name="adj" fmla="val 132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外圆"/>
          <p:cNvSpPr/>
          <p:nvPr/>
        </p:nvSpPr>
        <p:spPr>
          <a:xfrm>
            <a:off x="3419640" y="1413000"/>
            <a:ext cx="2304720" cy="2305080"/>
          </a:xfrm>
          <a:prstGeom prst="donut">
            <a:avLst>
              <a:gd name="adj" fmla="val 581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mption"/>
          <p:cNvSpPr/>
          <p:nvPr/>
        </p:nvSpPr>
        <p:spPr>
          <a:xfrm>
            <a:off x="3546720" y="320976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MOTION DESIG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同心圆 4"/>
          <p:cNvSpPr/>
          <p:nvPr/>
        </p:nvSpPr>
        <p:spPr>
          <a:xfrm>
            <a:off x="3705120" y="1698480"/>
            <a:ext cx="1737000" cy="1735200"/>
          </a:xfrm>
          <a:prstGeom prst="donut">
            <a:avLst>
              <a:gd name="adj" fmla="val 643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5"/>
          <a:stretch/>
        </p:blipFill>
        <p:spPr>
          <a:xfrm>
            <a:off x="3589200" y="1596960"/>
            <a:ext cx="1951200" cy="194940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3928680" y="1935000"/>
            <a:ext cx="1262520" cy="1262160"/>
            <a:chOff x="3928680" y="1935000"/>
            <a:chExt cx="1262520" cy="1262160"/>
          </a:xfrm>
        </p:grpSpPr>
        <p:sp>
          <p:nvSpPr>
            <p:cNvPr id="105" name="椭圆 5"/>
            <p:cNvSpPr/>
            <p:nvPr/>
          </p:nvSpPr>
          <p:spPr>
            <a:xfrm>
              <a:off x="3928680" y="1935000"/>
              <a:ext cx="1262520" cy="1262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 6"/>
            <p:cNvSpPr/>
            <p:nvPr/>
          </p:nvSpPr>
          <p:spPr>
            <a:xfrm>
              <a:off x="3987360" y="2374920"/>
              <a:ext cx="11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Calibri"/>
                  <a:ea typeface="Calibri"/>
                </a:rPr>
                <a:t>MY SKIL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flash"/>
          <p:cNvSpPr/>
          <p:nvPr/>
        </p:nvSpPr>
        <p:spPr>
          <a:xfrm>
            <a:off x="2678040" y="17928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FL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s"/>
          <p:cNvSpPr/>
          <p:nvPr/>
        </p:nvSpPr>
        <p:spPr>
          <a:xfrm>
            <a:off x="4862160" y="565200"/>
            <a:ext cx="20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HOTO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e"/>
          <p:cNvSpPr/>
          <p:nvPr/>
        </p:nvSpPr>
        <p:spPr>
          <a:xfrm>
            <a:off x="495000" y="1349280"/>
            <a:ext cx="271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TFER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3D"/>
          <p:cNvSpPr/>
          <p:nvPr/>
        </p:nvSpPr>
        <p:spPr>
          <a:xfrm>
            <a:off x="6066720" y="2374920"/>
            <a:ext cx="21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3D 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I"/>
          <p:cNvSpPr/>
          <p:nvPr/>
        </p:nvSpPr>
        <p:spPr>
          <a:xfrm>
            <a:off x="673200" y="3197160"/>
            <a:ext cx="21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LLUST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OOK"/>
          <p:cNvSpPr/>
          <p:nvPr/>
        </p:nvSpPr>
        <p:spPr>
          <a:xfrm>
            <a:off x="2503440" y="40323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OO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EB"/>
          <p:cNvSpPr/>
          <p:nvPr/>
        </p:nvSpPr>
        <p:spPr>
          <a:xfrm>
            <a:off x="5798160" y="357012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EB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JAVA"/>
          <p:cNvSpPr/>
          <p:nvPr/>
        </p:nvSpPr>
        <p:spPr>
          <a:xfrm>
            <a:off x="4376160" y="451656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JAVA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" dur="1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" dur="6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" dur="6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6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" dur="6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01" dur="600" fill="hold"/>
                                        <p:tgtEl>
                                          <p:spTgt spid="9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xit" presetID="45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4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" dur="4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xit" presetID="10">
                                  <p:stCondLst>
                                    <p:cond delay="2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xit" presetID="6" presetSubtype="32">
                                  <p:stCondLst>
                                    <p:cond delay="2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42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3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3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134" dur="200" fill="hold"/>
                                        <p:tgtEl>
                                          <p:spTgt spid="98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path" presetID="42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8.33333E-007 0.54167 L 0.06927 0.64445 E">
                                      <p:cBhvr>
                                        <p:cTn id="136" dur="1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path" presetID="42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2.5E-006 0.54166 L 0.05781 0.66605 E">
                                      <p:cBhvr>
                                        <p:cTn id="138" dur="1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path" presetID="42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3.05556E-006 0.54167 L 0.04149 0.68488 E">
                                      <p:cBhvr>
                                        <p:cTn id="140" dur="1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path" presetID="42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1.94444E-006 0.54167 L 0.02413 0.69661 E">
                                      <p:cBhvr>
                                        <p:cTn id="142" dur="1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4.72222E-006 0.54167 L -0.03247 0.69383 E">
                                      <p:cBhvr>
                                        <p:cTn id="144" dur="1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path" presetID="42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3.61111E-006 0.54167 L -0.04983 0.67624 E">
                                      <p:cBhvr>
                                        <p:cTn id="146" dur="1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path" presetID="42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-2.77778E-007 0.54166 L -0.06684 0.65031 E">
                                      <p:cBhvr>
                                        <p:cTn id="148" dur="1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path" presetID="42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-3.05556E-006 0.54167 L -0.07899 0.6247 E">
                                      <p:cBhvr>
                                        <p:cTn id="150" dur="1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xit" presetID="42">
                                  <p:stCondLst>
                                    <p:cond delay="3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" dur="3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3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xit" presetID="22" presetSubtype="8">
                                  <p:stCondLst>
                                    <p:cond delay="3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7" dur="1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xit" presetID="22" presetSubtype="8">
                                  <p:stCondLst>
                                    <p:cond delay="3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0" dur="1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xit" presetID="22" presetSubtype="8">
                                  <p:stCondLst>
                                    <p:cond delay="3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3" dur="1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xit" presetID="22" presetSubtype="8">
                                  <p:stCondLst>
                                    <p:cond delay="3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6" dur="1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9" dur="1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2" dur="1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5" dur="1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8" dur="1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xit" presetID="45">
                                  <p:stCondLst>
                                    <p:cond delay="3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1" dur="1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xit" presetID="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1" dur="3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xit" presetID="10">
                                  <p:stCondLst>
                                    <p:cond delay="3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8" dur="2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xit" presetID="10">
                                  <p:stCondLst>
                                    <p:cond delay="3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1" dur="2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7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mph" presetID="6">
                                  <p:stCondLst>
                                    <p:cond delay="3500"/>
                                  </p:stCondLst>
                                  <p:childTnLst>
                                    <p:animScale>
                                      <p:cBhvr>
                                        <p:cTn id="209" dur="2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mph" presetID="6">
                                  <p:stCondLst>
                                    <p:cond delay="3700"/>
                                  </p:stCondLst>
                                  <p:childTnLst>
                                    <p:animScale>
                                      <p:cBhvr>
                                        <p:cTn id="211" dur="300" fill="hold"/>
                                        <p:tgtEl>
                                          <p:spTgt spid="104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6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mph" presetID="6">
                                  <p:stCondLst>
                                    <p:cond delay="3600"/>
                                  </p:stCondLst>
                                  <p:childTnLst>
                                    <p:animScale>
                                      <p:cBhvr>
                                        <p:cTn id="218" dur="2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mph" presetID="6">
                                  <p:stCondLst>
                                    <p:cond delay="3800"/>
                                  </p:stCondLst>
                                  <p:childTnLst>
                                    <p:animScale>
                                      <p:cBhvr>
                                        <p:cTn id="220" dur="300" fill="hold"/>
                                        <p:tgtEl>
                                          <p:spTgt spid="107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mph" presetID="6">
                                  <p:stCondLst>
                                    <p:cond delay="4100"/>
                                  </p:stCondLst>
                                  <p:childTnLst>
                                    <p:animScale>
                                      <p:cBhvr>
                                        <p:cTn id="222" dur="2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mph" presetID="6">
                                  <p:stCondLst>
                                    <p:cond delay="4300"/>
                                  </p:stCondLst>
                                  <p:childTnLst>
                                    <p:animScale>
                                      <p:cBhvr>
                                        <p:cTn id="224" dur="300" fill="hold"/>
                                        <p:tgtEl>
                                          <p:spTgt spid="107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9" dur="3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mph" presetID="6">
                                  <p:stCondLst>
                                    <p:cond delay="3600"/>
                                  </p:stCondLst>
                                  <p:childTnLst>
                                    <p:animScale>
                                      <p:cBhvr>
                                        <p:cTn id="231" dur="2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mph" presetID="6">
                                  <p:stCondLst>
                                    <p:cond delay="3800"/>
                                  </p:stCondLst>
                                  <p:childTnLst>
                                    <p:animScale>
                                      <p:cBhvr>
                                        <p:cTn id="233" dur="300" fill="hold"/>
                                        <p:tgtEl>
                                          <p:spTgt spid="108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mph" presetID="6">
                                  <p:stCondLst>
                                    <p:cond delay="4100"/>
                                  </p:stCondLst>
                                  <p:childTnLst>
                                    <p:animScale>
                                      <p:cBhvr>
                                        <p:cTn id="235" dur="2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mph" presetID="6">
                                  <p:stCondLst>
                                    <p:cond delay="4300"/>
                                  </p:stCondLst>
                                  <p:childTnLst>
                                    <p:animScale>
                                      <p:cBhvr>
                                        <p:cTn id="237" dur="300" fill="hold"/>
                                        <p:tgtEl>
                                          <p:spTgt spid="108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2" dur="3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mph" presetID="6">
                                  <p:stCondLst>
                                    <p:cond delay="3500"/>
                                  </p:stCondLst>
                                  <p:childTnLst>
                                    <p:animScale>
                                      <p:cBhvr>
                                        <p:cTn id="244" dur="2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mph" presetID="6">
                                  <p:stCondLst>
                                    <p:cond delay="3700"/>
                                  </p:stCondLst>
                                  <p:childTnLst>
                                    <p:animScale>
                                      <p:cBhvr>
                                        <p:cTn id="246" dur="300" fill="hold"/>
                                        <p:tgtEl>
                                          <p:spTgt spid="110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248" dur="2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mph" presetID="6">
                                  <p:stCondLst>
                                    <p:cond delay="4200"/>
                                  </p:stCondLst>
                                  <p:childTnLst>
                                    <p:animScale>
                                      <p:cBhvr>
                                        <p:cTn id="250" dur="300" fill="hold"/>
                                        <p:tgtEl>
                                          <p:spTgt spid="110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5" dur="3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mph" presetID="6">
                                  <p:stCondLst>
                                    <p:cond delay="3500"/>
                                  </p:stCondLst>
                                  <p:childTnLst>
                                    <p:animScale>
                                      <p:cBhvr>
                                        <p:cTn id="257" dur="2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mph" presetID="6">
                                  <p:stCondLst>
                                    <p:cond delay="3700"/>
                                  </p:stCondLst>
                                  <p:childTnLst>
                                    <p:animScale>
                                      <p:cBhvr>
                                        <p:cTn id="259" dur="300" fill="hold"/>
                                        <p:tgtEl>
                                          <p:spTgt spid="113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261" dur="2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mph" presetID="6">
                                  <p:stCondLst>
                                    <p:cond delay="4200"/>
                                  </p:stCondLst>
                                  <p:childTnLst>
                                    <p:animScale>
                                      <p:cBhvr>
                                        <p:cTn id="263" dur="300" fill="hold"/>
                                        <p:tgtEl>
                                          <p:spTgt spid="113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8" dur="3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mph" presetID="6">
                                  <p:stCondLst>
                                    <p:cond delay="3500"/>
                                  </p:stCondLst>
                                  <p:childTnLst>
                                    <p:animScale>
                                      <p:cBhvr>
                                        <p:cTn id="270" dur="2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mph" presetID="6">
                                  <p:stCondLst>
                                    <p:cond delay="3700"/>
                                  </p:stCondLst>
                                  <p:childTnLst>
                                    <p:animScale>
                                      <p:cBhvr>
                                        <p:cTn id="272" dur="300" fill="hold"/>
                                        <p:tgtEl>
                                          <p:spTgt spid="109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274" dur="2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mph" presetID="6">
                                  <p:stCondLst>
                                    <p:cond delay="4200"/>
                                  </p:stCondLst>
                                  <p:childTnLst>
                                    <p:animScale>
                                      <p:cBhvr>
                                        <p:cTn id="276" dur="300" fill="hold"/>
                                        <p:tgtEl>
                                          <p:spTgt spid="109"/>
                                        </p:tgtEl>
                                      </p:cBhvr>
                                      <p:to x="97000" y="97000"/>
                                    </p:animScale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1" dur="3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mph" presetID="6">
                                  <p:stCondLst>
                                    <p:cond delay="3600"/>
                                  </p:stCondLst>
                                  <p:childTnLst>
                                    <p:animScale>
                                      <p:cBhvr>
                                        <p:cTn id="283" dur="2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mph" presetID="6">
                                  <p:stCondLst>
                                    <p:cond delay="3800"/>
                                  </p:stCondLst>
                                  <p:childTnLst>
                                    <p:animScale>
                                      <p:cBhvr>
                                        <p:cTn id="285" dur="200" fill="hold"/>
                                        <p:tgtEl>
                                          <p:spTgt spid="111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287" dur="2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mph" presetID="6">
                                  <p:stCondLst>
                                    <p:cond delay="4200"/>
                                  </p:stCondLst>
                                  <p:childTnLst>
                                    <p:animScale>
                                      <p:cBhvr>
                                        <p:cTn id="289" dur="200" fill="hold"/>
                                        <p:tgtEl>
                                          <p:spTgt spid="111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4" dur="3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mph" presetID="6">
                                  <p:stCondLst>
                                    <p:cond delay="3600"/>
                                  </p:stCondLst>
                                  <p:childTnLst>
                                    <p:animScale>
                                      <p:cBhvr>
                                        <p:cTn id="296" dur="200" fill="hold"/>
                                        <p:tgtEl>
                                          <p:spTgt spid="112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mph" presetID="6">
                                  <p:stCondLst>
                                    <p:cond delay="3800"/>
                                  </p:stCondLst>
                                  <p:childTnLst>
                                    <p:animScale>
                                      <p:cBhvr>
                                        <p:cTn id="298" dur="300" fill="hold"/>
                                        <p:tgtEl>
                                          <p:spTgt spid="112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mph" presetID="6">
                                  <p:stCondLst>
                                    <p:cond delay="4100"/>
                                  </p:stCondLst>
                                  <p:childTnLst>
                                    <p:animScale>
                                      <p:cBhvr>
                                        <p:cTn id="300" dur="200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mph" presetID="6">
                                  <p:stCondLst>
                                    <p:cond delay="4300"/>
                                  </p:stCondLst>
                                  <p:childTnLst>
                                    <p:animScale>
                                      <p:cBhvr>
                                        <p:cTn id="302" dur="300" fill="hold"/>
                                        <p:tgtEl>
                                          <p:spTgt spid="112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7" dur="3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mph" presetID="6">
                                  <p:stCondLst>
                                    <p:cond delay="3600"/>
                                  </p:stCondLst>
                                  <p:childTnLst>
                                    <p:animScale>
                                      <p:cBhvr>
                                        <p:cTn id="309" dur="2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mph" presetID="6">
                                  <p:stCondLst>
                                    <p:cond delay="3800"/>
                                  </p:stCondLst>
                                  <p:childTnLst>
                                    <p:animScale>
                                      <p:cBhvr>
                                        <p:cTn id="311" dur="200" fill="hold"/>
                                        <p:tgtEl>
                                          <p:spTgt spid="114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313" dur="2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mph" presetID="6">
                                  <p:stCondLst>
                                    <p:cond delay="4200"/>
                                  </p:stCondLst>
                                  <p:childTnLst>
                                    <p:animScale>
                                      <p:cBhvr>
                                        <p:cTn id="315" dur="200" fill="hold"/>
                                        <p:tgtEl>
                                          <p:spTgt spid="114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lash"/>
          <p:cNvSpPr/>
          <p:nvPr/>
        </p:nvSpPr>
        <p:spPr>
          <a:xfrm>
            <a:off x="2678040" y="17928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FL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s"/>
          <p:cNvSpPr/>
          <p:nvPr/>
        </p:nvSpPr>
        <p:spPr>
          <a:xfrm>
            <a:off x="4862160" y="565200"/>
            <a:ext cx="20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HOTO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e"/>
          <p:cNvSpPr/>
          <p:nvPr/>
        </p:nvSpPr>
        <p:spPr>
          <a:xfrm>
            <a:off x="495000" y="1349280"/>
            <a:ext cx="271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TFER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3D"/>
          <p:cNvSpPr/>
          <p:nvPr/>
        </p:nvSpPr>
        <p:spPr>
          <a:xfrm>
            <a:off x="6066720" y="2374920"/>
            <a:ext cx="21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3D 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I"/>
          <p:cNvSpPr/>
          <p:nvPr/>
        </p:nvSpPr>
        <p:spPr>
          <a:xfrm>
            <a:off x="673200" y="3197160"/>
            <a:ext cx="21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LLUST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OOK"/>
          <p:cNvSpPr/>
          <p:nvPr/>
        </p:nvSpPr>
        <p:spPr>
          <a:xfrm>
            <a:off x="2503440" y="40323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OO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EB"/>
          <p:cNvSpPr/>
          <p:nvPr/>
        </p:nvSpPr>
        <p:spPr>
          <a:xfrm>
            <a:off x="5798160" y="357012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EB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JAVA"/>
          <p:cNvSpPr/>
          <p:nvPr/>
        </p:nvSpPr>
        <p:spPr>
          <a:xfrm>
            <a:off x="4376160" y="451656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JAVA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930480" y="1928880"/>
            <a:ext cx="1262160" cy="1262160"/>
            <a:chOff x="3930480" y="1928880"/>
            <a:chExt cx="1262160" cy="1262160"/>
          </a:xfrm>
        </p:grpSpPr>
        <p:sp>
          <p:nvSpPr>
            <p:cNvPr id="124" name="椭圆 15"/>
            <p:cNvSpPr/>
            <p:nvPr/>
          </p:nvSpPr>
          <p:spPr>
            <a:xfrm>
              <a:off x="3930480" y="1928880"/>
              <a:ext cx="1262160" cy="1262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矩形 16"/>
            <p:cNvSpPr/>
            <p:nvPr/>
          </p:nvSpPr>
          <p:spPr>
            <a:xfrm>
              <a:off x="4218120" y="23688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Calibri"/>
                  <a:ea typeface="Calibri"/>
                </a:rPr>
                <a:t>I LI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928680" y="1935000"/>
            <a:ext cx="1262520" cy="1262160"/>
            <a:chOff x="3928680" y="1935000"/>
            <a:chExt cx="1262520" cy="1262160"/>
          </a:xfrm>
        </p:grpSpPr>
        <p:sp>
          <p:nvSpPr>
            <p:cNvPr id="127" name="椭圆 10"/>
            <p:cNvSpPr/>
            <p:nvPr/>
          </p:nvSpPr>
          <p:spPr>
            <a:xfrm>
              <a:off x="3928680" y="1935000"/>
              <a:ext cx="1262520" cy="1262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11"/>
            <p:cNvSpPr/>
            <p:nvPr/>
          </p:nvSpPr>
          <p:spPr>
            <a:xfrm>
              <a:off x="3987360" y="2374920"/>
              <a:ext cx="11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Calibri"/>
                  <a:ea typeface="Calibri"/>
                </a:rPr>
                <a:t>MY SKIL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8"/>
          <p:cNvSpPr/>
          <p:nvPr/>
        </p:nvSpPr>
        <p:spPr>
          <a:xfrm>
            <a:off x="6631200" y="237492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EXT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"/>
          <p:cNvSpPr/>
          <p:nvPr/>
        </p:nvSpPr>
        <p:spPr>
          <a:xfrm>
            <a:off x="6190560" y="357012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EXT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1"/>
          <p:cNvSpPr/>
          <p:nvPr/>
        </p:nvSpPr>
        <p:spPr>
          <a:xfrm>
            <a:off x="1200600" y="1349280"/>
            <a:ext cx="130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EX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2"/>
          <p:cNvSpPr/>
          <p:nvPr/>
        </p:nvSpPr>
        <p:spPr>
          <a:xfrm>
            <a:off x="2638800" y="179280"/>
            <a:ext cx="14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TEXT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5"/>
          <p:cNvSpPr/>
          <p:nvPr/>
        </p:nvSpPr>
        <p:spPr>
          <a:xfrm>
            <a:off x="5317920" y="565200"/>
            <a:ext cx="11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EXT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7"/>
          <p:cNvSpPr/>
          <p:nvPr/>
        </p:nvSpPr>
        <p:spPr>
          <a:xfrm>
            <a:off x="1271520" y="3197160"/>
            <a:ext cx="11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EXT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6"/>
          <p:cNvSpPr/>
          <p:nvPr/>
        </p:nvSpPr>
        <p:spPr>
          <a:xfrm>
            <a:off x="2643480" y="403236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EXT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22"/>
          <p:cNvSpPr/>
          <p:nvPr/>
        </p:nvSpPr>
        <p:spPr>
          <a:xfrm>
            <a:off x="4715640" y="451656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EXT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1" dur="1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3" dur="1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6" dur="1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8" dur="1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1" dur="1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3" dur="1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" dur="1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8" dur="1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1" dur="1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3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6" dur="1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8" dur="1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1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3" dur="1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1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8" dur="1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4" dur="1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366" dur="2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368" dur="300" fill="hold"/>
                                        <p:tgtEl>
                                          <p:spTgt spid="129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370" dur="2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372" dur="300" fill="hold"/>
                                        <p:tgtEl>
                                          <p:spTgt spid="129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7" dur="1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79" dur="2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380" dur="indefinite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381" dur="300" fill="hold"/>
                                        <p:tgtEl>
                                          <p:spTgt spid="130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83" dur="2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385" dur="300" fill="hold"/>
                                        <p:tgtEl>
                                          <p:spTgt spid="130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386" dur="indefinite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2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9" dur="2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5" dur="4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dur="indefinite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397" dur="2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98" dur="indefinite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99" dur="300" fill="hold"/>
                                        <p:tgtEl>
                                          <p:spTgt spid="123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400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4" dur="1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406" dur="2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408" dur="300" fill="hold"/>
                                        <p:tgtEl>
                                          <p:spTgt spid="131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410" dur="2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412" dur="300" fill="hold"/>
                                        <p:tgtEl>
                                          <p:spTgt spid="131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7" dur="1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dur="indefinite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419" dur="2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420" dur="indefinite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421" dur="300" fill="hold"/>
                                        <p:tgtEl>
                                          <p:spTgt spid="132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423" dur="2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425" dur="300" fill="hold"/>
                                        <p:tgtEl>
                                          <p:spTgt spid="132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426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0" dur="1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432" dur="2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433" dur="indefinite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434" dur="300" fill="hold"/>
                                        <p:tgtEl>
                                          <p:spTgt spid="133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436" dur="2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438" dur="300" fill="hold"/>
                                        <p:tgtEl>
                                          <p:spTgt spid="133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3" dur="1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445" dur="2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447" dur="300" fill="hold"/>
                                        <p:tgtEl>
                                          <p:spTgt spid="134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448" dur="indefinite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449" dur="2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0" dur="indefinite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451" dur="300" fill="hold"/>
                                        <p:tgtEl>
                                          <p:spTgt spid="134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6" dur="1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458" dur="200" fill="hold"/>
                                        <p:tgtEl>
                                          <p:spTgt spid="135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459" dur="indefinite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460" dur="300" fill="hold"/>
                                        <p:tgtEl>
                                          <p:spTgt spid="135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462" dur="200" fill="hold"/>
                                        <p:tgtEl>
                                          <p:spTgt spid="1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464" dur="300" fill="hold"/>
                                        <p:tgtEl>
                                          <p:spTgt spid="135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9" dur="1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471" dur="2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473" dur="300" fill="hold"/>
                                        <p:tgtEl>
                                          <p:spTgt spid="136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475" dur="2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477" dur="300" fill="hold"/>
                                        <p:tgtEl>
                                          <p:spTgt spid="136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xit" presetID="10">
                                  <p:stCondLst>
                                    <p:cond delay="2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9" dur="1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1" dur="1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dur="indefinite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4" dur="2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6" dur="2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dur="indefinite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9" dur="1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1" dur="1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dur="indefinite" nodeType="withEffect" fill="hold" presetClass="exit" presetID="10">
                                  <p:stCondLst>
                                    <p:cond delay="2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4" dur="1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6" dur="1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9" dur="2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1" dur="2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xit" presetID="10">
                                  <p:stCondLst>
                                    <p:cond delay="3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4" dur="1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6" dur="1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dur="indefinite" nodeType="withEffect" fill="hold" presetClass="exit" presetID="10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9" dur="1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1" dur="1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xit" presetID="10">
                                  <p:stCondLst>
                                    <p:cond delay="3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4" dur="1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6" dur="1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3930480" y="1928880"/>
            <a:ext cx="1262160" cy="1262160"/>
            <a:chOff x="3930480" y="1928880"/>
            <a:chExt cx="1262160" cy="1262160"/>
          </a:xfrm>
        </p:grpSpPr>
        <p:sp>
          <p:nvSpPr>
            <p:cNvPr id="138" name="椭圆 8"/>
            <p:cNvSpPr/>
            <p:nvPr/>
          </p:nvSpPr>
          <p:spPr>
            <a:xfrm>
              <a:off x="3930480" y="1928880"/>
              <a:ext cx="1262160" cy="1262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9"/>
            <p:cNvSpPr/>
            <p:nvPr/>
          </p:nvSpPr>
          <p:spPr>
            <a:xfrm>
              <a:off x="4218120" y="23688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Calibri"/>
                  <a:ea typeface="Calibri"/>
                </a:rPr>
                <a:t>I LI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0"/>
          <p:cNvSpPr/>
          <p:nvPr/>
        </p:nvSpPr>
        <p:spPr>
          <a:xfrm>
            <a:off x="1836720" y="1847880"/>
            <a:ext cx="547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  <a:ea typeface="Calibri"/>
              </a:rPr>
              <a:t>WHAT ELS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1564920" y="1787400"/>
            <a:ext cx="599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  <a:ea typeface="Calibri"/>
              </a:rPr>
              <a:t>PORTFOLI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95280" y="3098880"/>
            <a:ext cx="2521080" cy="1554120"/>
            <a:chOff x="395280" y="3098880"/>
            <a:chExt cx="2521080" cy="1554120"/>
          </a:xfrm>
        </p:grpSpPr>
        <p:sp>
          <p:nvSpPr>
            <p:cNvPr id="143" name="矩形 15"/>
            <p:cNvSpPr/>
            <p:nvPr/>
          </p:nvSpPr>
          <p:spPr>
            <a:xfrm>
              <a:off x="395280" y="3098880"/>
              <a:ext cx="2521080" cy="15541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3"/>
            <p:cNvSpPr/>
            <p:nvPr/>
          </p:nvSpPr>
          <p:spPr>
            <a:xfrm>
              <a:off x="725760" y="354600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MEDIA 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95280" y="434880"/>
            <a:ext cx="2521080" cy="1555920"/>
            <a:chOff x="395280" y="434880"/>
            <a:chExt cx="2521080" cy="1555920"/>
          </a:xfrm>
        </p:grpSpPr>
        <p:sp>
          <p:nvSpPr>
            <p:cNvPr id="146" name="矩形 11"/>
            <p:cNvSpPr/>
            <p:nvPr/>
          </p:nvSpPr>
          <p:spPr>
            <a:xfrm>
              <a:off x="395280" y="434880"/>
              <a:ext cx="2521080" cy="15559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16"/>
            <p:cNvSpPr/>
            <p:nvPr/>
          </p:nvSpPr>
          <p:spPr>
            <a:xfrm>
              <a:off x="725760" y="85860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MEDIA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311640" y="434880"/>
            <a:ext cx="2520720" cy="1555920"/>
            <a:chOff x="3311640" y="434880"/>
            <a:chExt cx="2520720" cy="1555920"/>
          </a:xfrm>
        </p:grpSpPr>
        <p:sp>
          <p:nvSpPr>
            <p:cNvPr id="149" name="矩形 2"/>
            <p:cNvSpPr/>
            <p:nvPr/>
          </p:nvSpPr>
          <p:spPr>
            <a:xfrm>
              <a:off x="3311640" y="434880"/>
              <a:ext cx="2520720" cy="15559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17"/>
            <p:cNvSpPr/>
            <p:nvPr/>
          </p:nvSpPr>
          <p:spPr>
            <a:xfrm>
              <a:off x="3631320" y="85860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MEDIA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227640" y="434880"/>
            <a:ext cx="2521080" cy="1555920"/>
            <a:chOff x="6227640" y="434880"/>
            <a:chExt cx="2521080" cy="1555920"/>
          </a:xfrm>
        </p:grpSpPr>
        <p:sp>
          <p:nvSpPr>
            <p:cNvPr id="152" name="矩形 12"/>
            <p:cNvSpPr/>
            <p:nvPr/>
          </p:nvSpPr>
          <p:spPr>
            <a:xfrm>
              <a:off x="6227640" y="434880"/>
              <a:ext cx="2521080" cy="15559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矩形 18"/>
            <p:cNvSpPr/>
            <p:nvPr/>
          </p:nvSpPr>
          <p:spPr>
            <a:xfrm>
              <a:off x="6558120" y="85860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MEDIA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227640" y="3122640"/>
            <a:ext cx="2521080" cy="1554120"/>
            <a:chOff x="6227640" y="3122640"/>
            <a:chExt cx="2521080" cy="1554120"/>
          </a:xfrm>
        </p:grpSpPr>
        <p:sp>
          <p:nvSpPr>
            <p:cNvPr id="155" name="矩形 14"/>
            <p:cNvSpPr/>
            <p:nvPr/>
          </p:nvSpPr>
          <p:spPr>
            <a:xfrm>
              <a:off x="6227640" y="3122640"/>
              <a:ext cx="2521080" cy="15541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矩形 19"/>
            <p:cNvSpPr/>
            <p:nvPr/>
          </p:nvSpPr>
          <p:spPr>
            <a:xfrm>
              <a:off x="6558120" y="352188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MEDIA 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3300480" y="3122640"/>
            <a:ext cx="2520720" cy="1554120"/>
            <a:chOff x="3300480" y="3122640"/>
            <a:chExt cx="2520720" cy="1554120"/>
          </a:xfrm>
        </p:grpSpPr>
        <p:sp>
          <p:nvSpPr>
            <p:cNvPr id="158" name="矩形 13"/>
            <p:cNvSpPr/>
            <p:nvPr/>
          </p:nvSpPr>
          <p:spPr>
            <a:xfrm>
              <a:off x="3300480" y="3122640"/>
              <a:ext cx="2520720" cy="15541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矩形 20"/>
            <p:cNvSpPr/>
            <p:nvPr/>
          </p:nvSpPr>
          <p:spPr>
            <a:xfrm>
              <a:off x="3641760" y="352188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MEDIA 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95280" y="6051600"/>
            <a:ext cx="2521080" cy="1555560"/>
            <a:chOff x="395280" y="6051600"/>
            <a:chExt cx="2521080" cy="1555560"/>
          </a:xfrm>
        </p:grpSpPr>
        <p:sp>
          <p:nvSpPr>
            <p:cNvPr id="161" name="矩形 28"/>
            <p:cNvSpPr/>
            <p:nvPr/>
          </p:nvSpPr>
          <p:spPr>
            <a:xfrm>
              <a:off x="395280" y="6051600"/>
              <a:ext cx="2521080" cy="155556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矩形 29"/>
            <p:cNvSpPr/>
            <p:nvPr/>
          </p:nvSpPr>
          <p:spPr>
            <a:xfrm>
              <a:off x="725760" y="647532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MEDIA 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300480" y="6051600"/>
            <a:ext cx="2520720" cy="1555560"/>
            <a:chOff x="3300480" y="6051600"/>
            <a:chExt cx="2520720" cy="1555560"/>
          </a:xfrm>
        </p:grpSpPr>
        <p:sp>
          <p:nvSpPr>
            <p:cNvPr id="164" name="矩形 31"/>
            <p:cNvSpPr/>
            <p:nvPr/>
          </p:nvSpPr>
          <p:spPr>
            <a:xfrm>
              <a:off x="3300480" y="6051600"/>
              <a:ext cx="2520720" cy="155556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矩形 32"/>
            <p:cNvSpPr/>
            <p:nvPr/>
          </p:nvSpPr>
          <p:spPr>
            <a:xfrm>
              <a:off x="3630960" y="647532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MEDIA 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6227640" y="6027840"/>
            <a:ext cx="2521080" cy="1555560"/>
            <a:chOff x="6227640" y="6027840"/>
            <a:chExt cx="2521080" cy="1555560"/>
          </a:xfrm>
        </p:grpSpPr>
        <p:sp>
          <p:nvSpPr>
            <p:cNvPr id="167" name="矩形 34"/>
            <p:cNvSpPr/>
            <p:nvPr/>
          </p:nvSpPr>
          <p:spPr>
            <a:xfrm>
              <a:off x="6227640" y="6027840"/>
              <a:ext cx="2521080" cy="155556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35"/>
            <p:cNvSpPr/>
            <p:nvPr/>
          </p:nvSpPr>
          <p:spPr>
            <a:xfrm>
              <a:off x="6558120" y="645156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MEDIA 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245280" y="8836200"/>
            <a:ext cx="2519280" cy="1555560"/>
            <a:chOff x="6245280" y="8836200"/>
            <a:chExt cx="2519280" cy="1555560"/>
          </a:xfrm>
        </p:grpSpPr>
        <p:sp>
          <p:nvSpPr>
            <p:cNvPr id="170" name="矩形 37"/>
            <p:cNvSpPr/>
            <p:nvPr/>
          </p:nvSpPr>
          <p:spPr>
            <a:xfrm>
              <a:off x="6245280" y="8836200"/>
              <a:ext cx="2519280" cy="155556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矩形 38"/>
            <p:cNvSpPr/>
            <p:nvPr/>
          </p:nvSpPr>
          <p:spPr>
            <a:xfrm>
              <a:off x="6575040" y="925992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MEDIA 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313080" y="8834400"/>
            <a:ext cx="2519280" cy="1555920"/>
            <a:chOff x="3313080" y="8834400"/>
            <a:chExt cx="2519280" cy="1555920"/>
          </a:xfrm>
        </p:grpSpPr>
        <p:sp>
          <p:nvSpPr>
            <p:cNvPr id="173" name="矩形 40"/>
            <p:cNvSpPr/>
            <p:nvPr/>
          </p:nvSpPr>
          <p:spPr>
            <a:xfrm>
              <a:off x="3313080" y="8834400"/>
              <a:ext cx="2519280" cy="15559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矩形 41"/>
            <p:cNvSpPr/>
            <p:nvPr/>
          </p:nvSpPr>
          <p:spPr>
            <a:xfrm>
              <a:off x="3642840" y="925812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MEDIA 1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95280" y="8834400"/>
            <a:ext cx="2521080" cy="1555920"/>
            <a:chOff x="395280" y="8834400"/>
            <a:chExt cx="2521080" cy="1555920"/>
          </a:xfrm>
        </p:grpSpPr>
        <p:sp>
          <p:nvSpPr>
            <p:cNvPr id="176" name="矩形 43"/>
            <p:cNvSpPr/>
            <p:nvPr/>
          </p:nvSpPr>
          <p:spPr>
            <a:xfrm>
              <a:off x="395280" y="8834400"/>
              <a:ext cx="2521080" cy="15559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矩形 44"/>
            <p:cNvSpPr/>
            <p:nvPr/>
          </p:nvSpPr>
          <p:spPr>
            <a:xfrm>
              <a:off x="725760" y="925812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MEDIA 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with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3" dur="24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24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4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23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dur="indefinite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xit" presetID="45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dur="indefinite" nodeType="withEffect" fill="hold" presetClass="exit" presetID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dur="indefinite" nodeType="withEffect" fill="hold" presetClass="entr" presetID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dur="indefinite" nodeType="with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dur="indefinite" nodeType="withEffect" fill="hold" presetClass="entr" presetID="4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dur="indefinite" nodeType="withEffect" fill="hold" presetClass="emph" presetID="6">
                                  <p:stCondLst>
                                    <p:cond delay="2600"/>
                                  </p:stCondLst>
                                  <p:childTnLst>
                                    <p:animScale>
                                      <p:cBhvr>
                                        <p:cTn id="551" dur="100" fill="hold"/>
                                        <p:tgtEl>
                                          <p:spTgt spid="141"/>
                                        </p:tgtEl>
                                      </p:cBhvr>
                                      <p:to x="3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552" dur="indefinite" nodeType="withEffect" fill="hold" presetClass="path" presetID="42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0.00122 0 L 0.00122 -0.02809 E">
                                      <p:cBhvr>
                                        <p:cTn id="553" dur="1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1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8" dur="1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dur="indefinite" nodeType="withEffect" fill="hold" presetClass="emph" presetID="6">
                                  <p:stCondLst>
                                    <p:cond delay="2700"/>
                                  </p:stCondLst>
                                  <p:childTnLst>
                                    <p:animScale>
                                      <p:cBhvr>
                                        <p:cTn id="560" dur="100" fill="hold"/>
                                        <p:tgtEl>
                                          <p:spTgt spid="14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61" dur="indefinite" nodeType="withEffect" fill="hold" presetClass="emph" presetID="6">
                                  <p:stCondLst>
                                    <p:cond delay="2800"/>
                                  </p:stCondLst>
                                  <p:childTnLst>
                                    <p:animScale>
                                      <p:cBhvr>
                                        <p:cTn id="562" dur="200" fill="hold"/>
                                        <p:tgtEl>
                                          <p:spTgt spid="145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563" dur="indefinite" nodeType="withEffect" fill="hold" presetClass="emph" presetID="6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564" dur="100" fill="hold"/>
                                        <p:tgtEl>
                                          <p:spTgt spid="1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5" dur="indefinite" nodeType="withEffect" fill="hold" presetClass="emph" presetID="6">
                                  <p:stCondLst>
                                    <p:cond delay="3100"/>
                                  </p:stCondLst>
                                  <p:childTnLst>
                                    <p:animScale>
                                      <p:cBhvr>
                                        <p:cTn id="566" dur="200" fill="hold"/>
                                        <p:tgtEl>
                                          <p:spTgt spid="145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567" dur="indefinite" nodeType="withEffect" fill="hold" presetClass="entr" presetID="1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1" dur="1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dur="indefinite" nodeType="withEffect" fill="hold" presetClass="emph" presetID="6">
                                  <p:stCondLst>
                                    <p:cond delay="2700"/>
                                  </p:stCondLst>
                                  <p:childTnLst>
                                    <p:animScale>
                                      <p:cBhvr>
                                        <p:cTn id="573" dur="100" fill="hold"/>
                                        <p:tgtEl>
                                          <p:spTgt spid="14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74" dur="indefinite" nodeType="withEffect" fill="hold" presetClass="emph" presetID="6">
                                  <p:stCondLst>
                                    <p:cond delay="2800"/>
                                  </p:stCondLst>
                                  <p:childTnLst>
                                    <p:animScale>
                                      <p:cBhvr>
                                        <p:cTn id="575" dur="200" fill="hold"/>
                                        <p:tgtEl>
                                          <p:spTgt spid="142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emph" presetID="6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577" dur="100" fill="hold"/>
                                        <p:tgtEl>
                                          <p:spTgt spid="1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78" dur="indefinite" nodeType="withEffect" fill="hold" presetClass="emph" presetID="6">
                                  <p:stCondLst>
                                    <p:cond delay="3100"/>
                                  </p:stCondLst>
                                  <p:childTnLst>
                                    <p:animScale>
                                      <p:cBhvr>
                                        <p:cTn id="579" dur="200" fill="hold"/>
                                        <p:tgtEl>
                                          <p:spTgt spid="142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580" dur="indefinite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4" dur="1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dur="indefinite" nodeType="withEffect" fill="hold" presetClass="emph" presetID="6">
                                  <p:stCondLst>
                                    <p:cond delay="2800"/>
                                  </p:stCondLst>
                                  <p:childTnLst>
                                    <p:animScale>
                                      <p:cBhvr>
                                        <p:cTn id="586" dur="100" fill="hold"/>
                                        <p:tgtEl>
                                          <p:spTgt spid="15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87" dur="indefinite" nodeType="withEffect" fill="hold" presetClass="emph" presetID="6">
                                  <p:stCondLst>
                                    <p:cond delay="2900"/>
                                  </p:stCondLst>
                                  <p:childTnLst>
                                    <p:animScale>
                                      <p:cBhvr>
                                        <p:cTn id="588" dur="200" fill="hold"/>
                                        <p:tgtEl>
                                          <p:spTgt spid="151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589" dur="indefinite" nodeType="withEffect" fill="hold" presetClass="emph" presetID="6">
                                  <p:stCondLst>
                                    <p:cond delay="3100"/>
                                  </p:stCondLst>
                                  <p:childTnLst>
                                    <p:animScale>
                                      <p:cBhvr>
                                        <p:cTn id="590" dur="100" fill="hold"/>
                                        <p:tgtEl>
                                          <p:spTgt spid="1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1" dur="indefinite" nodeType="withEffect" fill="hold" presetClass="emph" presetID="6">
                                  <p:stCondLst>
                                    <p:cond delay="3200"/>
                                  </p:stCondLst>
                                  <p:childTnLst>
                                    <p:animScale>
                                      <p:cBhvr>
                                        <p:cTn id="592" dur="200" fill="hold"/>
                                        <p:tgtEl>
                                          <p:spTgt spid="151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593" dur="indefinite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7" dur="1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dur="indefinite" nodeType="withEffect" fill="hold" presetClass="emph" presetID="6">
                                  <p:stCondLst>
                                    <p:cond delay="2800"/>
                                  </p:stCondLst>
                                  <p:childTnLst>
                                    <p:animScale>
                                      <p:cBhvr>
                                        <p:cTn id="599" dur="1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00" dur="indefinite" nodeType="withEffect" fill="hold" presetClass="emph" presetID="6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601" dur="200" fill="hold"/>
                                        <p:tgtEl>
                                          <p:spTgt spid="148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602" dur="indefinite" nodeType="withEffect" fill="hold" presetClass="emph" presetID="6">
                                  <p:stCondLst>
                                    <p:cond delay="3200"/>
                                  </p:stCondLst>
                                  <p:childTnLst>
                                    <p:animScale>
                                      <p:cBhvr>
                                        <p:cTn id="603" dur="1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4" dur="indefinite" nodeType="withEffect" fill="hold" presetClass="emph" presetID="6">
                                  <p:stCondLst>
                                    <p:cond delay="3300"/>
                                  </p:stCondLst>
                                  <p:childTnLst>
                                    <p:animScale>
                                      <p:cBhvr>
                                        <p:cTn id="605" dur="200" fill="hold"/>
                                        <p:tgtEl>
                                          <p:spTgt spid="148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606" dur="indefinite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0" dur="1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dur="indefinite" nodeType="withEffect" fill="hold" presetClass="emph" presetID="6">
                                  <p:stCondLst>
                                    <p:cond delay="2800"/>
                                  </p:stCondLst>
                                  <p:childTnLst>
                                    <p:animScale>
                                      <p:cBhvr>
                                        <p:cTn id="612" dur="100" fill="hold"/>
                                        <p:tgtEl>
                                          <p:spTgt spid="15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13" dur="indefinite" nodeType="withEffect" fill="hold" presetClass="emph" presetID="6">
                                  <p:stCondLst>
                                    <p:cond delay="2900"/>
                                  </p:stCondLst>
                                  <p:childTnLst>
                                    <p:animScale>
                                      <p:cBhvr>
                                        <p:cTn id="614" dur="200" fill="hold"/>
                                        <p:tgtEl>
                                          <p:spTgt spid="157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615" dur="indefinite" nodeType="withEffect" fill="hold" presetClass="emph" presetID="6">
                                  <p:stCondLst>
                                    <p:cond delay="3100"/>
                                  </p:stCondLst>
                                  <p:childTnLst>
                                    <p:animScale>
                                      <p:cBhvr>
                                        <p:cTn id="616" dur="100" fill="hold"/>
                                        <p:tgtEl>
                                          <p:spTgt spid="1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mph" presetID="6">
                                  <p:stCondLst>
                                    <p:cond delay="3200"/>
                                  </p:stCondLst>
                                  <p:childTnLst>
                                    <p:animScale>
                                      <p:cBhvr>
                                        <p:cTn id="618" dur="200" fill="hold"/>
                                        <p:tgtEl>
                                          <p:spTgt spid="157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619" dur="indefinite" nodeType="withEffect" fill="hold" presetClass="entr" presetID="1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3" dur="1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dur="indefinite" nodeType="withEffect" fill="hold" presetClass="emph" presetID="6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625" dur="100" fill="hold"/>
                                        <p:tgtEl>
                                          <p:spTgt spid="15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26" dur="indefinite" nodeType="withEffect" fill="hold" presetClass="emph" presetID="6">
                                  <p:stCondLst>
                                    <p:cond delay="3100"/>
                                  </p:stCondLst>
                                  <p:childTnLst>
                                    <p:animScale>
                                      <p:cBhvr>
                                        <p:cTn id="627" dur="200" fill="hold"/>
                                        <p:tgtEl>
                                          <p:spTgt spid="154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628" dur="indefinite" nodeType="withEffect" fill="hold" presetClass="emph" presetID="6">
                                  <p:stCondLst>
                                    <p:cond delay="3300"/>
                                  </p:stCondLst>
                                  <p:childTnLst>
                                    <p:animScale>
                                      <p:cBhvr>
                                        <p:cTn id="629" dur="100" fill="hold"/>
                                        <p:tgtEl>
                                          <p:spTgt spid="1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0" dur="indefinite" nodeType="withEffect" fill="hold" presetClass="emph" presetID="6">
                                  <p:stCondLst>
                                    <p:cond delay="3400"/>
                                  </p:stCondLst>
                                  <p:childTnLst>
                                    <p:animScale>
                                      <p:cBhvr>
                                        <p:cTn id="631" dur="200" fill="hold"/>
                                        <p:tgtEl>
                                          <p:spTgt spid="154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632" dur="indefinite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5400000">
                                      <p:cBhvr>
                                        <p:cTn id="633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4" dur="indefinite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3.61111E-006 -3.82716E-006 L -0.004 1.09044 E">
                                      <p:cBhvr>
                                        <p:cTn id="635" dur="5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6" dur="indefinite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5400000">
                                      <p:cBhvr>
                                        <p:cTn id="637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8" dur="indefinite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3.61111E-006 -3.29626E-006 L 3.61111E-006 1.11956 E">
                                      <p:cBhvr>
                                        <p:cTn id="639" dur="5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0" dur="indefinite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-5399760">
                                      <p:cBhvr>
                                        <p:cTn id="641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2" dur="indefinite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-3.61111E-006 -2.07909E-006 L -3.61111E-006 1.09144 E">
                                      <p:cBhvr>
                                        <p:cTn id="643" dur="5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4" dur="indefinite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-5399760">
                                      <p:cBhvr>
                                        <p:cTn id="645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6" dur="indefinite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-3.61111E-006 2.78344E-006 L -3.61111E-006 1.11492 E">
                                      <p:cBhvr>
                                        <p:cTn id="647" dur="5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8" dur="indefinite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5400000">
                                      <p:cBhvr>
                                        <p:cTn id="649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0" dur="indefinite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0 -2.07909E-006 L 0 1.07754 E">
                                      <p:cBhvr>
                                        <p:cTn id="651" dur="5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2" dur="indefinite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-5399760">
                                      <p:cBhvr>
                                        <p:cTn id="653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4" dur="indefinite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-4.72222E-006 2.78344E-006 L 0.00122 1.11492 E">
                                      <p:cBhvr>
                                        <p:cTn id="655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6" dur="indefinite" nodeType="withEffect" fill="hold" presetClass="path" presetID="64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3.33333E-006 4.07407E-006 L 0.00018 -1.12007 E">
                                      <p:cBhvr>
                                        <p:cTn id="657" dur="5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8" dur="indefinite" nodeType="withEffect" fill="hold" presetClass="path" presetID="42">
                                  <p:stCondLst>
                                    <p:cond delay="5400"/>
                                  </p:stCondLst>
                                  <p:childTnLst>
                                    <p:animMotion origin="layout" path="M 0.00017 -1.12007 L 3.61111E-006 -1.09198 E">
                                      <p:cBhvr>
                                        <p:cTn id="659" dur="3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0" dur="indefinite" nodeType="withEffect" fill="hold" presetClass="path" presetID="42">
                                  <p:stCondLst>
                                    <p:cond delay="9900"/>
                                  </p:stCondLst>
                                  <p:childTnLst>
                                    <p:animMotion origin="layout" path="M -3.33333E-006 4.07407E-006 L -3.33333E-006 -1.09198 E">
                                      <p:cBhvr>
                                        <p:cTn id="661" dur="4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2" dur="indefinite" nodeType="withEffect" fill="hold" presetClass="path" presetID="64">
                                  <p:stCondLst>
                                    <p:cond delay="5700"/>
                                  </p:stCondLst>
                                  <p:childTnLst>
                                    <p:animMotion origin="layout" path="M -3.33333E-006 4.07407E-006 L 0.00018 -1.12007 E">
                                      <p:cBhvr>
                                        <p:cTn id="663" dur="5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4" dur="indefinite" nodeType="withEffect" fill="hold" presetClass="path" presetID="42">
                                  <p:stCondLst>
                                    <p:cond delay="6200"/>
                                  </p:stCondLst>
                                  <p:childTnLst>
                                    <p:animMotion origin="layout" path="M 0.00017 -1.12007 L 3.61111E-006 -1.09198 E">
                                      <p:cBhvr>
                                        <p:cTn id="665" dur="3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path" presetID="42">
                                  <p:stCondLst>
                                    <p:cond delay="9900"/>
                                  </p:stCondLst>
                                  <p:childTnLst>
                                    <p:animMotion origin="layout" path="M -3.33333E-006 4.07407E-006 L -3.33333E-006 -1.09198 E">
                                      <p:cBhvr>
                                        <p:cTn id="667" dur="4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8" dur="indefinite" nodeType="withEffect" fill="hold" presetClass="path" presetID="64">
                                  <p:stCondLst>
                                    <p:cond delay="6500"/>
                                  </p:stCondLst>
                                  <p:childTnLst>
                                    <p:animMotion origin="layout" path="M -3.33333E-006 4.07407E-006 L 0.00018 -1.12007 E">
                                      <p:cBhvr>
                                        <p:cTn id="669" dur="5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0" dur="indefinite" nodeType="withEffect" fill="hold" presetClass="path" presetID="42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0.00017 -1.12007 L 3.61111E-006 -1.09198 E">
                                      <p:cBhvr>
                                        <p:cTn id="671" dur="3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2" dur="indefinite" nodeType="withEffect" fill="hold" presetClass="path" presetID="42">
                                  <p:stCondLst>
                                    <p:cond delay="9900"/>
                                  </p:stCondLst>
                                  <p:childTnLst>
                                    <p:animMotion origin="layout" path="M -3.33333E-006 4.07407E-006 L -3.33333E-006 -1.09198 E">
                                      <p:cBhvr>
                                        <p:cTn id="673" dur="4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4" dur="indefinite" nodeType="withEffect" fill="hold" presetClass="path" presetID="64">
                                  <p:stCondLst>
                                    <p:cond delay="7300"/>
                                  </p:stCondLst>
                                  <p:childTnLst>
                                    <p:animMotion origin="layout" path="M -3.33333E-006 4.07407E-006 L 0.00018 -1.12007 E">
                                      <p:cBhvr>
                                        <p:cTn id="675" dur="5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6" dur="indefinite" nodeType="withEffect" fill="hold" presetClass="path" presetID="42">
                                  <p:stCondLst>
                                    <p:cond delay="7800"/>
                                  </p:stCondLst>
                                  <p:childTnLst>
                                    <p:animMotion origin="layout" path="M 0.00017 -1.12007 L 3.61111E-006 -1.09198 E">
                                      <p:cBhvr>
                                        <p:cTn id="677" dur="3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8" dur="indefinite" nodeType="withEffect" fill="hold" presetClass="path" presetID="42">
                                  <p:stCondLst>
                                    <p:cond delay="9900"/>
                                  </p:stCondLst>
                                  <p:childTnLst>
                                    <p:animMotion origin="layout" path="M -3.33333E-006 4.07407E-006 L -3.33333E-006 -1.09198 E">
                                      <p:cBhvr>
                                        <p:cTn id="679" dur="4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0" dur="indefinite" nodeType="withEffect" fill="hold" presetClass="exit" presetID="45">
                                  <p:stCondLst>
                                    <p:cond delay="8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dur="indefinite" nodeType="withEffect" fill="hold" presetClass="path" presetID="64">
                                  <p:stCondLst>
                                    <p:cond delay="8100"/>
                                  </p:stCondLst>
                                  <p:childTnLst>
                                    <p:animMotion origin="layout" path="M -3.33333E-006 4.07407E-006 L 0.00018 -1.12007 E">
                                      <p:cBhvr>
                                        <p:cTn id="686" dur="5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7" dur="indefinite" nodeType="withEffect" fill="hold" presetClass="path" presetID="42">
                                  <p:stCondLst>
                                    <p:cond delay="8600"/>
                                  </p:stCondLst>
                                  <p:childTnLst>
                                    <p:animMotion origin="layout" path="M 0.00017 -1.12007 L 3.61111E-006 -1.09198 E">
                                      <p:cBhvr>
                                        <p:cTn id="688" dur="3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9" dur="indefinite" nodeType="withEffect" fill="hold" presetClass="path" presetID="42">
                                  <p:stCondLst>
                                    <p:cond delay="9900"/>
                                  </p:stCondLst>
                                  <p:childTnLst>
                                    <p:animMotion origin="layout" path="M -3.33333E-006 4.07407E-006 L -3.33333E-006 -1.09198 E">
                                      <p:cBhvr>
                                        <p:cTn id="690" dur="4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1" dur="indefinite" nodeType="withEffect" fill="hold" presetClass="path" presetID="64">
                                  <p:stCondLst>
                                    <p:cond delay="8900"/>
                                  </p:stCondLst>
                                  <p:childTnLst>
                                    <p:animMotion origin="layout" path="M -3.33333E-006 4.07407E-006 L 0.00018 -1.12007 E">
                                      <p:cBhvr>
                                        <p:cTn id="692" dur="5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3" dur="indefinite" nodeType="withEffect" fill="hold" presetClass="path" presetID="42">
                                  <p:stCondLst>
                                    <p:cond delay="9400"/>
                                  </p:stCondLst>
                                  <p:childTnLst>
                                    <p:animMotion origin="layout" path="M 0.00017 -1.12007 L 3.61111E-006 -1.09198 E">
                                      <p:cBhvr>
                                        <p:cTn id="694" dur="3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5" dur="indefinite" nodeType="withEffect" fill="hold" presetClass="path" presetID="42">
                                  <p:stCondLst>
                                    <p:cond delay="9900"/>
                                  </p:stCondLst>
                                  <p:childTnLst>
                                    <p:animMotion origin="layout" path="M -3.33333E-006 4.07407E-006 L -3.33333E-006 -1.09198 E">
                                      <p:cBhvr>
                                        <p:cTn id="696" dur="4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842040" y="1708200"/>
            <a:ext cx="7473240" cy="1727280"/>
            <a:chOff x="842040" y="1708200"/>
            <a:chExt cx="7473240" cy="1727280"/>
          </a:xfrm>
        </p:grpSpPr>
        <p:sp>
          <p:nvSpPr>
            <p:cNvPr id="179" name="矩形 1"/>
            <p:cNvSpPr/>
            <p:nvPr/>
          </p:nvSpPr>
          <p:spPr>
            <a:xfrm>
              <a:off x="842040" y="2310480"/>
              <a:ext cx="403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n illustration goes here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梯形 3"/>
            <p:cNvSpPr/>
            <p:nvPr/>
          </p:nvSpPr>
          <p:spPr>
            <a:xfrm flipV="1" rot="16200000">
              <a:off x="6119640" y="1239840"/>
              <a:ext cx="1727280" cy="2664000"/>
            </a:xfrm>
            <a:custGeom>
              <a:avLst/>
              <a:gdLst>
                <a:gd name="textAreaLeft" fmla="*/ 210600 w 1727280"/>
                <a:gd name="textAreaRight" fmla="*/ 1516680 w 1727280"/>
                <a:gd name="textAreaTop" fmla="*/ 324720 h 2664000"/>
                <a:gd name="textAreaBottom" fmla="*/ 2339280 h 266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10" y="21600"/>
                  </a:lnTo>
                  <a:lnTo>
                    <a:pt x="1590" y="216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矩形 4"/>
            <p:cNvSpPr/>
            <p:nvPr/>
          </p:nvSpPr>
          <p:spPr>
            <a:xfrm>
              <a:off x="5887080" y="2156400"/>
              <a:ext cx="2192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LLYSTRATION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MAGE</a:t>
              </a:r>
              <a:r>
                <a:rPr b="1" lang="zh-CN" sz="24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｜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VIDE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561000" y="-2178000"/>
            <a:ext cx="2665440" cy="1728720"/>
            <a:chOff x="6561000" y="-2178000"/>
            <a:chExt cx="2665440" cy="1728720"/>
          </a:xfrm>
        </p:grpSpPr>
        <p:sp>
          <p:nvSpPr>
            <p:cNvPr id="183" name="梯形 6"/>
            <p:cNvSpPr/>
            <p:nvPr/>
          </p:nvSpPr>
          <p:spPr>
            <a:xfrm flipV="1" rot="5400000">
              <a:off x="7029360" y="-2646360"/>
              <a:ext cx="1728720" cy="2665440"/>
            </a:xfrm>
            <a:custGeom>
              <a:avLst/>
              <a:gdLst>
                <a:gd name="textAreaLeft" fmla="*/ 210600 w 1728720"/>
                <a:gd name="textAreaRight" fmla="*/ 1518120 w 1728720"/>
                <a:gd name="textAreaTop" fmla="*/ 324720 h 2665440"/>
                <a:gd name="textAreaBottom" fmla="*/ 2340720 h 266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10" y="21600"/>
                  </a:lnTo>
                  <a:lnTo>
                    <a:pt x="1590" y="216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矩形 7"/>
            <p:cNvSpPr/>
            <p:nvPr/>
          </p:nvSpPr>
          <p:spPr>
            <a:xfrm>
              <a:off x="6797520" y="-1723320"/>
              <a:ext cx="2192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LLYSTRATION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MAGE</a:t>
              </a:r>
              <a:r>
                <a:rPr b="1" lang="zh-CN" sz="24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｜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VIDE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矩形 2"/>
          <p:cNvSpPr/>
          <p:nvPr/>
        </p:nvSpPr>
        <p:spPr>
          <a:xfrm>
            <a:off x="9243000" y="2309760"/>
            <a:ext cx="278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nother on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2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2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dur="indefinite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706" dur="1300" fill="hold"/>
                                        <p:tgtEl>
                                          <p:spTgt spid="178"/>
                                        </p:tgtEl>
                                      </p:cBhvr>
                                      <p:to x="97000" y="97000"/>
                                    </p:animScale>
                                  </p:childTnLst>
                                </p:cTn>
                              </p:par>
                              <p:par>
                                <p:cTn id="707" dur="indefinite" nodeType="withEffect" fill="hold" presetClass="exit" presetID="2" presetSubtype="8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8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06997 0.05591 L -0.60729 0.75656 E">
                                      <p:cBhvr>
                                        <p:cTn id="712" dur="9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3" dur="indefinite" nodeType="withEffect" fill="hold" presetClass="path" presetID="35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4.44444E-006 -3.39203E-006 L -0.48993 -3.39203E-006 E">
                                      <p:cBhvr>
                                        <p:cTn id="714" dur="9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5" dur="indefinite" nodeType="withEffect" fill="hold" presetClass="emph" presetID="6">
                                  <p:stCondLst>
                                    <p:cond delay="3400"/>
                                  </p:stCondLst>
                                  <p:childTnLst>
                                    <p:animScale>
                                      <p:cBhvr>
                                        <p:cTn id="716" dur="1300" fill="hold"/>
                                        <p:tgtEl>
                                          <p:spTgt spid="182"/>
                                        </p:tgtEl>
                                      </p:cBhvr>
                                      <p:to x="97000" y="97000"/>
                                    </p:animScale>
                                  </p:childTnLst>
                                </p:cTn>
                              </p:par>
                              <p:par>
                                <p:cTn id="717" dur="indefinite" nodeType="withEffect" fill="hold" presetClass="emph" presetID="6">
                                  <p:stCondLst>
                                    <p:cond delay="3400"/>
                                  </p:stCondLst>
                                  <p:childTnLst>
                                    <p:animScale>
                                      <p:cBhvr>
                                        <p:cTn id="718" dur="1300" fill="hold"/>
                                        <p:tgtEl>
                                          <p:spTgt spid="185"/>
                                        </p:tgtEl>
                                      </p:cBhvr>
                                      <p:to x="97000" y="9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1986120" y="5388120"/>
            <a:ext cx="5173200" cy="2643840"/>
            <a:chOff x="1986120" y="5388120"/>
            <a:chExt cx="5173200" cy="2643840"/>
          </a:xfrm>
        </p:grpSpPr>
        <p:sp>
          <p:nvSpPr>
            <p:cNvPr id="187" name="矩形 4"/>
            <p:cNvSpPr/>
            <p:nvPr/>
          </p:nvSpPr>
          <p:spPr>
            <a:xfrm>
              <a:off x="2058480" y="5480280"/>
              <a:ext cx="502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Calibri"/>
                  <a:ea typeface="Calibri"/>
                </a:rPr>
                <a:t>THIS PROJECT WAS MADE WITH THE VERS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 5"/>
            <p:cNvSpPr/>
            <p:nvPr/>
          </p:nvSpPr>
          <p:spPr>
            <a:xfrm>
              <a:off x="1992960" y="5388120"/>
              <a:ext cx="23842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5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S4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矩形 6"/>
            <p:cNvSpPr/>
            <p:nvPr/>
          </p:nvSpPr>
          <p:spPr>
            <a:xfrm>
              <a:off x="4201560" y="5866920"/>
              <a:ext cx="287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OF AFTER EFFEC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矩形 7"/>
            <p:cNvSpPr/>
            <p:nvPr/>
          </p:nvSpPr>
          <p:spPr>
            <a:xfrm>
              <a:off x="4318920" y="6360120"/>
              <a:ext cx="26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IN HD RESOLU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8"/>
            <p:cNvSpPr/>
            <p:nvPr/>
          </p:nvSpPr>
          <p:spPr>
            <a:xfrm>
              <a:off x="1986120" y="6474960"/>
              <a:ext cx="5173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d00000"/>
                  </a:solidFill>
                  <a:latin typeface="Calibri"/>
                  <a:ea typeface="Calibri"/>
                </a:rPr>
                <a:t>1280X720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206360" y="2120760"/>
            <a:ext cx="6730920" cy="880200"/>
            <a:chOff x="1206360" y="2120760"/>
            <a:chExt cx="6730920" cy="880200"/>
          </a:xfrm>
        </p:grpSpPr>
        <p:sp>
          <p:nvSpPr>
            <p:cNvPr id="193" name="矩形 1"/>
            <p:cNvSpPr/>
            <p:nvPr/>
          </p:nvSpPr>
          <p:spPr>
            <a:xfrm>
              <a:off x="1206360" y="2120760"/>
              <a:ext cx="67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HERE YOU CAN PLACE YOUR OWN MESSAG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矩形 2"/>
            <p:cNvSpPr/>
            <p:nvPr/>
          </p:nvSpPr>
          <p:spPr>
            <a:xfrm>
              <a:off x="2378520" y="2480400"/>
              <a:ext cx="438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OR INSERT ANOTHER MED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"/>
          <p:cNvSpPr/>
          <p:nvPr/>
        </p:nvSpPr>
        <p:spPr>
          <a:xfrm>
            <a:off x="2057760" y="1276200"/>
            <a:ext cx="502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Calibri"/>
                <a:ea typeface="Calibri"/>
              </a:rPr>
              <a:t>THIS PROJECT WAS MADE WITH THE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c"/>
          <p:cNvSpPr/>
          <p:nvPr/>
        </p:nvSpPr>
        <p:spPr>
          <a:xfrm>
            <a:off x="1992240" y="1203480"/>
            <a:ext cx="23842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  <a:ea typeface="Calibri"/>
              </a:rPr>
              <a:t>CS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"/>
          <p:cNvSpPr/>
          <p:nvPr/>
        </p:nvSpPr>
        <p:spPr>
          <a:xfrm>
            <a:off x="4201200" y="1635120"/>
            <a:ext cx="28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F AFTER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i"/>
          <p:cNvSpPr/>
          <p:nvPr/>
        </p:nvSpPr>
        <p:spPr>
          <a:xfrm>
            <a:off x="4318200" y="2139840"/>
            <a:ext cx="26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Calibri"/>
                <a:ea typeface="Calibri"/>
              </a:rPr>
              <a:t>IN HD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1"/>
          <p:cNvSpPr/>
          <p:nvPr/>
        </p:nvSpPr>
        <p:spPr>
          <a:xfrm>
            <a:off x="1986120" y="2298600"/>
            <a:ext cx="517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d00000"/>
                </a:solidFill>
                <a:latin typeface="Calibri"/>
                <a:ea typeface="Calibri"/>
              </a:rPr>
              <a:t>1280X7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1192320" y="777960"/>
            <a:ext cx="6602400" cy="3730680"/>
          </a:xfrm>
          <a:prstGeom prst="rect">
            <a:avLst/>
          </a:prstGeom>
          <a:ln w="0">
            <a:noFill/>
          </a:ln>
        </p:spPr>
      </p:pic>
      <p:grpSp>
        <p:nvGrpSpPr>
          <p:cNvPr id="201" name=""/>
          <p:cNvGrpSpPr/>
          <p:nvPr/>
        </p:nvGrpSpPr>
        <p:grpSpPr>
          <a:xfrm>
            <a:off x="1137240" y="1874880"/>
            <a:ext cx="6870960" cy="1335960"/>
            <a:chOff x="1137240" y="1874880"/>
            <a:chExt cx="6870960" cy="1335960"/>
          </a:xfrm>
        </p:grpSpPr>
        <p:sp>
          <p:nvSpPr>
            <p:cNvPr id="202" name="矩形 9"/>
            <p:cNvSpPr/>
            <p:nvPr/>
          </p:nvSpPr>
          <p:spPr>
            <a:xfrm>
              <a:off x="1137240" y="1874880"/>
              <a:ext cx="687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33"/>
                  </a:solidFill>
                  <a:latin typeface="Calibri"/>
                  <a:ea typeface="Calibri"/>
                </a:rPr>
                <a:t>THIS IS ANOTHER P LACE FOR YOU 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11"/>
            <p:cNvSpPr/>
            <p:nvPr/>
          </p:nvSpPr>
          <p:spPr>
            <a:xfrm>
              <a:off x="2908800" y="2019600"/>
              <a:ext cx="3308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EDIT IT !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0">
    <p:fade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dur="indefinite" nodeType="withEffect" fill="hold" presetClass="entr" presetID="17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dur="indefinite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E">
                                      <p:cBhvr>
                                        <p:cTn id="730" dur="3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1" dur="indefinite" nodeType="withEffect" fill="hold" presetClass="exit" presetID="45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2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2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dur="indefinite" nodeType="withEffect" fill="hold" presetClass="exit" presetID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dur="indefinite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dur="indefinite" nodeType="withEffect" fill="hold" presetClass="path" presetID="42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0 -0.82593 L 0 -0.81945 E">
                                      <p:cBhvr>
                                        <p:cTn id="741" dur="1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2" dur="indefinite" nodeType="withEffect" fill="hold" presetClass="entr" presetID="45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dur="indefinite" nodeType="withEffect" fill="hold" presetClass="exit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dur="indefinite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dur="indefinite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dur="indefinite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dur="indefinite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dur="indefinite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dur="indefinite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760" dur="200" fill="hold"/>
                                        <p:tgtEl>
                                          <p:spTgt spid="19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61" dur="indefinite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762" dur="100" fill="hold"/>
                                        <p:tgtEl>
                                          <p:spTgt spid="196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763" dur="indefinite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764" dur="2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65" dur="indefinite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766" dur="100" fill="hold"/>
                                        <p:tgtEl>
                                          <p:spTgt spid="195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767" dur="indefinite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768" dur="200" fill="hold"/>
                                        <p:tgtEl>
                                          <p:spTgt spid="19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69" dur="indefinite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770" dur="100" fill="hold"/>
                                        <p:tgtEl>
                                          <p:spTgt spid="197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771" dur="indefinite" nodeType="withEffect" fill="hold" presetClass="emph" presetID="6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772" dur="200" fill="hold"/>
                                        <p:tgtEl>
                                          <p:spTgt spid="19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73" dur="indefinite" nodeType="withEffect" fill="hold" presetClass="emph" presetID="6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774" dur="100" fill="hold"/>
                                        <p:tgtEl>
                                          <p:spTgt spid="198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775" dur="indefinite" nodeType="withEffect" fill="hold" presetClass="emph" presetID="6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776" dur="200" fill="hold"/>
                                        <p:tgtEl>
                                          <p:spTgt spid="19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77" dur="indefinite" nodeType="withEffect" fill="hold" presetClass="emph" presetID="6">
                                  <p:stCondLst>
                                    <p:cond delay="2600"/>
                                  </p:stCondLst>
                                  <p:childTnLst>
                                    <p:animScale>
                                      <p:cBhvr>
                                        <p:cTn id="778" dur="100" fill="hold"/>
                                        <p:tgtEl>
                                          <p:spTgt spid="199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779" dur="indefinite" nodeType="withEffect" fill="hold" presetClass="exit" presetID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dur="indefinite" nodeType="withEffect" fill="hold" presetClass="exit" presetID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dur="indefinite" nodeType="withEffect" fill="hold" presetClass="exit" presetID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dur="indefinite" nodeType="withEffect" fill="hold" presetClass="exit" presetID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dur="indefinite" nodeType="withEffect" fill="hold" presetClass="exit" presetID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dur="indefinite" nodeType="withEffect" fill="hold" presetClass="entr" presetID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dur="indefinite" nodeType="withEffect" fill="hold" presetClass="exit" presetID="45">
                                  <p:stCondLst>
                                    <p:cond delay="2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2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dur="indefinite" nodeType="withEffect" fill="hold" presetClass="exit" presetID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dur="indefinite" nodeType="withEffect" fill="hold" presetClass="entr" presetID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dur="indefinite" nodeType="withEffect" fill="hold" presetClass="exit" presetID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dur="indefinite" nodeType="withEffect" fill="hold" presetClass="entr" presetID="45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dur="indefinite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3995640" y="1995480"/>
            <a:ext cx="1152720" cy="1152360"/>
            <a:chOff x="3995640" y="1995480"/>
            <a:chExt cx="1152720" cy="1152360"/>
          </a:xfrm>
        </p:grpSpPr>
        <p:sp>
          <p:nvSpPr>
            <p:cNvPr id="205" name="椭圆 1"/>
            <p:cNvSpPr/>
            <p:nvPr/>
          </p:nvSpPr>
          <p:spPr>
            <a:xfrm>
              <a:off x="3995640" y="1995480"/>
              <a:ext cx="1152720" cy="11523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矩形 2"/>
            <p:cNvSpPr/>
            <p:nvPr/>
          </p:nvSpPr>
          <p:spPr>
            <a:xfrm>
              <a:off x="4036680" y="2217600"/>
              <a:ext cx="1076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FOLL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ME 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2463840" y="2217600"/>
            <a:ext cx="4216320" cy="703440"/>
            <a:chOff x="2463840" y="2217600"/>
            <a:chExt cx="4216320" cy="703440"/>
          </a:xfrm>
        </p:grpSpPr>
        <p:sp>
          <p:nvSpPr>
            <p:cNvPr id="208" name="矩形 11"/>
            <p:cNvSpPr/>
            <p:nvPr/>
          </p:nvSpPr>
          <p:spPr>
            <a:xfrm>
              <a:off x="514800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LINK 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矩形 12"/>
            <p:cNvSpPr/>
            <p:nvPr/>
          </p:nvSpPr>
          <p:spPr>
            <a:xfrm>
              <a:off x="246384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LINK 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463840" y="2217600"/>
            <a:ext cx="4216320" cy="703440"/>
            <a:chOff x="2463840" y="2217600"/>
            <a:chExt cx="4216320" cy="703440"/>
          </a:xfrm>
        </p:grpSpPr>
        <p:sp>
          <p:nvSpPr>
            <p:cNvPr id="211" name="矩形 17"/>
            <p:cNvSpPr/>
            <p:nvPr/>
          </p:nvSpPr>
          <p:spPr>
            <a:xfrm>
              <a:off x="514800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LINK 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矩形 18"/>
            <p:cNvSpPr/>
            <p:nvPr/>
          </p:nvSpPr>
          <p:spPr>
            <a:xfrm>
              <a:off x="246384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LINK 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463840" y="2217600"/>
            <a:ext cx="4216320" cy="703440"/>
            <a:chOff x="2463840" y="2217600"/>
            <a:chExt cx="4216320" cy="703440"/>
          </a:xfrm>
        </p:grpSpPr>
        <p:sp>
          <p:nvSpPr>
            <p:cNvPr id="214" name="矩形 20"/>
            <p:cNvSpPr/>
            <p:nvPr/>
          </p:nvSpPr>
          <p:spPr>
            <a:xfrm>
              <a:off x="514800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LINK 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矩形 21"/>
            <p:cNvSpPr/>
            <p:nvPr/>
          </p:nvSpPr>
          <p:spPr>
            <a:xfrm>
              <a:off x="246384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LINK 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463840" y="2217600"/>
            <a:ext cx="4216320" cy="703440"/>
            <a:chOff x="2463840" y="2217600"/>
            <a:chExt cx="4216320" cy="703440"/>
          </a:xfrm>
        </p:grpSpPr>
        <p:sp>
          <p:nvSpPr>
            <p:cNvPr id="217" name="矩形 23"/>
            <p:cNvSpPr/>
            <p:nvPr/>
          </p:nvSpPr>
          <p:spPr>
            <a:xfrm>
              <a:off x="514800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LINK 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矩形 24"/>
            <p:cNvSpPr/>
            <p:nvPr/>
          </p:nvSpPr>
          <p:spPr>
            <a:xfrm>
              <a:off x="246384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LINK 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463840" y="2217600"/>
            <a:ext cx="4216320" cy="703440"/>
            <a:chOff x="2463840" y="2217600"/>
            <a:chExt cx="4216320" cy="703440"/>
          </a:xfrm>
        </p:grpSpPr>
        <p:sp>
          <p:nvSpPr>
            <p:cNvPr id="220" name="矩形 26"/>
            <p:cNvSpPr/>
            <p:nvPr/>
          </p:nvSpPr>
          <p:spPr>
            <a:xfrm>
              <a:off x="514800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LINK 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矩形 27"/>
            <p:cNvSpPr/>
            <p:nvPr/>
          </p:nvSpPr>
          <p:spPr>
            <a:xfrm>
              <a:off x="246384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LINK 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2463840" y="2217600"/>
            <a:ext cx="4216320" cy="703440"/>
            <a:chOff x="2463840" y="2217600"/>
            <a:chExt cx="4216320" cy="703440"/>
          </a:xfrm>
        </p:grpSpPr>
        <p:sp>
          <p:nvSpPr>
            <p:cNvPr id="223" name="矩形 29"/>
            <p:cNvSpPr/>
            <p:nvPr/>
          </p:nvSpPr>
          <p:spPr>
            <a:xfrm>
              <a:off x="514800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LINK 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矩形 30"/>
            <p:cNvSpPr/>
            <p:nvPr/>
          </p:nvSpPr>
          <p:spPr>
            <a:xfrm>
              <a:off x="246384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LINK 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2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8" dur="2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dur="indefinite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820" dur="200" fill="hold"/>
                                        <p:tgtEl>
                                          <p:spTgt spid="20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21" dur="indefinite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822" dur="100" fill="hold"/>
                                        <p:tgtEl>
                                          <p:spTgt spid="204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823" dur="indefinite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dur="indefinite" nodeType="withEffect" fill="hold" presetClass="emph" presetID="8">
                                  <p:stCondLst>
                                    <p:cond delay="1400"/>
                                  </p:stCondLst>
                                  <p:childTnLst>
                                    <p:animRot by="2700000">
                                      <p:cBhvr>
                                        <p:cTn id="826" dur="1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7" dur="indefinite" nodeType="withEffect" fill="hold" presetClass="emph" presetID="8">
                                  <p:stCondLst>
                                    <p:cond delay="1700"/>
                                  </p:stCondLst>
                                  <p:childTnLst>
                                    <p:animRot by="2700000">
                                      <p:cBhvr>
                                        <p:cTn id="828" dur="1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9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700000">
                                      <p:cBhvr>
                                        <p:cTn id="830" dur="1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1" dur="indefinite" nodeType="withEffect" fill="hold" presetClass="emph" presetID="8">
                                  <p:stCondLst>
                                    <p:cond delay="2300"/>
                                  </p:stCondLst>
                                  <p:childTnLst>
                                    <p:animRot by="2700000">
                                      <p:cBhvr>
                                        <p:cTn id="832" dur="1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3" dur="indefinite" nodeType="withEffect" fill="hold" presetClass="emph" presetID="8">
                                  <p:stCondLst>
                                    <p:cond delay="2600"/>
                                  </p:stCondLst>
                                  <p:childTnLst>
                                    <p:animRot by="2700000">
                                      <p:cBhvr>
                                        <p:cTn id="834" dur="1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5" dur="indefinite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dur="indefinite" nodeType="withEffect" fill="hold" presetClass="emph" presetID="8">
                                  <p:stCondLst>
                                    <p:cond delay="1700"/>
                                  </p:stCondLst>
                                  <p:childTnLst>
                                    <p:animRot by="2700000">
                                      <p:cBhvr>
                                        <p:cTn id="838" dur="1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9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700000">
                                      <p:cBhvr>
                                        <p:cTn id="840" dur="1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1" dur="indefinite" nodeType="withEffect" fill="hold" presetClass="emph" presetID="8">
                                  <p:stCondLst>
                                    <p:cond delay="2300"/>
                                  </p:stCondLst>
                                  <p:childTnLst>
                                    <p:animRot by="2700000">
                                      <p:cBhvr>
                                        <p:cTn id="842" dur="1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3" dur="indefinite" nodeType="withEffect" fill="hold" presetClass="emph" presetID="8">
                                  <p:stCondLst>
                                    <p:cond delay="2600"/>
                                  </p:stCondLst>
                                  <p:childTnLst>
                                    <p:animRot by="2700000">
                                      <p:cBhvr>
                                        <p:cTn id="844" dur="1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5" dur="indefinite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700000">
                                      <p:cBhvr>
                                        <p:cTn id="848" dur="1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9" dur="indefinite" nodeType="withEffect" fill="hold" presetClass="emph" presetID="8">
                                  <p:stCondLst>
                                    <p:cond delay="2300"/>
                                  </p:stCondLst>
                                  <p:childTnLst>
                                    <p:animRot by="2700000">
                                      <p:cBhvr>
                                        <p:cTn id="850" dur="1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1" dur="indefinite" nodeType="withEffect" fill="hold" presetClass="emph" presetID="8">
                                  <p:stCondLst>
                                    <p:cond delay="2600"/>
                                  </p:stCondLst>
                                  <p:childTnLst>
                                    <p:animRot by="2700000">
                                      <p:cBhvr>
                                        <p:cTn id="852" dur="1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3" dur="indefinite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dur="indefinite" nodeType="withEffect" fill="hold" presetClass="emph" presetID="8">
                                  <p:stCondLst>
                                    <p:cond delay="2300"/>
                                  </p:stCondLst>
                                  <p:childTnLst>
                                    <p:animRot by="2700000">
                                      <p:cBhvr>
                                        <p:cTn id="856" dur="1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7" dur="indefinite" nodeType="withEffect" fill="hold" presetClass="emph" presetID="8">
                                  <p:stCondLst>
                                    <p:cond delay="2600"/>
                                  </p:stCondLst>
                                  <p:childTnLst>
                                    <p:animRot by="2700000">
                                      <p:cBhvr>
                                        <p:cTn id="858" dur="1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9" dur="indefinite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dur="indefinite" nodeType="withEffect" fill="hold" presetClass="emph" presetID="8">
                                  <p:stCondLst>
                                    <p:cond delay="2600"/>
                                  </p:stCondLst>
                                  <p:childTnLst>
                                    <p:animRot by="2700000">
                                      <p:cBhvr>
                                        <p:cTn id="862" dur="1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3" dur="indefinite" nodeType="withEffect" fill="hold" presetClass="entr" presetID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dur="indefinite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43200000">
                                      <p:cBhvr>
                                        <p:cTn id="866" dur="4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7" dur="indefinite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43200000">
                                      <p:cBhvr>
                                        <p:cTn id="868" dur="4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9" dur="indefinite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43200000">
                                      <p:cBhvr>
                                        <p:cTn id="870" dur="4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1" dur="indefinite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43200000">
                                      <p:cBhvr>
                                        <p:cTn id="872" dur="4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3" dur="indefinite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43200000">
                                      <p:cBhvr>
                                        <p:cTn id="874" dur="4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5" dur="indefinite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43200000">
                                      <p:cBhvr>
                                        <p:cTn id="876" dur="4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7" dur="indefinite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43200000">
                                      <p:cBhvr>
                                        <p:cTn id="878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9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0" dur="4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4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2" dur="4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5" dur="4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4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7" dur="4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0" dur="4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4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2" dur="4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5" dur="4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4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7" dur="4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0" dur="4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4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2" dur="4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5" dur="4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4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7" dur="4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0" dur="4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4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2" dur="4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09:58:00Z</dcterms:created>
  <dc:creator/>
  <dc:description/>
  <cp:keywords>幻灯片之家 http:/www.eeppt.com</cp:keywords>
  <dc:language>en-US</dc:language>
  <cp:lastModifiedBy/>
  <dcterms:modified xsi:type="dcterms:W3CDTF">2015-07-13T13:21:16Z</dcterms:modified>
  <cp:revision>15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