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0EDE6-F3DA-46B7-BDB2-E2DF1811F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A826-25E9-42B2-8792-4CB81F313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1E9C-0650-420B-B109-04A97E751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D20F-764E-430D-ACB7-5ADF2C9B1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899D9-7BF8-44CA-A563-0C8005C7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D4175-7FA9-4C62-AB67-FF5FC09F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81AF2-2B9E-4DC3-887C-02178C1C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26848-A6CC-441B-B939-B23EAEBB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5A02F-23C7-4236-AE8B-312CE4E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95280" y="71424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FB310-0970-4DEF-8C1A-2E2101B8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5161C-44B2-46AF-991B-BA68EED5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7B41-3628-4141-AEB6-E5A9932BF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936D3-C18D-4220-BBFC-CA20C99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8E4AE-EBF7-49D0-81B5-228DD7A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00959-63B8-4EE1-B832-99F9A411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A4A7D-D028-47CD-86F2-42D00A16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408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06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408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06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AFDCF-13C4-494A-B1B7-CF59C4AA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160F-0815-47C6-88FC-CCAB1B74C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54F5-EA16-4FFB-97AD-351BB2EF0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6BA5-256C-4F22-9DB4-C7C5F7FF0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714240"/>
            <a:ext cx="73152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EEF0-236D-4B2C-ADEF-44DA44B7C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BB6B-CB21-4FF0-BDB5-2E2901DD3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536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609C-1CEB-4E9B-9D92-48BD222AA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536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8FFB-CBAD-4A5C-913E-660FEE6A6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152280" y="609480"/>
          <a:ext cx="883944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09480"/>
                    <a:ext cx="8839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3"/>
          <p:cNvGraphicFramePr/>
          <p:nvPr/>
        </p:nvGraphicFramePr>
        <p:xfrm>
          <a:off x="8001000" y="6019920"/>
          <a:ext cx="685800" cy="54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6019920"/>
                    <a:ext cx="685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b8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fb5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AutoShape 6"/>
          <p:cNvSpPr/>
          <p:nvPr/>
        </p:nvSpPr>
        <p:spPr>
          <a:xfrm>
            <a:off x="152280" y="228600"/>
            <a:ext cx="8839440" cy="6324480"/>
          </a:xfrm>
          <a:prstGeom prst="roundRect">
            <a:avLst>
              <a:gd name="adj" fmla="val 4569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22860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3200400" y="6553080"/>
            <a:ext cx="2895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7FF0-0BE1-45F9-BFEB-53920379009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38"/>
          <p:cNvPicPr/>
          <p:nvPr/>
        </p:nvPicPr>
        <p:blipFill>
          <a:blip r:embed="rId2"/>
          <a:srcRect l="0" t="1578" r="0" b="0"/>
          <a:stretch/>
        </p:blipFill>
        <p:spPr>
          <a:xfrm>
            <a:off x="-4680" y="0"/>
            <a:ext cx="4265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8"/>
          <p:cNvSpPr/>
          <p:nvPr/>
        </p:nvSpPr>
        <p:spPr>
          <a:xfrm>
            <a:off x="152280" y="228600"/>
            <a:ext cx="8839440" cy="6324480"/>
          </a:xfrm>
          <a:prstGeom prst="roundRect">
            <a:avLst>
              <a:gd name="adj" fmla="val 4569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5b8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fb56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2282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3"/>
          </p:nvPr>
        </p:nvSpPr>
        <p:spPr>
          <a:xfrm>
            <a:off x="3200040" y="655272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4"/>
          </p:nvPr>
        </p:nvSpPr>
        <p:spPr>
          <a:xfrm>
            <a:off x="67813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30311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D968-5B38-4128-A871-30BFAFB41DFE}" type="slidenum">
              <a:rPr b="0" lang="zh-CN" sz="1000" spc="-1" strike="noStrike">
                <a:solidFill>
                  <a:srgbClr val="30311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400" y="2895120"/>
            <a:ext cx="42609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b564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55640" y="378936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391520" y="380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0311d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51280" y="5086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997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311d"/>
                </a:solidFill>
                <a:latin typeface="Arial"/>
              </a:rPr>
              <a:t>动态</a:t>
            </a:r>
            <a:r>
              <a:rPr b="0" lang="en-US" sz="3600" spc="-1" strike="noStrike">
                <a:solidFill>
                  <a:srgbClr val="30311d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30311d"/>
                </a:solidFill>
                <a:latin typeface="Arial"/>
              </a:rPr>
              <a:t>模板保护环境</a:t>
            </a:r>
            <a:endParaRPr b="0" lang="en-US" sz="3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714240"/>
            <a:ext cx="66596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66920" y="2133720"/>
            <a:ext cx="4724280" cy="685800"/>
            <a:chOff x="2266920" y="2133720"/>
            <a:chExt cx="4724280" cy="685800"/>
          </a:xfrm>
        </p:grpSpPr>
        <p:sp>
          <p:nvSpPr>
            <p:cNvPr id="96" name="AutoShape 4"/>
            <p:cNvSpPr/>
            <p:nvPr/>
          </p:nvSpPr>
          <p:spPr>
            <a:xfrm>
              <a:off x="264780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5a2e9"/>
                </a:gs>
                <a:gs pos="50000">
                  <a:srgbClr val="cdebfa"/>
                </a:gs>
                <a:gs pos="100000">
                  <a:srgbClr val="15a2e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7" name="AutoShape 5"/>
            <p:cNvSpPr/>
            <p:nvPr/>
          </p:nvSpPr>
          <p:spPr>
            <a:xfrm>
              <a:off x="2266920" y="2133720"/>
              <a:ext cx="685800" cy="685800"/>
            </a:xfrm>
            <a:prstGeom prst="diamond">
              <a:avLst/>
            </a:prstGeom>
            <a:solidFill>
              <a:srgbClr val="15a2e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287640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2416320" y="2232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66920" y="2971800"/>
            <a:ext cx="4724280" cy="685800"/>
            <a:chOff x="2266920" y="2971800"/>
            <a:chExt cx="4724280" cy="685800"/>
          </a:xfrm>
        </p:grpSpPr>
        <p:sp>
          <p:nvSpPr>
            <p:cNvPr id="101" name="AutoShape 9"/>
            <p:cNvSpPr/>
            <p:nvPr/>
          </p:nvSpPr>
          <p:spPr>
            <a:xfrm>
              <a:off x="264780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fb564"/>
                </a:gs>
                <a:gs pos="50000">
                  <a:srgbClr val="d6efde"/>
                </a:gs>
                <a:gs pos="100000">
                  <a:srgbClr val="3fb564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2" name="AutoShape 10"/>
            <p:cNvSpPr/>
            <p:nvPr/>
          </p:nvSpPr>
          <p:spPr>
            <a:xfrm>
              <a:off x="2266920" y="2971800"/>
              <a:ext cx="685800" cy="685800"/>
            </a:xfrm>
            <a:prstGeom prst="diamond">
              <a:avLst/>
            </a:prstGeom>
            <a:solidFill>
              <a:srgbClr val="3fb56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3" name="Text Box 11"/>
            <p:cNvSpPr/>
            <p:nvPr/>
          </p:nvSpPr>
          <p:spPr>
            <a:xfrm>
              <a:off x="287640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2416320" y="3070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66920" y="3809880"/>
            <a:ext cx="4724280" cy="685800"/>
            <a:chOff x="2266920" y="3809880"/>
            <a:chExt cx="4724280" cy="685800"/>
          </a:xfrm>
        </p:grpSpPr>
        <p:sp>
          <p:nvSpPr>
            <p:cNvPr id="106" name="AutoShape 14"/>
            <p:cNvSpPr/>
            <p:nvPr/>
          </p:nvSpPr>
          <p:spPr>
            <a:xfrm>
              <a:off x="2647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b821"/>
                </a:gs>
                <a:gs pos="50000">
                  <a:srgbClr val="fdf0d0"/>
                </a:gs>
                <a:gs pos="100000">
                  <a:srgbClr val="f5b821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7" name="AutoShape 15"/>
            <p:cNvSpPr/>
            <p:nvPr/>
          </p:nvSpPr>
          <p:spPr>
            <a:xfrm>
              <a:off x="2266920" y="3809880"/>
              <a:ext cx="685800" cy="685800"/>
            </a:xfrm>
            <a:prstGeom prst="diamond">
              <a:avLst/>
            </a:prstGeom>
            <a:solidFill>
              <a:srgbClr val="f5b821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287640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2416320" y="3908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266920" y="4724280"/>
            <a:ext cx="4724280" cy="685800"/>
            <a:chOff x="2266920" y="4724280"/>
            <a:chExt cx="4724280" cy="685800"/>
          </a:xfrm>
        </p:grpSpPr>
        <p:sp>
          <p:nvSpPr>
            <p:cNvPr id="111" name="AutoShape 19"/>
            <p:cNvSpPr/>
            <p:nvPr/>
          </p:nvSpPr>
          <p:spPr>
            <a:xfrm>
              <a:off x="264780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1a18b"/>
                </a:gs>
                <a:gs pos="50000">
                  <a:srgbClr val="ebebe6"/>
                </a:gs>
                <a:gs pos="100000">
                  <a:srgbClr val="a1a18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2" name="AutoShape 20"/>
            <p:cNvSpPr/>
            <p:nvPr/>
          </p:nvSpPr>
          <p:spPr>
            <a:xfrm>
              <a:off x="2266920" y="4724280"/>
              <a:ext cx="685800" cy="685800"/>
            </a:xfrm>
            <a:prstGeom prst="diamond">
              <a:avLst/>
            </a:prstGeom>
            <a:solidFill>
              <a:srgbClr val="a1a1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287640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0311d"/>
                  </a:solidFill>
                  <a:latin typeface="Arial"/>
                  <a:ea typeface="黑体"/>
                </a:rPr>
                <a:t>请添加标题</a:t>
              </a: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14" name="Text Box 22"/>
            <p:cNvSpPr/>
            <p:nvPr/>
          </p:nvSpPr>
          <p:spPr>
            <a:xfrm>
              <a:off x="2416320" y="4822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5b82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30311d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5b82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5b82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ED9B-B608-4AD5-9391-89EF5DF3C9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714240"/>
            <a:ext cx="73152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图示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_1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873000" y="3763800"/>
            <a:ext cx="2006640" cy="481320"/>
          </a:xfrm>
          <a:prstGeom prst="pie">
            <a:avLst/>
          </a:prstGeom>
          <a:solidFill>
            <a:srgbClr val="15a2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398600" y="385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861840" y="4441680"/>
            <a:ext cx="201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3621240" y="3762360"/>
            <a:ext cx="2001600" cy="480960"/>
          </a:xfrm>
          <a:prstGeom prst="pie">
            <a:avLst/>
          </a:prstGeom>
          <a:solidFill>
            <a:srgbClr val="3fb5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141800" y="385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605040" y="4441680"/>
            <a:ext cx="201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>
            <a:off x="6319800" y="3762360"/>
            <a:ext cx="2008080" cy="482760"/>
          </a:xfrm>
          <a:prstGeom prst="pie">
            <a:avLst/>
          </a:prstGeom>
          <a:solidFill>
            <a:srgbClr val="f5b8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846840" y="385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6310440" y="4441680"/>
            <a:ext cx="20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  <a:p>
            <a:pPr algn="ct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请添加</a:t>
            </a: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422520" y="1881360"/>
            <a:ext cx="2382840" cy="537840"/>
            <a:chOff x="3422520" y="1881360"/>
            <a:chExt cx="2382840" cy="537840"/>
          </a:xfrm>
        </p:grpSpPr>
        <p:sp>
          <p:nvSpPr>
            <p:cNvPr id="133" name="AutoShape 16"/>
            <p:cNvSpPr/>
            <p:nvPr/>
          </p:nvSpPr>
          <p:spPr>
            <a:xfrm>
              <a:off x="3422520" y="1881360"/>
              <a:ext cx="2382840" cy="53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4" name="AutoShape 17"/>
            <p:cNvSpPr/>
            <p:nvPr/>
          </p:nvSpPr>
          <p:spPr>
            <a:xfrm>
              <a:off x="3450960" y="1911240"/>
              <a:ext cx="2325960" cy="48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6cb"/>
                </a:gs>
                <a:gs pos="50000">
                  <a:srgbClr val="3fb564">
                    <a:alpha val="90196"/>
                  </a:srgbClr>
                </a:gs>
                <a:gs pos="100000">
                  <a:srgbClr val="bee6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5" name="Rectangle 18"/>
          <p:cNvSpPr/>
          <p:nvPr/>
        </p:nvSpPr>
        <p:spPr>
          <a:xfrm>
            <a:off x="4191840" y="19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49880" y="1881360"/>
            <a:ext cx="2384280" cy="537840"/>
            <a:chOff x="6149880" y="1881360"/>
            <a:chExt cx="2384280" cy="537840"/>
          </a:xfrm>
        </p:grpSpPr>
        <p:sp>
          <p:nvSpPr>
            <p:cNvPr id="137" name="AutoShape 20"/>
            <p:cNvSpPr/>
            <p:nvPr/>
          </p:nvSpPr>
          <p:spPr>
            <a:xfrm>
              <a:off x="6149880" y="1881360"/>
              <a:ext cx="2384280" cy="53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38" name="AutoShape 21"/>
            <p:cNvSpPr/>
            <p:nvPr/>
          </p:nvSpPr>
          <p:spPr>
            <a:xfrm>
              <a:off x="6180120" y="1911240"/>
              <a:ext cx="2324160" cy="48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ce7b4"/>
                </a:gs>
                <a:gs pos="50000">
                  <a:srgbClr val="f5b821">
                    <a:alpha val="90196"/>
                  </a:srgbClr>
                </a:gs>
                <a:gs pos="100000">
                  <a:srgbClr val="fce7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39" name="Rectangle 22"/>
          <p:cNvSpPr/>
          <p:nvPr/>
        </p:nvSpPr>
        <p:spPr>
          <a:xfrm>
            <a:off x="6922440" y="19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30080" y="1881360"/>
            <a:ext cx="2384280" cy="537840"/>
            <a:chOff x="730080" y="1881360"/>
            <a:chExt cx="2384280" cy="537840"/>
          </a:xfrm>
        </p:grpSpPr>
        <p:sp>
          <p:nvSpPr>
            <p:cNvPr id="141" name="AutoShape 24"/>
            <p:cNvSpPr/>
            <p:nvPr/>
          </p:nvSpPr>
          <p:spPr>
            <a:xfrm>
              <a:off x="730080" y="1881360"/>
              <a:ext cx="2384280" cy="53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83a54"/>
                </a:gs>
                <a:gs pos="50000">
                  <a:srgbClr val="15a2e9"/>
                </a:gs>
                <a:gs pos="100000">
                  <a:srgbClr val="083a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142" name="AutoShape 25"/>
            <p:cNvSpPr/>
            <p:nvPr/>
          </p:nvSpPr>
          <p:spPr>
            <a:xfrm>
              <a:off x="760320" y="1911240"/>
              <a:ext cx="2324160" cy="48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0e0f8"/>
                </a:gs>
                <a:gs pos="50000">
                  <a:srgbClr val="15a2e9">
                    <a:alpha val="90196"/>
                  </a:srgbClr>
                </a:gs>
                <a:gs pos="100000">
                  <a:srgbClr val="b0e0f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143" name="Rectangle 26"/>
          <p:cNvSpPr/>
          <p:nvPr/>
        </p:nvSpPr>
        <p:spPr>
          <a:xfrm>
            <a:off x="1502640" y="1951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请添加标题</a:t>
            </a: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4" name="AutoShape 27"/>
          <p:cNvSpPr/>
          <p:nvPr/>
        </p:nvSpPr>
        <p:spPr>
          <a:xfrm flipV="1">
            <a:off x="915840" y="2565360"/>
            <a:ext cx="1981440" cy="116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5a2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5" name="AutoShape 28"/>
          <p:cNvSpPr/>
          <p:nvPr/>
        </p:nvSpPr>
        <p:spPr>
          <a:xfrm flipV="1">
            <a:off x="3583080" y="2565360"/>
            <a:ext cx="1981080" cy="116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fb56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46" name="AutoShape 29"/>
          <p:cNvSpPr/>
          <p:nvPr/>
        </p:nvSpPr>
        <p:spPr>
          <a:xfrm flipV="1">
            <a:off x="6326280" y="2565360"/>
            <a:ext cx="1981080" cy="116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5b82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43400" y="2895120"/>
            <a:ext cx="4038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0311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0311d"/>
                </a:solidFill>
                <a:latin typeface="Verdana"/>
                <a:ea typeface="华文行楷"/>
              </a:rPr>
              <a:t>感谢您的关注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355640" y="378936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30311d"/>
                </a:solidFill>
                <a:latin typeface="华文行楷"/>
                <a:ea typeface="华文行楷"/>
              </a:rPr>
              <a:t>署名</a:t>
            </a:r>
            <a:r>
              <a:rPr b="0" i="1" lang="zh-CN" sz="1600" spc="-1" strike="noStrike">
                <a:solidFill>
                  <a:srgbClr val="30311d"/>
                </a:solidFill>
                <a:latin typeface="华文行楷"/>
                <a:ea typeface="华文行楷"/>
              </a:rPr>
              <a:t>-</a:t>
            </a:r>
            <a:r>
              <a:rPr b="0" i="1" lang="zh-CN" sz="1600" spc="-1" strike="noStrike">
                <a:solidFill>
                  <a:srgbClr val="30311d"/>
                </a:solidFill>
                <a:latin typeface="华文行楷"/>
                <a:ea typeface="华文行楷"/>
              </a:rPr>
              <a:t>公司</a:t>
            </a:r>
            <a:endParaRPr b="1" lang="en-US" sz="1600" spc="-1" strike="noStrike">
              <a:solidFill>
                <a:srgbClr val="30311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6:49:45Z</dcterms:created>
  <dc:creator/>
  <dc:description/>
  <cp:keywords>幻灯片之家 http:/www.eeppt.com</cp:keywords>
  <dc:language>en-US</dc:language>
  <cp:lastModifiedBy/>
  <dcterms:modified xsi:type="dcterms:W3CDTF">2015-07-07T08:34:27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