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hyperlink" Target="http://www.eeppt.com/moban/zhongguofeng/" TargetMode="External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0.png"/><Relationship Id="rId7" Type="http://schemas.openxmlformats.org/officeDocument/2006/relationships/image" Target="../media/image23.png"/><Relationship Id="rId8" Type="http://schemas.openxmlformats.org/officeDocument/2006/relationships/hyperlink" Target="http://www.eeppt.com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"/>
          <p:cNvPicPr/>
          <p:nvPr/>
        </p:nvPicPr>
        <p:blipFill>
          <a:blip r:embed="rId1"/>
          <a:stretch/>
        </p:blipFill>
        <p:spPr>
          <a:xfrm>
            <a:off x="3564000" y="1166760"/>
            <a:ext cx="1577880" cy="887400"/>
          </a:xfrm>
          <a:prstGeom prst="rect">
            <a:avLst/>
          </a:prstGeom>
          <a:ln w="0">
            <a:noFill/>
          </a:ln>
        </p:spPr>
      </p:pic>
      <p:sp>
        <p:nvSpPr>
          <p:cNvPr id="39" name="Oval 2101"/>
          <p:cNvSpPr/>
          <p:nvPr/>
        </p:nvSpPr>
        <p:spPr>
          <a:xfrm>
            <a:off x="2627280" y="5732640"/>
            <a:ext cx="345600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val 2102"/>
          <p:cNvSpPr/>
          <p:nvPr/>
        </p:nvSpPr>
        <p:spPr>
          <a:xfrm>
            <a:off x="2050920" y="5661000"/>
            <a:ext cx="4680000" cy="1001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val 2103"/>
          <p:cNvSpPr/>
          <p:nvPr/>
        </p:nvSpPr>
        <p:spPr>
          <a:xfrm>
            <a:off x="1619280" y="5661000"/>
            <a:ext cx="5545080" cy="107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3276720" y="404640"/>
            <a:ext cx="2950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4" descr=""/>
          <p:cNvPicPr/>
          <p:nvPr/>
        </p:nvPicPr>
        <p:blipFill>
          <a:blip r:embed="rId3"/>
          <a:stretch/>
        </p:blipFill>
        <p:spPr>
          <a:xfrm>
            <a:off x="-54000" y="5197320"/>
            <a:ext cx="1252440" cy="20005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5" descr=""/>
          <p:cNvPicPr/>
          <p:nvPr/>
        </p:nvPicPr>
        <p:blipFill>
          <a:blip r:embed="rId4"/>
          <a:stretch/>
        </p:blipFill>
        <p:spPr>
          <a:xfrm rot="946200">
            <a:off x="1445760" y="5881680"/>
            <a:ext cx="1209600" cy="903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6" descr=""/>
          <p:cNvPicPr/>
          <p:nvPr/>
        </p:nvPicPr>
        <p:blipFill>
          <a:blip r:embed="rId5"/>
          <a:stretch/>
        </p:blipFill>
        <p:spPr>
          <a:xfrm>
            <a:off x="2724120" y="5626080"/>
            <a:ext cx="730440" cy="392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1" descr=""/>
          <p:cNvPicPr/>
          <p:nvPr/>
        </p:nvPicPr>
        <p:blipFill>
          <a:blip r:embed="rId6"/>
          <a:stretch/>
        </p:blipFill>
        <p:spPr>
          <a:xfrm>
            <a:off x="2878200" y="3983040"/>
            <a:ext cx="2182680" cy="349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7"/>
          <a:stretch/>
        </p:blipFill>
        <p:spPr>
          <a:xfrm>
            <a:off x="-1811160" y="200160"/>
            <a:ext cx="1096920" cy="1103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8"/>
          <a:stretch/>
        </p:blipFill>
        <p:spPr>
          <a:xfrm>
            <a:off x="-1803240" y="276120"/>
            <a:ext cx="1015920" cy="101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9"/>
          <a:stretch/>
        </p:blipFill>
        <p:spPr>
          <a:xfrm>
            <a:off x="-1660680" y="320760"/>
            <a:ext cx="863640" cy="85860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0" y="-15840"/>
            <a:ext cx="9144000" cy="6873840"/>
          </a:xfrm>
          <a:prstGeom prst="rect">
            <a:avLst/>
          </a:prstGeom>
          <a:blipFill rotWithShape="0">
            <a:blip r:embed="rId10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动态中国风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模板</a:t>
            </a:r>
            <a:r>
              <a:rPr b="0" lang="en-US" sz="1800" spc="-1" strike="noStrike">
                <a:solidFill>
                  <a:srgbClr val="ffffff"/>
                </a:solidFill>
                <a:latin typeface="宋体"/>
              </a:rPr>
              <a:t>.pp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"/>
          <p:cNvSpPr/>
          <p:nvPr/>
        </p:nvSpPr>
        <p:spPr>
          <a:xfrm>
            <a:off x="730080" y="1054080"/>
            <a:ext cx="782352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0" descr=""/>
          <p:cNvPicPr/>
          <p:nvPr/>
        </p:nvPicPr>
        <p:blipFill>
          <a:blip r:embed="rId11"/>
          <a:stretch/>
        </p:blipFill>
        <p:spPr>
          <a:xfrm>
            <a:off x="2546280" y="2060640"/>
            <a:ext cx="7074000" cy="64152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2" descr=""/>
          <p:cNvPicPr/>
          <p:nvPr/>
        </p:nvPicPr>
        <p:blipFill>
          <a:blip r:embed="rId12"/>
          <a:stretch/>
        </p:blipFill>
        <p:spPr>
          <a:xfrm>
            <a:off x="-351000" y="2782800"/>
            <a:ext cx="2975040" cy="4672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30080" y="21477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440" y="938160"/>
            <a:ext cx="50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动态中国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0324 C 0.00486 -0.0037 -0.00226 -0.00671 -0.00226 -0.00787 C -0.00226 -0.00903 0.00052 -0.00926 0.00191 -0.00972 C 0.00139 -0.00833 0.00122 -0.00671 0.00052 -0.00509 C -0.00017 -0.0037 -0.0026 -0.00278 -0.00226 -0.00139 C -0.00191 -0.00023 0.00052 -2.22221999999995E-006 0.00191 0.0007 C 0.00365 -0.00301 0.00191 -0.00185 0.00608 -0.00324 Z">
                                      <p:cBhvr>
                                        <p:cTn id="11" dur="75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173 -0.00903 C -0.00139 -0.00879 -0.00052 -0.00926 0.00191 -0.00949 C 0.00226 -0.00903 0.0007 -0.00555 0.00104 -0.00555 C 0.0033 -0.00393 0.00486 -0.00393 0.00521 -0.00347 C 0.00556 -0.00278 0.0033 -0.00254 0.00278 -0.00185 C 0.00226 -0.00116 0.00278 0.00023 0.00191 0.00047 C 0.00104 0.0007 -0.00208 -0.00069 -0.00208 -0.00162 L 0.00104 -0.00555 C 0.00139 -0.00648 0.00018 -0.00578 -0.00035 -0.00625 C -0.00087 -0.00694 -0.00156 -0.00856 -0.00191 -0.00903 E">
                                      <p:cBhvr>
                                        <p:cTn id="13" dur="75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1150"/>
                                  </p:stCondLst>
                                  <p:childTnLst>
                                    <p:animMotion origin="layout" path="M 0.00607 -0.00323 L 0.00607 0.64956 E">
                                      <p:cBhvr>
                                        <p:cTn id="15" dur="12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50"/>
                            </p:stCondLst>
                            <p:childTnLst>
                              <p:par>
                                <p:cTn id="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1000" fill="hold"/>
                                        <p:tgtEl>
                                          <p:spTgt spid="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1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4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4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5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046 C 0.0809 -0.04531 0.16128 -0.09063 0.22916 -0.09202 C 0.29653 -0.09271 0.35121 -0.10844 0.4059 -0.00578 C 0.46059 0.09688 0.52587 0.41388 0.55746 0.52416 E">
                                      <p:cBhvr>
                                        <p:cTn id="7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700000">
                                      <p:cBhvr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046 C 0.0809 -0.04531 0.16128 -0.09063 0.22916 -0.09202 C 0.29653 -0.09271 0.35121 -0.10844 0.4059 -0.00578 C 0.46059 0.09688 0.52587 0.41388 0.55746 0.52416 E">
                                      <p:cBhvr>
                                        <p:cTn id="7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700000">
                                      <p:cBhvr>
                                        <p:cTn id="7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78" dur="100" fill="hold"/>
                                        <p:tgtEl>
                                          <p:spTgt spid="4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0162 C 0.08107 -0.04606 0.16128 -0.09096 0.22916 -0.09234 C 0.29652 -0.09304 0.35121 -0.10854 0.4059 -0.00672 C 0.46059 0.09511 0.52586 0.41009 0.55746 0.51955 E">
                                      <p:cBhvr>
                                        <p:cTn id="80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2700000">
                                      <p:cBhvr>
                                        <p:cTn id="8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84" dur="100" fill="hold"/>
                                        <p:tgtEl>
                                          <p:spTgt spid="4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N:\人文学院PPT\模版\书法水墨画卷图片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矩形 8"/>
          <p:cNvSpPr/>
          <p:nvPr/>
        </p:nvSpPr>
        <p:spPr>
          <a:xfrm>
            <a:off x="0" y="-15840"/>
            <a:ext cx="9144000" cy="687384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3"/>
          <a:stretch/>
        </p:blipFill>
        <p:spPr>
          <a:xfrm rot="946200">
            <a:off x="7087680" y="5808600"/>
            <a:ext cx="1209960" cy="9018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"/>
          <p:cNvPicPr/>
          <p:nvPr/>
        </p:nvPicPr>
        <p:blipFill>
          <a:blip r:embed="rId4"/>
          <a:stretch/>
        </p:blipFill>
        <p:spPr>
          <a:xfrm>
            <a:off x="8244000" y="5626080"/>
            <a:ext cx="731880" cy="3920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5"/>
          <a:stretch/>
        </p:blipFill>
        <p:spPr>
          <a:xfrm>
            <a:off x="-30240" y="0"/>
            <a:ext cx="1612800" cy="8499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"/>
          <p:cNvPicPr/>
          <p:nvPr/>
        </p:nvPicPr>
        <p:blipFill>
          <a:blip r:embed="rId6"/>
          <a:stretch/>
        </p:blipFill>
        <p:spPr>
          <a:xfrm>
            <a:off x="-673200" y="4738680"/>
            <a:ext cx="3351240" cy="30402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2" descr=""/>
          <p:cNvPicPr/>
          <p:nvPr/>
        </p:nvPicPr>
        <p:blipFill>
          <a:blip r:embed="rId7"/>
          <a:stretch/>
        </p:blipFill>
        <p:spPr>
          <a:xfrm>
            <a:off x="5373720" y="34920"/>
            <a:ext cx="3914640" cy="23749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3" descr=""/>
          <p:cNvPicPr/>
          <p:nvPr/>
        </p:nvPicPr>
        <p:blipFill>
          <a:blip r:embed="rId8"/>
          <a:stretch/>
        </p:blipFill>
        <p:spPr>
          <a:xfrm rot="946200">
            <a:off x="7087680" y="5808600"/>
            <a:ext cx="1209960" cy="9018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4" descr=""/>
          <p:cNvPicPr/>
          <p:nvPr/>
        </p:nvPicPr>
        <p:blipFill>
          <a:blip r:embed="rId9"/>
          <a:stretch/>
        </p:blipFill>
        <p:spPr>
          <a:xfrm>
            <a:off x="8244000" y="5626080"/>
            <a:ext cx="731880" cy="3920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0" descr=""/>
          <p:cNvPicPr/>
          <p:nvPr/>
        </p:nvPicPr>
        <p:blipFill>
          <a:blip r:embed="rId10"/>
          <a:stretch/>
        </p:blipFill>
        <p:spPr>
          <a:xfrm>
            <a:off x="8529480" y="-2184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1" descr=""/>
          <p:cNvPicPr/>
          <p:nvPr/>
        </p:nvPicPr>
        <p:blipFill>
          <a:blip r:embed="rId11"/>
          <a:stretch/>
        </p:blipFill>
        <p:spPr>
          <a:xfrm>
            <a:off x="3635280" y="-1319040"/>
            <a:ext cx="720720" cy="7189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5" descr=""/>
          <p:cNvPicPr/>
          <p:nvPr/>
        </p:nvPicPr>
        <p:blipFill>
          <a:blip r:embed="rId12"/>
          <a:stretch/>
        </p:blipFill>
        <p:spPr>
          <a:xfrm>
            <a:off x="3060720" y="-139212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6" descr=""/>
          <p:cNvPicPr/>
          <p:nvPr/>
        </p:nvPicPr>
        <p:blipFill>
          <a:blip r:embed="rId13"/>
          <a:stretch/>
        </p:blipFill>
        <p:spPr>
          <a:xfrm>
            <a:off x="-2106720" y="-93204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7" descr=""/>
          <p:cNvPicPr/>
          <p:nvPr/>
        </p:nvPicPr>
        <p:blipFill>
          <a:blip r:embed="rId14"/>
          <a:stretch/>
        </p:blipFill>
        <p:spPr>
          <a:xfrm>
            <a:off x="5940360" y="-22557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01" descr="C:\Users\Soloman\Desktop\未标题-3.png"/>
          <p:cNvPicPr/>
          <p:nvPr/>
        </p:nvPicPr>
        <p:blipFill>
          <a:blip r:embed="rId15"/>
          <a:stretch/>
        </p:blipFill>
        <p:spPr>
          <a:xfrm rot="9190200">
            <a:off x="2076480" y="2295000"/>
            <a:ext cx="1023840" cy="1022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01" descr="C:\Users\Soloman\Desktop\未标题-3.png"/>
          <p:cNvPicPr/>
          <p:nvPr/>
        </p:nvPicPr>
        <p:blipFill>
          <a:blip r:embed="rId16"/>
          <a:stretch/>
        </p:blipFill>
        <p:spPr>
          <a:xfrm rot="9190200">
            <a:off x="2023560" y="3304800"/>
            <a:ext cx="1024200" cy="1022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01" descr="C:\Users\Soloman\Desktop\未标题-3.png"/>
          <p:cNvPicPr/>
          <p:nvPr/>
        </p:nvPicPr>
        <p:blipFill>
          <a:blip r:embed="rId17"/>
          <a:stretch/>
        </p:blipFill>
        <p:spPr>
          <a:xfrm rot="9190200">
            <a:off x="2023560" y="4419360"/>
            <a:ext cx="1024200" cy="102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01" descr="C:\Users\Soloman\Desktop\未标题-3.png"/>
          <p:cNvPicPr/>
          <p:nvPr/>
        </p:nvPicPr>
        <p:blipFill>
          <a:blip r:embed="rId18"/>
          <a:stretch/>
        </p:blipFill>
        <p:spPr>
          <a:xfrm rot="9190200">
            <a:off x="2042640" y="1417320"/>
            <a:ext cx="1024200" cy="1022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path" presetID="49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22222E-006 -4.81481E-006 L -0.41701 0.60903 E">
                                      <p:cBhvr>
                                        <p:cTn id="90" dur="25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2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"/>
                            </p:stCondLst>
                            <p:childTnLst>
                              <p:par>
                                <p:cTn id="95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L -0.07865 0.76643 E">
                                      <p:cBhvr>
                                        <p:cTn id="96" dur="25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8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"/>
                            </p:stCondLst>
                            <p:childTnLst>
                              <p:par>
                                <p:cTn id="101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L 0.18107 0.86158 E">
                                      <p:cBhvr>
                                        <p:cTn id="102" dur="25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50"/>
                            </p:stCondLst>
                            <p:childTnLst>
                              <p:par>
                                <p:cTn id="107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45841E-006 L 0.8724 0.97065 E">
                                      <p:cBhvr>
                                        <p:cTn id="108" dur="2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300"/>
                            </p:stCondLst>
                            <p:childTnLst>
                              <p:par>
                                <p:cTn id="113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0906E-007 L 0.18906 1.10028 E">
                                      <p:cBhvr>
                                        <p:cTn id="114" dur="25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N:\人文学院PPT\模版\书法水墨画卷图片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8"/>
          <p:cNvSpPr/>
          <p:nvPr/>
        </p:nvSpPr>
        <p:spPr>
          <a:xfrm>
            <a:off x="0" y="-15840"/>
            <a:ext cx="9144000" cy="687384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-41400" y="81000"/>
            <a:ext cx="8275680" cy="13510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2" descr=""/>
          <p:cNvPicPr/>
          <p:nvPr/>
        </p:nvPicPr>
        <p:blipFill>
          <a:blip r:embed="rId4"/>
          <a:stretch/>
        </p:blipFill>
        <p:spPr>
          <a:xfrm rot="14724600">
            <a:off x="7996320" y="5663520"/>
            <a:ext cx="1135080" cy="11350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"/>
          <p:cNvPicPr/>
          <p:nvPr/>
        </p:nvPicPr>
        <p:blipFill>
          <a:blip r:embed="rId5"/>
          <a:stretch/>
        </p:blipFill>
        <p:spPr>
          <a:xfrm>
            <a:off x="7207200" y="-795240"/>
            <a:ext cx="2416320" cy="22082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9" descr=""/>
          <p:cNvPicPr/>
          <p:nvPr/>
        </p:nvPicPr>
        <p:blipFill>
          <a:blip r:embed="rId6"/>
          <a:stretch/>
        </p:blipFill>
        <p:spPr>
          <a:xfrm>
            <a:off x="6043680" y="4075200"/>
            <a:ext cx="3298680" cy="278280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0" descr=""/>
          <p:cNvPicPr/>
          <p:nvPr/>
        </p:nvPicPr>
        <p:blipFill>
          <a:blip r:embed="rId7"/>
          <a:stretch/>
        </p:blipFill>
        <p:spPr>
          <a:xfrm>
            <a:off x="-19080" y="5665680"/>
            <a:ext cx="5499000" cy="1192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N:\人文学院PPT\模版\书法水墨画卷图片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8"/>
          <p:cNvSpPr/>
          <p:nvPr/>
        </p:nvSpPr>
        <p:spPr>
          <a:xfrm>
            <a:off x="0" y="-15840"/>
            <a:ext cx="9144000" cy="687384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H:\人文学院PPT\模版\4.png"/>
          <p:cNvPicPr/>
          <p:nvPr/>
        </p:nvPicPr>
        <p:blipFill>
          <a:blip r:embed="rId3"/>
          <a:stretch/>
        </p:blipFill>
        <p:spPr>
          <a:xfrm>
            <a:off x="5938920" y="-311040"/>
            <a:ext cx="3197160" cy="1903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7" descr=""/>
          <p:cNvPicPr/>
          <p:nvPr/>
        </p:nvPicPr>
        <p:blipFill>
          <a:blip r:embed="rId4"/>
          <a:stretch/>
        </p:blipFill>
        <p:spPr>
          <a:xfrm>
            <a:off x="-19080" y="5665680"/>
            <a:ext cx="5499000" cy="119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60560" y="363708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9"/>
          <p:cNvSpPr/>
          <p:nvPr/>
        </p:nvSpPr>
        <p:spPr>
          <a:xfrm>
            <a:off x="295200" y="650232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N:\人文学院PPT\模版\书法水墨画卷图片副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" descr="7.png"/>
          <p:cNvPicPr/>
          <p:nvPr/>
        </p:nvPicPr>
        <p:blipFill>
          <a:blip r:embed="rId3"/>
          <a:stretch/>
        </p:blipFill>
        <p:spPr>
          <a:xfrm>
            <a:off x="5373720" y="34920"/>
            <a:ext cx="3914640" cy="23749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5"/>
          <a:stretch/>
        </p:blipFill>
        <p:spPr>
          <a:xfrm>
            <a:off x="730080" y="2409840"/>
            <a:ext cx="8096400" cy="16668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"/>
          <p:cNvPicPr/>
          <p:nvPr/>
        </p:nvPicPr>
        <p:blipFill>
          <a:blip r:embed="rId6"/>
          <a:stretch/>
        </p:blipFill>
        <p:spPr>
          <a:xfrm rot="14724600">
            <a:off x="7996320" y="5663520"/>
            <a:ext cx="1135080" cy="1135080"/>
          </a:xfrm>
          <a:prstGeom prst="rect">
            <a:avLst/>
          </a:prstGeom>
          <a:ln w="0">
            <a:noFill/>
          </a:ln>
        </p:spPr>
      </p:pic>
      <p:pic>
        <p:nvPicPr>
          <p:cNvPr id="97" name="图片 2" descr=""/>
          <p:cNvPicPr/>
          <p:nvPr/>
        </p:nvPicPr>
        <p:blipFill>
          <a:blip r:embed="rId7"/>
          <a:stretch/>
        </p:blipFill>
        <p:spPr>
          <a:xfrm>
            <a:off x="-19080" y="5665680"/>
            <a:ext cx="5499000" cy="1192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63086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8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9T14:29:12Z</dcterms:created>
  <dc:creator/>
  <dc:description/>
  <cp:keywords>幻灯片之家 http:/www.eeppt.com</cp:keywords>
  <dc:language>en-US</dc:language>
  <cp:lastModifiedBy/>
  <dcterms:modified xsi:type="dcterms:W3CDTF">2015-07-13T13:15:51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