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97B-9CDF-45B9-B805-642365E9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4AE-42B2-4FE1-9A3B-C7FABB2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CA2-7011-4CA3-89CA-0A3DC3D9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5C9-0D35-4BF6-974C-57A838B4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964-CA4B-48DD-801B-7690540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A2B-8D4A-4C47-B253-F04A227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945-8A18-428B-AA64-BD39E09B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32F-587E-40BC-A925-6431FCB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A9E-7BBF-4C94-BD7A-5F86B6C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6FD-5EE2-4837-BC2F-DC7C097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F91-DDA0-468C-9815-B6EC8C6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558-52B7-4671-9B47-1E25DA0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E5F-8083-45D7-B5E8-C79003BB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9.png"/><Relationship Id="rId12" Type="http://schemas.openxmlformats.org/officeDocument/2006/relationships/image" Target="../media/image1.png"/><Relationship Id="rId13" Type="http://schemas.openxmlformats.org/officeDocument/2006/relationships/image" Target="../media/image14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nefrenzy.files.wordpress.com/2010/04/ibook-shel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2192120"/>
          </a:xfrm>
          <a:prstGeom prst="rect">
            <a:avLst/>
          </a:prstGeom>
          <a:ln w="0">
            <a:noFill/>
          </a:ln>
        </p:spPr>
      </p:pic>
      <p:sp>
        <p:nvSpPr>
          <p:cNvPr id="42" name="矩形 21"/>
          <p:cNvSpPr/>
          <p:nvPr/>
        </p:nvSpPr>
        <p:spPr>
          <a:xfrm>
            <a:off x="38160" y="-55440"/>
            <a:ext cx="91472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翻书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5600" y="1079640"/>
            <a:ext cx="1172880" cy="811080"/>
            <a:chOff x="525600" y="1079640"/>
            <a:chExt cx="1172880" cy="811080"/>
          </a:xfrm>
        </p:grpSpPr>
        <p:grpSp>
          <p:nvGrpSpPr>
            <p:cNvPr id="44" name=""/>
            <p:cNvGrpSpPr/>
            <p:nvPr/>
          </p:nvGrpSpPr>
          <p:grpSpPr>
            <a:xfrm>
              <a:off x="525600" y="1079640"/>
              <a:ext cx="1172880" cy="811080"/>
              <a:chOff x="525600" y="1079640"/>
              <a:chExt cx="1172880" cy="811080"/>
            </a:xfrm>
          </p:grpSpPr>
          <p:sp>
            <p:nvSpPr>
              <p:cNvPr id="45" name="Rectangle 14"/>
              <p:cNvSpPr/>
              <p:nvPr/>
            </p:nvSpPr>
            <p:spPr>
              <a:xfrm>
                <a:off x="698760" y="1079640"/>
                <a:ext cx="343080" cy="77328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4"/>
              <p:cNvSpPr/>
              <p:nvPr/>
            </p:nvSpPr>
            <p:spPr>
              <a:xfrm flipH="1">
                <a:off x="1040400" y="1079640"/>
                <a:ext cx="658080" cy="77328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" name="Picture 17" descr=""/>
              <p:cNvPicPr/>
              <p:nvPr/>
            </p:nvPicPr>
            <p:blipFill>
              <a:blip r:embed="rId2"/>
              <a:srcRect l="90975" t="0" r="0" b="0"/>
              <a:stretch/>
            </p:blipFill>
            <p:spPr>
              <a:xfrm flipH="1">
                <a:off x="525600" y="1079640"/>
                <a:ext cx="9360" cy="81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矩形 8"/>
            <p:cNvSpPr/>
            <p:nvPr/>
          </p:nvSpPr>
          <p:spPr>
            <a:xfrm>
              <a:off x="534960" y="1079640"/>
              <a:ext cx="235800" cy="77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03280" y="1039680"/>
            <a:ext cx="1192320" cy="178128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498600" y="1039680"/>
            <a:ext cx="1191960" cy="17812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onefrenzy.files.wordpress.com/2010/04/ibook-shelf.png"/>
          <p:cNvPicPr/>
          <p:nvPr/>
        </p:nvPicPr>
        <p:blipFill>
          <a:blip r:embed="rId4"/>
          <a:srcRect l="0" t="0" r="0" b="98114"/>
          <a:stretch/>
        </p:blipFill>
        <p:spPr>
          <a:xfrm>
            <a:off x="0" y="0"/>
            <a:ext cx="9144000" cy="23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440" y="6545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" dur="600" fill="hold"/>
                                        <p:tgtEl>
                                          <p:spTgt spid="43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4.81481E-006 L 0.44809 0.31643 E">
                                      <p:cBhvr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</p:cBhvr>
                                      <p:to x="380000" y="38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48148E-006 L -0.06806 0.22593 E">
                                      <p:cBhvr>
                                        <p:cTn id="21" dur="7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7" presetSubtype="8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530360" y="0"/>
            <a:ext cx="304164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flipH="1">
            <a:off x="4556160" y="0"/>
            <a:ext cx="583416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http://www.neurosoftware.ro/programming-blog/wp-content/plugins/wp-o-matic/cache/9fdf0_00-iBooks-logo-1.png"/>
          <p:cNvPicPr/>
          <p:nvPr/>
        </p:nvPicPr>
        <p:blipFill>
          <a:blip r:embed="rId1"/>
          <a:stretch/>
        </p:blipFill>
        <p:spPr>
          <a:xfrm>
            <a:off x="6138720" y="1341360"/>
            <a:ext cx="1676520" cy="33530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556160" y="3629160"/>
            <a:ext cx="3657600" cy="1482480"/>
            <a:chOff x="4556160" y="3629160"/>
            <a:chExt cx="3657600" cy="1482480"/>
          </a:xfrm>
        </p:grpSpPr>
        <p:pic>
          <p:nvPicPr>
            <p:cNvPr id="57" name="矩形 26" descr=""/>
            <p:cNvPicPr/>
            <p:nvPr/>
          </p:nvPicPr>
          <p:blipFill>
            <a:blip r:embed="rId2"/>
            <a:stretch/>
          </p:blipFill>
          <p:spPr>
            <a:xfrm>
              <a:off x="4556160" y="3629160"/>
              <a:ext cx="3657600" cy="7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矩形 27" descr=""/>
            <p:cNvPicPr/>
            <p:nvPr/>
          </p:nvPicPr>
          <p:blipFill>
            <a:blip r:embed="rId3"/>
            <a:stretch/>
          </p:blipFill>
          <p:spPr>
            <a:xfrm>
              <a:off x="5647320" y="4248720"/>
              <a:ext cx="2127600" cy="86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925440" y="2927520"/>
            <a:ext cx="15308280" cy="16506360"/>
            <a:chOff x="3925440" y="2927520"/>
            <a:chExt cx="15308280" cy="16506360"/>
          </a:xfrm>
        </p:grpSpPr>
        <p:sp>
          <p:nvSpPr>
            <p:cNvPr id="60" name="Rectangle 12"/>
            <p:cNvSpPr/>
            <p:nvPr/>
          </p:nvSpPr>
          <p:spPr>
            <a:xfrm rot="3600000">
              <a:off x="5611680" y="12786480"/>
              <a:ext cx="4302000" cy="63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rot="3600000">
              <a:off x="10737360" y="3902040"/>
              <a:ext cx="6789600" cy="78609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-3147480" y="5828040"/>
            <a:ext cx="19078560" cy="14479560"/>
            <a:chOff x="-3147480" y="5828040"/>
            <a:chExt cx="19078560" cy="14479560"/>
          </a:xfrm>
        </p:grpSpPr>
        <p:sp>
          <p:nvSpPr>
            <p:cNvPr id="63" name="Rectangle 14"/>
            <p:cNvSpPr/>
            <p:nvPr/>
          </p:nvSpPr>
          <p:spPr>
            <a:xfrm flipH="1" rot="1800000">
              <a:off x="6461280" y="6825600"/>
              <a:ext cx="7069320" cy="1149300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 flipH="1" rot="1800000">
              <a:off x="-1512000" y="12002040"/>
              <a:ext cx="4401000" cy="77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9200" y="3629160"/>
            <a:ext cx="4008600" cy="1425600"/>
            <a:chOff x="79200" y="3629160"/>
            <a:chExt cx="4008600" cy="1425600"/>
          </a:xfrm>
        </p:grpSpPr>
        <p:pic>
          <p:nvPicPr>
            <p:cNvPr id="66" name="矩形 43" descr=""/>
            <p:cNvPicPr/>
            <p:nvPr/>
          </p:nvPicPr>
          <p:blipFill>
            <a:blip r:embed="rId4"/>
            <a:stretch/>
          </p:blipFill>
          <p:spPr>
            <a:xfrm>
              <a:off x="492480" y="4291200"/>
              <a:ext cx="359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矩形 44" descr=""/>
            <p:cNvPicPr/>
            <p:nvPr/>
          </p:nvPicPr>
          <p:blipFill>
            <a:blip r:embed="rId5"/>
            <a:stretch/>
          </p:blipFill>
          <p:spPr>
            <a:xfrm>
              <a:off x="79200" y="3629160"/>
              <a:ext cx="3542400" cy="65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7" descr=""/>
          <p:cNvPicPr/>
          <p:nvPr/>
        </p:nvPicPr>
        <p:blipFill>
          <a:blip r:embed="rId6"/>
          <a:srcRect l="95306" t="0" r="0" b="0"/>
          <a:stretch/>
        </p:blipFill>
        <p:spPr>
          <a:xfrm>
            <a:off x="9031320" y="-17640"/>
            <a:ext cx="127080" cy="7189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7"/>
          <a:srcRect l="0" t="0" r="90598" b="0"/>
          <a:stretch/>
        </p:blipFill>
        <p:spPr>
          <a:xfrm>
            <a:off x="-4680" y="-14400"/>
            <a:ext cx="83880" cy="719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"/>
          <p:cNvPicPr/>
          <p:nvPr/>
        </p:nvPicPr>
        <p:blipFill>
          <a:blip r:embed="rId8"/>
          <a:stretch/>
        </p:blipFill>
        <p:spPr>
          <a:xfrm>
            <a:off x="5877000" y="1311120"/>
            <a:ext cx="1816200" cy="34196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560840" y="3629160"/>
            <a:ext cx="4008600" cy="1425600"/>
            <a:chOff x="4560840" y="3629160"/>
            <a:chExt cx="4008600" cy="1425600"/>
          </a:xfrm>
        </p:grpSpPr>
        <p:pic>
          <p:nvPicPr>
            <p:cNvPr id="72" name="矩形 37" descr=""/>
            <p:cNvPicPr/>
            <p:nvPr/>
          </p:nvPicPr>
          <p:blipFill>
            <a:blip r:embed="rId9"/>
            <a:stretch/>
          </p:blipFill>
          <p:spPr>
            <a:xfrm>
              <a:off x="4974120" y="4291200"/>
              <a:ext cx="359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38" descr=""/>
            <p:cNvPicPr/>
            <p:nvPr/>
          </p:nvPicPr>
          <p:blipFill>
            <a:blip r:embed="rId10"/>
            <a:stretch/>
          </p:blipFill>
          <p:spPr>
            <a:xfrm>
              <a:off x="4560840" y="3629160"/>
              <a:ext cx="3542400" cy="65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5463000" y="4111560"/>
            <a:ext cx="11049120" cy="13829760"/>
            <a:chOff x="5463000" y="4111560"/>
            <a:chExt cx="11049120" cy="13829760"/>
          </a:xfrm>
        </p:grpSpPr>
        <p:sp>
          <p:nvSpPr>
            <p:cNvPr id="75" name="Rectangle 11"/>
            <p:cNvSpPr/>
            <p:nvPr/>
          </p:nvSpPr>
          <p:spPr>
            <a:xfrm rot="3600000">
              <a:off x="10523160" y="4379400"/>
              <a:ext cx="4301640" cy="637920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 rot="3600000">
              <a:off x="7149600" y="11294280"/>
              <a:ext cx="4301640" cy="63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-2368800" y="6745680"/>
            <a:ext cx="15347160" cy="13346640"/>
            <a:chOff x="-2368800" y="6745680"/>
            <a:chExt cx="15347160" cy="13346640"/>
          </a:xfrm>
        </p:grpSpPr>
        <p:sp>
          <p:nvSpPr>
            <p:cNvPr id="78" name="Rectangle 14"/>
            <p:cNvSpPr/>
            <p:nvPr/>
          </p:nvSpPr>
          <p:spPr>
            <a:xfrm flipH="1" rot="1800000">
              <a:off x="6941160" y="7328520"/>
              <a:ext cx="4401000" cy="772308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 flipH="1" rot="1800000">
              <a:off x="-732600" y="11785320"/>
              <a:ext cx="4401000" cy="77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7" descr=""/>
          <p:cNvPicPr/>
          <p:nvPr/>
        </p:nvPicPr>
        <p:blipFill>
          <a:blip r:embed="rId11"/>
          <a:srcRect l="90599" t="0" r="0" b="0"/>
          <a:stretch/>
        </p:blipFill>
        <p:spPr>
          <a:xfrm>
            <a:off x="8953560" y="-22320"/>
            <a:ext cx="190440" cy="719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fonefrenzy.files.wordpress.com/2010/04/ibook-shelf.png"/>
          <p:cNvPicPr/>
          <p:nvPr/>
        </p:nvPicPr>
        <p:blipFill>
          <a:blip r:embed="rId12"/>
          <a:srcRect l="0" t="0" r="0" b="98114"/>
          <a:stretch/>
        </p:blipFill>
        <p:spPr>
          <a:xfrm>
            <a:off x="0" y="0"/>
            <a:ext cx="9144000" cy="230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9"/>
          <p:cNvSpPr/>
          <p:nvPr/>
        </p:nvSpPr>
        <p:spPr>
          <a:xfrm>
            <a:off x="7283520" y="6318360"/>
            <a:ext cx="170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3"/>
          <a:stretch/>
        </p:blipFill>
        <p:spPr>
          <a:xfrm>
            <a:off x="1511280" y="1341360"/>
            <a:ext cx="1708200" cy="3346560"/>
          </a:xfrm>
          <a:prstGeom prst="rect">
            <a:avLst/>
          </a:prstGeom>
          <a:ln w="0">
            <a:noFill/>
          </a:ln>
        </p:spPr>
      </p:pic>
      <p:sp>
        <p:nvSpPr>
          <p:cNvPr id="84" name="矩形 40"/>
          <p:cNvSpPr/>
          <p:nvPr/>
        </p:nvSpPr>
        <p:spPr>
          <a:xfrm>
            <a:off x="0" y="42840"/>
            <a:ext cx="9301320" cy="6880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4.44444E-006 L 0.00157 -0.85556 E">
                                      <p:cBhvr>
                                        <p:cTn id="45" dur="2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57204 -0.44491 E">
                                      <p:cBhvr>
                                        <p:cTn id="47" dur="2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204 -0.44491 L -0.75017 -0.60278 E">
                                      <p:cBhvr>
                                        <p:cTn id="50" dur="1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85556 L -0.12917 -0.85556 E">
                                      <p:cBhvr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60">
                                      <p:cBhvr>
                                        <p:cTn id="54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759">
                                      <p:cBhvr>
                                        <p:cTn id="5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28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28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4.44444E-006 L 0.00157 -0.85556 E">
                                      <p:cBhvr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57204 -0.44491 E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8C6-E32A-45C1-A098-DC160B1B5FB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8:17:19Z</dcterms:created>
  <dc:creator/>
  <dc:description/>
  <cp:keywords>幻灯片之家 http:/www.eeppt.com</cp:keywords>
  <dc:language>en-US</dc:language>
  <cp:lastModifiedBy/>
  <dcterms:modified xsi:type="dcterms:W3CDTF">2015-07-13T13:26:5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