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E8F8-4A85-44B0-8177-1E53D04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679C-B6B2-41E1-B6DF-5480669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2BD9-7559-4059-83EF-935FD43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8489-94F4-4303-B279-E8D40CA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2722-7101-43F9-9959-26658FD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A6F9C-106A-4984-A0B1-EA59905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3D52-DB5E-48AE-9B26-4C9BE05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0540-C2A6-4A2F-ACF0-983583B1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DD78-348C-487E-A05C-76D1C907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2C584-7B8D-4438-9E1A-D8288093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3D46-4562-439E-856A-8A6EB99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1CB9-4E3D-4893-9EBA-A3BA23F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7B8D-0055-4C1C-B6D8-6266A23E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67D4F-6101-4286-B0F4-25327DC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8BB0-4D2D-490C-883E-147A92A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5061-24AE-4166-883B-BA97C80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38057-8865-4273-A6DB-DE58A97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CB184-F549-4568-A2D8-A8DBF7D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A7BB-3609-424F-99ED-616FCCFE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2AEE-4A7B-4AFC-BF50-055F2CC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A3439-7691-4E9B-8AC6-52474D35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76FBE-D31F-45B3-BCAC-5158C72D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4056-2023-4B29-A37B-C7F1063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1D4FC-11B3-4287-ADE2-9346AB10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A268-1DE9-460F-A3CD-8F2B018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984FE-8A16-4F8D-9D41-254B9BD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1C6B-D2DF-4AAE-88B1-32EA0B65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A8CA3-DEEE-40DB-BC3B-779215B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7A2EC-B429-453B-BB55-B1169B2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73455-88BF-4FA1-B5F3-494BF39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AC8B6-AF02-4E33-8421-7D446D8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BF728-4EC8-46F1-B649-E56DBAC6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002D-8868-4DFA-974E-D8277D76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9C-5E9E-4AA2-9FDD-54BB941E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FC9-8479-43B7-A4FB-A5289C63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A04-A0B1-45BC-9A07-AFD7CBEC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541-4439-475B-8D20-23F6F28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1DF-5283-467C-84AC-D14DAD1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9E8-E9FD-40A6-8346-DF4E85D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53F-8DAB-42EF-9144-6B7428E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836-6E50-413F-957D-9B597C1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E86-8AFD-45EA-95DB-1853332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3D2-08CC-4E39-88EB-9B1F5095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FE9-754A-4881-85BD-D25AE675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170-5F68-474F-9EF9-EC021DC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85CC-61E5-48BF-A06D-1F8B6330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88B4-EDD3-42CE-AA77-F897C3B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8DF1-4617-4DD7-8C70-F5057D57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352-03FA-4EC4-9BD3-F7750D2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87A-45FD-48F4-954B-84FDE91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228-CBB7-4BFF-A9B4-2E67DFDC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B720-E15C-412C-A567-8BF5ABC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C75B-8B8B-4646-A015-527EFB0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0DFC-2AC5-4928-B40E-5000CAE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1F7D-4050-4270-A43B-E35B6E2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9FA5-F8A8-48C1-BA3D-AB611444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07D3-3009-4207-B3BF-13024360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962C-9FA9-4331-BC6A-A274CECA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A4C1-9935-4A3A-A33F-C383A18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7172-FB38-415A-8354-A84AAA7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FCD3-CD95-493C-9970-91B1403F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F5AD-7F61-4E2C-A637-3AAFE1D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D57B-9BF3-4C99-A82C-CD5BB4B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3D2A-6DB3-4874-B9C1-4C35297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5F6E-CF22-4AA0-BD45-BBCB13F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B31C-1CF5-4813-8146-66907D7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FA28-F460-47E0-89BF-A2E1B08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397F-2143-4AA3-89AD-63D20772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FABE-110C-4F42-8A94-466BA88C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1FFF-3A18-4175-BD89-CB6C68C7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0586-003F-4943-8BC0-DB88C44F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E7F1-2228-45B9-B7BE-E4386D41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0E28-33D7-434B-91FF-2A907B1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25C8-24E9-4274-B421-981F459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1153-E557-406E-A96C-D5A49E59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80FC-7058-405E-AE31-85994EB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F8F0-87FD-48D7-9ED5-D7499D1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7B7B-8C09-4AF4-9A57-1AE3923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5FD4-5218-4A84-BC8B-A70E117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90F9-6875-469D-82AB-0DB8EAFE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3092-7BEC-457C-A6F3-3C4D57FB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971D-12EB-456E-80CB-994CD714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E6B8-DD26-4442-B35E-DD76867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806C-EC58-4048-A0BB-FE48126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7594-3BAF-4AA0-8A69-051E5F3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56D6-E3DF-4CBA-8548-F8837E5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2E0C-E8C0-43F0-AB66-695A9B7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ABB3-C3BF-45FC-92C1-984A4BA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5E70-D167-478F-B5DB-7CCEB32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B963-E312-4CF1-A193-1579DD2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BF22-0CEB-4B7F-A4FC-5004584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CF4E-2131-44C8-8050-2EC063C9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1D0F-C0B7-4918-884A-7EC90E44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C5CC-DAB8-44DD-BB6B-309091F7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546E-ECCD-47ED-A399-DF71B563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4899-05DD-4671-9525-9F32F8B6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FBF0-1110-4975-82F2-6375F2E1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1CAA-0C62-4944-ABC6-A964CF4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A809-8EA2-44CA-8A78-D8046D9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6739-05BD-4566-9907-59ADE6A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70A8-4F63-497B-94F8-8AB40DC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3D966-B9C1-4A72-AAF6-B3B4882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22DA-325F-4A7D-B1D3-FF69B55F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6AD3-4C94-4332-9101-137B9504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04CC-AF1B-49CE-B497-7C103455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5937-1A70-4990-AD97-4E8F58DC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BE48-E17D-4C81-AFAE-BA0A0909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5F56-626D-4482-87AD-207D86EF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87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20E7-9832-4CED-8665-77F74ABB4E1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430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606-E12D-41BD-BE47-CE2DAE0C625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白色宽屏比例.png"/>
          <p:cNvPicPr/>
          <p:nvPr/>
        </p:nvPicPr>
        <p:blipFill>
          <a:blip r:embed="rId3"/>
          <a:srcRect l="386" t="1000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0B7-CB0F-453D-914B-62581A2E1AC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C86-4F7D-4752-A492-E225BD55618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172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0FA8-6245-4398-A021-C13B0AEA501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15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F345-EC11-4A2A-B573-C5A30064E6B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58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C51-6471-4E22-B228-DA33FD4F1E6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7B8-5D54-4C25-819F-54C3B9D2DF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44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09B-B3CF-42B4-A728-7E1C0B035D8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4" descr="封面 移到中间一点 16；9.jpg"/>
          <p:cNvPicPr/>
          <p:nvPr/>
        </p:nvPicPr>
        <p:blipFill>
          <a:blip r:embed="rId1"/>
          <a:srcRect l="1178" t="1000" r="0" b="0"/>
          <a:stretch/>
        </p:blipFill>
        <p:spPr>
          <a:xfrm>
            <a:off x="0" y="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472" name="矩形 10"/>
          <p:cNvSpPr/>
          <p:nvPr/>
        </p:nvSpPr>
        <p:spPr>
          <a:xfrm>
            <a:off x="71280" y="4321080"/>
            <a:ext cx="1548000" cy="62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5"/>
          <p:cNvSpPr/>
          <p:nvPr/>
        </p:nvSpPr>
        <p:spPr>
          <a:xfrm>
            <a:off x="0" y="3219480"/>
            <a:ext cx="7999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--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3348000" y="2500200"/>
            <a:ext cx="51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7020000" y="41562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227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11840" y="2389320"/>
            <a:ext cx="33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告公司投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7"/>
          <p:cNvSpPr/>
          <p:nvPr/>
        </p:nvSpPr>
        <p:spPr>
          <a:xfrm>
            <a:off x="1692360" y="1203480"/>
            <a:ext cx="5759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名称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周期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告形式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0" y="57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0" y="-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495680" y="2495520"/>
            <a:ext cx="152640" cy="1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7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竹节"/>
              </a:rPr>
              <a:t>远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4859280" y="1555920"/>
            <a:ext cx="3927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9120" y="6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竹节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5640" y="3508200"/>
            <a:ext cx="561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5"/>
          <p:cNvSpPr/>
          <p:nvPr/>
        </p:nvSpPr>
        <p:spPr>
          <a:xfrm>
            <a:off x="0" y="484200"/>
            <a:ext cx="9144000" cy="43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9"/>
          <p:cNvSpPr/>
          <p:nvPr/>
        </p:nvSpPr>
        <p:spPr>
          <a:xfrm>
            <a:off x="866880" y="843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58ed5"/>
                </a:solidFill>
                <a:latin typeface="微软雅黑"/>
                <a:ea typeface="微软雅黑"/>
              </a:rPr>
              <a:t>广告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9" descr="111111111111111111111.png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476360" y="1851120"/>
            <a:ext cx="2714760" cy="211428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9" descr="111111111111111111111.png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4932360" y="1851120"/>
            <a:ext cx="271476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7"/>
          <p:cNvSpPr/>
          <p:nvPr/>
        </p:nvSpPr>
        <p:spPr>
          <a:xfrm>
            <a:off x="250920" y="771480"/>
            <a:ext cx="30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微软雅黑"/>
                <a:ea typeface="微软雅黑"/>
              </a:rPr>
              <a:t>轮播频次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6"/>
          <p:cNvSpPr/>
          <p:nvPr/>
        </p:nvSpPr>
        <p:spPr>
          <a:xfrm>
            <a:off x="1692360" y="156384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谢 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176560" y="-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0" y="-87480"/>
            <a:ext cx="17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0" y="57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5:38:09Z</dcterms:created>
  <dc:creator/>
  <dc:description/>
  <cp:keywords>幻灯片之家 http:/www.eeppt.com</cp:keywords>
  <dc:language>en-US</dc:language>
  <cp:lastModifiedBy/>
  <dcterms:modified xsi:type="dcterms:W3CDTF">2015-07-06T12:01:41Z</dcterms:modified>
  <cp:revision>6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