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71A7-EFEA-4690-8EF6-A89C918A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8153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5155200"/>
            <a:ext cx="8153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EA29-A0ED-47C9-8ECA-363280DD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168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515520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1680" y="515520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A010-F34F-4D3A-99C0-1A4F305C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400" y="487656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6920" y="487656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515520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400" y="515520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6920" y="515520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9886-AB81-461D-A48D-027D9FEE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48765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397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680" y="4876560"/>
            <a:ext cx="397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5280" y="1700280"/>
            <a:ext cx="7777080" cy="36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4876560"/>
            <a:ext cx="397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515520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48765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761C-4DC6-40F0-B149-76126515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397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1680" y="515520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5155200"/>
            <a:ext cx="8153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8153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5155200"/>
            <a:ext cx="8153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168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515520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1680" y="515520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400" y="487656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6920" y="487656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515520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400" y="515520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6920" y="515520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7AE2-E5A5-43E4-AF9B-097226AE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397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1680" y="4876560"/>
            <a:ext cx="397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64BD-F2E3-487D-92B8-BEEE7A52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C489-F4B9-4221-A99A-0E425235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280" y="1700280"/>
            <a:ext cx="7777080" cy="36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C01F-D799-4C81-81C1-9FB66B51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1680" y="4876560"/>
            <a:ext cx="397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515520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1357-CA4B-4D5D-ABCB-4B91E9FA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397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168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1680" y="515520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A30A-A7DF-483F-8A65-95E85546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168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5155200"/>
            <a:ext cx="8153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15C8-CE29-411F-AA2B-A7AEA743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5840" y="289080"/>
            <a:ext cx="9159840" cy="917280"/>
          </a:xfrm>
          <a:custGeom>
            <a:avLst/>
            <a:gdLst/>
            <a:ahLst/>
            <a:rect l="l" t="t" r="r" b="b"/>
            <a:pathLst>
              <a:path w="5770" h="578">
                <a:moveTo>
                  <a:pt x="434" y="356"/>
                </a:moveTo>
                <a:lnTo>
                  <a:pt x="751" y="2"/>
                </a:lnTo>
                <a:lnTo>
                  <a:pt x="2158" y="0"/>
                </a:lnTo>
                <a:lnTo>
                  <a:pt x="2244" y="115"/>
                </a:lnTo>
                <a:lnTo>
                  <a:pt x="5770" y="115"/>
                </a:lnTo>
                <a:lnTo>
                  <a:pt x="5764" y="489"/>
                </a:lnTo>
                <a:lnTo>
                  <a:pt x="4998" y="495"/>
                </a:lnTo>
                <a:lnTo>
                  <a:pt x="4897" y="576"/>
                </a:lnTo>
                <a:lnTo>
                  <a:pt x="0" y="578"/>
                </a:lnTo>
                <a:lnTo>
                  <a:pt x="16" y="369"/>
                </a:lnTo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77353" dir="4837521" blurRad="0" rotWithShape="0">
              <a:srgbClr val="000066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322200"/>
            <a:ext cx="9153360" cy="854280"/>
          </a:xfrm>
          <a:custGeom>
            <a:avLst/>
            <a:gdLst/>
            <a:ahLst/>
            <a:rect l="l" t="t" r="r" b="b"/>
            <a:pathLst>
              <a:path w="5766" h="531">
                <a:moveTo>
                  <a:pt x="433" y="360"/>
                </a:moveTo>
                <a:lnTo>
                  <a:pt x="767" y="3"/>
                </a:lnTo>
                <a:lnTo>
                  <a:pt x="2152" y="0"/>
                </a:lnTo>
                <a:lnTo>
                  <a:pt x="2228" y="113"/>
                </a:lnTo>
                <a:lnTo>
                  <a:pt x="5766" y="113"/>
                </a:lnTo>
                <a:lnTo>
                  <a:pt x="5766" y="442"/>
                </a:lnTo>
                <a:lnTo>
                  <a:pt x="4968" y="442"/>
                </a:lnTo>
                <a:lnTo>
                  <a:pt x="4880" y="531"/>
                </a:lnTo>
                <a:lnTo>
                  <a:pt x="0" y="521"/>
                </a:lnTo>
                <a:lnTo>
                  <a:pt x="0" y="373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b1e2fb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b1e2f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e2f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e2f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e2f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5547-275E-4671-8AC4-5547EB7BEEBD}" type="slidenum">
              <a:rPr b="0" lang="en-US" sz="1400" spc="-1" strike="noStrike">
                <a:solidFill>
                  <a:srgbClr val="b1e2f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4" name=""/>
            <p:cNvSpPr/>
            <p:nvPr/>
          </p:nvSpPr>
          <p:spPr>
            <a:xfrm>
              <a:off x="-4680" y="2708280"/>
              <a:ext cx="9151920" cy="1501920"/>
            </a:xfrm>
            <a:custGeom>
              <a:avLst/>
              <a:gdLst/>
              <a:ahLst/>
              <a:rect l="l" t="t" r="r" b="b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9360" y="2747880"/>
              <a:ext cx="9183600" cy="1420920"/>
            </a:xfrm>
            <a:custGeom>
              <a:avLst/>
              <a:gdLst/>
              <a:ahLst/>
              <a:rect l="l" t="t" r="r" b="b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920" y="304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1e2fb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e2f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1e2fb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e2f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1e2fb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e2f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b1e2f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e2f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b1e2f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e2f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hyperlink" Target="http://www.eeppt.com/moban/guowai/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99840"/>
            <a:ext cx="723888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国外公司简介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3520" y="48765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http://www.eeppt.com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16360" y="30020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ba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51640" y="30020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5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2764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5ae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22764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85ae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69120" y="23511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75d89"/>
              </a:gs>
              <a:gs pos="50000">
                <a:srgbClr val="85aeff"/>
              </a:gs>
              <a:gs pos="100000">
                <a:srgbClr val="475d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236232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85aeff">
                  <a:alpha val="0"/>
                </a:srgbClr>
              </a:gs>
              <a:gs pos="100000">
                <a:srgbClr val="546e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70640" y="24447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5640" y="22035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b9b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640" y="22035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b9b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96760" y="23446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36389"/>
              </a:gs>
              <a:gs pos="50000">
                <a:srgbClr val="b9b9ff"/>
              </a:gs>
              <a:gs pos="100000">
                <a:srgbClr val="6363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98560" y="23479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b9b9ff">
                  <a:alpha val="0"/>
                </a:srgbClr>
              </a:gs>
              <a:gs pos="100000">
                <a:srgbClr val="7575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90720" y="243828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017720" y="2463840"/>
            <a:ext cx="1636560" cy="1636560"/>
            <a:chOff x="1017720" y="2463840"/>
            <a:chExt cx="1636560" cy="1636560"/>
          </a:xfrm>
        </p:grpSpPr>
        <p:sp>
          <p:nvSpPr>
            <p:cNvPr id="246" name=""/>
            <p:cNvSpPr/>
            <p:nvPr/>
          </p:nvSpPr>
          <p:spPr>
            <a:xfrm>
              <a:off x="101772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38600" y="247284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5552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4444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49236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4baaf1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9236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224e6f"/>
              </a:gs>
              <a:gs pos="100000">
                <a:srgbClr val="4baaf1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33840" y="23511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85b81"/>
              </a:gs>
              <a:gs pos="50000">
                <a:srgbClr val="4baaf1"/>
              </a:gs>
              <a:gs pos="100000">
                <a:srgbClr val="285b8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635280" y="235440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4baaf1">
                  <a:alpha val="0"/>
                </a:srgbClr>
              </a:gs>
              <a:gs pos="100000">
                <a:srgbClr val="2f6b9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27440" y="24447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754440" y="2463840"/>
            <a:ext cx="1636560" cy="1636560"/>
            <a:chOff x="3754440" y="2463840"/>
            <a:chExt cx="1636560" cy="1636560"/>
          </a:xfrm>
        </p:grpSpPr>
        <p:sp>
          <p:nvSpPr>
            <p:cNvPr id="256" name=""/>
            <p:cNvSpPr/>
            <p:nvPr/>
          </p:nvSpPr>
          <p:spPr>
            <a:xfrm>
              <a:off x="375444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75320" y="247284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9224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8116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500880" y="2463840"/>
            <a:ext cx="1636560" cy="1636560"/>
            <a:chOff x="6500880" y="2463840"/>
            <a:chExt cx="1636560" cy="1636560"/>
          </a:xfrm>
        </p:grpSpPr>
        <p:sp>
          <p:nvSpPr>
            <p:cNvPr id="261" name=""/>
            <p:cNvSpPr/>
            <p:nvPr/>
          </p:nvSpPr>
          <p:spPr>
            <a:xfrm>
              <a:off x="650088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21760" y="247284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3868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2760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80496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3844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29136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522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954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86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21337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1d969"/>
              </a:gs>
              <a:gs pos="100000">
                <a:srgbClr val="4baaf1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86400" y="35053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20876400">
            <a:off x="3382920" y="51055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14880" y="38862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35400" y="389556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352680" y="391176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44840" y="395604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732480" y="45133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20826600">
            <a:off x="1554120" y="449532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477800" y="3505320"/>
            <a:ext cx="1371240" cy="1441080"/>
            <a:chOff x="1477800" y="3505320"/>
            <a:chExt cx="1371240" cy="1441080"/>
          </a:xfrm>
        </p:grpSpPr>
        <p:sp>
          <p:nvSpPr>
            <p:cNvPr id="282" name=""/>
            <p:cNvSpPr/>
            <p:nvPr/>
          </p:nvSpPr>
          <p:spPr>
            <a:xfrm>
              <a:off x="1477800" y="35053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95800" y="351360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08760" y="352692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80400" y="356364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58240" y="40114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292400" y="273996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368360" y="213372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80960" y="2138400"/>
            <a:ext cx="100044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92120" y="214956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46120" y="2174760"/>
            <a:ext cx="847800" cy="757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65640" y="2482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697120" y="22096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16765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28880" y="1679400"/>
            <a:ext cx="66528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35360" y="1685880"/>
            <a:ext cx="633240" cy="6224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871720" y="17049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89720" y="19000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229000" cy="4402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838080" y="6248520"/>
            <a:ext cx="612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85aeff"/>
                </a:solidFill>
                <a:uFillTx/>
                <a:latin typeface="Arial"/>
                <a:hlinkClick r:id="rId3"/>
              </a:rPr>
              <a:t>外国ppt模板</a:t>
            </a:r>
            <a:r>
              <a:rPr b="0" lang="en-US" sz="1800" spc="-1" strike="noStrike">
                <a:solidFill>
                  <a:srgbClr val="b1e2fb"/>
                </a:solidFill>
                <a:latin typeface="Arial"/>
              </a:rPr>
              <a:t>http://www.eeppt.com/moban/guowai/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90720" y="240048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23840" y="240840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41480" y="44719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41480" y="24303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735200" y="2092320"/>
            <a:ext cx="642960" cy="642960"/>
            <a:chOff x="1735200" y="2092320"/>
            <a:chExt cx="642960" cy="642960"/>
          </a:xfrm>
        </p:grpSpPr>
        <p:sp>
          <p:nvSpPr>
            <p:cNvPr id="308" name=""/>
            <p:cNvSpPr/>
            <p:nvPr/>
          </p:nvSpPr>
          <p:spPr>
            <a:xfrm>
              <a:off x="1735200" y="20923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41680" y="209700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49600" y="210096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56080" y="210672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89920" y="212220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875240" y="2184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28544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715000" y="240048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48480" y="240840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65760" y="44719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65760" y="24303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459480" y="2092320"/>
            <a:ext cx="642960" cy="642960"/>
            <a:chOff x="6459480" y="2092320"/>
            <a:chExt cx="642960" cy="642960"/>
          </a:xfrm>
        </p:grpSpPr>
        <p:sp>
          <p:nvSpPr>
            <p:cNvPr id="320" name=""/>
            <p:cNvSpPr/>
            <p:nvPr/>
          </p:nvSpPr>
          <p:spPr>
            <a:xfrm>
              <a:off x="6459480" y="20923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65960" y="209700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73880" y="210096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80360" y="210672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14200" y="212220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599520" y="2184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1320" y="28544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52680" y="240048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386160" y="240840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03440" y="44719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403440" y="24303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097160" y="209232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103640" y="2097000"/>
            <a:ext cx="622440" cy="6224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111560" y="210024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118040" y="210672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152960" y="2122560"/>
            <a:ext cx="512640" cy="46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37560" y="2184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29000" y="28544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0" y="3124080"/>
            <a:ext cx="9144000" cy="152280"/>
            <a:chOff x="0" y="3124080"/>
            <a:chExt cx="9144000" cy="152280"/>
          </a:xfrm>
        </p:grpSpPr>
        <p:sp>
          <p:nvSpPr>
            <p:cNvPr id="340" name=""/>
            <p:cNvSpPr/>
            <p:nvPr/>
          </p:nvSpPr>
          <p:spPr>
            <a:xfrm>
              <a:off x="0" y="3124080"/>
              <a:ext cx="9144000" cy="42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3165120"/>
              <a:ext cx="9144000" cy="111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4906080" y="3355560"/>
            <a:ext cx="1703880" cy="2679120"/>
            <a:chOff x="4906080" y="3355560"/>
            <a:chExt cx="1703880" cy="2679120"/>
          </a:xfrm>
        </p:grpSpPr>
        <p:grpSp>
          <p:nvGrpSpPr>
            <p:cNvPr id="343" name=""/>
            <p:cNvGrpSpPr/>
            <p:nvPr/>
          </p:nvGrpSpPr>
          <p:grpSpPr>
            <a:xfrm>
              <a:off x="4906080" y="3534120"/>
              <a:ext cx="1577160" cy="2500560"/>
              <a:chOff x="4906080" y="3534120"/>
              <a:chExt cx="1577160" cy="2500560"/>
            </a:xfrm>
          </p:grpSpPr>
          <p:sp>
            <p:nvSpPr>
              <p:cNvPr id="344" name=""/>
              <p:cNvSpPr/>
              <p:nvPr/>
            </p:nvSpPr>
            <p:spPr>
              <a:xfrm rot="3876600">
                <a:off x="4442760" y="45054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3876600">
                <a:off x="5947560" y="547380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5400000" y="3355560"/>
              <a:ext cx="1209960" cy="1918800"/>
              <a:chOff x="5400000" y="3355560"/>
              <a:chExt cx="1209960" cy="1918800"/>
            </a:xfrm>
          </p:grpSpPr>
          <p:sp>
            <p:nvSpPr>
              <p:cNvPr id="347" name=""/>
              <p:cNvSpPr/>
              <p:nvPr/>
            </p:nvSpPr>
            <p:spPr>
              <a:xfrm flipV="1" rot="3876600">
                <a:off x="5044320" y="41011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 rot="3876600">
                <a:off x="6181560" y="48520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</p:grpSp>
      <p:grpSp>
        <p:nvGrpSpPr>
          <p:cNvPr id="349" name=""/>
          <p:cNvGrpSpPr/>
          <p:nvPr/>
        </p:nvGrpSpPr>
        <p:grpSpPr>
          <a:xfrm>
            <a:off x="4427640" y="2433600"/>
            <a:ext cx="1439640" cy="1440000"/>
            <a:chOff x="4427640" y="2433600"/>
            <a:chExt cx="1439640" cy="1440000"/>
          </a:xfrm>
        </p:grpSpPr>
        <p:sp>
          <p:nvSpPr>
            <p:cNvPr id="350" name=""/>
            <p:cNvSpPr/>
            <p:nvPr/>
          </p:nvSpPr>
          <p:spPr>
            <a:xfrm>
              <a:off x="4427640" y="2433600"/>
              <a:ext cx="1439640" cy="144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27640" y="2433600"/>
              <a:ext cx="143964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22680" y="2527200"/>
              <a:ext cx="124884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22680" y="2530440"/>
              <a:ext cx="124884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84600" y="2590920"/>
              <a:ext cx="112500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4601880" y="2608200"/>
              <a:ext cx="1090440" cy="1092240"/>
              <a:chOff x="4601880" y="2608200"/>
              <a:chExt cx="1090440" cy="1092240"/>
            </a:xfrm>
          </p:grpSpPr>
          <p:sp>
            <p:nvSpPr>
              <p:cNvPr id="356" name=""/>
              <p:cNvSpPr/>
              <p:nvPr/>
            </p:nvSpPr>
            <p:spPr>
              <a:xfrm>
                <a:off x="460188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615560" y="2614320"/>
                <a:ext cx="106416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62708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68612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7138080" y="3428640"/>
            <a:ext cx="1703880" cy="2679120"/>
            <a:chOff x="7138080" y="3428640"/>
            <a:chExt cx="1703880" cy="2679120"/>
          </a:xfrm>
        </p:grpSpPr>
        <p:grpSp>
          <p:nvGrpSpPr>
            <p:cNvPr id="361" name=""/>
            <p:cNvGrpSpPr/>
            <p:nvPr/>
          </p:nvGrpSpPr>
          <p:grpSpPr>
            <a:xfrm>
              <a:off x="7138080" y="3607200"/>
              <a:ext cx="1577160" cy="2500560"/>
              <a:chOff x="7138080" y="3607200"/>
              <a:chExt cx="1577160" cy="2500560"/>
            </a:xfrm>
          </p:grpSpPr>
          <p:sp>
            <p:nvSpPr>
              <p:cNvPr id="362" name=""/>
              <p:cNvSpPr/>
              <p:nvPr/>
            </p:nvSpPr>
            <p:spPr>
              <a:xfrm rot="3876600">
                <a:off x="6674760" y="4578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3876600">
                <a:off x="8179560" y="554688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7632000" y="3428640"/>
              <a:ext cx="1209960" cy="1918800"/>
              <a:chOff x="7632000" y="3428640"/>
              <a:chExt cx="1209960" cy="1918800"/>
            </a:xfrm>
          </p:grpSpPr>
          <p:sp>
            <p:nvSpPr>
              <p:cNvPr id="365" name=""/>
              <p:cNvSpPr/>
              <p:nvPr/>
            </p:nvSpPr>
            <p:spPr>
              <a:xfrm flipV="1" rot="3876600">
                <a:off x="7276320" y="41742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 rot="3876600">
                <a:off x="8413560" y="49251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</p:grpSp>
      <p:sp>
        <p:nvSpPr>
          <p:cNvPr id="367" name="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558120" y="23875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559560" y="23907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632640" y="24638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653160" y="2484360"/>
            <a:ext cx="1311480" cy="1309680"/>
            <a:chOff x="6653160" y="2484360"/>
            <a:chExt cx="1311480" cy="1309680"/>
          </a:xfrm>
        </p:grpSpPr>
        <p:sp>
          <p:nvSpPr>
            <p:cNvPr id="373" name=""/>
            <p:cNvSpPr/>
            <p:nvPr/>
          </p:nvSpPr>
          <p:spPr>
            <a:xfrm>
              <a:off x="6653160" y="24843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69720" y="2491560"/>
              <a:ext cx="127980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83400" y="25041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54680" y="25376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858760" y="3355200"/>
            <a:ext cx="1703880" cy="2679480"/>
            <a:chOff x="2858760" y="3355200"/>
            <a:chExt cx="1703880" cy="2679480"/>
          </a:xfrm>
        </p:grpSpPr>
        <p:grpSp>
          <p:nvGrpSpPr>
            <p:cNvPr id="378" name=""/>
            <p:cNvGrpSpPr/>
            <p:nvPr/>
          </p:nvGrpSpPr>
          <p:grpSpPr>
            <a:xfrm>
              <a:off x="2858760" y="3534120"/>
              <a:ext cx="1577160" cy="2500560"/>
              <a:chOff x="2858760" y="3534120"/>
              <a:chExt cx="1577160" cy="2500560"/>
            </a:xfrm>
          </p:grpSpPr>
          <p:sp>
            <p:nvSpPr>
              <p:cNvPr id="379" name=""/>
              <p:cNvSpPr/>
              <p:nvPr/>
            </p:nvSpPr>
            <p:spPr>
              <a:xfrm rot="3876600">
                <a:off x="2395440" y="45054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3876600">
                <a:off x="3900240" y="547380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3352680" y="3355200"/>
              <a:ext cx="1209960" cy="1918800"/>
              <a:chOff x="3352680" y="3355200"/>
              <a:chExt cx="1209960" cy="1918800"/>
            </a:xfrm>
          </p:grpSpPr>
          <p:sp>
            <p:nvSpPr>
              <p:cNvPr id="382" name=""/>
              <p:cNvSpPr/>
              <p:nvPr/>
            </p:nvSpPr>
            <p:spPr>
              <a:xfrm flipV="1" rot="3876600">
                <a:off x="2997000" y="410076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 rot="3876600">
                <a:off x="4134240" y="485172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"/>
          <p:cNvGrpSpPr/>
          <p:nvPr/>
        </p:nvGrpSpPr>
        <p:grpSpPr>
          <a:xfrm>
            <a:off x="2379600" y="2433600"/>
            <a:ext cx="1440000" cy="1440000"/>
            <a:chOff x="2379600" y="2433600"/>
            <a:chExt cx="1440000" cy="1440000"/>
          </a:xfrm>
        </p:grpSpPr>
        <p:sp>
          <p:nvSpPr>
            <p:cNvPr id="385" name=""/>
            <p:cNvSpPr/>
            <p:nvPr/>
          </p:nvSpPr>
          <p:spPr>
            <a:xfrm>
              <a:off x="2379600" y="24336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79600" y="24336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75000" y="25272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75000" y="253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36920" y="2590920"/>
              <a:ext cx="112536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2554200" y="2608200"/>
              <a:ext cx="1090800" cy="1092240"/>
              <a:chOff x="2554200" y="2608200"/>
              <a:chExt cx="1090800" cy="1092240"/>
            </a:xfrm>
          </p:grpSpPr>
          <p:sp>
            <p:nvSpPr>
              <p:cNvPr id="391" name=""/>
              <p:cNvSpPr/>
              <p:nvPr/>
            </p:nvSpPr>
            <p:spPr>
              <a:xfrm>
                <a:off x="2554200" y="2608200"/>
                <a:ext cx="109080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6788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79400" y="2624760"/>
                <a:ext cx="101232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638440" y="2652480"/>
                <a:ext cx="90000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"/>
          <p:cNvGrpSpPr/>
          <p:nvPr/>
        </p:nvGrpSpPr>
        <p:grpSpPr>
          <a:xfrm>
            <a:off x="875880" y="3355200"/>
            <a:ext cx="1703880" cy="2679480"/>
            <a:chOff x="875880" y="3355200"/>
            <a:chExt cx="1703880" cy="2679480"/>
          </a:xfrm>
        </p:grpSpPr>
        <p:grpSp>
          <p:nvGrpSpPr>
            <p:cNvPr id="396" name=""/>
            <p:cNvGrpSpPr/>
            <p:nvPr/>
          </p:nvGrpSpPr>
          <p:grpSpPr>
            <a:xfrm>
              <a:off x="875880" y="3534120"/>
              <a:ext cx="1577160" cy="2500560"/>
              <a:chOff x="875880" y="3534120"/>
              <a:chExt cx="1577160" cy="2500560"/>
            </a:xfrm>
          </p:grpSpPr>
          <p:sp>
            <p:nvSpPr>
              <p:cNvPr id="397" name=""/>
              <p:cNvSpPr/>
              <p:nvPr/>
            </p:nvSpPr>
            <p:spPr>
              <a:xfrm rot="3876600">
                <a:off x="412560" y="45054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3876600">
                <a:off x="1917360" y="547380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1369800" y="3355200"/>
              <a:ext cx="1209960" cy="1918800"/>
              <a:chOff x="1369800" y="3355200"/>
              <a:chExt cx="1209960" cy="1918800"/>
            </a:xfrm>
          </p:grpSpPr>
          <p:sp>
            <p:nvSpPr>
              <p:cNvPr id="400" name=""/>
              <p:cNvSpPr/>
              <p:nvPr/>
            </p:nvSpPr>
            <p:spPr>
              <a:xfrm flipV="1" rot="3876600">
                <a:off x="1014120" y="410076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 rot="3876600">
                <a:off x="2151360" y="485172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</p:grpSp>
      <p:grpSp>
        <p:nvGrpSpPr>
          <p:cNvPr id="402" name=""/>
          <p:cNvGrpSpPr/>
          <p:nvPr/>
        </p:nvGrpSpPr>
        <p:grpSpPr>
          <a:xfrm>
            <a:off x="396720" y="2433600"/>
            <a:ext cx="1440000" cy="1440000"/>
            <a:chOff x="396720" y="2433600"/>
            <a:chExt cx="1440000" cy="1440000"/>
          </a:xfrm>
        </p:grpSpPr>
        <p:sp>
          <p:nvSpPr>
            <p:cNvPr id="403" name=""/>
            <p:cNvSpPr/>
            <p:nvPr/>
          </p:nvSpPr>
          <p:spPr>
            <a:xfrm>
              <a:off x="396720" y="24336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6720" y="24336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92120" y="25272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92120" y="253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4040" y="2590920"/>
              <a:ext cx="112536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571320" y="2608200"/>
              <a:ext cx="1090800" cy="1092240"/>
              <a:chOff x="571320" y="2608200"/>
              <a:chExt cx="1090800" cy="1092240"/>
            </a:xfrm>
          </p:grpSpPr>
          <p:sp>
            <p:nvSpPr>
              <p:cNvPr id="409" name=""/>
              <p:cNvSpPr/>
              <p:nvPr/>
            </p:nvSpPr>
            <p:spPr>
              <a:xfrm>
                <a:off x="571320" y="2608200"/>
                <a:ext cx="109080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8500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6520" y="2624760"/>
                <a:ext cx="101232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55560" y="2652480"/>
                <a:ext cx="90000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</p:grpSp>
      <p:sp>
        <p:nvSpPr>
          <p:cNvPr id="413" name=""/>
          <p:cNvSpPr/>
          <p:nvPr/>
        </p:nvSpPr>
        <p:spPr>
          <a:xfrm rot="3925800">
            <a:off x="8964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3925800">
            <a:off x="14022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3925800">
            <a:off x="28728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3925800">
            <a:off x="33786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3925800">
            <a:off x="49302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3925800">
            <a:off x="54360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3925800">
            <a:off x="7144920" y="4536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3925800">
            <a:off x="7650720" y="42480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96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76840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4984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95000" y="17413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cxnSp>
        <p:nvCxnSpPr>
          <p:cNvPr id="425" name=""/>
          <p:cNvCxnSpPr>
            <a:stCxn id="421" idx="3"/>
            <a:endCxn id="422" idx="1"/>
          </p:cNvCxnSpPr>
          <p:nvPr/>
        </p:nvCxnSpPr>
        <p:spPr>
          <a:xfrm>
            <a:off x="1514160" y="1968120"/>
            <a:ext cx="122292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22" idx="3"/>
            <a:endCxn id="423" idx="1"/>
          </p:cNvCxnSpPr>
          <p:nvPr/>
        </p:nvCxnSpPr>
        <p:spPr>
          <a:xfrm>
            <a:off x="3504960" y="1968120"/>
            <a:ext cx="121356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  <p:cxnSp>
        <p:nvCxnSpPr>
          <p:cNvPr id="427" name=""/>
          <p:cNvCxnSpPr>
            <a:stCxn id="423" idx="3"/>
            <a:endCxn id="424" idx="1"/>
          </p:cNvCxnSpPr>
          <p:nvPr/>
        </p:nvCxnSpPr>
        <p:spPr>
          <a:xfrm>
            <a:off x="5486040" y="1968480"/>
            <a:ext cx="1220040" cy="216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638680" y="2743200"/>
            <a:ext cx="2819520" cy="312408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91d969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2743200"/>
            <a:ext cx="2971800" cy="31240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b9b9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14400" y="2743200"/>
            <a:ext cx="2971800" cy="31240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4baaf1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143000" y="1905120"/>
            <a:ext cx="2057400" cy="533160"/>
          </a:xfrm>
          <a:prstGeom prst="roundRect">
            <a:avLst>
              <a:gd name="adj" fmla="val 50000"/>
            </a:avLst>
          </a:prstGeom>
          <a:solidFill>
            <a:srgbClr val="4baaf1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462480" y="1905120"/>
            <a:ext cx="2057400" cy="533160"/>
          </a:xfrm>
          <a:prstGeom prst="roundRect">
            <a:avLst>
              <a:gd name="adj" fmla="val 50000"/>
            </a:avLst>
          </a:prstGeom>
          <a:solidFill>
            <a:srgbClr val="b9b9f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791320" y="1905120"/>
            <a:ext cx="20574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26430"/>
              </a:gs>
              <a:gs pos="100000">
                <a:srgbClr val="91d96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1111680" y="1858680"/>
            <a:ext cx="6436800" cy="1387800"/>
            <a:chOff x="1111680" y="1858680"/>
            <a:chExt cx="6436800" cy="1387800"/>
          </a:xfrm>
        </p:grpSpPr>
        <p:sp>
          <p:nvSpPr>
            <p:cNvPr id="441" name="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lin ang="1980000"/>
            </a:gradFill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286360" y="2255400"/>
              <a:ext cx="932040" cy="131760"/>
              <a:chOff x="2286360" y="2255400"/>
              <a:chExt cx="932040" cy="131760"/>
            </a:xfrm>
          </p:grpSpPr>
          <p:sp>
            <p:nvSpPr>
              <p:cNvPr id="443" name="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75640" y="225648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7728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01746"/>
                  </a:gs>
                  <a:gs pos="50000">
                    <a:srgbClr val="003399"/>
                  </a:gs>
                  <a:gs pos="100000">
                    <a:srgbClr val="001746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5252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01746"/>
                  </a:gs>
                  <a:gs pos="50000">
                    <a:srgbClr val="003399"/>
                  </a:gs>
                  <a:gs pos="100000">
                    <a:srgbClr val="0017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 rot="3418800">
              <a:off x="304308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91d969"/>
                </a:gs>
                <a:gs pos="100000">
                  <a:srgbClr val="426430"/>
                </a:gs>
              </a:gsLst>
              <a:lin ang="1980000"/>
            </a:gradFill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007520" y="2255400"/>
              <a:ext cx="932040" cy="131760"/>
              <a:chOff x="4007520" y="2255400"/>
              <a:chExt cx="932040" cy="131760"/>
            </a:xfrm>
          </p:grpSpPr>
          <p:sp>
            <p:nvSpPr>
              <p:cNvPr id="449" name=""/>
              <p:cNvSpPr/>
              <p:nvPr/>
            </p:nvSpPr>
            <p:spPr>
              <a:xfrm>
                <a:off x="400752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96800" y="225648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79844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01746"/>
                  </a:gs>
                  <a:gs pos="50000">
                    <a:srgbClr val="003399"/>
                  </a:gs>
                  <a:gs pos="100000">
                    <a:srgbClr val="001746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7368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01746"/>
                  </a:gs>
                  <a:gs pos="50000">
                    <a:srgbClr val="003399"/>
                  </a:gs>
                  <a:gs pos="100000">
                    <a:srgbClr val="0017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 rot="3418800">
              <a:off x="4692240" y="201780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lin ang="1980000"/>
            </a:gradFill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5728680" y="2255400"/>
              <a:ext cx="1218600" cy="131760"/>
              <a:chOff x="5728680" y="2255400"/>
              <a:chExt cx="1218600" cy="131760"/>
            </a:xfrm>
          </p:grpSpPr>
          <p:sp>
            <p:nvSpPr>
              <p:cNvPr id="455" name=""/>
              <p:cNvSpPr/>
              <p:nvPr/>
            </p:nvSpPr>
            <p:spPr>
              <a:xfrm>
                <a:off x="5728680" y="225540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84532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762600" y="225756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001746"/>
                  </a:gs>
                  <a:gs pos="50000">
                    <a:srgbClr val="003399"/>
                  </a:gs>
                  <a:gs pos="100000">
                    <a:srgbClr val="001746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861240" y="229860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001746"/>
                  </a:gs>
                  <a:gs pos="50000">
                    <a:srgbClr val="003399"/>
                  </a:gs>
                  <a:gs pos="100000">
                    <a:srgbClr val="0017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 rot="3418800">
              <a:off x="6413400" y="201780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91d969"/>
                </a:gs>
                <a:gs pos="100000">
                  <a:srgbClr val="426430"/>
                </a:gs>
              </a:gsLst>
              <a:lin ang="1980000"/>
            </a:gradFill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533520" y="1882800"/>
          <a:ext cx="7924680" cy="3597120"/>
        </p:xfrm>
        <a:graphic>
          <a:graphicData uri="http://schemas.openxmlformats.org/drawingml/2006/table">
            <a:tbl>
              <a:tblPr/>
              <a:tblGrid>
                <a:gridCol w="1787400"/>
                <a:gridCol w="1247760"/>
                <a:gridCol w="1222560"/>
                <a:gridCol w="1220760"/>
                <a:gridCol w="1224000"/>
                <a:gridCol w="1222200"/>
              </a:tblGrid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 w="5760">
                      <a:solidFill>
                        <a:srgbClr val="b1e2f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6666ff"/>
                        </a:gs>
                        <a:gs pos="100000">
                          <a:srgbClr val="2f2f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46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6666ff"/>
                        </a:gs>
                        <a:gs pos="100000">
                          <a:srgbClr val="2f2f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46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6666ff"/>
                        </a:gs>
                        <a:gs pos="100000">
                          <a:srgbClr val="2f2f75"/>
                        </a:gs>
                      </a:gsLst>
                      <a:lin ang="54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174675"/>
                        </a:gs>
                        <a:gs pos="50000">
                          <a:srgbClr val="3399ff"/>
                        </a:gs>
                        <a:gs pos="100000">
                          <a:srgbClr val="174675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002f5e"/>
                        </a:gs>
                        <a:gs pos="50000">
                          <a:srgbClr val="0066cc"/>
                        </a:gs>
                        <a:gs pos="100000">
                          <a:srgbClr val="002f5e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174675"/>
                        </a:gs>
                        <a:gs pos="50000">
                          <a:srgbClr val="3399ff"/>
                        </a:gs>
                        <a:gs pos="100000">
                          <a:srgbClr val="174675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002f5e"/>
                        </a:gs>
                        <a:gs pos="50000">
                          <a:srgbClr val="0066cc"/>
                        </a:gs>
                        <a:gs pos="100000">
                          <a:srgbClr val="002f5e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174675"/>
                        </a:gs>
                        <a:gs pos="50000">
                          <a:srgbClr val="3399ff"/>
                        </a:gs>
                        <a:gs pos="100000">
                          <a:srgbClr val="174675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</a:tr>
              <a:tr h="52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002f5e"/>
                        </a:gs>
                        <a:gs pos="50000">
                          <a:srgbClr val="0066cc"/>
                        </a:gs>
                        <a:gs pos="100000">
                          <a:srgbClr val="002f5e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69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6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6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057400" y="4495680"/>
            <a:ext cx="5562720" cy="1325520"/>
          </a:xfrm>
          <a:prstGeom prst="ellipse">
            <a:avLst/>
          </a:prstGeom>
          <a:solidFill>
            <a:srgbClr val="020a5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20601600">
            <a:off x="1308240" y="235224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20601600">
            <a:off x="1364760" y="219024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20601600">
            <a:off x="1279440" y="2176200"/>
            <a:ext cx="5701680" cy="292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rot="20602200">
            <a:off x="1257840" y="2207160"/>
            <a:ext cx="575352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20601600">
            <a:off x="1289160" y="2187360"/>
            <a:ext cx="56790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rot="20602200">
            <a:off x="1271160" y="2195280"/>
            <a:ext cx="5699880" cy="282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20601600">
            <a:off x="2825640" y="290484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141280" y="3127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046040" y="22129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722560" y="2670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148440" y="3203640"/>
            <a:ext cx="129528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20539200">
            <a:off x="1283040" y="2205000"/>
            <a:ext cx="6258240" cy="297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448160" y="3684600"/>
            <a:ext cx="175896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22560" y="3660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970080" y="4422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06496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rot="20601600">
            <a:off x="2927520" y="315756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624560" y="4079880"/>
            <a:ext cx="1282680" cy="102852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115640" y="1989000"/>
            <a:ext cx="4183560" cy="4027320"/>
            <a:chOff x="1115640" y="1989000"/>
            <a:chExt cx="4183560" cy="4027320"/>
          </a:xfrm>
        </p:grpSpPr>
        <p:sp>
          <p:nvSpPr>
            <p:cNvPr id="492" name=""/>
            <p:cNvSpPr/>
            <p:nvPr/>
          </p:nvSpPr>
          <p:spPr>
            <a:xfrm flipH="1">
              <a:off x="1115640" y="6014880"/>
              <a:ext cx="185364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1116000" y="5203800"/>
              <a:ext cx="239112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1116000" y="4362480"/>
              <a:ext cx="280872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115640" y="3533760"/>
              <a:ext cx="328644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1116000" y="2700360"/>
              <a:ext cx="376416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1116000" y="1989000"/>
              <a:ext cx="418320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53600" y="1989000"/>
              <a:ext cx="1440" cy="71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53600" y="2700360"/>
              <a:ext cx="1440" cy="841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53600" y="3541680"/>
              <a:ext cx="1440" cy="841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53600" y="4383000"/>
              <a:ext cx="1440" cy="841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53600" y="5224320"/>
              <a:ext cx="1440" cy="77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406520" y="21873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406520" y="3009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406520" y="3830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406520" y="4653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406520" y="54752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2998800" y="1989000"/>
            <a:ext cx="5078160" cy="4030920"/>
            <a:chOff x="2998800" y="1989000"/>
            <a:chExt cx="5078160" cy="4030920"/>
          </a:xfrm>
        </p:grpSpPr>
        <p:sp>
          <p:nvSpPr>
            <p:cNvPr id="509" name=""/>
            <p:cNvSpPr/>
            <p:nvPr/>
          </p:nvSpPr>
          <p:spPr>
            <a:xfrm>
              <a:off x="7181640" y="4782600"/>
              <a:ext cx="895320" cy="123552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646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404160" y="4782600"/>
              <a:ext cx="4173480" cy="52632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4040a1"/>
                </a:gs>
                <a:gs pos="100000">
                  <a:srgbClr val="66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98800" y="5306760"/>
              <a:ext cx="4606920" cy="7131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9898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713640" y="4083480"/>
              <a:ext cx="792000" cy="111888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94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78640" y="4083480"/>
              <a:ext cx="3135240" cy="39384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5a43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481920" y="4475880"/>
              <a:ext cx="3639960" cy="72612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85e5c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246000" y="3391560"/>
              <a:ext cx="692640" cy="97164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b1790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350240" y="3391560"/>
              <a:ext cx="2093040" cy="26208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734e05"/>
                </a:gs>
                <a:gs pos="100000">
                  <a:srgbClr val="f4a70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947040" y="3652560"/>
              <a:ext cx="2708280" cy="71028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f8d4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73320" y="2689560"/>
              <a:ext cx="59652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9938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830120" y="2689560"/>
              <a:ext cx="1044360" cy="12708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622481"/>
                </a:gs>
                <a:gs pos="100000">
                  <a:srgbClr val="c247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19000" y="2814840"/>
              <a:ext cx="1763640" cy="72036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dfa2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96320" y="1989000"/>
              <a:ext cx="504000" cy="71640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0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88080" y="1989000"/>
              <a:ext cx="817920" cy="71640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9dc4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36760" y="236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36760" y="31244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36760" y="39452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36760" y="47671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36760" y="55890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28800" y="1981080"/>
            <a:ext cx="762120" cy="665280"/>
            <a:chOff x="1828800" y="1981080"/>
            <a:chExt cx="762120" cy="665280"/>
          </a:xfrm>
        </p:grpSpPr>
        <p:sp>
          <p:nvSpPr>
            <p:cNvPr id="89" name=""/>
            <p:cNvSpPr/>
            <p:nvPr/>
          </p:nvSpPr>
          <p:spPr>
            <a:xfrm>
              <a:off x="1834920" y="19922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28800" y="19810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73080" y="202032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426430"/>
                </a:gs>
                <a:gs pos="50000">
                  <a:srgbClr val="91d969"/>
                </a:gs>
                <a:gs pos="100000">
                  <a:srgbClr val="426430"/>
                </a:gs>
              </a:gsLst>
              <a:lin ang="13500000"/>
            </a:gradFill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828800" y="2895480"/>
            <a:ext cx="762120" cy="665280"/>
            <a:chOff x="1828800" y="2895480"/>
            <a:chExt cx="762120" cy="665280"/>
          </a:xfrm>
        </p:grpSpPr>
        <p:sp>
          <p:nvSpPr>
            <p:cNvPr id="93" name=""/>
            <p:cNvSpPr/>
            <p:nvPr/>
          </p:nvSpPr>
          <p:spPr>
            <a:xfrm>
              <a:off x="1834920" y="2906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28800" y="28954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73080" y="293472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4baaf1"/>
                </a:gs>
                <a:gs pos="100000">
                  <a:srgbClr val="224e6f"/>
                </a:gs>
              </a:gsLst>
              <a:lin ang="13500000"/>
            </a:gradFill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438280" y="25909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2057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27520" y="207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35053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2971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27520" y="299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828800" y="3787920"/>
            <a:ext cx="762120" cy="664920"/>
            <a:chOff x="1828800" y="3787920"/>
            <a:chExt cx="762120" cy="664920"/>
          </a:xfrm>
        </p:grpSpPr>
        <p:sp>
          <p:nvSpPr>
            <p:cNvPr id="103" name=""/>
            <p:cNvSpPr/>
            <p:nvPr/>
          </p:nvSpPr>
          <p:spPr>
            <a:xfrm>
              <a:off x="1834920" y="37990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28800" y="37879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73080" y="38271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426430"/>
                </a:gs>
                <a:gs pos="50000">
                  <a:srgbClr val="91d969"/>
                </a:gs>
                <a:gs pos="100000">
                  <a:srgbClr val="426430"/>
                </a:gs>
              </a:gsLst>
              <a:lin ang="13500000"/>
            </a:gradFill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828800" y="4702320"/>
            <a:ext cx="762120" cy="664920"/>
            <a:chOff x="1828800" y="4702320"/>
            <a:chExt cx="762120" cy="664920"/>
          </a:xfrm>
        </p:grpSpPr>
        <p:sp>
          <p:nvSpPr>
            <p:cNvPr id="107" name=""/>
            <p:cNvSpPr/>
            <p:nvPr/>
          </p:nvSpPr>
          <p:spPr>
            <a:xfrm>
              <a:off x="1834920" y="4713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28800" y="47023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3080" y="47415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4baaf1"/>
                </a:gs>
                <a:gs pos="100000">
                  <a:srgbClr val="224e6f"/>
                </a:gs>
              </a:gsLst>
              <a:lin ang="13500000"/>
            </a:gradFill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438280" y="439740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86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27520" y="388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531180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4778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27520" y="480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638240" y="3914280"/>
            <a:ext cx="3886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981080" y="302904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1d969"/>
                    </a:gs>
                    <a:gs pos="100000">
                      <a:srgbClr val="4baaf1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1d969"/>
                  </a:gs>
                  <a:gs pos="100000">
                    <a:srgbClr val="4baaf1"/>
                  </a:gs>
                </a:gsLst>
                <a:lin ang="108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b1e2fb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1e2f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3548160"/>
            <a:ext cx="2057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bddd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5e3f9"/>
              </a:gs>
              <a:gs pos="100000">
                <a:srgbClr val="4baaf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126" name=""/>
            <p:cNvGrpSpPr/>
            <p:nvPr/>
          </p:nvGrpSpPr>
          <p:grpSpPr>
            <a:xfrm>
              <a:off x="3048120" y="1771560"/>
              <a:ext cx="2998440" cy="1458360"/>
              <a:chOff x="3048120" y="1771560"/>
              <a:chExt cx="2998440" cy="1458360"/>
            </a:xfrm>
          </p:grpSpPr>
          <p:sp>
            <p:nvSpPr>
              <p:cNvPr id="127" name=""/>
              <p:cNvSpPr/>
              <p:nvPr/>
            </p:nvSpPr>
            <p:spPr>
              <a:xfrm>
                <a:off x="3080880" y="18180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40547b"/>
                  </a:gs>
                  <a:gs pos="100000">
                    <a:srgbClr val="85ae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048120" y="177156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85aeff"/>
                  </a:gs>
                  <a:gs pos="100000">
                    <a:srgbClr val="c8da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3189240" y="162864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4baaf1"/>
                </a:gs>
                <a:gs pos="100000">
                  <a:srgbClr val="224e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4160" y="163656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bfe0f9"/>
                </a:gs>
                <a:gs pos="100000">
                  <a:srgbClr val="4baaf1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51160" y="164916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4baaf1">
                    <a:alpha val="48235"/>
                  </a:srgbClr>
                </a:gs>
                <a:gs pos="100000">
                  <a:srgbClr val="3b86b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82920" y="167616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4baaf1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20241600">
            <a:off x="1077480" y="25380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4baaf1"/>
              </a:gs>
              <a:gs pos="100000">
                <a:srgbClr val="edf6fc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20056200">
            <a:off x="4571640" y="24379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20056200">
            <a:off x="7467120" y="2742840"/>
            <a:ext cx="106704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20056200">
            <a:off x="2742840" y="583848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0056200">
            <a:off x="5714640" y="502884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20056200">
            <a:off x="2057040" y="3962160"/>
            <a:ext cx="1066680" cy="30456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16765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5aeff"/>
              </a:gs>
              <a:gs pos="100000">
                <a:srgbClr val="2d3b5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32004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4baaf1"/>
              </a:gs>
              <a:gs pos="100000">
                <a:srgbClr val="17354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78000" y="497376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91d969"/>
              </a:gs>
              <a:gs pos="100000">
                <a:srgbClr val="334d2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4267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d476d6"/>
              </a:gs>
              <a:gs pos="100000">
                <a:srgbClr val="59315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81680" y="19051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b9b9ff"/>
              </a:gs>
              <a:gs pos="100000">
                <a:srgbClr val="3f3f5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8000" y="3733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39640" y="21337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71480" y="2411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81560" y="4724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60600" y="54244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36622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3200" y="1963800"/>
            <a:ext cx="1793880" cy="1617480"/>
          </a:xfrm>
          <a:prstGeom prst="line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cxnSp>
        <p:nvCxnSpPr>
          <p:cNvPr id="153" name=""/>
          <p:cNvCxnSpPr/>
          <p:nvPr/>
        </p:nvCxnSpPr>
        <p:spPr>
          <a:xfrm flipH="1">
            <a:off x="456840" y="1963440"/>
            <a:ext cx="201672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534600" y="15238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4114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55575"/>
              </a:gs>
              <a:gs pos="50000">
                <a:srgbClr val="b9b9ff"/>
              </a:gs>
              <a:gs pos="100000">
                <a:srgbClr val="555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35812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55575"/>
              </a:gs>
              <a:gs pos="50000">
                <a:srgbClr val="b9b9ff"/>
              </a:gs>
              <a:gs pos="100000">
                <a:srgbClr val="555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30481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55575"/>
              </a:gs>
              <a:gs pos="50000">
                <a:srgbClr val="b9b9ff"/>
              </a:gs>
              <a:gs pos="100000">
                <a:srgbClr val="555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98680" y="3278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98680" y="3811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98680" y="4344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281952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3d5075">
                  <a:alpha val="12156"/>
                </a:srgbClr>
              </a:gs>
              <a:gs pos="100000">
                <a:srgbClr val="85a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28600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4b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251460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228600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4b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251460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89640" y="281952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85aeff"/>
              </a:gs>
              <a:gs pos="100000">
                <a:srgbClr val="3d5075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67652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224e6f"/>
              </a:gs>
              <a:gs pos="50000">
                <a:srgbClr val="4baaf1"/>
              </a:gs>
              <a:gs pos="100000">
                <a:srgbClr val="224e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24120" y="243828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85aeff"/>
              </a:gs>
              <a:gs pos="100000">
                <a:srgbClr val="b0cafe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74920" y="1909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5410080"/>
            <a:ext cx="3048120" cy="60984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d"/>
              </a:gs>
              <a:gs pos="50000">
                <a:srgbClr val="44bd41"/>
              </a:gs>
              <a:gs pos="100000">
                <a:srgbClr val="1f57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74920" y="5643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02160" y="480060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b0cafe">
                  <a:alpha val="12156"/>
                </a:srgbClr>
              </a:gs>
              <a:gs pos="100000">
                <a:srgbClr val="85a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3657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26430"/>
              </a:gs>
              <a:gs pos="50000">
                <a:srgbClr val="91d969"/>
              </a:gs>
              <a:gs pos="100000">
                <a:srgbClr val="4264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31240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26430"/>
              </a:gs>
              <a:gs pos="50000">
                <a:srgbClr val="91d969"/>
              </a:gs>
              <a:gs pos="100000">
                <a:srgbClr val="4264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2590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26430"/>
              </a:gs>
              <a:gs pos="50000">
                <a:srgbClr val="91d969"/>
              </a:gs>
              <a:gs pos="100000">
                <a:srgbClr val="4264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657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4e6f"/>
              </a:gs>
              <a:gs pos="50000">
                <a:srgbClr val="4baaf1"/>
              </a:gs>
              <a:gs pos="100000">
                <a:srgbClr val="224e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31240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4e6f"/>
              </a:gs>
              <a:gs pos="50000">
                <a:srgbClr val="4baaf1"/>
              </a:gs>
              <a:gs pos="100000">
                <a:srgbClr val="224e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2590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4e6f"/>
              </a:gs>
              <a:gs pos="50000">
                <a:srgbClr val="4baaf1"/>
              </a:gs>
              <a:gs pos="100000">
                <a:srgbClr val="224e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895480" y="2057400"/>
            <a:ext cx="3196800" cy="2841480"/>
            <a:chOff x="2895480" y="2057400"/>
            <a:chExt cx="3196800" cy="2841480"/>
          </a:xfrm>
        </p:grpSpPr>
        <p:sp>
          <p:nvSpPr>
            <p:cNvPr id="182" name=""/>
            <p:cNvSpPr/>
            <p:nvPr/>
          </p:nvSpPr>
          <p:spPr>
            <a:xfrm flipH="1" rot="16200000">
              <a:off x="2813760" y="317268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b7dcf8"/>
                </a:gs>
                <a:gs pos="100000">
                  <a:srgbClr val="4baa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rot="5400000">
              <a:off x="5682960" y="3118320"/>
              <a:ext cx="49032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b7dcf8"/>
                </a:gs>
                <a:gs pos="100000">
                  <a:srgbClr val="4baaf1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rot="10800000">
              <a:off x="4249080" y="45720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b7dcf8"/>
                </a:gs>
                <a:gs pos="100000">
                  <a:srgbClr val="4baa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22360" y="2057400"/>
              <a:ext cx="256536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68520" y="2201760"/>
              <a:ext cx="227124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02080" y="2336760"/>
              <a:ext cx="200448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5ae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2080" y="2336760"/>
              <a:ext cx="200448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34200" y="246852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475d89"/>
                </a:gs>
                <a:gs pos="50000">
                  <a:srgbClr val="85aeff"/>
                </a:gs>
                <a:gs pos="100000">
                  <a:srgbClr val="475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34200" y="246852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13120" y="31240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557440" y="5105520"/>
            <a:ext cx="38862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4e6f"/>
              </a:gs>
              <a:gs pos="50000">
                <a:srgbClr val="4baaf1"/>
              </a:gs>
              <a:gs pos="100000">
                <a:srgbClr val="224e6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73040" y="2747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73040" y="3281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73040" y="3814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92640" y="2747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992640" y="3281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992640" y="3814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761240" y="213372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71d"/>
              </a:gs>
              <a:gs pos="50000">
                <a:srgbClr val="00563f"/>
              </a:gs>
              <a:gs pos="100000">
                <a:srgbClr val="0027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21120" y="213372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43840" y="3108240"/>
            <a:ext cx="612720" cy="97488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0743"/>
              </a:gs>
              <a:gs pos="50000">
                <a:srgbClr val="4b1092"/>
              </a:gs>
              <a:gs pos="100000">
                <a:srgbClr val="2207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36960" y="3098880"/>
            <a:ext cx="3827520" cy="63504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4640" y="407196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21704"/>
              </a:gs>
              <a:gs pos="50000">
                <a:srgbClr val="90330a"/>
              </a:gs>
              <a:gs pos="100000">
                <a:srgbClr val="4217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10120" y="503856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78000" y="504360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914400" y="6013440"/>
            <a:ext cx="126360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914400" y="5038560"/>
            <a:ext cx="214632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914400" y="4076640"/>
            <a:ext cx="303048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914400" y="3116160"/>
            <a:ext cx="391464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914400" y="2139840"/>
            <a:ext cx="479736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04840" y="2133720"/>
            <a:ext cx="0" cy="10112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04840" y="3144960"/>
            <a:ext cx="0" cy="94608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04840" y="4091040"/>
            <a:ext cx="0" cy="94608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04840" y="5038560"/>
            <a:ext cx="0" cy="9464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08360" y="232236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27600" y="2760840"/>
            <a:ext cx="2948040" cy="35208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906a"/>
              </a:gs>
              <a:gs pos="100000">
                <a:srgbClr val="00684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38760" y="3733920"/>
            <a:ext cx="3211200" cy="345960"/>
          </a:xfrm>
          <a:prstGeom prst="rect">
            <a:avLst/>
          </a:prstGeom>
          <a:gradFill rotWithShape="0">
            <a:gsLst>
              <a:gs pos="0">
                <a:srgbClr val="5c2eb8"/>
              </a:gs>
              <a:gs pos="50000">
                <a:srgbClr val="8041ff"/>
              </a:gs>
              <a:gs pos="100000">
                <a:srgbClr val="5c2e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59280" y="407196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60720" y="4703760"/>
            <a:ext cx="3478320" cy="344520"/>
          </a:xfrm>
          <a:prstGeom prst="rect">
            <a:avLst/>
          </a:prstGeom>
          <a:gradFill rotWithShape="0">
            <a:gsLst>
              <a:gs pos="0">
                <a:srgbClr val="9e5139"/>
              </a:gs>
              <a:gs pos="50000">
                <a:srgbClr val="dc7150"/>
              </a:gs>
              <a:gs pos="100000">
                <a:srgbClr val="9e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76560" y="5672160"/>
            <a:ext cx="3741480" cy="34452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42280" y="25099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42280" y="34671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2280" y="446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42280" y="54039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523880"/>
            <a:ext cx="6019920" cy="4496040"/>
          </a:xfrm>
          <a:prstGeom prst="rightArrow">
            <a:avLst>
              <a:gd name="adj1" fmla="val 79306"/>
              <a:gd name="adj2" fmla="val 33163"/>
            </a:avLst>
          </a:prstGeom>
          <a:gradFill rotWithShape="0">
            <a:gsLst>
              <a:gs pos="0">
                <a:srgbClr val="b1e2fb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9b9ff"/>
              </a:gs>
              <a:gs pos="100000">
                <a:srgbClr val="55557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baaf1"/>
              </a:gs>
              <a:gs pos="100000">
                <a:srgbClr val="224e6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1d969"/>
              </a:gs>
              <a:gs pos="100000">
                <a:srgbClr val="42643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4360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/>
  <dc:description/>
  <cp:keywords>幻灯片之家 http:/www.eeppt.com</cp:keywords>
  <dc:language>en-US</dc:language>
  <cp:lastModifiedBy/>
  <dcterms:modified xsi:type="dcterms:W3CDTF">2015-07-05T02:46:24Z</dcterms:modified>
  <cp:revision>2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