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82B-D088-4A0E-99D0-4DC88E94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5791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1440" y="4237560"/>
            <a:ext cx="5791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5A5-AE78-4EB1-8620-75B874E2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144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3928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E4B-DBC6-4A8E-BACC-92834568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9480" y="403812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87520" y="403812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1440" y="423756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929480" y="423756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87520" y="423756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3FC-9045-4202-9548-E7321ABE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C6AC1-7E7E-478F-9919-B732FDC2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971440" y="403812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189AC-E2AD-4B30-B417-A55BAAF6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1B065-C540-4CF1-8F1F-929316A4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76243-556A-40B8-81CF-6E045B5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462ED-7269-43B4-9F52-8259F8B8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971800" y="2514600"/>
            <a:ext cx="541008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86062-6BE4-48A6-8E4E-F204A5F6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7144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5909D-8C81-4D5B-8509-B9CE87AF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1440" y="403812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E17-F403-4871-87A2-F479722D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928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641F7-073E-41E5-A288-EF52DEBC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971440" y="4237560"/>
            <a:ext cx="5791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B4B00-CA5C-4AEA-81F4-83C8BF43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5791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71440" y="4237560"/>
            <a:ext cx="5791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98B06-8B44-4510-ABFA-CFC39CE9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144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3928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18D2A-C6C6-4A2D-B05F-ABD71D3C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9480" y="403812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87520" y="403812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971440" y="423756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929480" y="423756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887520" y="423756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6D8F3-6488-416B-B987-EE0B850E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69F-E1E5-4D65-948E-20C4F11A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C21-8C33-4405-8BE8-F548696D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F7C-F9F4-4EF0-AA27-BC2A4324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971800" y="2514600"/>
            <a:ext cx="541008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67F-D3C5-460C-800F-C713A842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144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23A-77C7-4B2D-8235-2A332DFD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928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830-E447-40CF-9442-CAE8DF2B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1440" y="4237560"/>
            <a:ext cx="5791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3A8-152C-4010-AC57-DFD9F25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914400"/>
          </a:xfrm>
          <a:prstGeom prst="rect">
            <a:avLst/>
          </a:prstGeom>
          <a:gradFill rotWithShape="0">
            <a:gsLst>
              <a:gs pos="0">
                <a:srgbClr val="58a4f0">
                  <a:alpha val="35294"/>
                </a:srgbClr>
              </a:gs>
              <a:gs pos="100000">
                <a:srgbClr val="084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914400"/>
            <a:ext cx="8153280" cy="5943600"/>
          </a:xfrm>
          <a:prstGeom prst="rect">
            <a:avLst/>
          </a:prstGeom>
          <a:gradFill rotWithShape="0">
            <a:gsLst>
              <a:gs pos="0">
                <a:srgbClr val="052a60"/>
              </a:gs>
              <a:gs pos="100000">
                <a:srgbClr val="084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990720" cy="5943600"/>
          </a:xfrm>
          <a:prstGeom prst="rect">
            <a:avLst/>
          </a:prstGeom>
          <a:gradFill rotWithShape="0">
            <a:gsLst>
              <a:gs pos="0">
                <a:srgbClr val="58a4f0">
                  <a:alpha val="59215"/>
                </a:srgbClr>
              </a:gs>
              <a:gs pos="100000">
                <a:srgbClr val="08409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52280"/>
            <a:ext cx="8839440" cy="6477120"/>
          </a:xfrm>
          <a:prstGeom prst="roundRect">
            <a:avLst>
              <a:gd name="adj" fmla="val 16667"/>
            </a:avLst>
          </a:prstGeom>
          <a:solidFill>
            <a:srgbClr val="58a4f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8a4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D8A1-10DC-4AAC-964D-7C7670E785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a4f0"/>
            </a:gs>
            <a:gs pos="50000">
              <a:srgbClr val="084092"/>
            </a:gs>
            <a:gs pos="100000">
              <a:srgbClr val="58a4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2819520" cy="3886200"/>
          </a:xfrm>
          <a:prstGeom prst="rect">
            <a:avLst/>
          </a:prstGeom>
          <a:gradFill rotWithShape="0">
            <a:gsLst>
              <a:gs pos="0">
                <a:srgbClr val="3475cc"/>
              </a:gs>
              <a:gs pos="100000">
                <a:srgbClr val="0840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3863880"/>
            <a:ext cx="6324480" cy="3003480"/>
          </a:xfrm>
          <a:prstGeom prst="rect">
            <a:avLst/>
          </a:prstGeom>
          <a:gradFill rotWithShape="0">
            <a:gsLst>
              <a:gs pos="0">
                <a:srgbClr val="084092"/>
              </a:gs>
              <a:gs pos="100000">
                <a:srgbClr val="3475cc">
                  <a:alpha val="4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60" y="3875040"/>
            <a:ext cx="2810160" cy="2982960"/>
          </a:xfrm>
          <a:prstGeom prst="rect">
            <a:avLst/>
          </a:prstGeom>
          <a:gradFill rotWithShape="0">
            <a:gsLst>
              <a:gs pos="0">
                <a:srgbClr val="031d43"/>
              </a:gs>
              <a:gs pos="100000">
                <a:srgbClr val="084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2280"/>
            <a:ext cx="8839440" cy="6477120"/>
          </a:xfrm>
          <a:prstGeom prst="roundRect">
            <a:avLst>
              <a:gd name="adj" fmla="val 16667"/>
            </a:avLst>
          </a:prstGeom>
          <a:solidFill>
            <a:srgbClr val="58a4f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6552720" y="66290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222A-D1D7-484A-B187-24550D025A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6"/>
          </p:nvPr>
        </p:nvSpPr>
        <p:spPr>
          <a:xfrm>
            <a:off x="456840" y="66290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57200"/>
            <a:ext cx="3504960" cy="3429000"/>
          </a:xfrm>
          <a:prstGeom prst="ellipse">
            <a:avLst/>
          </a:prstGeom>
          <a:gradFill rotWithShape="0">
            <a:gsLst>
              <a:gs pos="0">
                <a:srgbClr val="80b9f2"/>
              </a:gs>
              <a:gs pos="100000">
                <a:srgbClr val="58a4f0">
                  <a:alpha val="39215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886200"/>
            <a:ext cx="1524240" cy="1600200"/>
          </a:xfrm>
          <a:prstGeom prst="ellipse">
            <a:avLst/>
          </a:prstGeom>
          <a:gradFill rotWithShape="0">
            <a:gsLst>
              <a:gs pos="0">
                <a:srgbClr val="709eda">
                  <a:alpha val="42352"/>
                </a:srgbClr>
              </a:gs>
              <a:gs pos="100000">
                <a:srgbClr val="3475cc">
                  <a:alpha val="24313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76240" y="298440"/>
            <a:ext cx="6178680" cy="6178680"/>
          </a:xfrm>
          <a:prstGeom prst="ellipse">
            <a:avLst/>
          </a:prstGeom>
          <a:gradFill rotWithShape="0">
            <a:gsLst>
              <a:gs pos="0">
                <a:srgbClr val="d5e7fa">
                  <a:alpha val="32156"/>
                </a:srgbClr>
              </a:gs>
              <a:gs pos="100000">
                <a:srgbClr val="58a4f0">
                  <a:alpha val="8235"/>
                </a:srgbClr>
              </a:gs>
            </a:gsLst>
            <a:lin ang="54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7" name="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84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4.png"/><Relationship Id="rId6" Type="http://schemas.openxmlformats.org/officeDocument/2006/relationships/image" Target="../media/image2.wmf"/><Relationship Id="rId7" Type="http://schemas.openxmlformats.org/officeDocument/2006/relationships/image" Target="../media/image5.png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a4f0"/>
            </a:gs>
            <a:gs pos="50000">
              <a:srgbClr val="084092"/>
            </a:gs>
            <a:gs pos="100000">
              <a:srgbClr val="58a4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496600"/>
            <a:ext cx="769608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国外经典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宋体"/>
              </a:rPr>
              <a:t>PP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133440" y="4191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8a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99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999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5252"/>
              </a:gs>
              <a:gs pos="50000">
                <a:srgbClr val="009999"/>
              </a:gs>
              <a:gs pos="100000">
                <a:srgbClr val="00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9999">
                  <a:alpha val="0"/>
                </a:srgbClr>
              </a:gs>
              <a:gs pos="100000">
                <a:srgbClr val="00606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92" name="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3860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8a4f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84b6e"/>
              </a:gs>
              <a:gs pos="100000">
                <a:srgbClr val="58a4f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f5881"/>
              </a:gs>
              <a:gs pos="50000">
                <a:srgbClr val="58a4f0"/>
              </a:gs>
              <a:gs pos="100000">
                <a:srgbClr val="2f58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a4f0">
                  <a:alpha val="0"/>
                </a:srgbClr>
              </a:gs>
              <a:gs pos="100000">
                <a:srgbClr val="37679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302" name="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532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307" name="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2176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1932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475cc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3429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21115200">
            <a:off x="3169800" y="4723920"/>
            <a:ext cx="1587600" cy="6858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238560" y="3602160"/>
            <a:ext cx="1704960" cy="1706400"/>
            <a:chOff x="3238560" y="3602160"/>
            <a:chExt cx="1704960" cy="1706400"/>
          </a:xfrm>
        </p:grpSpPr>
        <p:sp>
          <p:nvSpPr>
            <p:cNvPr id="322" name=""/>
            <p:cNvSpPr/>
            <p:nvPr/>
          </p:nvSpPr>
          <p:spPr>
            <a:xfrm>
              <a:off x="3238560" y="360216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59080" y="3611520"/>
              <a:ext cx="1665360" cy="1663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76720" y="362772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8880" y="367200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6160" y="42292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rot="20826600">
            <a:off x="1523880" y="4114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447920" y="3124080"/>
            <a:ext cx="1371240" cy="1441080"/>
            <a:chOff x="1447920" y="3124080"/>
            <a:chExt cx="1371240" cy="1441080"/>
          </a:xfrm>
        </p:grpSpPr>
        <p:sp>
          <p:nvSpPr>
            <p:cNvPr id="329" name=""/>
            <p:cNvSpPr/>
            <p:nvPr/>
          </p:nvSpPr>
          <p:spPr>
            <a:xfrm>
              <a:off x="1447920" y="3124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65920" y="31323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78880" y="31456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50520" y="31824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28360" y="3630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216080" y="2409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92400" y="180324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05000" y="18082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16160" y="1819440"/>
            <a:ext cx="950760" cy="9331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0160" y="1844640"/>
            <a:ext cx="84744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89320" y="2152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18795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13460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52560" y="13492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59040" y="1355760"/>
            <a:ext cx="63360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95760" y="13748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13400" y="15699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84092"/>
              </a:gs>
              <a:gs pos="100000">
                <a:srgbClr val="073881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84092"/>
              </a:gs>
              <a:gs pos="100000">
                <a:srgbClr val="073881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84092"/>
              </a:gs>
              <a:gs pos="100000">
                <a:srgbClr val="073881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84092"/>
              </a:gs>
              <a:gs pos="100000">
                <a:srgbClr val="073881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84092"/>
              </a:gs>
              <a:gs pos="100000">
                <a:srgbClr val="073881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84092"/>
              </a:gs>
              <a:gs pos="100000">
                <a:srgbClr val="07388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084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55" name="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58" name="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61" name="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64" name="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67" name="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70" name="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49960" y="50356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cc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b542b"/>
              </a:gs>
              <a:gs pos="100000">
                <a:srgbClr val="eab85e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96d00"/>
              </a:gs>
              <a:gs pos="50000">
                <a:srgbClr val="ffcc00"/>
              </a:gs>
              <a:gs pos="100000">
                <a:srgbClr val="896d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53000" y="278748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181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35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57760" y="28735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75040" y="28828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90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71880" y="293364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579132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143000" y="2057400"/>
            <a:ext cx="2170080" cy="4035600"/>
            <a:chOff x="1143000" y="2057400"/>
            <a:chExt cx="2170080" cy="4035600"/>
          </a:xfrm>
        </p:grpSpPr>
        <p:sp>
          <p:nvSpPr>
            <p:cNvPr id="391" name=""/>
            <p:cNvSpPr/>
            <p:nvPr/>
          </p:nvSpPr>
          <p:spPr>
            <a:xfrm>
              <a:off x="1143000" y="2365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76480" y="2373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93760" y="4437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93760" y="2395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49480" y="5222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347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93760" y="5246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3176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1887480" y="2057400"/>
              <a:ext cx="642960" cy="642960"/>
              <a:chOff x="1887480" y="2057400"/>
              <a:chExt cx="642960" cy="642960"/>
            </a:xfrm>
          </p:grpSpPr>
          <p:sp>
            <p:nvSpPr>
              <p:cNvPr id="398" name=""/>
              <p:cNvSpPr/>
              <p:nvPr/>
            </p:nvSpPr>
            <p:spPr>
              <a:xfrm>
                <a:off x="1887480" y="2057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93960" y="2062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01880" y="2066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08360" y="2071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42200" y="2087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027520" y="214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19320" y="2819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505320" y="2057400"/>
            <a:ext cx="2166840" cy="4035600"/>
            <a:chOff x="3505320" y="2057400"/>
            <a:chExt cx="2166840" cy="4035600"/>
          </a:xfrm>
        </p:grpSpPr>
        <p:sp>
          <p:nvSpPr>
            <p:cNvPr id="406" name=""/>
            <p:cNvSpPr/>
            <p:nvPr/>
          </p:nvSpPr>
          <p:spPr>
            <a:xfrm>
              <a:off x="3505320" y="2365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38800" y="2373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56080" y="4437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56080" y="2395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4980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56280" y="20620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64200" y="20653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70320" y="20718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05600" y="20876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89840" y="214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1640" y="2819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08560" y="5222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3176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52840" y="5246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3176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861160" y="2057400"/>
            <a:ext cx="2170080" cy="4035600"/>
            <a:chOff x="5861160" y="2057400"/>
            <a:chExt cx="2170080" cy="4035600"/>
          </a:xfrm>
        </p:grpSpPr>
        <p:sp>
          <p:nvSpPr>
            <p:cNvPr id="420" name=""/>
            <p:cNvSpPr/>
            <p:nvPr/>
          </p:nvSpPr>
          <p:spPr>
            <a:xfrm>
              <a:off x="5867640" y="2365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00760" y="2373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18400" y="4437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18400" y="2395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6612120" y="2057400"/>
              <a:ext cx="642960" cy="642960"/>
              <a:chOff x="6612120" y="2057400"/>
              <a:chExt cx="642960" cy="642960"/>
            </a:xfrm>
          </p:grpSpPr>
          <p:sp>
            <p:nvSpPr>
              <p:cNvPr id="425" name=""/>
              <p:cNvSpPr/>
              <p:nvPr/>
            </p:nvSpPr>
            <p:spPr>
              <a:xfrm>
                <a:off x="6612120" y="2057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18600" y="2062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26520" y="2066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33000" y="2071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66840" y="2087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6752160" y="214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43600" y="2819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861160" y="5222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ba4b9"/>
                </a:gs>
                <a:gs pos="100000">
                  <a:srgbClr val="347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05440" y="5246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2b5c5"/>
                </a:gs>
                <a:gs pos="100000">
                  <a:srgbClr val="347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906080" y="2985480"/>
            <a:ext cx="1703880" cy="2679120"/>
            <a:chOff x="4906080" y="2985480"/>
            <a:chExt cx="1703880" cy="2679120"/>
          </a:xfrm>
        </p:grpSpPr>
        <p:grpSp>
          <p:nvGrpSpPr>
            <p:cNvPr id="438" name=""/>
            <p:cNvGrpSpPr/>
            <p:nvPr/>
          </p:nvGrpSpPr>
          <p:grpSpPr>
            <a:xfrm>
              <a:off x="4906080" y="3164040"/>
              <a:ext cx="1577160" cy="2500560"/>
              <a:chOff x="4906080" y="3164040"/>
              <a:chExt cx="1577160" cy="2500560"/>
            </a:xfrm>
          </p:grpSpPr>
          <p:sp>
            <p:nvSpPr>
              <p:cNvPr id="439" name=""/>
              <p:cNvSpPr/>
              <p:nvPr/>
            </p:nvSpPr>
            <p:spPr>
              <a:xfrm rot="3876600">
                <a:off x="44427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3876600">
                <a:off x="5947560" y="51037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42" name="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45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22680" y="215712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22680" y="21603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84600" y="222084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601880" y="2238120"/>
              <a:ext cx="1090440" cy="1091880"/>
              <a:chOff x="4601880" y="2238120"/>
              <a:chExt cx="1090440" cy="1091880"/>
            </a:xfrm>
          </p:grpSpPr>
          <p:sp>
            <p:nvSpPr>
              <p:cNvPr id="451" name=""/>
              <p:cNvSpPr/>
              <p:nvPr/>
            </p:nvSpPr>
            <p:spPr>
              <a:xfrm>
                <a:off x="4601880" y="223812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615560" y="224424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627080" y="225468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686120" y="228240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7138080" y="3058560"/>
            <a:ext cx="1703880" cy="2679120"/>
            <a:chOff x="7138080" y="3058560"/>
            <a:chExt cx="1703880" cy="2679120"/>
          </a:xfrm>
        </p:grpSpPr>
        <p:grpSp>
          <p:nvGrpSpPr>
            <p:cNvPr id="456" name=""/>
            <p:cNvGrpSpPr/>
            <p:nvPr/>
          </p:nvGrpSpPr>
          <p:grpSpPr>
            <a:xfrm>
              <a:off x="7138080" y="3237120"/>
              <a:ext cx="1577160" cy="2500560"/>
              <a:chOff x="7138080" y="3237120"/>
              <a:chExt cx="1577160" cy="2500560"/>
            </a:xfrm>
          </p:grpSpPr>
          <p:sp>
            <p:nvSpPr>
              <p:cNvPr id="457" name=""/>
              <p:cNvSpPr/>
              <p:nvPr/>
            </p:nvSpPr>
            <p:spPr>
              <a:xfrm rot="3876600">
                <a:off x="667476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3876600">
                <a:off x="8179560" y="51768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60" name="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68" name="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69720" y="212184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858760" y="2985120"/>
            <a:ext cx="1703880" cy="2679480"/>
            <a:chOff x="2858760" y="2985120"/>
            <a:chExt cx="1703880" cy="2679480"/>
          </a:xfrm>
        </p:grpSpPr>
        <p:grpSp>
          <p:nvGrpSpPr>
            <p:cNvPr id="473" name="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74" name="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3876600">
                <a:off x="3900240" y="51037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3352680" y="2985120"/>
              <a:ext cx="1209960" cy="1918800"/>
              <a:chOff x="3352680" y="2985120"/>
              <a:chExt cx="1209960" cy="1918800"/>
            </a:xfrm>
          </p:grpSpPr>
          <p:sp>
            <p:nvSpPr>
              <p:cNvPr id="477" name=""/>
              <p:cNvSpPr/>
              <p:nvPr/>
            </p:nvSpPr>
            <p:spPr>
              <a:xfrm flipV="1" rot="3876600">
                <a:off x="2997000" y="37306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 rot="3876600">
                <a:off x="4134240" y="44816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2379600" y="2063880"/>
            <a:ext cx="1440000" cy="1439640"/>
            <a:chOff x="2379600" y="2063880"/>
            <a:chExt cx="1440000" cy="1439640"/>
          </a:xfrm>
        </p:grpSpPr>
        <p:sp>
          <p:nvSpPr>
            <p:cNvPr id="480" name="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7500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7500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3692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2554200" y="2238120"/>
              <a:ext cx="1090800" cy="1091880"/>
              <a:chOff x="2554200" y="2238120"/>
              <a:chExt cx="1090800" cy="1091880"/>
            </a:xfrm>
          </p:grpSpPr>
          <p:sp>
            <p:nvSpPr>
              <p:cNvPr id="486" name=""/>
              <p:cNvSpPr/>
              <p:nvPr/>
            </p:nvSpPr>
            <p:spPr>
              <a:xfrm>
                <a:off x="255420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6788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7940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63844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"/>
          <p:cNvGrpSpPr/>
          <p:nvPr/>
        </p:nvGrpSpPr>
        <p:grpSpPr>
          <a:xfrm>
            <a:off x="875880" y="2985120"/>
            <a:ext cx="1703880" cy="2679480"/>
            <a:chOff x="875880" y="2985120"/>
            <a:chExt cx="1703880" cy="2679480"/>
          </a:xfrm>
        </p:grpSpPr>
        <p:grpSp>
          <p:nvGrpSpPr>
            <p:cNvPr id="491" name="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92" name="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3876600">
                <a:off x="1917360" y="51037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369800" y="2985120"/>
              <a:ext cx="1209960" cy="1918800"/>
              <a:chOff x="1369800" y="2985120"/>
              <a:chExt cx="1209960" cy="1918800"/>
            </a:xfrm>
          </p:grpSpPr>
          <p:sp>
            <p:nvSpPr>
              <p:cNvPr id="495" name=""/>
              <p:cNvSpPr/>
              <p:nvPr/>
            </p:nvSpPr>
            <p:spPr>
              <a:xfrm flipV="1" rot="3876600">
                <a:off x="1014120" y="37306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3876600">
                <a:off x="2151360" y="44816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"/>
          <p:cNvGrpSpPr/>
          <p:nvPr/>
        </p:nvGrpSpPr>
        <p:grpSpPr>
          <a:xfrm>
            <a:off x="396720" y="2063880"/>
            <a:ext cx="1440000" cy="1439640"/>
            <a:chOff x="396720" y="2063880"/>
            <a:chExt cx="1440000" cy="1439640"/>
          </a:xfrm>
        </p:grpSpPr>
        <p:sp>
          <p:nvSpPr>
            <p:cNvPr id="498" name="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212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212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404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571320" y="2238120"/>
              <a:ext cx="1090800" cy="1091880"/>
              <a:chOff x="571320" y="2238120"/>
              <a:chExt cx="1090800" cy="1091880"/>
            </a:xfrm>
          </p:grpSpPr>
          <p:sp>
            <p:nvSpPr>
              <p:cNvPr id="504" name=""/>
              <p:cNvSpPr/>
              <p:nvPr/>
            </p:nvSpPr>
            <p:spPr>
              <a:xfrm>
                <a:off x="57132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8500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9652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556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"/>
          <p:cNvCxnSpPr>
            <a:stCxn id="516" idx="3"/>
            <a:endCxn id="517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17" idx="3"/>
            <a:endCxn id="518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18" idx="3"/>
            <a:endCxn id="519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62720" y="24382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7355e"/>
              </a:gs>
              <a:gs pos="100000">
                <a:srgbClr val="3475c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84b6e"/>
              </a:gs>
              <a:gs pos="100000">
                <a:srgbClr val="58a4f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b6e"/>
              </a:gs>
              <a:gs pos="100000">
                <a:srgbClr val="58a4f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38616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1500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355e"/>
              </a:gs>
              <a:gs pos="100000">
                <a:srgbClr val="3475c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536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3c0c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538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475cc"/>
                </a:gs>
                <a:gs pos="100000">
                  <a:srgbClr val="83aad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544" name="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3c0c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550" name="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3475cc"/>
                </a:gs>
                <a:gs pos="100000">
                  <a:srgbClr val="83aad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143000" y="1735200"/>
          <a:ext cx="7162920" cy="3370320"/>
        </p:xfrm>
        <a:graphic>
          <a:graphicData uri="http://schemas.openxmlformats.org/drawingml/2006/table">
            <a:tbl>
              <a:tblPr/>
              <a:tblGrid>
                <a:gridCol w="1432080"/>
                <a:gridCol w="1144440"/>
                <a:gridCol w="1146240"/>
                <a:gridCol w="1146240"/>
                <a:gridCol w="1147680"/>
                <a:gridCol w="1146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3475cc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990000" y="1173600"/>
            <a:ext cx="6879600" cy="4804560"/>
            <a:chOff x="990000" y="1173600"/>
            <a:chExt cx="6879600" cy="4804560"/>
          </a:xfrm>
        </p:grpSpPr>
        <p:sp>
          <p:nvSpPr>
            <p:cNvPr id="568" name="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30320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20602200">
              <a:off x="128124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31292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0602200">
              <a:off x="129528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01600">
              <a:off x="284976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7016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17220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539200">
              <a:off x="130752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58a4f0"/>
                </a:gs>
                <a:gs pos="100000">
                  <a:srgbClr val="1f3b57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5075280" y="58752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3475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3475cc"/>
              </a:gs>
              <a:gs pos="100000">
                <a:srgbClr val="58a4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355e"/>
              </a:gs>
              <a:gs pos="50000">
                <a:srgbClr val="3475cc"/>
              </a:gs>
              <a:gs pos="100000">
                <a:srgbClr val="17355e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076400" y="5886360"/>
            <a:ext cx="1069920" cy="297000"/>
          </a:xfrm>
          <a:prstGeom prst="ellipse">
            <a:avLst/>
          </a:prstGeom>
          <a:gradFill rotWithShape="0">
            <a:gsLst>
              <a:gs pos="0">
                <a:srgbClr val="3475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880920" y="4481640"/>
            <a:ext cx="1544760" cy="1544400"/>
            <a:chOff x="880920" y="4481640"/>
            <a:chExt cx="1544760" cy="1544400"/>
          </a:xfrm>
        </p:grpSpPr>
        <p:sp>
          <p:nvSpPr>
            <p:cNvPr id="593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14400" y="4517640"/>
              <a:ext cx="1473120" cy="1474560"/>
            </a:xfrm>
            <a:prstGeom prst="ellipse">
              <a:avLst/>
            </a:prstGeom>
            <a:gradFill rotWithShape="0">
              <a:gsLst>
                <a:gs pos="0">
                  <a:srgbClr val="94743b"/>
                </a:gs>
                <a:gs pos="100000">
                  <a:srgbClr val="eab85e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71280" y="4571640"/>
              <a:ext cx="1332000" cy="1331640"/>
            </a:xfrm>
            <a:prstGeom prst="ellipse">
              <a:avLst/>
            </a:prstGeom>
            <a:gradFill rotWithShape="0">
              <a:gsLst>
                <a:gs pos="0">
                  <a:srgbClr val="a98443"/>
                </a:gs>
                <a:gs pos="100000">
                  <a:srgbClr val="eab8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914400" y="4571640"/>
              <a:ext cx="97776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"/>
          <p:cNvSpPr/>
          <p:nvPr/>
        </p:nvSpPr>
        <p:spPr>
          <a:xfrm>
            <a:off x="123084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065400" y="58752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3475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2819520" y="4481640"/>
            <a:ext cx="1544400" cy="1544400"/>
            <a:chOff x="2819520" y="4481640"/>
            <a:chExt cx="1544400" cy="1544400"/>
          </a:xfrm>
        </p:grpSpPr>
        <p:sp>
          <p:nvSpPr>
            <p:cNvPr id="600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52640" y="4517640"/>
              <a:ext cx="1472760" cy="147456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999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09520" y="4571640"/>
              <a:ext cx="1331640" cy="1331640"/>
            </a:xfrm>
            <a:prstGeom prst="ellipse">
              <a:avLst/>
            </a:prstGeom>
            <a:gradFill rotWithShape="0">
              <a:gsLst>
                <a:gs pos="0">
                  <a:srgbClr val="006e6e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3" name="" descr=""/>
            <p:cNvPicPr/>
            <p:nvPr/>
          </p:nvPicPr>
          <p:blipFill>
            <a:blip r:embed="rId4"/>
            <a:stretch/>
          </p:blipFill>
          <p:spPr>
            <a:xfrm>
              <a:off x="2852640" y="4571640"/>
              <a:ext cx="97740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"/>
          <p:cNvSpPr/>
          <p:nvPr/>
        </p:nvSpPr>
        <p:spPr>
          <a:xfrm>
            <a:off x="316908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800600" y="4481640"/>
            <a:ext cx="1544760" cy="1544400"/>
            <a:chOff x="4800600" y="4481640"/>
            <a:chExt cx="1544760" cy="1544400"/>
          </a:xfrm>
        </p:grpSpPr>
        <p:sp>
          <p:nvSpPr>
            <p:cNvPr id="606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34080" y="4517640"/>
              <a:ext cx="1473120" cy="1474560"/>
            </a:xfrm>
            <a:prstGeom prst="ellipse">
              <a:avLst/>
            </a:prstGeom>
            <a:gradFill rotWithShape="0">
              <a:gsLst>
                <a:gs pos="0">
                  <a:srgbClr val="376797"/>
                </a:gs>
                <a:gs pos="100000">
                  <a:srgbClr val="58a4f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90960" y="4571640"/>
              <a:ext cx="1332000" cy="1331640"/>
            </a:xfrm>
            <a:prstGeom prst="ellipse">
              <a:avLst/>
            </a:prstGeom>
            <a:gradFill rotWithShape="0">
              <a:gsLst>
                <a:gs pos="0">
                  <a:srgbClr val="3f76ad"/>
                </a:gs>
                <a:gs pos="100000">
                  <a:srgbClr val="58a4f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9" name="" descr=""/>
            <p:cNvPicPr/>
            <p:nvPr/>
          </p:nvPicPr>
          <p:blipFill>
            <a:blip r:embed="rId6"/>
            <a:stretch/>
          </p:blipFill>
          <p:spPr>
            <a:xfrm>
              <a:off x="4834080" y="4571640"/>
              <a:ext cx="97776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0" name=""/>
          <p:cNvSpPr/>
          <p:nvPr/>
        </p:nvSpPr>
        <p:spPr>
          <a:xfrm>
            <a:off x="515016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83360" y="5867280"/>
            <a:ext cx="1069920" cy="297000"/>
          </a:xfrm>
          <a:prstGeom prst="ellipse">
            <a:avLst/>
          </a:prstGeom>
          <a:gradFill rotWithShape="0">
            <a:gsLst>
              <a:gs pos="0">
                <a:srgbClr val="3475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781680" y="4481640"/>
            <a:ext cx="1544760" cy="1544400"/>
            <a:chOff x="6781680" y="4481640"/>
            <a:chExt cx="1544760" cy="1544400"/>
          </a:xfrm>
        </p:grpSpPr>
        <p:sp>
          <p:nvSpPr>
            <p:cNvPr id="613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15160" y="4517640"/>
              <a:ext cx="1473120" cy="1474560"/>
            </a:xfrm>
            <a:prstGeom prst="ellipse">
              <a:avLst/>
            </a:prstGeom>
            <a:gradFill rotWithShape="0">
              <a:gsLst>
                <a:gs pos="0">
                  <a:srgbClr val="6060a1"/>
                </a:gs>
                <a:gs pos="100000">
                  <a:srgbClr val="9999ff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72040" y="4571640"/>
              <a:ext cx="1332000" cy="1331640"/>
            </a:xfrm>
            <a:prstGeom prst="ellipse">
              <a:avLst/>
            </a:prstGeom>
            <a:gradFill rotWithShape="0">
              <a:gsLst>
                <a:gs pos="0">
                  <a:srgbClr val="6e6eb8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8"/>
            <a:stretch/>
          </p:blipFill>
          <p:spPr>
            <a:xfrm>
              <a:off x="6815160" y="4571640"/>
              <a:ext cx="97776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" name=""/>
          <p:cNvSpPr/>
          <p:nvPr/>
        </p:nvSpPr>
        <p:spPr>
          <a:xfrm>
            <a:off x="713160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256860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32240" y="2079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57400" y="1905120"/>
            <a:ext cx="685800" cy="679320"/>
            <a:chOff x="2057400" y="1905120"/>
            <a:chExt cx="685800" cy="679320"/>
          </a:xfrm>
        </p:grpSpPr>
        <p:grpSp>
          <p:nvGrpSpPr>
            <p:cNvPr id="102" name=""/>
            <p:cNvGrpSpPr/>
            <p:nvPr/>
          </p:nvGrpSpPr>
          <p:grpSpPr>
            <a:xfrm>
              <a:off x="2057400" y="1905120"/>
              <a:ext cx="685800" cy="679320"/>
              <a:chOff x="2057400" y="1905120"/>
              <a:chExt cx="685800" cy="67932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057400" y="1905120"/>
                <a:ext cx="685800" cy="679320"/>
                <a:chOff x="2057400" y="1905120"/>
                <a:chExt cx="685800" cy="6793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057400" y="19051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58a4f0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057400" y="19051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58a4f0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102760" y="19494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5881"/>
                    </a:gs>
                    <a:gs pos="50000">
                      <a:srgbClr val="58a4f0"/>
                    </a:gs>
                    <a:gs pos="100000">
                      <a:srgbClr val="2f588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02760" y="19504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a4f0">
                        <a:alpha val="0"/>
                      </a:srgbClr>
                    </a:gs>
                    <a:gs pos="100000">
                      <a:srgbClr val="37679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140200" y="1977840"/>
                <a:ext cx="537120" cy="540360"/>
                <a:chOff x="2140200" y="1977840"/>
                <a:chExt cx="537120" cy="5403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140200" y="19875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2140200" y="1977840"/>
                  <a:ext cx="519840" cy="515160"/>
                  <a:chOff x="2140200" y="1977840"/>
                  <a:chExt cx="519840" cy="51516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2140200" y="19778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146680" y="19807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152080" y="19854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180160" y="19987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5" name=""/>
            <p:cNvSpPr/>
            <p:nvPr/>
          </p:nvSpPr>
          <p:spPr>
            <a:xfrm>
              <a:off x="2211840" y="2014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438280" y="3451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29844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44197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32240" y="39304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35608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2240" y="4867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068560" y="2819520"/>
            <a:ext cx="685800" cy="685800"/>
            <a:chOff x="2068560" y="2819520"/>
            <a:chExt cx="685800" cy="685800"/>
          </a:xfrm>
        </p:grpSpPr>
        <p:grpSp>
          <p:nvGrpSpPr>
            <p:cNvPr id="123" name=""/>
            <p:cNvGrpSpPr/>
            <p:nvPr/>
          </p:nvGrpSpPr>
          <p:grpSpPr>
            <a:xfrm>
              <a:off x="2068560" y="2819520"/>
              <a:ext cx="685800" cy="685800"/>
              <a:chOff x="2068560" y="2819520"/>
              <a:chExt cx="685800" cy="68580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2068560" y="2819520"/>
                <a:ext cx="685800" cy="685800"/>
                <a:chOff x="2068560" y="2819520"/>
                <a:chExt cx="685800" cy="685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068560" y="281952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068560" y="281952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009999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113920" y="286416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13920" y="286524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00606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147040" y="2898720"/>
                <a:ext cx="537120" cy="545400"/>
                <a:chOff x="2147040" y="2898720"/>
                <a:chExt cx="537120" cy="545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147040" y="290880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" name=""/>
                <p:cNvGrpSpPr/>
                <p:nvPr/>
              </p:nvGrpSpPr>
              <p:grpSpPr>
                <a:xfrm>
                  <a:off x="2147040" y="2898720"/>
                  <a:ext cx="519840" cy="519840"/>
                  <a:chOff x="2147040" y="2898720"/>
                  <a:chExt cx="519840" cy="5198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2147040" y="289872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2153520" y="290160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2158920" y="290628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187000" y="291960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6" name=""/>
            <p:cNvSpPr/>
            <p:nvPr/>
          </p:nvSpPr>
          <p:spPr>
            <a:xfrm>
              <a:off x="2234160" y="29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90880" y="3755880"/>
            <a:ext cx="685800" cy="679320"/>
            <a:chOff x="2090880" y="3755880"/>
            <a:chExt cx="685800" cy="679320"/>
          </a:xfrm>
        </p:grpSpPr>
        <p:grpSp>
          <p:nvGrpSpPr>
            <p:cNvPr id="138" name=""/>
            <p:cNvGrpSpPr/>
            <p:nvPr/>
          </p:nvGrpSpPr>
          <p:grpSpPr>
            <a:xfrm>
              <a:off x="2090880" y="3755880"/>
              <a:ext cx="685800" cy="679320"/>
              <a:chOff x="2090880" y="3755880"/>
              <a:chExt cx="685800" cy="67932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090880" y="3755880"/>
                <a:ext cx="685800" cy="679320"/>
                <a:chOff x="2090880" y="3755880"/>
                <a:chExt cx="685800" cy="6793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090880" y="37558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58a4f0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090880" y="37558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58a4f0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36240" y="38001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5881"/>
                    </a:gs>
                    <a:gs pos="50000">
                      <a:srgbClr val="58a4f0"/>
                    </a:gs>
                    <a:gs pos="100000">
                      <a:srgbClr val="2f588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36240" y="38012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a4f0">
                        <a:alpha val="0"/>
                      </a:srgbClr>
                    </a:gs>
                    <a:gs pos="100000">
                      <a:srgbClr val="37679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73680" y="3828600"/>
                <a:ext cx="537120" cy="540360"/>
                <a:chOff x="2173680" y="3828600"/>
                <a:chExt cx="537120" cy="5403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173680" y="38383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2173680" y="3828600"/>
                  <a:ext cx="519840" cy="515160"/>
                  <a:chOff x="2173680" y="3828600"/>
                  <a:chExt cx="519840" cy="5151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2173680" y="38286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2180160" y="38314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2185560" y="38361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213640" y="38494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1" name=""/>
            <p:cNvSpPr/>
            <p:nvPr/>
          </p:nvSpPr>
          <p:spPr>
            <a:xfrm>
              <a:off x="2245320" y="3865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100240" y="4724280"/>
            <a:ext cx="685800" cy="685800"/>
            <a:chOff x="2100240" y="4724280"/>
            <a:chExt cx="685800" cy="685800"/>
          </a:xfrm>
        </p:grpSpPr>
        <p:grpSp>
          <p:nvGrpSpPr>
            <p:cNvPr id="153" name=""/>
            <p:cNvGrpSpPr/>
            <p:nvPr/>
          </p:nvGrpSpPr>
          <p:grpSpPr>
            <a:xfrm>
              <a:off x="2100240" y="4724280"/>
              <a:ext cx="685800" cy="685800"/>
              <a:chOff x="2100240" y="4724280"/>
              <a:chExt cx="685800" cy="6858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2100240" y="4724280"/>
                <a:ext cx="685800" cy="685800"/>
                <a:chOff x="2100240" y="4724280"/>
                <a:chExt cx="685800" cy="6858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100240" y="4724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100240" y="4724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009999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145600" y="4768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45600" y="4770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00606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178720" y="4803480"/>
                <a:ext cx="537120" cy="545400"/>
                <a:chOff x="2178720" y="4803480"/>
                <a:chExt cx="537120" cy="5454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178720" y="4813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2178720" y="4803480"/>
                  <a:ext cx="519840" cy="519840"/>
                  <a:chOff x="2178720" y="4803480"/>
                  <a:chExt cx="519840" cy="51984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2178720" y="4803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185200" y="4806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190600" y="4811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218680" y="4824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6" name=""/>
            <p:cNvSpPr/>
            <p:nvPr/>
          </p:nvSpPr>
          <p:spPr>
            <a:xfrm>
              <a:off x="2243520" y="48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a4f0"/>
            </a:gs>
            <a:gs pos="50000">
              <a:srgbClr val="084092"/>
            </a:gs>
            <a:gs pos="100000">
              <a:srgbClr val="58a4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1143000" y="27432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8a4f0"/>
                    </a:gs>
                    <a:gs pos="100000">
                      <a:srgbClr val="009999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8a4f0"/>
                  </a:gs>
                  <a:gs pos="100000">
                    <a:srgbClr val="009999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8a4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dddd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1f9"/>
              </a:gs>
              <a:gs pos="100000">
                <a:srgbClr val="58a4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76" name=""/>
            <p:cNvGrpSpPr/>
            <p:nvPr/>
          </p:nvGrpSpPr>
          <p:grpSpPr>
            <a:xfrm>
              <a:off x="3048120" y="1514520"/>
              <a:ext cx="2998440" cy="1458360"/>
              <a:chOff x="3048120" y="1514520"/>
              <a:chExt cx="2998440" cy="1458360"/>
            </a:xfrm>
          </p:grpSpPr>
          <p:sp>
            <p:nvSpPr>
              <p:cNvPr id="177" name=""/>
              <p:cNvSpPr/>
              <p:nvPr/>
            </p:nvSpPr>
            <p:spPr>
              <a:xfrm>
                <a:off x="3080880" y="1560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4a4a"/>
                  </a:gs>
                  <a:gs pos="100000">
                    <a:srgbClr val="0099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48120" y="15145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8dd0d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18924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8a4f0"/>
                </a:gs>
                <a:gs pos="100000">
                  <a:srgbClr val="284b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24160" y="13795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3def8"/>
                </a:gs>
                <a:gs pos="100000">
                  <a:srgbClr val="58a4f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51160" y="13921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58a4f0">
                    <a:alpha val="48235"/>
                  </a:srgbClr>
                </a:gs>
                <a:gs pos="100000">
                  <a:srgbClr val="4581b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82920" y="14191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58a4f0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10400" y="3276720"/>
            <a:ext cx="19620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58a4f0"/>
              </a:gs>
              <a:gs pos="100000">
                <a:srgbClr val="3475c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fefef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8a4f0"/>
              </a:gs>
              <a:gs pos="100000">
                <a:srgbClr val="fefef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fefef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fefef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efef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39640" y="1905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71480" y="2182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1560" y="4495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60600" y="51195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534600" y="1295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92280" y="3429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284b6e">
                  <a:alpha val="12156"/>
                </a:srgbClr>
              </a:gs>
              <a:gs pos="100000">
                <a:srgbClr val="58a4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8a4f0"/>
              </a:gs>
              <a:gs pos="100000">
                <a:srgbClr val="284b6e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84b6e"/>
              </a:gs>
              <a:gs pos="50000">
                <a:srgbClr val="58a4f0"/>
              </a:gs>
              <a:gs pos="100000">
                <a:srgbClr val="284b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58a4f0"/>
              </a:gs>
              <a:gs pos="100000">
                <a:srgbClr val="94c4f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94c4f4">
                  <a:alpha val="12156"/>
                </a:srgbClr>
              </a:gs>
              <a:gs pos="100000">
                <a:srgbClr val="58a4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895480" y="1905120"/>
            <a:ext cx="3196800" cy="2890800"/>
            <a:chOff x="2895480" y="1905120"/>
            <a:chExt cx="3196800" cy="2890800"/>
          </a:xfrm>
        </p:grpSpPr>
        <p:sp>
          <p:nvSpPr>
            <p:cNvPr id="222" name=""/>
            <p:cNvSpPr/>
            <p:nvPr/>
          </p:nvSpPr>
          <p:spPr>
            <a:xfrm flipH="1" rot="16200000">
              <a:off x="2813760" y="302040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db3d3"/>
                </a:gs>
                <a:gs pos="100000">
                  <a:srgbClr val="084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rot="5400000">
              <a:off x="5682960" y="296604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db3d3"/>
                </a:gs>
                <a:gs pos="100000">
                  <a:srgbClr val="08409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10800000">
              <a:off x="4249080" y="44690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db3d3"/>
                </a:gs>
                <a:gs pos="100000">
                  <a:srgbClr val="08409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22360" y="1905120"/>
              <a:ext cx="256536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68520" y="2049480"/>
              <a:ext cx="227124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02080" y="218448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02080" y="218448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4200" y="231624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005252"/>
                </a:gs>
                <a:gs pos="50000">
                  <a:srgbClr val="009999"/>
                </a:gs>
                <a:gs pos="100000">
                  <a:srgbClr val="00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34200" y="231624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838080" y="35053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355e"/>
              </a:gs>
              <a:gs pos="50000">
                <a:srgbClr val="3475cc"/>
              </a:gs>
              <a:gs pos="100000">
                <a:srgbClr val="1735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29718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355e"/>
              </a:gs>
              <a:gs pos="50000">
                <a:srgbClr val="3475cc"/>
              </a:gs>
              <a:gs pos="100000">
                <a:srgbClr val="1735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2438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355e"/>
              </a:gs>
              <a:gs pos="50000">
                <a:srgbClr val="3475cc"/>
              </a:gs>
              <a:gs pos="100000">
                <a:srgbClr val="1735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5053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29718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2438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2400" y="29718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57440" y="49528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b6e"/>
              </a:gs>
              <a:gs pos="50000">
                <a:srgbClr val="58a4f0"/>
              </a:gs>
              <a:gs pos="100000">
                <a:srgbClr val="284b6e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3040" y="259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3040" y="312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3040" y="3662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92640" y="259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92640" y="312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640" y="3662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1295280"/>
            <a:ext cx="6172200" cy="4496040"/>
          </a:xfrm>
          <a:prstGeom prst="rightArrow">
            <a:avLst>
              <a:gd name="adj1" fmla="val 79306"/>
              <a:gd name="adj2" fmla="val 34002"/>
            </a:avLst>
          </a:prstGeom>
          <a:gradFill rotWithShape="0">
            <a:gsLst>
              <a:gs pos="0">
                <a:srgbClr val="9ec9f5"/>
              </a:gs>
              <a:gs pos="100000">
                <a:srgbClr val="58a4f0">
                  <a:alpha val="1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1947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475cc"/>
              </a:gs>
              <a:gs pos="100000">
                <a:srgbClr val="1735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3090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4233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4:39:15Z</dcterms:created>
  <dc:creator/>
  <dc:description/>
  <cp:keywords>幻灯片之家 http:/www.eeppt.com</cp:keywords>
  <dc:language>en-US</dc:language>
  <cp:lastModifiedBy/>
  <dcterms:modified xsi:type="dcterms:W3CDTF">2015-07-05T03:27:20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