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5D068-B29D-4BE5-A343-A4BF6F089A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4876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8640" y="5638680"/>
            <a:ext cx="5181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28640" y="5877720"/>
            <a:ext cx="5181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4C1CE-6E3A-4D7E-9DA0-EA80DDBB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4876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8640" y="56386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83640" y="56386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8640" y="587772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83640" y="587772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EC77E-DF34-4A53-9A99-E43EC816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4876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8640" y="563868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80760" y="563868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32880" y="563868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28640" y="587772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180760" y="587772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32880" y="587772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DF390-391A-44A8-81D0-17ACC540F1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A4876-FFD5-470F-B060-9CDE205E7B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4876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428640" y="56386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FF1BF-743A-46A7-AB64-6311A58A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4876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8640" y="56386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6A8C6-A70A-4EAD-A17C-AAB61FAE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4876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8640" y="5638680"/>
            <a:ext cx="252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083640" y="5638680"/>
            <a:ext cx="252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F950B-FD2F-4E59-87BB-15B413C1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4876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DD683-686B-4FF0-B5C2-1C38F1BEE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66320" y="48769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B1177-8388-4B29-BB2A-B76A3BFC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4876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8640" y="56386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083640" y="5638680"/>
            <a:ext cx="252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428640" y="587772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CE862-0581-417F-8145-C0C42B8A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4876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28640" y="56386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8C795-E5BA-4890-9E16-4C978865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4876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28640" y="5638680"/>
            <a:ext cx="252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83640" y="56386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83640" y="587772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91BB0-BF95-4027-86F3-E376A3EE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4876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8640" y="56386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83640" y="56386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28640" y="5877720"/>
            <a:ext cx="5181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83E13-5DED-4048-BCBE-00E71B85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4876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8640" y="5638680"/>
            <a:ext cx="5181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28640" y="5877720"/>
            <a:ext cx="5181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5848C-24C9-4B77-B3FF-D9BA8BCF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4876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8640" y="56386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83640" y="56386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428640" y="587772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83640" y="587772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EFA0E1-BF90-4CE5-9C2E-3CF86459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4876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28640" y="563868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80760" y="563868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32880" y="563868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428640" y="587772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5180760" y="587772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32880" y="587772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63824-EC66-4049-BEE9-01CAD81672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4876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8640" y="56386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6EFE0-549A-49D1-A4A2-E0835B58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4876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8640" y="5638680"/>
            <a:ext cx="252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083640" y="5638680"/>
            <a:ext cx="252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55123-9EC1-48B9-ACBE-49D9FEDF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4876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8F9DB-2B61-4E57-A1ED-855B1BF2B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48769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0DCFB-6D4D-48CD-A5E7-911D8A19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4876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8640" y="56386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083640" y="5638680"/>
            <a:ext cx="252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28640" y="587772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023A7-EC41-445A-A18B-A5A8F68F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4876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8640" y="5638680"/>
            <a:ext cx="252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83640" y="56386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83640" y="587772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A02C2-0F8A-4518-A376-4DE534B5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4876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8640" y="56386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83640" y="56386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8640" y="5877720"/>
            <a:ext cx="5181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E0D69-B31E-4269-9174-AF568588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395D-3957-47BE-9DC2-78F8B3D084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81800" y="6354720"/>
            <a:ext cx="1384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1066680" y="304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4876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7200" y="6553080"/>
            <a:ext cx="13716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7848720" y="6553080"/>
            <a:ext cx="8380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6F68-F951-45C4-A42D-CBD9E9CAB5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96080" y="228600"/>
            <a:ext cx="13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guowai/" TargetMode="External"/><Relationship Id="rId3" Type="http://schemas.openxmlformats.org/officeDocument/2006/relationships/hyperlink" Target="http://www.eeppt.com/moban/guowai/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4876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国外经典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模板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下载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428640" y="56386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f3cc9d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295280" y="487692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895480" y="2133720"/>
            <a:ext cx="3196800" cy="2890800"/>
            <a:chOff x="2895480" y="2133720"/>
            <a:chExt cx="3196800" cy="2890800"/>
          </a:xfrm>
        </p:grpSpPr>
        <p:sp>
          <p:nvSpPr>
            <p:cNvPr id="249" name=""/>
            <p:cNvSpPr/>
            <p:nvPr/>
          </p:nvSpPr>
          <p:spPr>
            <a:xfrm flipH="1" rot="16200000">
              <a:off x="2813760" y="324900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9ead7"/>
                </a:gs>
                <a:gs pos="100000">
                  <a:srgbClr val="f3cc9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rot="5400000">
              <a:off x="5682960" y="3194640"/>
              <a:ext cx="49032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9ead7"/>
                </a:gs>
                <a:gs pos="100000">
                  <a:srgbClr val="f3cc9d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rot="10800000">
              <a:off x="4249080" y="46976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9ead7"/>
                </a:gs>
                <a:gs pos="100000">
                  <a:srgbClr val="f3cc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22360" y="2133720"/>
              <a:ext cx="256536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368520" y="2278080"/>
              <a:ext cx="227124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02080" y="2413080"/>
              <a:ext cx="200448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351c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2080" y="2413080"/>
              <a:ext cx="200448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634200" y="2544840"/>
              <a:ext cx="1740600" cy="1743120"/>
            </a:xfrm>
            <a:prstGeom prst="ellipse">
              <a:avLst/>
            </a:prstGeom>
            <a:gradFill rotWithShape="0">
              <a:gsLst>
                <a:gs pos="0">
                  <a:srgbClr val="4f2b6c"/>
                </a:gs>
                <a:gs pos="50000">
                  <a:srgbClr val="9351c9"/>
                </a:gs>
                <a:gs pos="100000">
                  <a:srgbClr val="4f2b6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34200" y="2544840"/>
              <a:ext cx="174060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838080" y="3733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c4f5d"/>
              </a:gs>
              <a:gs pos="50000">
                <a:srgbClr val="84acca"/>
              </a:gs>
              <a:gs pos="100000">
                <a:srgbClr val="3c4f5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38080" y="32004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c4f5d"/>
              </a:gs>
              <a:gs pos="50000">
                <a:srgbClr val="84acca"/>
              </a:gs>
              <a:gs pos="100000">
                <a:srgbClr val="3c4f5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38080" y="26668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c4f5d"/>
              </a:gs>
              <a:gs pos="50000">
                <a:srgbClr val="84acca"/>
              </a:gs>
              <a:gs pos="100000">
                <a:srgbClr val="3c4f5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24480" y="3733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73a6a"/>
              </a:gs>
              <a:gs pos="50000">
                <a:srgbClr val="557fe7"/>
              </a:gs>
              <a:gs pos="100000">
                <a:srgbClr val="273a6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32004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73a6a"/>
              </a:gs>
              <a:gs pos="50000">
                <a:srgbClr val="557fe7"/>
              </a:gs>
              <a:gs pos="100000">
                <a:srgbClr val="273a6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324480" y="26668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73a6a"/>
              </a:gs>
              <a:gs pos="50000">
                <a:srgbClr val="557fe7"/>
              </a:gs>
              <a:gs pos="100000">
                <a:srgbClr val="273a6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12400" y="3200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557440" y="518148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4f5d"/>
              </a:gs>
              <a:gs pos="50000">
                <a:srgbClr val="84acca"/>
              </a:gs>
              <a:gs pos="100000">
                <a:srgbClr val="3c4f5d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3730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3730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3730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9926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926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9926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761240" y="1752480"/>
            <a:ext cx="614520" cy="981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71d"/>
              </a:gs>
              <a:gs pos="50000">
                <a:srgbClr val="00563f"/>
              </a:gs>
              <a:gs pos="100000">
                <a:srgbClr val="00271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143840" y="2727360"/>
            <a:ext cx="612720" cy="9745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20743"/>
              </a:gs>
              <a:gs pos="50000">
                <a:srgbClr val="4b1092"/>
              </a:gs>
              <a:gs pos="100000">
                <a:srgbClr val="2207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524640" y="369108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21704"/>
              </a:gs>
              <a:gs pos="50000">
                <a:srgbClr val="90330a"/>
              </a:gs>
              <a:gs pos="100000">
                <a:srgbClr val="42170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910120" y="465768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23106"/>
              </a:gs>
              <a:gs pos="50000">
                <a:srgbClr val="906b0e"/>
              </a:gs>
              <a:gs pos="100000">
                <a:srgbClr val="42310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008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906a"/>
              </a:gs>
              <a:gs pos="100000">
                <a:srgbClr val="00684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c2eb8"/>
              </a:gs>
              <a:gs pos="50000">
                <a:srgbClr val="8041ff"/>
              </a:gs>
              <a:gs pos="100000">
                <a:srgbClr val="5c2eb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9e5139"/>
              </a:gs>
              <a:gs pos="50000">
                <a:srgbClr val="dc7150"/>
              </a:gs>
              <a:gs pos="100000">
                <a:srgbClr val="9e513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67414"/>
              </a:gs>
              <a:gs pos="50000">
                <a:srgbClr val="d0a11c"/>
              </a:gs>
              <a:gs pos="100000">
                <a:srgbClr val="96741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1523880"/>
            <a:ext cx="6095880" cy="4496040"/>
          </a:xfrm>
          <a:prstGeom prst="rightArrow">
            <a:avLst>
              <a:gd name="adj1" fmla="val 79306"/>
              <a:gd name="adj2" fmla="val 33582"/>
            </a:avLst>
          </a:prstGeom>
          <a:gradFill rotWithShape="0">
            <a:gsLst>
              <a:gs pos="0">
                <a:srgbClr val="907e9c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9480" y="2133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57fe7"/>
              </a:gs>
              <a:gs pos="100000">
                <a:srgbClr val="273a6a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3276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351c9"/>
              </a:gs>
              <a:gs pos="100000">
                <a:srgbClr val="43255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4419720"/>
            <a:ext cx="403884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4acca"/>
              </a:gs>
              <a:gs pos="100000">
                <a:srgbClr val="3c4f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94360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acca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91636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57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65164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9351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351c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351c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36912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f2b6c"/>
              </a:gs>
              <a:gs pos="50000">
                <a:srgbClr val="9351c9"/>
              </a:gs>
              <a:gs pos="100000">
                <a:srgbClr val="4f2b6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400800" y="2286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9351c9">
                  <a:alpha val="0"/>
                </a:srgbClr>
              </a:gs>
              <a:gs pos="100000">
                <a:srgbClr val="5d337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4706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eb2ac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eb2ac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96760" y="2268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15f5c"/>
              </a:gs>
              <a:gs pos="50000">
                <a:srgbClr val="3eb2ac"/>
              </a:gs>
              <a:gs pos="100000">
                <a:srgbClr val="215f5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98560" y="22716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eb2ac">
                  <a:alpha val="0"/>
                </a:srgbClr>
              </a:gs>
              <a:gs pos="100000">
                <a:srgbClr val="27706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90720" y="23623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017720" y="2387520"/>
            <a:ext cx="1636560" cy="1636920"/>
            <a:chOff x="1017720" y="2387520"/>
            <a:chExt cx="1636560" cy="1636920"/>
          </a:xfrm>
        </p:grpSpPr>
        <p:sp>
          <p:nvSpPr>
            <p:cNvPr id="319" name=""/>
            <p:cNvSpPr/>
            <p:nvPr/>
          </p:nvSpPr>
          <p:spPr>
            <a:xfrm>
              <a:off x="101772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38600" y="23965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05552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14444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557fe7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273a6a"/>
              </a:gs>
              <a:gs pos="100000">
                <a:srgbClr val="557fe7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63384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d447c"/>
              </a:gs>
              <a:gs pos="50000">
                <a:srgbClr val="557fe7"/>
              </a:gs>
              <a:gs pos="100000">
                <a:srgbClr val="2d447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635280" y="22780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57fe7">
                  <a:alpha val="0"/>
                </a:srgbClr>
              </a:gs>
              <a:gs pos="100000">
                <a:srgbClr val="35509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7274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3754440" y="2387520"/>
            <a:ext cx="1636560" cy="1636920"/>
            <a:chOff x="3754440" y="2387520"/>
            <a:chExt cx="1636560" cy="1636920"/>
          </a:xfrm>
        </p:grpSpPr>
        <p:sp>
          <p:nvSpPr>
            <p:cNvPr id="329" name=""/>
            <p:cNvSpPr/>
            <p:nvPr/>
          </p:nvSpPr>
          <p:spPr>
            <a:xfrm>
              <a:off x="375444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75320" y="23965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9224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8116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500880" y="2387520"/>
            <a:ext cx="1636560" cy="1636920"/>
            <a:chOff x="6500880" y="2387520"/>
            <a:chExt cx="1636560" cy="1636920"/>
          </a:xfrm>
        </p:grpSpPr>
        <p:sp>
          <p:nvSpPr>
            <p:cNvPr id="334" name=""/>
            <p:cNvSpPr/>
            <p:nvPr/>
          </p:nvSpPr>
          <p:spPr>
            <a:xfrm>
              <a:off x="650088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21760" y="23965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53868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2760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8049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53844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913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4522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1954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9386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84acca"/>
              </a:gs>
              <a:gs pos="100000">
                <a:srgbClr val="557fe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35053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20876400">
            <a:off x="3230640" y="49276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162240" y="370836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82760" y="371808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00400" y="373392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292560" y="37782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80200" y="43354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20826600">
            <a:off x="1401840" y="4317480"/>
            <a:ext cx="113328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325520" y="3327480"/>
            <a:ext cx="1371240" cy="1441080"/>
            <a:chOff x="1325520" y="3327480"/>
            <a:chExt cx="1371240" cy="1441080"/>
          </a:xfrm>
        </p:grpSpPr>
        <p:sp>
          <p:nvSpPr>
            <p:cNvPr id="355" name=""/>
            <p:cNvSpPr/>
            <p:nvPr/>
          </p:nvSpPr>
          <p:spPr>
            <a:xfrm>
              <a:off x="1325520" y="33274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343520" y="333576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56480" y="334908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28120" y="338580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05960" y="38336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1066680" y="256212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143000" y="1955880"/>
            <a:ext cx="1023840" cy="10238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155600" y="196056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66760" y="197172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20760" y="1996920"/>
            <a:ext cx="847800" cy="757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39920" y="2305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362320" y="203184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484360" y="149868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494080" y="1501920"/>
            <a:ext cx="66492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00200" y="1508040"/>
            <a:ext cx="633600" cy="6224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36920" y="1527120"/>
            <a:ext cx="56340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554920" y="17226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157400" y="5746680"/>
            <a:ext cx="6078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351c9"/>
                </a:solidFill>
                <a:uFillTx/>
                <a:latin typeface="Arial"/>
                <a:hlinkClick r:id="rId2"/>
              </a:rPr>
              <a:t>国外ppt模板下载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9351c9"/>
                </a:solidFill>
                <a:uFillTx/>
                <a:latin typeface="Arial"/>
                <a:hlinkClick r:id="rId3"/>
              </a:rPr>
              <a:t>http://www.eeppt.com/moban/guowai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17973000">
            <a:off x="4777560" y="2406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f3cc9d"/>
              </a:gs>
              <a:gs pos="100000">
                <a:srgbClr val="d7b48b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3465600">
            <a:off x="4777200" y="45712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3cc9d"/>
              </a:gs>
              <a:gs pos="100000">
                <a:srgbClr val="d7b48b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rot="14368800">
            <a:off x="3557880" y="24829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f3cc9d"/>
              </a:gs>
              <a:gs pos="100000">
                <a:srgbClr val="d7b48b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rot="7534800">
            <a:off x="3520080" y="45378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f3cc9d"/>
              </a:gs>
              <a:gs pos="100000">
                <a:srgbClr val="d7b48b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56080" y="35352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f3cc9d"/>
              </a:gs>
              <a:gs pos="100000">
                <a:srgbClr val="d7b48b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rot="10800000">
            <a:off x="2945880" y="352908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f3cc9d"/>
              </a:gs>
              <a:gs pos="100000">
                <a:srgbClr val="d7b48b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692440" y="176688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429000" y="1825560"/>
            <a:ext cx="360360" cy="360360"/>
            <a:chOff x="3429000" y="1825560"/>
            <a:chExt cx="360360" cy="360360"/>
          </a:xfrm>
        </p:grpSpPr>
        <p:sp>
          <p:nvSpPr>
            <p:cNvPr id="382" name=""/>
            <p:cNvSpPr/>
            <p:nvPr/>
          </p:nvSpPr>
          <p:spPr>
            <a:xfrm>
              <a:off x="3429000" y="1825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44840" y="1855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2484360" y="3481560"/>
            <a:ext cx="360360" cy="360360"/>
            <a:chOff x="2484360" y="3481560"/>
            <a:chExt cx="360360" cy="360360"/>
          </a:xfrm>
        </p:grpSpPr>
        <p:sp>
          <p:nvSpPr>
            <p:cNvPr id="385" name=""/>
            <p:cNvSpPr/>
            <p:nvPr/>
          </p:nvSpPr>
          <p:spPr>
            <a:xfrm>
              <a:off x="2484360" y="3481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00200" y="3511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3348000" y="5024520"/>
            <a:ext cx="360360" cy="360360"/>
            <a:chOff x="3348000" y="5024520"/>
            <a:chExt cx="360360" cy="360360"/>
          </a:xfrm>
        </p:grpSpPr>
        <p:sp>
          <p:nvSpPr>
            <p:cNvPr id="388" name=""/>
            <p:cNvSpPr/>
            <p:nvPr/>
          </p:nvSpPr>
          <p:spPr>
            <a:xfrm>
              <a:off x="3348000" y="5024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363840" y="5054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5278320" y="1805040"/>
            <a:ext cx="360360" cy="360360"/>
            <a:chOff x="5278320" y="1805040"/>
            <a:chExt cx="360360" cy="360360"/>
          </a:xfrm>
        </p:grpSpPr>
        <p:sp>
          <p:nvSpPr>
            <p:cNvPr id="391" name=""/>
            <p:cNvSpPr/>
            <p:nvPr/>
          </p:nvSpPr>
          <p:spPr>
            <a:xfrm>
              <a:off x="5278320" y="18050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294160" y="18352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6227640" y="3481560"/>
            <a:ext cx="360360" cy="360360"/>
            <a:chOff x="6227640" y="3481560"/>
            <a:chExt cx="360360" cy="360360"/>
          </a:xfrm>
        </p:grpSpPr>
        <p:sp>
          <p:nvSpPr>
            <p:cNvPr id="394" name=""/>
            <p:cNvSpPr/>
            <p:nvPr/>
          </p:nvSpPr>
          <p:spPr>
            <a:xfrm>
              <a:off x="6227640" y="3481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243480" y="3511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5334120" y="5081760"/>
            <a:ext cx="360360" cy="360360"/>
            <a:chOff x="5334120" y="5081760"/>
            <a:chExt cx="360360" cy="360360"/>
          </a:xfrm>
        </p:grpSpPr>
        <p:sp>
          <p:nvSpPr>
            <p:cNvPr id="397" name=""/>
            <p:cNvSpPr/>
            <p:nvPr/>
          </p:nvSpPr>
          <p:spPr>
            <a:xfrm>
              <a:off x="5334120" y="5081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349960" y="5112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3624120" y="27194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351c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629160" y="27255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43255c"/>
              </a:gs>
              <a:gs pos="100000">
                <a:srgbClr val="9351c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751200" y="28465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f2b6c"/>
              </a:gs>
              <a:gs pos="50000">
                <a:srgbClr val="9351c9"/>
              </a:gs>
              <a:gs pos="100000">
                <a:srgbClr val="4f2b6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33920" y="2819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9351c9">
                  <a:alpha val="0"/>
                </a:srgbClr>
              </a:gs>
              <a:gs pos="100000">
                <a:srgbClr val="5d337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3835440" y="2930400"/>
            <a:ext cx="1522440" cy="1522440"/>
            <a:chOff x="3835440" y="2930400"/>
            <a:chExt cx="1522440" cy="1522440"/>
          </a:xfrm>
        </p:grpSpPr>
        <p:sp>
          <p:nvSpPr>
            <p:cNvPr id="404" name=""/>
            <p:cNvSpPr/>
            <p:nvPr/>
          </p:nvSpPr>
          <p:spPr>
            <a:xfrm>
              <a:off x="3835440" y="29304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57760" y="294948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75040" y="29588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90880" y="29732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71880" y="30096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4164480" y="34196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717520" y="17524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917000" y="17524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631920" y="3505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17520" y="5105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002600" y="3505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840680" y="5043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6856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20168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21932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21932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13040" y="2039760"/>
            <a:ext cx="642960" cy="642960"/>
            <a:chOff x="1913040" y="2039760"/>
            <a:chExt cx="642960" cy="642960"/>
          </a:xfrm>
        </p:grpSpPr>
        <p:sp>
          <p:nvSpPr>
            <p:cNvPr id="422" name=""/>
            <p:cNvSpPr/>
            <p:nvPr/>
          </p:nvSpPr>
          <p:spPr>
            <a:xfrm>
              <a:off x="191304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1952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927440" y="204840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3392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6776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205308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24452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89284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92596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94360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1e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94360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3ca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6637320" y="2039760"/>
            <a:ext cx="642960" cy="642960"/>
            <a:chOff x="6637320" y="2039760"/>
            <a:chExt cx="642960" cy="642960"/>
          </a:xfrm>
        </p:grpSpPr>
        <p:sp>
          <p:nvSpPr>
            <p:cNvPr id="434" name=""/>
            <p:cNvSpPr/>
            <p:nvPr/>
          </p:nvSpPr>
          <p:spPr>
            <a:xfrm>
              <a:off x="663732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380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651720" y="204840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5820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69204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677736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96916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530520" y="234792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564000" y="235584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581280" y="44197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1f0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581280" y="23781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ff6d3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275000" y="203976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281480" y="2044800"/>
            <a:ext cx="622440" cy="62208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289400" y="2048040"/>
            <a:ext cx="608040" cy="6076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295880" y="2054160"/>
            <a:ext cx="577800" cy="5666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330800" y="2070000"/>
            <a:ext cx="512640" cy="460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1504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60684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28893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294156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4906080" y="3214080"/>
            <a:ext cx="1703880" cy="2679120"/>
            <a:chOff x="4906080" y="3214080"/>
            <a:chExt cx="1703880" cy="2679120"/>
          </a:xfrm>
        </p:grpSpPr>
        <p:grpSp>
          <p:nvGrpSpPr>
            <p:cNvPr id="456" name=""/>
            <p:cNvGrpSpPr/>
            <p:nvPr/>
          </p:nvGrpSpPr>
          <p:grpSpPr>
            <a:xfrm>
              <a:off x="4906080" y="3392640"/>
              <a:ext cx="1577160" cy="2500560"/>
              <a:chOff x="4906080" y="3392640"/>
              <a:chExt cx="1577160" cy="2500560"/>
            </a:xfrm>
          </p:grpSpPr>
          <p:sp>
            <p:nvSpPr>
              <p:cNvPr id="457" name=""/>
              <p:cNvSpPr/>
              <p:nvPr/>
            </p:nvSpPr>
            <p:spPr>
              <a:xfrm rot="3876600">
                <a:off x="4442760" y="43639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3876600">
                <a:off x="5947560" y="533232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5400000" y="3214080"/>
              <a:ext cx="1209960" cy="1918800"/>
              <a:chOff x="5400000" y="3214080"/>
              <a:chExt cx="1209960" cy="1918800"/>
            </a:xfrm>
          </p:grpSpPr>
          <p:sp>
            <p:nvSpPr>
              <p:cNvPr id="460" name=""/>
              <p:cNvSpPr/>
              <p:nvPr/>
            </p:nvSpPr>
            <p:spPr>
              <a:xfrm flipV="1" rot="3876600">
                <a:off x="5044320" y="395964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 rot="3876600">
                <a:off x="6181560" y="471060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62" name=""/>
          <p:cNvGrpSpPr/>
          <p:nvPr/>
        </p:nvGrpSpPr>
        <p:grpSpPr>
          <a:xfrm>
            <a:off x="4427640" y="2292480"/>
            <a:ext cx="1439640" cy="1439640"/>
            <a:chOff x="4427640" y="2292480"/>
            <a:chExt cx="1439640" cy="1439640"/>
          </a:xfrm>
        </p:grpSpPr>
        <p:sp>
          <p:nvSpPr>
            <p:cNvPr id="463" name=""/>
            <p:cNvSpPr/>
            <p:nvPr/>
          </p:nvSpPr>
          <p:spPr>
            <a:xfrm>
              <a:off x="442764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42764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22680" y="2385720"/>
              <a:ext cx="1248840" cy="125064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522680" y="2388960"/>
              <a:ext cx="1248840" cy="1250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584600" y="2449440"/>
              <a:ext cx="112500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4601880" y="2466720"/>
              <a:ext cx="1090440" cy="1091880"/>
              <a:chOff x="4601880" y="2466720"/>
              <a:chExt cx="1090440" cy="1091880"/>
            </a:xfrm>
          </p:grpSpPr>
          <p:sp>
            <p:nvSpPr>
              <p:cNvPr id="469" name=""/>
              <p:cNvSpPr/>
              <p:nvPr/>
            </p:nvSpPr>
            <p:spPr>
              <a:xfrm>
                <a:off x="4601880" y="2466720"/>
                <a:ext cx="1090440" cy="10918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615560" y="2472840"/>
                <a:ext cx="106416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627080" y="2483280"/>
                <a:ext cx="1011960" cy="9950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686120" y="2511000"/>
                <a:ext cx="899640" cy="807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73" name=""/>
          <p:cNvGrpSpPr/>
          <p:nvPr/>
        </p:nvGrpSpPr>
        <p:grpSpPr>
          <a:xfrm>
            <a:off x="7138080" y="3287160"/>
            <a:ext cx="1703880" cy="2679120"/>
            <a:chOff x="7138080" y="3287160"/>
            <a:chExt cx="1703880" cy="2679120"/>
          </a:xfrm>
        </p:grpSpPr>
        <p:grpSp>
          <p:nvGrpSpPr>
            <p:cNvPr id="474" name=""/>
            <p:cNvGrpSpPr/>
            <p:nvPr/>
          </p:nvGrpSpPr>
          <p:grpSpPr>
            <a:xfrm>
              <a:off x="7138080" y="3465720"/>
              <a:ext cx="1577160" cy="2500560"/>
              <a:chOff x="7138080" y="3465720"/>
              <a:chExt cx="1577160" cy="2500560"/>
            </a:xfrm>
          </p:grpSpPr>
          <p:sp>
            <p:nvSpPr>
              <p:cNvPr id="475" name=""/>
              <p:cNvSpPr/>
              <p:nvPr/>
            </p:nvSpPr>
            <p:spPr>
              <a:xfrm rot="3876600">
                <a:off x="6674760" y="44370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3876600">
                <a:off x="8179560" y="540540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7632000" y="3287160"/>
              <a:ext cx="1209960" cy="1918800"/>
              <a:chOff x="7632000" y="3287160"/>
              <a:chExt cx="1209960" cy="1918800"/>
            </a:xfrm>
          </p:grpSpPr>
          <p:sp>
            <p:nvSpPr>
              <p:cNvPr id="478" name=""/>
              <p:cNvSpPr/>
              <p:nvPr/>
            </p:nvSpPr>
            <p:spPr>
              <a:xfrm flipV="1" rot="3876600">
                <a:off x="7276320" y="40327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V="1" rot="3876600">
                <a:off x="8413560" y="47836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0" name=""/>
          <p:cNvSpPr/>
          <p:nvPr/>
        </p:nvSpPr>
        <p:spPr>
          <a:xfrm>
            <a:off x="6442200" y="21337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442200" y="21337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558120" y="224640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559560" y="224964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632640" y="2322360"/>
            <a:ext cx="1352520" cy="134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6653160" y="2343240"/>
            <a:ext cx="1311480" cy="1309680"/>
            <a:chOff x="6653160" y="2343240"/>
            <a:chExt cx="1311480" cy="1309680"/>
          </a:xfrm>
        </p:grpSpPr>
        <p:sp>
          <p:nvSpPr>
            <p:cNvPr id="486" name=""/>
            <p:cNvSpPr/>
            <p:nvPr/>
          </p:nvSpPr>
          <p:spPr>
            <a:xfrm>
              <a:off x="6653160" y="234324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669720" y="2350440"/>
              <a:ext cx="127980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683400" y="236304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54680" y="239652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2858760" y="3213720"/>
            <a:ext cx="1703880" cy="2679480"/>
            <a:chOff x="2858760" y="3213720"/>
            <a:chExt cx="1703880" cy="2679480"/>
          </a:xfrm>
        </p:grpSpPr>
        <p:grpSp>
          <p:nvGrpSpPr>
            <p:cNvPr id="491" name=""/>
            <p:cNvGrpSpPr/>
            <p:nvPr/>
          </p:nvGrpSpPr>
          <p:grpSpPr>
            <a:xfrm>
              <a:off x="2858760" y="3392640"/>
              <a:ext cx="1577160" cy="2500560"/>
              <a:chOff x="2858760" y="3392640"/>
              <a:chExt cx="1577160" cy="2500560"/>
            </a:xfrm>
          </p:grpSpPr>
          <p:sp>
            <p:nvSpPr>
              <p:cNvPr id="492" name=""/>
              <p:cNvSpPr/>
              <p:nvPr/>
            </p:nvSpPr>
            <p:spPr>
              <a:xfrm rot="3876600">
                <a:off x="2395440" y="43639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rot="3876600">
                <a:off x="3900240" y="533232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3352680" y="3213720"/>
              <a:ext cx="1209960" cy="1918800"/>
              <a:chOff x="3352680" y="3213720"/>
              <a:chExt cx="1209960" cy="1918800"/>
            </a:xfrm>
          </p:grpSpPr>
          <p:sp>
            <p:nvSpPr>
              <p:cNvPr id="495" name=""/>
              <p:cNvSpPr/>
              <p:nvPr/>
            </p:nvSpPr>
            <p:spPr>
              <a:xfrm flipV="1" rot="3876600">
                <a:off x="2997000" y="395928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 rot="3876600">
                <a:off x="4134240" y="471024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97" name=""/>
          <p:cNvGrpSpPr/>
          <p:nvPr/>
        </p:nvGrpSpPr>
        <p:grpSpPr>
          <a:xfrm>
            <a:off x="2379600" y="2292480"/>
            <a:ext cx="1440000" cy="1439640"/>
            <a:chOff x="2379600" y="2292480"/>
            <a:chExt cx="1440000" cy="1439640"/>
          </a:xfrm>
        </p:grpSpPr>
        <p:sp>
          <p:nvSpPr>
            <p:cNvPr id="498" name=""/>
            <p:cNvSpPr/>
            <p:nvPr/>
          </p:nvSpPr>
          <p:spPr>
            <a:xfrm>
              <a:off x="2379600" y="22924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379600" y="22924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75000" y="238572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475000" y="238896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36920" y="2449440"/>
              <a:ext cx="112536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2554200" y="2466720"/>
              <a:ext cx="1090800" cy="1091880"/>
              <a:chOff x="2554200" y="2466720"/>
              <a:chExt cx="1090800" cy="1091880"/>
            </a:xfrm>
          </p:grpSpPr>
          <p:sp>
            <p:nvSpPr>
              <p:cNvPr id="504" name=""/>
              <p:cNvSpPr/>
              <p:nvPr/>
            </p:nvSpPr>
            <p:spPr>
              <a:xfrm>
                <a:off x="2554200" y="2466720"/>
                <a:ext cx="1090800" cy="10918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567880" y="2472840"/>
                <a:ext cx="106452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579400" y="2483280"/>
                <a:ext cx="1012320" cy="9950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638440" y="2511000"/>
                <a:ext cx="900000" cy="807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08" name=""/>
          <p:cNvGrpSpPr/>
          <p:nvPr/>
        </p:nvGrpSpPr>
        <p:grpSpPr>
          <a:xfrm>
            <a:off x="875880" y="3213720"/>
            <a:ext cx="1703880" cy="2679480"/>
            <a:chOff x="875880" y="3213720"/>
            <a:chExt cx="1703880" cy="2679480"/>
          </a:xfrm>
        </p:grpSpPr>
        <p:grpSp>
          <p:nvGrpSpPr>
            <p:cNvPr id="509" name=""/>
            <p:cNvGrpSpPr/>
            <p:nvPr/>
          </p:nvGrpSpPr>
          <p:grpSpPr>
            <a:xfrm>
              <a:off x="875880" y="3392640"/>
              <a:ext cx="1577160" cy="2500560"/>
              <a:chOff x="875880" y="3392640"/>
              <a:chExt cx="1577160" cy="2500560"/>
            </a:xfrm>
          </p:grpSpPr>
          <p:sp>
            <p:nvSpPr>
              <p:cNvPr id="510" name=""/>
              <p:cNvSpPr/>
              <p:nvPr/>
            </p:nvSpPr>
            <p:spPr>
              <a:xfrm rot="3876600">
                <a:off x="412560" y="43639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3876600">
                <a:off x="1917360" y="533232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1369800" y="3213720"/>
              <a:ext cx="1209960" cy="1918800"/>
              <a:chOff x="1369800" y="3213720"/>
              <a:chExt cx="1209960" cy="1918800"/>
            </a:xfrm>
          </p:grpSpPr>
          <p:sp>
            <p:nvSpPr>
              <p:cNvPr id="513" name=""/>
              <p:cNvSpPr/>
              <p:nvPr/>
            </p:nvSpPr>
            <p:spPr>
              <a:xfrm flipV="1" rot="3876600">
                <a:off x="1014120" y="395928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 rot="3876600">
                <a:off x="2151360" y="471024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15" name=""/>
          <p:cNvGrpSpPr/>
          <p:nvPr/>
        </p:nvGrpSpPr>
        <p:grpSpPr>
          <a:xfrm>
            <a:off x="396720" y="2292480"/>
            <a:ext cx="1440000" cy="1439640"/>
            <a:chOff x="396720" y="2292480"/>
            <a:chExt cx="1440000" cy="1439640"/>
          </a:xfrm>
        </p:grpSpPr>
        <p:sp>
          <p:nvSpPr>
            <p:cNvPr id="516" name=""/>
            <p:cNvSpPr/>
            <p:nvPr/>
          </p:nvSpPr>
          <p:spPr>
            <a:xfrm>
              <a:off x="396720" y="22924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96720" y="22924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92120" y="238572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92120" y="238896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54040" y="2449440"/>
              <a:ext cx="112536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571320" y="2466720"/>
              <a:ext cx="1090800" cy="1091880"/>
              <a:chOff x="571320" y="2466720"/>
              <a:chExt cx="1090800" cy="1091880"/>
            </a:xfrm>
          </p:grpSpPr>
          <p:sp>
            <p:nvSpPr>
              <p:cNvPr id="522" name=""/>
              <p:cNvSpPr/>
              <p:nvPr/>
            </p:nvSpPr>
            <p:spPr>
              <a:xfrm>
                <a:off x="571320" y="2466720"/>
                <a:ext cx="1090800" cy="10918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85000" y="2472840"/>
                <a:ext cx="106452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96520" y="2483280"/>
                <a:ext cx="1012320" cy="9950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55560" y="2511000"/>
                <a:ext cx="900000" cy="807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6" name=""/>
          <p:cNvSpPr/>
          <p:nvPr/>
        </p:nvSpPr>
        <p:spPr>
          <a:xfrm rot="3925800">
            <a:off x="896400" y="42364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rot="3925800">
            <a:off x="1402200" y="39481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3925800">
            <a:off x="2872800" y="42364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rot="3925800">
            <a:off x="3378600" y="39481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3925800">
            <a:off x="4930200" y="42364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rot="3925800">
            <a:off x="5436000" y="39481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rot="3925800">
            <a:off x="7144920" y="43952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rot="3925800">
            <a:off x="7650720" y="4106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77960" y="1643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768400" y="1643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749840" y="1643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79500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38" name=""/>
          <p:cNvCxnSpPr>
            <a:stCxn id="534" idx="3"/>
            <a:endCxn id="535" idx="1"/>
          </p:cNvCxnSpPr>
          <p:nvPr/>
        </p:nvCxnSpPr>
        <p:spPr>
          <a:xfrm>
            <a:off x="1514160" y="1827000"/>
            <a:ext cx="1222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39" name=""/>
          <p:cNvCxnSpPr>
            <a:stCxn id="535" idx="3"/>
            <a:endCxn id="536" idx="1"/>
          </p:cNvCxnSpPr>
          <p:nvPr/>
        </p:nvCxnSpPr>
        <p:spPr>
          <a:xfrm>
            <a:off x="3504960" y="1827000"/>
            <a:ext cx="1213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40" name=""/>
          <p:cNvCxnSpPr>
            <a:stCxn id="536" idx="3"/>
            <a:endCxn id="537" idx="1"/>
          </p:cNvCxnSpPr>
          <p:nvPr/>
        </p:nvCxnSpPr>
        <p:spPr>
          <a:xfrm>
            <a:off x="5486040" y="1827360"/>
            <a:ext cx="1220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562720" y="25146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9351c9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200400" y="25146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84acca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38080" y="25146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557fe7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06668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557fe7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38616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84acca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71500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9351c9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133720" y="4618080"/>
            <a:ext cx="5562360" cy="1325520"/>
          </a:xfrm>
          <a:prstGeom prst="ellipse">
            <a:avLst/>
          </a:prstGeom>
          <a:solidFill>
            <a:srgbClr val="5f5f5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rot="20601600">
            <a:off x="1407960" y="2504880"/>
            <a:ext cx="5762880" cy="301608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rot="20601600">
            <a:off x="1464840" y="2342880"/>
            <a:ext cx="5562720" cy="29224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rot="20601600">
            <a:off x="1379520" y="2328480"/>
            <a:ext cx="570132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 rot="20602200">
            <a:off x="1357560" y="2360160"/>
            <a:ext cx="5753520" cy="28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rot="20601600">
            <a:off x="1389240" y="2340000"/>
            <a:ext cx="56790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 rot="20602200">
            <a:off x="1371240" y="2347560"/>
            <a:ext cx="5699880" cy="282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rot="20601600">
            <a:off x="2925720" y="305712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241000" y="32796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146120" y="23652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822640" y="28224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248520" y="3355920"/>
            <a:ext cx="1295280" cy="1711440"/>
          </a:xfrm>
          <a:custGeom>
            <a:avLst/>
            <a:gdLst/>
            <a:ahLst/>
            <a:rect l="l" t="t" r="r" b="b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88a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rot="20539200">
            <a:off x="1383120" y="2358000"/>
            <a:ext cx="6258240" cy="297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01" y="14046"/>
                </a:moveTo>
                <a:arcTo wR="10800" hR="10800" stAng="1049521" swAng="2830486"/>
                <a:lnTo>
                  <a:pt x="10800" y="10800"/>
                </a:lnTo>
                <a:close/>
              </a:path>
              <a:path fill="none" w="21600" h="21600">
                <a:moveTo>
                  <a:pt x="21101" y="14046"/>
                </a:moveTo>
                <a:arcTo wR="10800" hR="10800" stAng="1049521" swAng="2830486"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548240" y="3836880"/>
            <a:ext cx="1758960" cy="1236600"/>
          </a:xfrm>
          <a:custGeom>
            <a:avLst/>
            <a:gdLst/>
            <a:ahLst/>
            <a:rect l="l" t="t" r="r" b="b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e8dd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822640" y="38131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069800" y="45752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65040" y="44226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20601600">
            <a:off x="3027240" y="3309480"/>
            <a:ext cx="2586240" cy="1090800"/>
          </a:xfrm>
          <a:prstGeom prst="ellipse">
            <a:avLst/>
          </a:prstGeom>
          <a:solidFill>
            <a:srgbClr val="211e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724280" y="4232160"/>
            <a:ext cx="1282680" cy="1028880"/>
          </a:xfrm>
          <a:custGeom>
            <a:avLst/>
            <a:gdLst/>
            <a:ahLst/>
            <a:rect l="l" t="t" r="r" b="b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905120" y="2819520"/>
            <a:ext cx="5309640" cy="609480"/>
            <a:chOff x="1905120" y="2819520"/>
            <a:chExt cx="5309640" cy="609480"/>
          </a:xfrm>
        </p:grpSpPr>
        <p:grpSp>
          <p:nvGrpSpPr>
            <p:cNvPr id="88" name=""/>
            <p:cNvGrpSpPr/>
            <p:nvPr/>
          </p:nvGrpSpPr>
          <p:grpSpPr>
            <a:xfrm>
              <a:off x="1905120" y="2819520"/>
              <a:ext cx="609120" cy="609480"/>
              <a:chOff x="1905120" y="2819520"/>
              <a:chExt cx="609120" cy="609480"/>
            </a:xfrm>
          </p:grpSpPr>
          <p:sp>
            <p:nvSpPr>
              <p:cNvPr id="89" name=""/>
              <p:cNvSpPr/>
              <p:nvPr/>
            </p:nvSpPr>
            <p:spPr>
              <a:xfrm>
                <a:off x="1905120" y="2819520"/>
                <a:ext cx="609120" cy="609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4acca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905120" y="2819520"/>
                <a:ext cx="60912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4acca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944360" y="2859120"/>
                <a:ext cx="529920" cy="530280"/>
              </a:xfrm>
              <a:prstGeom prst="ellipse">
                <a:avLst/>
              </a:prstGeom>
              <a:gradFill rotWithShape="0">
                <a:gsLst>
                  <a:gs pos="0">
                    <a:srgbClr val="475c6c"/>
                  </a:gs>
                  <a:gs pos="50000">
                    <a:srgbClr val="84acca"/>
                  </a:gs>
                  <a:gs pos="100000">
                    <a:srgbClr val="475c6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983960" y="2898720"/>
                <a:ext cx="529920" cy="530280"/>
              </a:xfrm>
              <a:prstGeom prst="ellipse">
                <a:avLst/>
              </a:prstGeom>
              <a:gradFill rotWithShape="0">
                <a:gsLst>
                  <a:gs pos="0">
                    <a:srgbClr val="84acca">
                      <a:alpha val="0"/>
                    </a:srgbClr>
                  </a:gs>
                  <a:gs pos="100000">
                    <a:srgbClr val="536c7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973160" y="2886120"/>
                <a:ext cx="47592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981080" y="2894040"/>
                <a:ext cx="46152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987200" y="2897280"/>
                <a:ext cx="44892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992240" y="2900520"/>
                <a:ext cx="42804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016000" y="2913120"/>
                <a:ext cx="38052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2414520" y="3381480"/>
              <a:ext cx="480024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43120" y="2847960"/>
              <a:ext cx="43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35080" y="29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947960" y="4648320"/>
            <a:ext cx="5290560" cy="609480"/>
            <a:chOff x="1947960" y="4648320"/>
            <a:chExt cx="5290560" cy="609480"/>
          </a:xfrm>
        </p:grpSpPr>
        <p:grpSp>
          <p:nvGrpSpPr>
            <p:cNvPr id="102" name=""/>
            <p:cNvGrpSpPr/>
            <p:nvPr/>
          </p:nvGrpSpPr>
          <p:grpSpPr>
            <a:xfrm>
              <a:off x="1947960" y="4648320"/>
              <a:ext cx="609120" cy="609480"/>
              <a:chOff x="1947960" y="4648320"/>
              <a:chExt cx="609120" cy="609480"/>
            </a:xfrm>
          </p:grpSpPr>
          <p:sp>
            <p:nvSpPr>
              <p:cNvPr id="103" name=""/>
              <p:cNvSpPr/>
              <p:nvPr/>
            </p:nvSpPr>
            <p:spPr>
              <a:xfrm>
                <a:off x="1947960" y="4648320"/>
                <a:ext cx="609120" cy="609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84acca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947960" y="4648320"/>
                <a:ext cx="609120" cy="60948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84acca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987200" y="4687920"/>
                <a:ext cx="529920" cy="530280"/>
              </a:xfrm>
              <a:prstGeom prst="ellipse">
                <a:avLst/>
              </a:prstGeom>
              <a:gradFill rotWithShape="0">
                <a:gsLst>
                  <a:gs pos="0">
                    <a:srgbClr val="475c6c"/>
                  </a:gs>
                  <a:gs pos="50000">
                    <a:srgbClr val="84acca"/>
                  </a:gs>
                  <a:gs pos="100000">
                    <a:srgbClr val="475c6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026800" y="4727520"/>
                <a:ext cx="529920" cy="530280"/>
              </a:xfrm>
              <a:prstGeom prst="ellipse">
                <a:avLst/>
              </a:prstGeom>
              <a:gradFill rotWithShape="0">
                <a:gsLst>
                  <a:gs pos="0">
                    <a:srgbClr val="84acca">
                      <a:alpha val="0"/>
                    </a:srgbClr>
                  </a:gs>
                  <a:gs pos="100000">
                    <a:srgbClr val="536c7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016000" y="4714920"/>
                <a:ext cx="475920" cy="476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023920" y="4722840"/>
                <a:ext cx="461520" cy="461880"/>
              </a:xfrm>
              <a:prstGeom prst="ellipse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030040" y="4726080"/>
                <a:ext cx="448920" cy="449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8e8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035080" y="4729320"/>
                <a:ext cx="428040" cy="420480"/>
              </a:xfrm>
              <a:prstGeom prst="ellipse">
                <a:avLst/>
              </a:prstGeom>
              <a:gradFill rotWithShape="0">
                <a:gsLst>
                  <a:gs pos="0">
                    <a:srgbClr val="979797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058840" y="4741920"/>
                <a:ext cx="380520" cy="341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2438280" y="5216760"/>
              <a:ext cx="480024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66880" y="4683240"/>
              <a:ext cx="43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87640" y="4716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905120" y="1962000"/>
            <a:ext cx="5333400" cy="628560"/>
            <a:chOff x="1905120" y="1962000"/>
            <a:chExt cx="5333400" cy="628560"/>
          </a:xfrm>
        </p:grpSpPr>
        <p:sp>
          <p:nvSpPr>
            <p:cNvPr id="116" name=""/>
            <p:cNvSpPr/>
            <p:nvPr/>
          </p:nvSpPr>
          <p:spPr>
            <a:xfrm>
              <a:off x="2438280" y="2495520"/>
              <a:ext cx="480024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66880" y="1962000"/>
              <a:ext cx="43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905120" y="1981080"/>
              <a:ext cx="609120" cy="609480"/>
              <a:chOff x="1905120" y="1981080"/>
              <a:chExt cx="609120" cy="60948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1905120" y="1981080"/>
                <a:ext cx="609120" cy="609480"/>
                <a:chOff x="1905120" y="1981080"/>
                <a:chExt cx="609120" cy="60948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2030400" y="20574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905120" y="1981080"/>
                  <a:ext cx="60912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351c9"/>
                    </a:gs>
                    <a:gs pos="100000">
                      <a:srgbClr val="4325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905120" y="1981080"/>
                  <a:ext cx="60912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9351c9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933200" y="1990440"/>
                  <a:ext cx="52992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2b6c"/>
                    </a:gs>
                    <a:gs pos="50000">
                      <a:srgbClr val="9351c9"/>
                    </a:gs>
                    <a:gs pos="100000">
                      <a:srgbClr val="4f2b6c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942920" y="2019240"/>
                  <a:ext cx="52992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351c9">
                        <a:alpha val="0"/>
                      </a:srgbClr>
                    </a:gs>
                    <a:gs pos="100000">
                      <a:srgbClr val="5d337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962000" y="2038320"/>
                  <a:ext cx="475920" cy="4762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981080" y="2055600"/>
                  <a:ext cx="461520" cy="46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85858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987200" y="2058840"/>
                  <a:ext cx="448920" cy="44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8e8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992240" y="2062080"/>
                  <a:ext cx="42804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79797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016000" y="2074680"/>
                  <a:ext cx="38052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"/>
              <p:cNvSpPr/>
              <p:nvPr/>
            </p:nvSpPr>
            <p:spPr>
              <a:xfrm>
                <a:off x="2030400" y="20574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"/>
          <p:cNvGrpSpPr/>
          <p:nvPr/>
        </p:nvGrpSpPr>
        <p:grpSpPr>
          <a:xfrm>
            <a:off x="1905120" y="3768840"/>
            <a:ext cx="5333400" cy="631800"/>
            <a:chOff x="1905120" y="3768840"/>
            <a:chExt cx="5333400" cy="631800"/>
          </a:xfrm>
        </p:grpSpPr>
        <p:sp>
          <p:nvSpPr>
            <p:cNvPr id="132" name=""/>
            <p:cNvSpPr/>
            <p:nvPr/>
          </p:nvSpPr>
          <p:spPr>
            <a:xfrm>
              <a:off x="2438280" y="4302360"/>
              <a:ext cx="4800240" cy="144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66880" y="3768840"/>
              <a:ext cx="434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1905120" y="3791160"/>
              <a:ext cx="609120" cy="609480"/>
              <a:chOff x="1905120" y="3791160"/>
              <a:chExt cx="609120" cy="60948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1905120" y="3791160"/>
                <a:ext cx="609120" cy="609480"/>
                <a:chOff x="1905120" y="3791160"/>
                <a:chExt cx="609120" cy="6094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2030400" y="386748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905120" y="3791160"/>
                  <a:ext cx="60912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351c9"/>
                    </a:gs>
                    <a:gs pos="100000">
                      <a:srgbClr val="4325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905120" y="3791160"/>
                  <a:ext cx="609120" cy="609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9351c9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933200" y="3800520"/>
                  <a:ext cx="52992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f2b6c"/>
                    </a:gs>
                    <a:gs pos="50000">
                      <a:srgbClr val="9351c9"/>
                    </a:gs>
                    <a:gs pos="100000">
                      <a:srgbClr val="4f2b6c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942920" y="3829320"/>
                  <a:ext cx="529920" cy="53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351c9">
                        <a:alpha val="0"/>
                      </a:srgbClr>
                    </a:gs>
                    <a:gs pos="100000">
                      <a:srgbClr val="5d337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962000" y="3848400"/>
                  <a:ext cx="475920" cy="4762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981080" y="3865680"/>
                  <a:ext cx="461520" cy="46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85858"/>
                    </a:gs>
                    <a:gs pos="100000">
                      <a:srgbClr val="c0c0c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987200" y="3868920"/>
                  <a:ext cx="448920" cy="44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0c0c0">
                        <a:alpha val="0"/>
                      </a:srgbClr>
                    </a:gs>
                    <a:gs pos="100000">
                      <a:srgbClr val="e8e8e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992240" y="3872160"/>
                  <a:ext cx="428040" cy="42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79797"/>
                    </a:gs>
                    <a:gs pos="100000">
                      <a:srgbClr val="c0c0c0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016000" y="3884760"/>
                  <a:ext cx="380520" cy="341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c0c0c0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6" name=""/>
              <p:cNvSpPr/>
              <p:nvPr/>
            </p:nvSpPr>
            <p:spPr>
              <a:xfrm>
                <a:off x="2030400" y="3867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2514240" y="4723920"/>
            <a:ext cx="60786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cc9d"/>
                </a:solidFill>
                <a:latin typeface="Arial"/>
              </a:rPr>
              <a:t>Click to edit subtitle style</a:t>
            </a: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657600" y="5257800"/>
            <a:ext cx="4876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f1f53"/>
                    </a:gs>
                    <a:gs pos="100000">
                      <a:srgbClr val="84acca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f1f53"/>
                  </a:gs>
                  <a:gs pos="100000">
                    <a:srgbClr val="84acca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t Ti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3cc9d"/>
                </a:solidFill>
                <a:latin typeface="Arial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f3cc9d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84acca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84acca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84acca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84acca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f3cc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f3cc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bc6ec"/>
              </a:gs>
              <a:gs pos="100000">
                <a:srgbClr val="9351c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8d5f6"/>
              </a:gs>
              <a:gs pos="100000">
                <a:srgbClr val="557fe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048120" y="1371600"/>
            <a:ext cx="2998440" cy="1601280"/>
            <a:chOff x="3048120" y="1371600"/>
            <a:chExt cx="2998440" cy="1601280"/>
          </a:xfrm>
        </p:grpSpPr>
        <p:grpSp>
          <p:nvGrpSpPr>
            <p:cNvPr id="156" name=""/>
            <p:cNvGrpSpPr/>
            <p:nvPr/>
          </p:nvGrpSpPr>
          <p:grpSpPr>
            <a:xfrm>
              <a:off x="3048120" y="1514520"/>
              <a:ext cx="2998440" cy="1458360"/>
              <a:chOff x="3048120" y="1514520"/>
              <a:chExt cx="2998440" cy="1458360"/>
            </a:xfrm>
          </p:grpSpPr>
          <p:sp>
            <p:nvSpPr>
              <p:cNvPr id="157" name=""/>
              <p:cNvSpPr/>
              <p:nvPr/>
            </p:nvSpPr>
            <p:spPr>
              <a:xfrm>
                <a:off x="3080880" y="15609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472761"/>
                  </a:gs>
                  <a:gs pos="100000">
                    <a:srgbClr val="9351c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048120" y="151452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9351c9"/>
                  </a:gs>
                  <a:gs pos="100000">
                    <a:srgbClr val="ceb1e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318924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557fe7"/>
                </a:gs>
                <a:gs pos="100000">
                  <a:srgbClr val="273a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24160" y="137952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c2d1f5"/>
                </a:gs>
                <a:gs pos="100000">
                  <a:srgbClr val="557fe7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51160" y="139212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557fe7">
                    <a:alpha val="48235"/>
                  </a:srgbClr>
                </a:gs>
                <a:gs pos="100000">
                  <a:srgbClr val="4364b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82920" y="141912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557fe7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10400" y="33526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 rot="20241600">
            <a:off x="1236600" y="2614320"/>
            <a:ext cx="6853320" cy="280332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84acca"/>
              </a:gs>
              <a:gs pos="100000">
                <a:srgbClr val="f2f6f9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20056200">
            <a:off x="4571640" y="2590560"/>
            <a:ext cx="1066680" cy="30456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20056200">
            <a:off x="7467120" y="2895120"/>
            <a:ext cx="1067040" cy="30492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20056200">
            <a:off x="2971440" y="5790960"/>
            <a:ext cx="1066680" cy="30456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20056200">
            <a:off x="5714640" y="5181120"/>
            <a:ext cx="1066680" cy="30492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20056200">
            <a:off x="2057040" y="4114440"/>
            <a:ext cx="1066680" cy="30492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68640" y="17524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9351c9"/>
              </a:gs>
              <a:gs pos="100000">
                <a:srgbClr val="321b4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54040" y="32767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557fe7"/>
              </a:gs>
              <a:gs pos="100000">
                <a:srgbClr val="1a274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36760" y="497376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84acca"/>
              </a:gs>
              <a:gs pos="100000">
                <a:srgbClr val="2e3d4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11640" y="43434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f3cc9d"/>
              </a:gs>
              <a:gs pos="100000">
                <a:srgbClr val="66564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40440" y="198108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3eb2ac"/>
              </a:gs>
              <a:gs pos="100000">
                <a:srgbClr val="153d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06760" y="38098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98400" y="22096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0240" y="24876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40320" y="48006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19360" y="54244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87760" y="373860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31960" y="2039760"/>
            <a:ext cx="1793880" cy="1617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4" name=""/>
          <p:cNvCxnSpPr/>
          <p:nvPr/>
        </p:nvCxnSpPr>
        <p:spPr>
          <a:xfrm flipH="1">
            <a:off x="615600" y="2039400"/>
            <a:ext cx="201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693360" y="16002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752480" y="1523880"/>
            <a:ext cx="5562720" cy="1306440"/>
            <a:chOff x="1752480" y="1523880"/>
            <a:chExt cx="5562720" cy="1306440"/>
          </a:xfrm>
        </p:grpSpPr>
        <p:sp>
          <p:nvSpPr>
            <p:cNvPr id="188" name=""/>
            <p:cNvSpPr/>
            <p:nvPr/>
          </p:nvSpPr>
          <p:spPr>
            <a:xfrm>
              <a:off x="1752480" y="152388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74880" y="164448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68d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41480" y="171288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3aae2"/>
                </a:gs>
                <a:gs pos="50000">
                  <a:srgbClr val="0066cc">
                    <a:alpha val="0"/>
                  </a:srgbClr>
                </a:gs>
                <a:gs pos="100000">
                  <a:srgbClr val="73aae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972080" y="193680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92400" y="1725480"/>
              <a:ext cx="408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752480" y="2967120"/>
            <a:ext cx="5562720" cy="1306440"/>
            <a:chOff x="1752480" y="2967120"/>
            <a:chExt cx="5562720" cy="1306440"/>
          </a:xfrm>
        </p:grpSpPr>
        <p:sp>
          <p:nvSpPr>
            <p:cNvPr id="194" name=""/>
            <p:cNvSpPr/>
            <p:nvPr/>
          </p:nvSpPr>
          <p:spPr>
            <a:xfrm>
              <a:off x="1752480" y="2967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74880" y="3087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a6a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941480" y="315612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9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72080" y="33814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92400" y="314496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752480" y="4427640"/>
            <a:ext cx="5562720" cy="1306440"/>
            <a:chOff x="1752480" y="4427640"/>
            <a:chExt cx="5562720" cy="1306440"/>
          </a:xfrm>
        </p:grpSpPr>
        <p:sp>
          <p:nvSpPr>
            <p:cNvPr id="200" name=""/>
            <p:cNvSpPr/>
            <p:nvPr/>
          </p:nvSpPr>
          <p:spPr>
            <a:xfrm>
              <a:off x="1752480" y="442764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74880" y="454824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46614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41480" y="461664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c941e">
                    <a:alpha val="0"/>
                  </a:srgbClr>
                </a:gs>
                <a:gs pos="100000">
                  <a:srgbClr val="f4ca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72080" y="48405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92400" y="460548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38080" y="1447920"/>
            <a:ext cx="7383960" cy="4420800"/>
            <a:chOff x="838080" y="1447920"/>
            <a:chExt cx="7383960" cy="4420800"/>
          </a:xfrm>
        </p:grpSpPr>
        <p:grpSp>
          <p:nvGrpSpPr>
            <p:cNvPr id="207" name=""/>
            <p:cNvGrpSpPr/>
            <p:nvPr/>
          </p:nvGrpSpPr>
          <p:grpSpPr>
            <a:xfrm>
              <a:off x="2361960" y="1447920"/>
              <a:ext cx="4419360" cy="4376160"/>
              <a:chOff x="2361960" y="1447920"/>
              <a:chExt cx="4419360" cy="4376160"/>
            </a:xfrm>
          </p:grpSpPr>
          <p:sp>
            <p:nvSpPr>
              <p:cNvPr id="208" name="Puzzle3"/>
              <p:cNvSpPr/>
              <p:nvPr/>
            </p:nvSpPr>
            <p:spPr>
              <a:xfrm>
                <a:off x="4513680" y="1447920"/>
                <a:ext cx="1737360" cy="2325600"/>
              </a:xfrm>
              <a:prstGeom prst="pie">
                <a:avLst/>
              </a:prstGeom>
              <a:gradFill rotWithShape="0">
                <a:gsLst>
                  <a:gs pos="0">
                    <a:srgbClr val="355092"/>
                  </a:gs>
                  <a:gs pos="100000">
                    <a:srgbClr val="557fe7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Puzzle2"/>
              <p:cNvSpPr/>
              <p:nvPr/>
            </p:nvSpPr>
            <p:spPr>
              <a:xfrm>
                <a:off x="4008960" y="3142080"/>
                <a:ext cx="2772360" cy="2118240"/>
              </a:xfrm>
              <a:prstGeom prst="pie">
                <a:avLst/>
              </a:prstGeom>
              <a:gradFill rotWithShape="0">
                <a:gsLst>
                  <a:gs pos="0">
                    <a:srgbClr val="c6d8e5"/>
                  </a:gs>
                  <a:gs pos="100000">
                    <a:srgbClr val="84acca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Puzzle4"/>
              <p:cNvSpPr/>
              <p:nvPr/>
            </p:nvSpPr>
            <p:spPr>
              <a:xfrm>
                <a:off x="2935800" y="3116160"/>
                <a:ext cx="1671480" cy="2707920"/>
              </a:xfrm>
              <a:prstGeom prst="pie">
                <a:avLst/>
              </a:prstGeom>
              <a:gradFill rotWithShape="0">
                <a:gsLst>
                  <a:gs pos="0">
                    <a:srgbClr val="c6a4e2"/>
                  </a:gs>
                  <a:gs pos="100000">
                    <a:srgbClr val="9351c9"/>
                  </a:gs>
                </a:gsLst>
                <a:lin ang="81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Puzzle1"/>
              <p:cNvSpPr/>
              <p:nvPr/>
            </p:nvSpPr>
            <p:spPr>
              <a:xfrm>
                <a:off x="2361960" y="2151360"/>
                <a:ext cx="2807280" cy="1614240"/>
              </a:xfrm>
              <a:prstGeom prst="pie">
                <a:avLst/>
              </a:prstGeom>
              <a:gradFill rotWithShape="0">
                <a:gsLst>
                  <a:gs pos="0">
                    <a:srgbClr val="1c524f"/>
                  </a:gs>
                  <a:gs pos="100000">
                    <a:srgbClr val="3eb2ac"/>
                  </a:gs>
                </a:gsLst>
                <a:lin ang="135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6477840" y="382392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8080" y="321444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590560" y="152388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67080" y="550044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1752480"/>
            <a:ext cx="3833640" cy="3834000"/>
          </a:xfrm>
          <a:prstGeom prst="donut">
            <a:avLst>
              <a:gd name="adj" fmla="val 8861"/>
            </a:avLst>
          </a:prstGeom>
          <a:gradFill rotWithShape="0">
            <a:gsLst>
              <a:gs pos="0">
                <a:srgbClr val="97b0ef">
                  <a:alpha val="12156"/>
                </a:srgbClr>
              </a:gs>
              <a:gs pos="50000">
                <a:srgbClr val="557fe7"/>
              </a:gs>
              <a:gs pos="100000">
                <a:srgbClr val="97b0ef">
                  <a:alpha val="1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20574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84acca"/>
              </a:gs>
              <a:gs pos="100000">
                <a:srgbClr val="b8cfe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52720" y="20829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4f6fc"/>
              </a:gs>
              <a:gs pos="100000">
                <a:srgbClr val="557fe7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f53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183200" y="27446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dfbf8"/>
              </a:gs>
              <a:gs pos="100000">
                <a:srgbClr val="f3cc9d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f53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49600" y="34052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4f6fc"/>
              </a:gs>
              <a:gs pos="100000">
                <a:srgbClr val="557fe7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f53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83200" y="40654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dfbf8"/>
              </a:gs>
              <a:gs pos="100000">
                <a:srgbClr val="f3cc9d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f53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52720" y="47275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4f6fc"/>
              </a:gs>
              <a:gs pos="100000">
                <a:srgbClr val="557fe7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f53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720" y="28195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o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227" name="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228" name=""/>
              <p:cNvSpPr/>
              <p:nvPr/>
            </p:nvSpPr>
            <p:spPr>
              <a:xfrm>
                <a:off x="3404160" y="1862280"/>
                <a:ext cx="2340720" cy="1945800"/>
              </a:xfrm>
              <a:prstGeom prst="hexagon">
                <a:avLst>
                  <a:gd name="adj" fmla="val 300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384720" y="1828800"/>
                <a:ext cx="2340360" cy="1945440"/>
              </a:xfrm>
              <a:prstGeom prst="hexagon">
                <a:avLst>
                  <a:gd name="adj" fmla="val 300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521880" y="1945800"/>
                <a:ext cx="2057040" cy="1711080"/>
              </a:xfrm>
              <a:prstGeom prst="hexagon">
                <a:avLst>
                  <a:gd name="adj" fmla="val 30055"/>
                  <a:gd name="vf" fmla="val 115470"/>
                </a:avLst>
              </a:prstGeom>
              <a:gradFill rotWithShape="0">
                <a:gsLst>
                  <a:gs pos="0">
                    <a:srgbClr val="2614aa"/>
                  </a:gs>
                  <a:gs pos="100000">
                    <a:srgbClr val="7262ec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1614600" y="2814480"/>
              <a:ext cx="2361960" cy="1979280"/>
              <a:chOff x="1614600" y="2814480"/>
              <a:chExt cx="2361960" cy="1979280"/>
            </a:xfrm>
          </p:grpSpPr>
          <p:sp>
            <p:nvSpPr>
              <p:cNvPr id="232" name=""/>
              <p:cNvSpPr/>
              <p:nvPr/>
            </p:nvSpPr>
            <p:spPr>
              <a:xfrm>
                <a:off x="1634040" y="284796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751760" y="293148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115d16"/>
                  </a:gs>
                  <a:gs pos="100000">
                    <a:srgbClr val="24b443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5181840" y="2819520"/>
              <a:ext cx="2361600" cy="1979280"/>
              <a:chOff x="5181840" y="2819520"/>
              <a:chExt cx="2361600" cy="1979280"/>
            </a:xfrm>
          </p:grpSpPr>
          <p:sp>
            <p:nvSpPr>
              <p:cNvPr id="238" name=""/>
              <p:cNvSpPr/>
              <p:nvPr/>
            </p:nvSpPr>
            <p:spPr>
              <a:xfrm>
                <a:off x="5201280" y="2853000"/>
                <a:ext cx="2342160" cy="194580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81840" y="281952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319000" y="2936520"/>
                <a:ext cx="2058120" cy="1711080"/>
              </a:xfrm>
              <a:prstGeom prst="hexagon">
                <a:avLst>
                  <a:gd name="adj" fmla="val 30070"/>
                  <a:gd name="vf" fmla="val 115470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6c440d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3400560" y="3795840"/>
              <a:ext cx="2361960" cy="1979280"/>
              <a:chOff x="3400560" y="3795840"/>
              <a:chExt cx="2361960" cy="1979280"/>
            </a:xfrm>
          </p:grpSpPr>
          <p:sp>
            <p:nvSpPr>
              <p:cNvPr id="243" name=""/>
              <p:cNvSpPr/>
              <p:nvPr/>
            </p:nvSpPr>
            <p:spPr>
              <a:xfrm>
                <a:off x="3420000" y="382932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537720" y="391284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09:36:36Z</dcterms:created>
  <dc:creator/>
  <dc:description/>
  <cp:keywords>幻灯片之家 http:/www.eeppt.com</cp:keywords>
  <dc:language>en-US</dc:language>
  <cp:lastModifiedBy/>
  <dcterms:modified xsi:type="dcterms:W3CDTF">2015-07-05T02:48:18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