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634-D3CF-410D-A5FC-CCCF37DD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2F0-8BB4-4258-871D-D85E433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A1D-A0B7-499F-86F4-253263A0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89C-46E0-4AFA-B6DA-B3376DF6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E44-D9E9-4539-840A-0EA6B7B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F78-FCE7-4502-8D56-DE8AFB6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2F8-F62F-4356-B4ED-F8A6259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F0C-CECE-4A00-A1E0-07216D7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57C-4DC4-48A8-AD84-F04E20B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842-CB45-46DA-B5B6-DC0C53E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D6E-B698-4692-B39E-BFDBDAE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D68-3DCF-4C35-BAC8-8415C91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B156-DA47-4DCD-9BD3-17D1C57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E6B2-8C60-45AF-9F61-C9331A7E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FB4B-6A2D-4B86-BC14-E7D7362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431-C2CB-4591-A389-EAA589B5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5BC2-8CB9-4E2F-BAB1-91D68145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EC98-36DA-4542-BD83-559D6A5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CA0-7DD8-4E91-AAE7-A023C979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0D46-AE16-4A82-9C33-A23706A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A2D-3A27-4520-A983-6FC91A9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946-5C54-42A5-BF21-874EFCA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84C-28E3-40D4-8216-BDB6D19F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E0AF-8912-4A87-9601-7DA641B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9B98-E566-4F4F-A675-1B3F1A6235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1AC0-C95C-489F-9C36-608122B326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  <a:ea typeface="宋体"/>
              </a:rPr>
              <a:t>EXCHANGE MAT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23720" y="45720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AF9-8CD5-4A1A-B955-F59EDDDE1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85800" y="320040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548640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素材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22093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exchange_pizzaz_qx"/>
          <p:cNvPicPr/>
          <p:nvPr/>
        </p:nvPicPr>
        <p:blipFill>
          <a:blip r:embed="rId1"/>
          <a:stretch/>
        </p:blipFill>
        <p:spPr>
          <a:xfrm>
            <a:off x="157788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xchange_pizzaz_prt"/>
          <p:cNvPicPr/>
          <p:nvPr/>
        </p:nvPicPr>
        <p:blipFill>
          <a:blip r:embed="rId2"/>
          <a:stretch/>
        </p:blipFill>
        <p:spPr>
          <a:xfrm>
            <a:off x="576900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xchange_pizzaz_sld"/>
          <p:cNvPicPr/>
          <p:nvPr/>
        </p:nvPicPr>
        <p:blipFill>
          <a:blip r:embed="rId3"/>
          <a:stretch/>
        </p:blipFill>
        <p:spPr>
          <a:xfrm>
            <a:off x="1576440" y="466236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exchange_pizzaz_trs"/>
          <p:cNvPicPr/>
          <p:nvPr/>
        </p:nvPicPr>
        <p:blipFill>
          <a:blip r:embed="rId4"/>
          <a:stretch/>
        </p:blipFill>
        <p:spPr>
          <a:xfrm>
            <a:off x="5767560" y="466236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28:58Z</dcterms:created>
  <dc:creator/>
  <dc:description/>
  <cp:keywords>幻灯片之家 http:/www.eeppt.com</cp:keywords>
  <dc:language>en-US</dc:language>
  <cp:lastModifiedBy/>
  <dcterms:modified xsi:type="dcterms:W3CDTF">2015-07-06T13:30:2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