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16A-C35D-4D68-AE59-F6829367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725-9F93-4CE2-BD8D-A0EDCE95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00F-1FF2-4F7C-A53F-466E0168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D11-0E01-42B2-8BFE-DF76401D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50E-16CB-42B8-858F-D079BF03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3EA-F977-453B-BBCC-7F5F7FFE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DC2-9EB7-41D2-ACB1-DE58F4C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033-2E1F-493F-B51D-D10120B7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445-8BFB-4DAD-9419-0574539F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579-3544-4881-9AB5-AAFB84B3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6C0-4738-406E-9BD3-A7E0C018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5E4-6317-4839-8552-F8BA3D3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9D24-F98D-4028-8AE7-00229ED5A4C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2A35-0F80-4D9E-8E42-A0C6CBB0E11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your-first-step-to-the-software-industry-1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65120" y="6416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42400" y="126036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国外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免费下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your-first-step-to-the-software-industry-10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your-first-step-to-the-software-industry-11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your-first-step-to-the-software-industry-12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your-first-step-to-the-software-industry-13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your-first-step-to-the-software-industry-14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your-first-step-to-the-software-industry-15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your-first-step-to-the-software-industry-16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your-first-step-to-the-software-industry-17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your-first-step-to-the-software-industry-18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your-first-step-to-the-software-industry-19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your-first-step-to-the-software-industry-2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your-first-step-to-the-software-industry-20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your-first-step-to-the-software-industry-21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your-first-step-to-the-software-industry-22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your-first-step-to-the-software-industry-23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your-first-step-to-the-software-industry-24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95480" y="51786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your-first-step-to-the-software-industry-25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891-1C4C-4DD9-A29D-F7D556E95D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your-first-step-to-the-software-industry-26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your-first-step-to-the-software-industry-27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your-first-step-to-the-software-industry-28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your-first-step-to-the-software-industry-3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your-first-step-to-the-software-industry-4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your-first-step-to-the-software-industry-5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your-first-step-to-the-software-industry-6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your-first-step-to-the-software-industry-7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your-first-step-to-the-software-industry-8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your-first-step-to-the-software-industry-9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9:11:00Z</dcterms:created>
  <dc:creator/>
  <dc:description/>
  <cp:keywords>幻灯片之家 http:/www.eeppt.com</cp:keywords>
  <dc:language>en-US</dc:language>
  <cp:lastModifiedBy/>
  <dcterms:modified xsi:type="dcterms:W3CDTF">2015-07-06T13:31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