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74E0-29EE-4ABC-9F0F-01EE63AA3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8166-523E-4B2D-B6EF-DFFB8B8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C69A-647A-40C8-8C16-9BEEC31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08D4-92C8-4361-92EB-3B10F2468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B7C1-F78B-411E-8A98-BC45BF341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A9CD-5548-41B2-8435-BA66737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02139-1111-4C9F-A08C-FB824C4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AD7A1-2E92-4030-95EE-128B3F0C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6C1B3-6063-4B49-84AB-2A31E8AD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E3E3A-BD27-4EFA-A8A3-5D0F2482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264B-A222-49C1-BD74-B95FF0A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2057-59A9-4C89-9018-A1FC22D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A55BA-A23F-4731-83CB-F28117A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97F30-5B74-4EAA-82A3-FEBCB5F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99FC-0BCB-44DD-9821-2B1D4CC4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E5CFF-5E2A-454D-9508-49A780C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3717E-9B06-424C-886E-8B08EEA6B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F374-1738-4C5B-9F0E-5B5C4763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0FB1-9E59-4DEC-B410-0066370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CE2F-C6CB-4BD2-A3BA-732B153F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4AB5-7885-46C9-B505-75A0FCB2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48D6-AD42-4DA1-80DF-1320A32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9246-3970-4EA4-A7C2-BEAFA98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170A-1E2A-4FA6-8827-9E6217A0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79000" y="6514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1498680" y="6514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7E4-0CAF-40B7-BAF1-08E1352FA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81800" y="632448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53080"/>
            <a:ext cx="5715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7200" y="647676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82880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995F-2D96-4157-AF25-0E58DEB6C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4600" y="6375240"/>
            <a:ext cx="5257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国外优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63868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557f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876400">
            <a:off x="323064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6224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276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9256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020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826600">
            <a:off x="144792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3352680"/>
            <a:ext cx="1371240" cy="1441080"/>
            <a:chOff x="1371600" y="3352680"/>
            <a:chExt cx="1371240" cy="1441080"/>
          </a:xfrm>
        </p:grpSpPr>
        <p:sp>
          <p:nvSpPr>
            <p:cNvPr id="259" name=""/>
            <p:cNvSpPr/>
            <p:nvPr/>
          </p:nvSpPr>
          <p:spPr>
            <a:xfrm>
              <a:off x="13716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8960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256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420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20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90720" y="2692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06064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79640" y="20653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90440" y="207648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4440" y="210168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63960" y="2435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9544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784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2720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3368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004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8804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285" name="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288" name="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291" name="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294" name="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297" name="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00" name="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49960" y="5112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3255c"/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307" name="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7760" y="2949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75040" y="2958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0880" y="2973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1880" y="3009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25" name="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744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337" name="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517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06080" y="3214080"/>
            <a:ext cx="1703880" cy="2679120"/>
            <a:chOff x="4906080" y="3214080"/>
            <a:chExt cx="1703880" cy="2679120"/>
          </a:xfrm>
        </p:grpSpPr>
        <p:grpSp>
          <p:nvGrpSpPr>
            <p:cNvPr id="359" name=""/>
            <p:cNvGrpSpPr/>
            <p:nvPr/>
          </p:nvGrpSpPr>
          <p:grpSpPr>
            <a:xfrm>
              <a:off x="4906080" y="3392640"/>
              <a:ext cx="1577160" cy="2500560"/>
              <a:chOff x="4906080" y="3392640"/>
              <a:chExt cx="1577160" cy="2500560"/>
            </a:xfrm>
          </p:grpSpPr>
          <p:sp>
            <p:nvSpPr>
              <p:cNvPr id="360" name=""/>
              <p:cNvSpPr/>
              <p:nvPr/>
            </p:nvSpPr>
            <p:spPr>
              <a:xfrm rot="3876600">
                <a:off x="44427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3876600">
                <a:off x="59475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363" name="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366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22680" y="23857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22680" y="23889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84600" y="24494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601880" y="2466720"/>
              <a:ext cx="1090440" cy="1091880"/>
              <a:chOff x="4601880" y="2466720"/>
              <a:chExt cx="1090440" cy="1091880"/>
            </a:xfrm>
          </p:grpSpPr>
          <p:sp>
            <p:nvSpPr>
              <p:cNvPr id="372" name=""/>
              <p:cNvSpPr/>
              <p:nvPr/>
            </p:nvSpPr>
            <p:spPr>
              <a:xfrm>
                <a:off x="4601880" y="24667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15560" y="24728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27080" y="24832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86120" y="25110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7138080" y="3287160"/>
            <a:ext cx="1703880" cy="2679120"/>
            <a:chOff x="7138080" y="3287160"/>
            <a:chExt cx="1703880" cy="2679120"/>
          </a:xfrm>
        </p:grpSpPr>
        <p:grpSp>
          <p:nvGrpSpPr>
            <p:cNvPr id="377" name=""/>
            <p:cNvGrpSpPr/>
            <p:nvPr/>
          </p:nvGrpSpPr>
          <p:grpSpPr>
            <a:xfrm>
              <a:off x="7138080" y="3465720"/>
              <a:ext cx="1577160" cy="2500560"/>
              <a:chOff x="7138080" y="3465720"/>
              <a:chExt cx="1577160" cy="2500560"/>
            </a:xfrm>
          </p:grpSpPr>
          <p:sp>
            <p:nvSpPr>
              <p:cNvPr id="378" name=""/>
              <p:cNvSpPr/>
              <p:nvPr/>
            </p:nvSpPr>
            <p:spPr>
              <a:xfrm rot="3876600">
                <a:off x="667476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3876600">
                <a:off x="8179560" y="5405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381" name="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389" name="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69720" y="23504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58760" y="3213720"/>
            <a:ext cx="1703880" cy="2679480"/>
            <a:chOff x="2858760" y="3213720"/>
            <a:chExt cx="1703880" cy="2679480"/>
          </a:xfrm>
        </p:grpSpPr>
        <p:grpSp>
          <p:nvGrpSpPr>
            <p:cNvPr id="394" name="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395" name="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76600">
                <a:off x="390024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352680" y="3213720"/>
              <a:ext cx="1209960" cy="1918800"/>
              <a:chOff x="3352680" y="3213720"/>
              <a:chExt cx="1209960" cy="1918800"/>
            </a:xfrm>
          </p:grpSpPr>
          <p:sp>
            <p:nvSpPr>
              <p:cNvPr id="398" name=""/>
              <p:cNvSpPr/>
              <p:nvPr/>
            </p:nvSpPr>
            <p:spPr>
              <a:xfrm flipV="1" rot="3876600">
                <a:off x="299700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3876600">
                <a:off x="413424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2379600" y="2292480"/>
            <a:ext cx="1440000" cy="1439640"/>
            <a:chOff x="2379600" y="2292480"/>
            <a:chExt cx="1440000" cy="1439640"/>
          </a:xfrm>
        </p:grpSpPr>
        <p:sp>
          <p:nvSpPr>
            <p:cNvPr id="401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7500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500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692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554200" y="2466720"/>
              <a:ext cx="1090800" cy="1091880"/>
              <a:chOff x="2554200" y="2466720"/>
              <a:chExt cx="1090800" cy="1091880"/>
            </a:xfrm>
          </p:grpSpPr>
          <p:sp>
            <p:nvSpPr>
              <p:cNvPr id="407" name=""/>
              <p:cNvSpPr/>
              <p:nvPr/>
            </p:nvSpPr>
            <p:spPr>
              <a:xfrm>
                <a:off x="255420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6788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7940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3844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875880" y="3213720"/>
            <a:ext cx="1703880" cy="2679480"/>
            <a:chOff x="875880" y="3213720"/>
            <a:chExt cx="1703880" cy="2679480"/>
          </a:xfrm>
        </p:grpSpPr>
        <p:grpSp>
          <p:nvGrpSpPr>
            <p:cNvPr id="412" name="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19173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369800" y="3213720"/>
              <a:ext cx="1209960" cy="1918800"/>
              <a:chOff x="1369800" y="3213720"/>
              <a:chExt cx="1209960" cy="191880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101412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215136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96720" y="2292480"/>
            <a:ext cx="1440000" cy="1439640"/>
            <a:chOff x="396720" y="2292480"/>
            <a:chExt cx="1440000" cy="1439640"/>
          </a:xfrm>
        </p:grpSpPr>
        <p:sp>
          <p:nvSpPr>
            <p:cNvPr id="419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212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12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404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71320" y="2466720"/>
              <a:ext cx="1090800" cy="1091880"/>
              <a:chOff x="571320" y="2466720"/>
              <a:chExt cx="1090800" cy="1091880"/>
            </a:xfrm>
          </p:grpSpPr>
          <p:sp>
            <p:nvSpPr>
              <p:cNvPr id="425" name=""/>
              <p:cNvSpPr/>
              <p:nvPr/>
            </p:nvSpPr>
            <p:spPr>
              <a:xfrm>
                <a:off x="57132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500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652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56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7" idx="3"/>
            <a:endCxn id="438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8" idx="3"/>
            <a:endCxn id="439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9" idx="3"/>
            <a:endCxn id="440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351c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351c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514240" y="419112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subtitle styl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657600" y="48006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88" name="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1080" y="19479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25360" y="19872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981080" y="2862360"/>
            <a:ext cx="762120" cy="664920"/>
            <a:chOff x="1981080" y="2862360"/>
            <a:chExt cx="762120" cy="664920"/>
          </a:xfrm>
        </p:grpSpPr>
        <p:sp>
          <p:nvSpPr>
            <p:cNvPr id="92" name=""/>
            <p:cNvSpPr/>
            <p:nvPr/>
          </p:nvSpPr>
          <p:spPr>
            <a:xfrm>
              <a:off x="1987200" y="2873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2862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5360" y="29016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754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5360" y="37936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1080" y="4668840"/>
            <a:ext cx="762120" cy="665280"/>
            <a:chOff x="1981080" y="4668840"/>
            <a:chExt cx="762120" cy="665280"/>
          </a:xfrm>
        </p:grpSpPr>
        <p:sp>
          <p:nvSpPr>
            <p:cNvPr id="106" name=""/>
            <p:cNvSpPr/>
            <p:nvPr/>
          </p:nvSpPr>
          <p:spPr>
            <a:xfrm>
              <a:off x="1987200" y="4680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4668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5360" y="47080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0241600">
            <a:off x="123624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f2f6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056200">
            <a:off x="7467120" y="2666520"/>
            <a:ext cx="106704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056200">
            <a:off x="2971440" y="56383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864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351c9"/>
              </a:gs>
              <a:gs pos="100000">
                <a:srgbClr val="321b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404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57fe7"/>
              </a:gs>
              <a:gs pos="100000">
                <a:srgbClr val="1a2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3676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2e3d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1164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f3cc9d"/>
              </a:gs>
              <a:gs pos="100000">
                <a:srgbClr val="6656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044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eb2ac"/>
              </a:gs>
              <a:gs pos="100000">
                <a:srgbClr val="153d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6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8400" y="2057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024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4032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19360" y="5272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776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3196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 flipH="1">
            <a:off x="61560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9336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3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4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5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1447920"/>
            <a:ext cx="7383960" cy="4420800"/>
            <a:chOff x="838080" y="1447920"/>
            <a:chExt cx="7383960" cy="4420800"/>
          </a:xfrm>
        </p:grpSpPr>
        <p:grpSp>
          <p:nvGrpSpPr>
            <p:cNvPr id="157" name=""/>
            <p:cNvGrpSpPr/>
            <p:nvPr/>
          </p:nvGrpSpPr>
          <p:grpSpPr>
            <a:xfrm>
              <a:off x="2361960" y="1447920"/>
              <a:ext cx="4419360" cy="4376160"/>
              <a:chOff x="2361960" y="1447920"/>
              <a:chExt cx="4419360" cy="4376160"/>
            </a:xfrm>
          </p:grpSpPr>
          <p:sp>
            <p:nvSpPr>
              <p:cNvPr id="158" name="Puzzle3"/>
              <p:cNvSpPr/>
              <p:nvPr/>
            </p:nvSpPr>
            <p:spPr>
              <a:xfrm>
                <a:off x="451368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55092"/>
                  </a:gs>
                  <a:gs pos="100000">
                    <a:srgbClr val="557fe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Puzzle2"/>
              <p:cNvSpPr/>
              <p:nvPr/>
            </p:nvSpPr>
            <p:spPr>
              <a:xfrm>
                <a:off x="400896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6d8e5"/>
                  </a:gs>
                  <a:gs pos="100000">
                    <a:srgbClr val="84acc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Puzzle4"/>
              <p:cNvSpPr/>
              <p:nvPr/>
            </p:nvSpPr>
            <p:spPr>
              <a:xfrm>
                <a:off x="293580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6a4e2"/>
                  </a:gs>
                  <a:gs pos="100000">
                    <a:srgbClr val="9351c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uzzle1"/>
              <p:cNvSpPr/>
              <p:nvPr/>
            </p:nvSpPr>
            <p:spPr>
              <a:xfrm>
                <a:off x="236196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c524f"/>
                  </a:gs>
                  <a:gs pos="100000">
                    <a:srgbClr val="3eb2a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47784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056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708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7b0ef">
                  <a:alpha val="12156"/>
                </a:srgbClr>
              </a:gs>
              <a:gs pos="50000">
                <a:srgbClr val="557fe7"/>
              </a:gs>
              <a:gs pos="100000">
                <a:srgbClr val="97b0ef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b8cfe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8a779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a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3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c4f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2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3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eb2a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eb2a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5c"/>
              </a:gs>
              <a:gs pos="50000">
                <a:srgbClr val="3eb2ac"/>
              </a:gs>
              <a:gs pos="100000">
                <a:srgbClr val="215f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b2ac">
                  <a:alpha val="0"/>
                </a:srgbClr>
              </a:gs>
              <a:gs pos="100000">
                <a:srgbClr val="277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23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7f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73a6a"/>
              </a:gs>
              <a:gs pos="100000">
                <a:srgbClr val="557f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d447c"/>
              </a:gs>
              <a:gs pos="50000">
                <a:srgbClr val="557fe7"/>
              </a:gs>
              <a:gs pos="100000">
                <a:srgbClr val="2d44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fe7">
                  <a:alpha val="0"/>
                </a:srgbClr>
              </a:gs>
              <a:gs pos="100000">
                <a:srgbClr val="355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33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38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cp:keywords>幻灯片之家 http:/www.eeppt.com</cp:keywords>
  <dc:language>en-US</dc:language>
  <cp:lastModifiedBy/>
  <dcterms:modified xsi:type="dcterms:W3CDTF">2015-07-05T03:31:2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