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2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4.gif" ContentType="image/gif"/>
  <Override PartName="/ppt/media/image23.jpeg" ContentType="image/jpeg"/>
  <Override PartName="/ppt/media/image32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30.png" ContentType="image/png"/>
  <Override PartName="/ppt/media/image37.gif" ContentType="image/gif"/>
  <Override PartName="/ppt/media/image29.jpeg" ContentType="image/jpeg"/>
  <Override PartName="/ppt/media/image24.jpeg" ContentType="image/jpeg"/>
  <Override PartName="/ppt/media/image13.jpeg" ContentType="image/jpeg"/>
  <Override PartName="/ppt/media/image31.png" ContentType="image/png"/>
  <Override PartName="/ppt/media/image3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.jpeg" ContentType="image/jpeg"/>
  <Override PartName="/ppt/media/image20.png" ContentType="image/png"/>
  <Override PartName="/ppt/media/image36.gif" ContentType="image/gif"/>
  <Override PartName="/ppt/media/image38.gif" ContentType="image/gif"/>
  <Override PartName="/ppt/media/image39.gif" ContentType="image/gif"/>
  <Override PartName="/ppt/media/image9.gif" ContentType="image/gif"/>
  <Override PartName="/ppt/media/image1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8E7-A091-4C53-805F-BD29FE29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3F8-90F7-45DB-B5E6-F487C80A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EF0-141C-4214-8A62-41A0973F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849-3183-418C-A670-F5DBEAEC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416-F135-40B1-84B2-BB2CD229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156-D729-47D9-9A42-E5492CC8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BB9-5024-49E6-BD37-00E2B54B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19E-D8ED-44F3-971D-1FA4CECC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331-173E-4E0A-A41D-08D130C8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A13-577F-4767-B8D4-F657D81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D57-C21C-43DB-9E2A-F91F178E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0F3-4E88-4A5E-863C-E0C3406E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6C81-6C3B-4F0C-8480-B72C148A88FC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image" Target="../media/image28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9.gif"/><Relationship Id="rId15" Type="http://schemas.openxmlformats.org/officeDocument/2006/relationships/hyperlink" Target="http://www.eeppt.com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00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4" name="Picture 2" descr="002"/>
          <p:cNvPicPr/>
          <p:nvPr/>
        </p:nvPicPr>
        <p:blipFill>
          <a:blip r:embed="rId4"/>
          <a:stretch/>
        </p:blipFill>
        <p:spPr>
          <a:xfrm>
            <a:off x="-3636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3733920" y="34290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楷体_GB2312"/>
              </a:rPr>
              <a:t>鲁迅</a:t>
            </a:r>
            <a:endParaRPr b="1" lang="en-US" sz="6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2840" y="119700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《故乡》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33520" y="2666880"/>
            <a:ext cx="3533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第三部分：离故乡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(78-88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038480" y="18288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572000" y="16286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船上谈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284720" y="35733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我”的感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75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"/>
                            </p:stCondLst>
                            <p:childTnLst>
                              <p:par>
                                <p:cTn id="3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7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0" y="314172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第二部分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在故乡 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(6-77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2987640" y="1844640"/>
            <a:ext cx="152280" cy="3276720"/>
          </a:xfrm>
          <a:custGeom>
            <a:avLst/>
            <a:gdLst>
              <a:gd name="textAreaLeft" fmla="*/ 97200 w 152280"/>
              <a:gd name="textAreaRight" fmla="*/ 152640 w 1522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203640" y="1628640"/>
            <a:ext cx="201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到家那天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(6-52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203640" y="31417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过了三四天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(53-76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276720" y="450864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又过了九日  动身启程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(77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4859280" y="981000"/>
            <a:ext cx="174600" cy="1676520"/>
          </a:xfrm>
          <a:custGeom>
            <a:avLst/>
            <a:gdLst>
              <a:gd name="textAreaLeft" fmla="*/ 111600 w 174600"/>
              <a:gd name="textAreaRight" fmla="*/ 174960 w 174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148360" y="692280"/>
            <a:ext cx="24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母子相见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6-8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859280" y="14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回忆少年闰土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9-33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5003640" y="2133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见到杨二嫂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34-52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5292720" y="335772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见到闰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095880" y="49528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75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75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75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75"/>
                            </p:stCondLst>
                            <p:childTnLst>
                              <p:par>
                                <p:cTn id="4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7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25"/>
                            </p:stCondLst>
                            <p:childTnLst>
                              <p:par>
                                <p:cTn id="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75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75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75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539640" y="333360"/>
            <a:ext cx="7920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阅读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—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段，思考以下问题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33520" y="1219320"/>
            <a:ext cx="7089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、第一段中的“冒着严寒”说明什么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7200" y="2438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Verdana"/>
              </a:rPr>
              <a:t>、第</a:t>
            </a: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Verdana"/>
              </a:rPr>
              <a:t>段描写了哪些景物，起什么作用？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30200" y="35053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、如何理解第</a:t>
            </a:r>
            <a:r>
              <a:rPr b="1" lang="en-US" sz="3200" spc="-1" strike="noStrike">
                <a:solidFill>
                  <a:srgbClr val="080808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段的含义？本段在文中起什么作用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57200" y="4876920"/>
            <a:ext cx="84582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cc00"/>
                </a:solidFill>
                <a:latin typeface="Verdana"/>
              </a:rPr>
              <a:t>、怎样理解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cc00"/>
                </a:solidFill>
                <a:latin typeface="Verdana"/>
              </a:rPr>
              <a:t>故乡本也如此，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cc00"/>
                </a:solidFill>
                <a:latin typeface="Verdana"/>
              </a:rPr>
              <a:t>虽然没有进步，也未必有我所感的悲凉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cc00"/>
                </a:solidFill>
                <a:latin typeface="Verdana"/>
              </a:rPr>
              <a:t>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853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篇点题回故乡。“严寒”写回故乡的季节；“二千余里”写“我”与故乡相隔之远；“二十余年”写“我”与故乡分别之久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写出我回故乡急切心情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15960" y="18954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第一段中的“冒着严寒”说明什么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460440" y="249120"/>
            <a:ext cx="34272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明确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66" name="Picture 6" descr="tnpic021"/>
          <p:cNvPicPr/>
          <p:nvPr/>
        </p:nvPicPr>
        <p:blipFill>
          <a:blip r:embed="rId2"/>
          <a:stretch/>
        </p:blipFill>
        <p:spPr>
          <a:xfrm>
            <a:off x="6948360" y="260280"/>
            <a:ext cx="1727280" cy="1584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8207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天气阴晦、冷风呜呜的响、苍黄的天、萧索的荒村。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写出衰败荒凉的农村景象，衬托“我”悲凉的心情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01680" y="228600"/>
            <a:ext cx="3046320" cy="1400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明确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50920" y="2133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第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段描写了哪些景物，起什么作用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Picture 6" descr="tnpic034"/>
          <p:cNvPicPr/>
          <p:nvPr/>
        </p:nvPicPr>
        <p:blipFill>
          <a:blip r:embed="rId2"/>
          <a:stretch/>
        </p:blipFill>
        <p:spPr>
          <a:xfrm>
            <a:off x="6948360" y="260280"/>
            <a:ext cx="1152720" cy="15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gif097"/>
          <p:cNvPicPr/>
          <p:nvPr/>
        </p:nvPicPr>
        <p:blipFill>
          <a:blip r:embed="rId3"/>
          <a:stretch/>
        </p:blipFill>
        <p:spPr>
          <a:xfrm>
            <a:off x="6659640" y="5229360"/>
            <a:ext cx="19573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2708280"/>
            <a:ext cx="8569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先用一个感叹句“阿！”再用一个否定的疑问句。这样写是因为故乡的景象出乎“我”的意料，因而产生怀疑，但又的确是“我”的故乡。对怀疑加以否定，反映“我”的复杂思绪，沉重的心情，为下文作铺垫。在文章结构上起承上启下的作用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685800" y="260280"/>
            <a:ext cx="287820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明确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24000" y="1484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如何理解第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段的含义？本段在文中起什么作用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6" name="Picture 6" descr="tnpic061"/>
          <p:cNvPicPr/>
          <p:nvPr/>
        </p:nvPicPr>
        <p:blipFill>
          <a:blip r:embed="rId2"/>
          <a:stretch/>
        </p:blipFill>
        <p:spPr>
          <a:xfrm>
            <a:off x="6877080" y="5445000"/>
            <a:ext cx="158256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3141720"/>
            <a:ext cx="889308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眼前萧索的景象与“我”记忆中的故乡造成很大的反差，心中疑惑既而感到悲凉，只得自我安慰，实则流露出一种忧愤之情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684360" y="404640"/>
            <a:ext cx="295092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明确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68360" y="17002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怎样理解“故乡本也如此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虽然没有进步，也未必有我所感的悲凉”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0" name="Picture 7" descr="1"/>
          <p:cNvPicPr/>
          <p:nvPr/>
        </p:nvPicPr>
        <p:blipFill>
          <a:blip r:embed="rId2"/>
          <a:stretch/>
        </p:blipFill>
        <p:spPr>
          <a:xfrm>
            <a:off x="6948360" y="4869000"/>
            <a:ext cx="1906560" cy="1753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3"/>
          <p:cNvPicPr/>
          <p:nvPr/>
        </p:nvPicPr>
        <p:blipFill>
          <a:blip r:embed="rId3"/>
          <a:stretch/>
        </p:blipFill>
        <p:spPr>
          <a:xfrm>
            <a:off x="6300720" y="981000"/>
            <a:ext cx="1238400" cy="7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3"/>
          <p:cNvPicPr/>
          <p:nvPr/>
        </p:nvPicPr>
        <p:blipFill>
          <a:blip r:embed="rId4"/>
          <a:stretch/>
        </p:blipFill>
        <p:spPr>
          <a:xfrm>
            <a:off x="6659640" y="476280"/>
            <a:ext cx="1238040" cy="714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3"/>
          <p:cNvPicPr/>
          <p:nvPr/>
        </p:nvPicPr>
        <p:blipFill>
          <a:blip r:embed="rId5"/>
          <a:stretch/>
        </p:blipFill>
        <p:spPr>
          <a:xfrm>
            <a:off x="7524720" y="765000"/>
            <a:ext cx="123840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5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468360" y="333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析人物形象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900000" y="1413000"/>
            <a:ext cx="7345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闰土是这篇小说的主要人物，作者运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比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手法，从不同角度写了他的变化。请细读课文，看看闰土二十多年来发生了哪些变化？为什么发生这么大的变化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8" name="Picture 5" descr="gif047"/>
          <p:cNvPicPr/>
          <p:nvPr/>
        </p:nvPicPr>
        <p:blipFill>
          <a:blip r:embed="rId3"/>
          <a:stretch/>
        </p:blipFill>
        <p:spPr>
          <a:xfrm>
            <a:off x="6804000" y="4797360"/>
            <a:ext cx="110160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0" name="Picture 4" descr="pic_30169"/>
          <p:cNvPicPr/>
          <p:nvPr/>
        </p:nvPicPr>
        <p:blipFill>
          <a:blip r:embed="rId2"/>
          <a:stretch/>
        </p:blipFill>
        <p:spPr>
          <a:xfrm>
            <a:off x="539640" y="620640"/>
            <a:ext cx="7920000" cy="5832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124000" y="549360"/>
            <a:ext cx="51120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捕鸟的少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193" name="Picture 4" descr="pic_30168"/>
          <p:cNvPicPr/>
          <p:nvPr/>
        </p:nvPicPr>
        <p:blipFill>
          <a:blip r:embed="rId2"/>
          <a:stretch/>
        </p:blipFill>
        <p:spPr>
          <a:xfrm>
            <a:off x="468360" y="333360"/>
            <a:ext cx="8351640" cy="6237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2268360" y="404640"/>
            <a:ext cx="4681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西瓜田里的少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1028" descr="cache(25)"/>
            <p:cNvPicPr/>
            <p:nvPr/>
          </p:nvPicPr>
          <p:blipFill>
            <a:blip r:embed="rId2"/>
            <a:stretch/>
          </p:blipFill>
          <p:spPr>
            <a:xfrm rot="10800000">
              <a:off x="6222960" y="3936960"/>
              <a:ext cx="292104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29" descr="cache(25)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921040" cy="29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 Box 1026"/>
          <p:cNvSpPr/>
          <p:nvPr/>
        </p:nvSpPr>
        <p:spPr>
          <a:xfrm>
            <a:off x="167652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谈谈小说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24000" y="692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小说</a:t>
            </a:r>
            <a:r>
              <a:rPr b="1" lang="en-US" sz="3200" spc="-1" strike="noStrike">
                <a:solidFill>
                  <a:srgbClr val="080808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以塑造人物为中心，通过完整的故事情节的叙述和环境的描写反映社会生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228600" y="2209680"/>
            <a:ext cx="23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琥珀"/>
              </a:rPr>
              <a:t>小说分类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Text Box 1032"/>
          <p:cNvSpPr/>
          <p:nvPr/>
        </p:nvSpPr>
        <p:spPr>
          <a:xfrm>
            <a:off x="2411280" y="177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长篇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Text Box 1033"/>
          <p:cNvSpPr/>
          <p:nvPr/>
        </p:nvSpPr>
        <p:spPr>
          <a:xfrm>
            <a:off x="2340000" y="227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中篇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Text Box 1034"/>
          <p:cNvSpPr/>
          <p:nvPr/>
        </p:nvSpPr>
        <p:spPr>
          <a:xfrm>
            <a:off x="2340000" y="2708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短篇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AutoShape 1035"/>
          <p:cNvSpPr/>
          <p:nvPr/>
        </p:nvSpPr>
        <p:spPr>
          <a:xfrm>
            <a:off x="2195640" y="198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AutoShape 1036"/>
          <p:cNvSpPr/>
          <p:nvPr/>
        </p:nvSpPr>
        <p:spPr>
          <a:xfrm>
            <a:off x="3132000" y="1989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Text Box 1037"/>
          <p:cNvSpPr/>
          <p:nvPr/>
        </p:nvSpPr>
        <p:spPr>
          <a:xfrm>
            <a:off x="334800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按篇幅长短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Text Box 1038"/>
          <p:cNvSpPr/>
          <p:nvPr/>
        </p:nvSpPr>
        <p:spPr>
          <a:xfrm>
            <a:off x="5364000" y="22766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（小小说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Text Box 1039"/>
          <p:cNvSpPr/>
          <p:nvPr/>
        </p:nvSpPr>
        <p:spPr>
          <a:xfrm>
            <a:off x="250920" y="314172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琥珀"/>
              </a:rPr>
              <a:t>小说三要素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Text Box 1040"/>
          <p:cNvSpPr/>
          <p:nvPr/>
        </p:nvSpPr>
        <p:spPr>
          <a:xfrm>
            <a:off x="2916360" y="3213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人物、故事情节、环境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Text Box 1041"/>
          <p:cNvSpPr/>
          <p:nvPr/>
        </p:nvSpPr>
        <p:spPr>
          <a:xfrm>
            <a:off x="250920" y="378936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琥珀"/>
              </a:rPr>
              <a:t>人物塑造方法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华文琥珀"/>
              </a:rPr>
              <a:t>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Text Box 1042"/>
          <p:cNvSpPr/>
          <p:nvPr/>
        </p:nvSpPr>
        <p:spPr>
          <a:xfrm>
            <a:off x="3059280" y="3860640"/>
            <a:ext cx="63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外貌、语言、动作、心理。 （神态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Text Box 1043"/>
          <p:cNvSpPr/>
          <p:nvPr/>
        </p:nvSpPr>
        <p:spPr>
          <a:xfrm>
            <a:off x="250920" y="472428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华文彩云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琥珀"/>
              </a:rPr>
              <a:t>故事情节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Text Box 1044"/>
          <p:cNvSpPr/>
          <p:nvPr/>
        </p:nvSpPr>
        <p:spPr>
          <a:xfrm>
            <a:off x="2411280" y="465300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开端、发展、高潮、结局。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序幕、尾声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Text Box 1045"/>
          <p:cNvSpPr/>
          <p:nvPr/>
        </p:nvSpPr>
        <p:spPr>
          <a:xfrm>
            <a:off x="46836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琥珀"/>
              </a:rPr>
              <a:t>环境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AutoShape 1046"/>
          <p:cNvSpPr/>
          <p:nvPr/>
        </p:nvSpPr>
        <p:spPr>
          <a:xfrm>
            <a:off x="2050920" y="537372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Text Box 1047"/>
          <p:cNvSpPr/>
          <p:nvPr/>
        </p:nvSpPr>
        <p:spPr>
          <a:xfrm>
            <a:off x="2411280" y="515772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75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E12"/>
          <p:cNvPicPr/>
          <p:nvPr/>
        </p:nvPicPr>
        <p:blipFill>
          <a:blip r:embed="rId2"/>
          <a:srcRect l="0" t="0" r="52511" b="0"/>
          <a:stretch/>
        </p:blipFill>
        <p:spPr>
          <a:xfrm>
            <a:off x="0" y="1052640"/>
            <a:ext cx="3132000" cy="51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LE13"/>
          <p:cNvPicPr/>
          <p:nvPr/>
        </p:nvPicPr>
        <p:blipFill>
          <a:blip r:embed="rId3"/>
          <a:srcRect l="52706" t="0" r="0" b="0"/>
          <a:stretch/>
        </p:blipFill>
        <p:spPr>
          <a:xfrm>
            <a:off x="6156360" y="981000"/>
            <a:ext cx="2987640" cy="561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3348000" y="5157720"/>
            <a:ext cx="259236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8" name="Picture 6" descr="JS15"/>
          <p:cNvPicPr/>
          <p:nvPr/>
        </p:nvPicPr>
        <p:blipFill>
          <a:blip r:embed="rId4"/>
          <a:srcRect l="0" t="1463" r="61282" b="24131"/>
          <a:stretch/>
        </p:blipFill>
        <p:spPr>
          <a:xfrm>
            <a:off x="3132000" y="0"/>
            <a:ext cx="3024360" cy="45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0" name="Picture 1026" descr="故乡2"/>
          <p:cNvPicPr/>
          <p:nvPr/>
        </p:nvPicPr>
        <p:blipFill>
          <a:blip r:embed="rId2">
            <a:lum bright="12000"/>
          </a:blip>
          <a:srcRect l="2916" t="11233" r="4395" b="1852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27"/>
          <p:cNvSpPr/>
          <p:nvPr/>
        </p:nvSpPr>
        <p:spPr>
          <a:xfrm>
            <a:off x="-1628640" y="1197000"/>
            <a:ext cx="1277640" cy="424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称我老爷的中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Text Box 1028"/>
          <p:cNvSpPr/>
          <p:nvPr/>
        </p:nvSpPr>
        <p:spPr>
          <a:xfrm>
            <a:off x="-279000" y="620640"/>
            <a:ext cx="1277640" cy="532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称我老爷的中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295280" y="380880"/>
            <a:ext cx="0" cy="6096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4572000" y="380880"/>
            <a:ext cx="0" cy="6096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380880" y="228600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788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少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0220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中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2400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外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258920" y="1125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十一二岁，紫色圆脸，头戴小毡帽，颈套银项圈，红活圆实的手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健康、壮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648320" y="10666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脸色灰黄，很深的皱纹，头戴破毡帽，身穿极薄的棉衣，手又粗又笨而且开裂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饱经风霜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250920" y="2565360"/>
            <a:ext cx="13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动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语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371600" y="2362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手捏钢叉  向猹尽力刺去  很高兴  说话脱口而出  滔滔不绝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活泼机智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724280" y="24382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4648320" y="2362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现出欢喜和凄凉的神情  只是摇头  默默地吸烟  说话吞吞吐吐  断断续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苦不堪言、麻木迟钝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324000" y="3657600"/>
            <a:ext cx="97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“我”的态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1332000" y="350028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只是不怕“我”    不到半日，便熟识了  告诉我许多稀奇事    分别时躲到厨房哭着不肯出门   送“我”贝壳和很好看的羽毛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建立了淳朴的友谊</a:t>
            </a:r>
            <a:r>
              <a:rPr b="0" lang="zh-CN" sz="20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250920" y="544500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生活的态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1403280" y="5589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热爱生活，农村生活知识丰富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无忧无虑，快乐纯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4716360" y="3645000"/>
            <a:ext cx="40388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态度恭敬，称“我”为“老爷”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隔了一层可悲的厚障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4643280" y="5516640"/>
            <a:ext cx="3962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要一副香炉和烛台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悲苦无奈，寄希望于神灵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75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75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75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75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75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75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24000" y="1413000"/>
            <a:ext cx="8380800" cy="4824000"/>
            <a:chOff x="324000" y="1413000"/>
            <a:chExt cx="8380800" cy="4824000"/>
          </a:xfrm>
        </p:grpSpPr>
        <p:pic>
          <p:nvPicPr>
            <p:cNvPr id="226" name="Picture 3" descr="hxx6"/>
            <p:cNvPicPr/>
            <p:nvPr/>
          </p:nvPicPr>
          <p:blipFill>
            <a:blip r:embed="rId2"/>
            <a:stretch/>
          </p:blipFill>
          <p:spPr>
            <a:xfrm>
              <a:off x="324000" y="1413000"/>
              <a:ext cx="3725280" cy="482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4"/>
            <p:cNvGrpSpPr/>
            <p:nvPr/>
          </p:nvGrpSpPr>
          <p:grpSpPr>
            <a:xfrm>
              <a:off x="345240" y="1413000"/>
              <a:ext cx="8359560" cy="4823640"/>
              <a:chOff x="345240" y="1413000"/>
              <a:chExt cx="8359560" cy="4823640"/>
            </a:xfrm>
          </p:grpSpPr>
          <p:pic>
            <p:nvPicPr>
              <p:cNvPr id="228" name="Picture 5" descr="hxx5"/>
              <p:cNvPicPr/>
              <p:nvPr/>
            </p:nvPicPr>
            <p:blipFill>
              <a:blip r:embed="rId3"/>
              <a:stretch/>
            </p:blipFill>
            <p:spPr>
              <a:xfrm>
                <a:off x="345240" y="4315680"/>
                <a:ext cx="1503720" cy="19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6" descr="hxx8"/>
              <p:cNvPicPr/>
              <p:nvPr/>
            </p:nvPicPr>
            <p:blipFill>
              <a:blip r:embed="rId4"/>
              <a:stretch/>
            </p:blipFill>
            <p:spPr>
              <a:xfrm>
                <a:off x="4980240" y="1413000"/>
                <a:ext cx="3724560" cy="482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0" name="Text Box 7"/>
          <p:cNvSpPr/>
          <p:nvPr/>
        </p:nvSpPr>
        <p:spPr>
          <a:xfrm>
            <a:off x="1619280" y="98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少年闰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651640" y="98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中年闰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-181080" y="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916360" y="33336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闰土的变化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（一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250920" y="533520"/>
            <a:ext cx="8641800" cy="5028840"/>
            <a:chOff x="250920" y="533520"/>
            <a:chExt cx="8641800" cy="5028840"/>
          </a:xfrm>
        </p:grpSpPr>
        <p:pic>
          <p:nvPicPr>
            <p:cNvPr id="236" name="Picture 3" descr="hxx9"/>
            <p:cNvPicPr/>
            <p:nvPr/>
          </p:nvPicPr>
          <p:blipFill>
            <a:blip r:embed="rId2"/>
            <a:stretch/>
          </p:blipFill>
          <p:spPr>
            <a:xfrm>
              <a:off x="250920" y="550080"/>
              <a:ext cx="3850200" cy="50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" descr="hxx4"/>
            <p:cNvPicPr/>
            <p:nvPr/>
          </p:nvPicPr>
          <p:blipFill>
            <a:blip r:embed="rId3"/>
            <a:stretch/>
          </p:blipFill>
          <p:spPr>
            <a:xfrm>
              <a:off x="5042520" y="533520"/>
              <a:ext cx="3850200" cy="50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 Box 5"/>
          <p:cNvSpPr/>
          <p:nvPr/>
        </p:nvSpPr>
        <p:spPr>
          <a:xfrm>
            <a:off x="1547640" y="115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少年闰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867280" y="1159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中年闰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09480" y="548496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纯真活泼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懂得很多生产知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简直是个小英雄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364000" y="5722920"/>
            <a:ext cx="35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麻木迟钝、善良忠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勤劳朴实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652920" y="87480"/>
            <a:ext cx="14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（二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533520" y="838080"/>
            <a:ext cx="8228880" cy="4952880"/>
            <a:chOff x="533520" y="838080"/>
            <a:chExt cx="8228880" cy="4952880"/>
          </a:xfrm>
        </p:grpSpPr>
        <p:grpSp>
          <p:nvGrpSpPr>
            <p:cNvPr id="244" name="Group 3"/>
            <p:cNvGrpSpPr/>
            <p:nvPr/>
          </p:nvGrpSpPr>
          <p:grpSpPr>
            <a:xfrm>
              <a:off x="533520" y="838080"/>
              <a:ext cx="2840400" cy="4952880"/>
              <a:chOff x="533520" y="838080"/>
              <a:chExt cx="2840400" cy="4952880"/>
            </a:xfrm>
          </p:grpSpPr>
          <p:pic>
            <p:nvPicPr>
              <p:cNvPr id="245" name="Picture 4" descr="hxx8"/>
              <p:cNvPicPr/>
              <p:nvPr/>
            </p:nvPicPr>
            <p:blipFill>
              <a:blip r:embed="rId2"/>
              <a:stretch/>
            </p:blipFill>
            <p:spPr>
              <a:xfrm>
                <a:off x="533520" y="3840120"/>
                <a:ext cx="2840400" cy="1950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Group 5"/>
              <p:cNvGrpSpPr/>
              <p:nvPr/>
            </p:nvGrpSpPr>
            <p:grpSpPr>
              <a:xfrm>
                <a:off x="827280" y="838080"/>
                <a:ext cx="2252880" cy="1950840"/>
                <a:chOff x="827280" y="838080"/>
                <a:chExt cx="2252880" cy="1950840"/>
              </a:xfrm>
            </p:grpSpPr>
            <p:pic>
              <p:nvPicPr>
                <p:cNvPr id="247" name="Picture 6" descr="hxx6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27280" y="838080"/>
                  <a:ext cx="2252880" cy="195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7" descr="hxx5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40240" y="2012040"/>
                  <a:ext cx="909000" cy="770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49" name="Group 8"/>
            <p:cNvGrpSpPr/>
            <p:nvPr/>
          </p:nvGrpSpPr>
          <p:grpSpPr>
            <a:xfrm>
              <a:off x="5922000" y="838080"/>
              <a:ext cx="2840400" cy="4952880"/>
              <a:chOff x="5922000" y="838080"/>
              <a:chExt cx="2840400" cy="4952880"/>
            </a:xfrm>
          </p:grpSpPr>
          <p:pic>
            <p:nvPicPr>
              <p:cNvPr id="250" name="Picture 9" descr="hxx9"/>
              <p:cNvPicPr/>
              <p:nvPr/>
            </p:nvPicPr>
            <p:blipFill>
              <a:blip r:embed="rId5"/>
              <a:stretch/>
            </p:blipFill>
            <p:spPr>
              <a:xfrm>
                <a:off x="6117480" y="838080"/>
                <a:ext cx="2253240" cy="19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0" descr="hxx4"/>
              <p:cNvPicPr/>
              <p:nvPr/>
            </p:nvPicPr>
            <p:blipFill>
              <a:blip r:embed="rId6"/>
              <a:stretch/>
            </p:blipFill>
            <p:spPr>
              <a:xfrm>
                <a:off x="5922000" y="3840120"/>
                <a:ext cx="2840400" cy="195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Text Box 11"/>
          <p:cNvSpPr/>
          <p:nvPr/>
        </p:nvSpPr>
        <p:spPr>
          <a:xfrm>
            <a:off x="1476360" y="0"/>
            <a:ext cx="69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Garamond"/>
              </a:rPr>
              <a:t>闰土二十多年来为什么发生这么大的变化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4029840" y="1219320"/>
            <a:ext cx="127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幼圆"/>
              </a:rPr>
              <a:t>生气勃勃热情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幼圆"/>
              </a:rPr>
              <a:t>开朗勇敢善良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430164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99"/>
                </a:solidFill>
                <a:uFillTx/>
                <a:latin typeface="Times New Roman"/>
                <a:ea typeface="幼圆"/>
              </a:rPr>
              <a:t>小英雄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225320" y="388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80808"/>
                </a:solidFill>
                <a:uFillTx/>
                <a:latin typeface="Times New Roman"/>
                <a:ea typeface="黑体"/>
              </a:rPr>
              <a:t>木偶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3953520" y="4800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宋体"/>
                <a:ea typeface="黑体"/>
              </a:rPr>
              <a:t>苍老贫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因循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守旧麻木迟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380880" y="5791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AutoShape 24"/>
          <p:cNvSpPr/>
          <p:nvPr/>
        </p:nvSpPr>
        <p:spPr>
          <a:xfrm>
            <a:off x="4495680" y="289548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547640" y="476280"/>
            <a:ext cx="647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什么原因使闰土前后判若两人？（是岁月流逝的痕迹？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403280" y="2205000"/>
            <a:ext cx="6477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多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饥荒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苛税、兵、匪、官、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是使其陷入悲苦境地的原因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1600200" y="4648320"/>
            <a:ext cx="1571760" cy="94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47" y="1786"/>
                </a:moveTo>
                <a:lnTo>
                  <a:pt x="-3076" y="1786"/>
                </a:lnTo>
                <a:lnTo>
                  <a:pt x="-3076" y="1786"/>
                </a:lnTo>
                <a:lnTo>
                  <a:pt x="7983" y="-40574"/>
                </a:lnTo>
              </a:path>
              <a:path w="21600" h="21600">
                <a:moveTo>
                  <a:pt x="-1047" y="0"/>
                </a:moveTo>
                <a:lnTo>
                  <a:pt x="-1047" y="21600"/>
                </a:lnTo>
              </a:path>
            </a:pathLst>
          </a:custGeom>
          <a:solidFill>
            <a:srgbClr val="00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多子多福的封建意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708360" y="4724280"/>
            <a:ext cx="609480" cy="520560"/>
          </a:xfrm>
          <a:prstGeom prst="borderCallout1">
            <a:avLst>
              <a:gd name="adj1" fmla="val 18750"/>
              <a:gd name="adj2" fmla="val -8333"/>
              <a:gd name="adj3" fmla="val -356736"/>
              <a:gd name="adj4" fmla="val -43976"/>
            </a:avLst>
          </a:prstGeom>
          <a:solidFill>
            <a:srgbClr val="00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天灾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5796000" y="4653000"/>
            <a:ext cx="2438280" cy="520560"/>
          </a:xfrm>
          <a:prstGeom prst="borderCallout1">
            <a:avLst>
              <a:gd name="adj1" fmla="val 18750"/>
              <a:gd name="adj2" fmla="val -8333"/>
              <a:gd name="adj3" fmla="val -337800"/>
              <a:gd name="adj4" fmla="val -6949"/>
            </a:avLst>
          </a:prstGeom>
          <a:solidFill>
            <a:srgbClr val="00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人祸（帝、封双重压迫的具体体现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75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75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640" y="1412640"/>
            <a:ext cx="72007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表层原因：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多子饥荒苛税兵匪官绅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深层原因：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封建礼教封建等级观念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　　　　　　　　　　　　　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6920" y="2997360"/>
            <a:ext cx="72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农村经济衰败，农民生活的贫困，封建传统观念（即礼教、等级观念）毒害，使闰土发生了巨变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8" name="Picture 6" descr="gif015"/>
          <p:cNvPicPr/>
          <p:nvPr/>
        </p:nvPicPr>
        <p:blipFill>
          <a:blip r:embed="rId2"/>
          <a:stretch/>
        </p:blipFill>
        <p:spPr>
          <a:xfrm>
            <a:off x="6948360" y="5013360"/>
            <a:ext cx="1871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故乡4"/>
          <p:cNvPicPr/>
          <p:nvPr/>
        </p:nvPicPr>
        <p:blipFill>
          <a:blip r:embed="rId2">
            <a:lum bright="12000"/>
          </a:blip>
          <a:srcRect l="12083" t="50011" r="0" b="380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732240" y="609480"/>
            <a:ext cx="3307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杨二嫂也是作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着力刻画的一个小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民的典型形象，作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也是通过对比，写出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杨二嫂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变化。细读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课文找出杨二嫂的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肖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像、语言、神态、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描写的关键词语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分析一下杨二嫂变成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一个什么样的人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32000" y="836640"/>
            <a:ext cx="934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眼前的杨二嫂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272" name="Picture 4" descr="JS16"/>
          <p:cNvPicPr/>
          <p:nvPr/>
        </p:nvPicPr>
        <p:blipFill>
          <a:blip r:embed="rId2"/>
          <a:srcRect l="55016" t="0" r="0" b="0"/>
          <a:stretch/>
        </p:blipFill>
        <p:spPr>
          <a:xfrm>
            <a:off x="250920" y="260280"/>
            <a:ext cx="4321080" cy="6048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JS16"/>
          <p:cNvPicPr/>
          <p:nvPr/>
        </p:nvPicPr>
        <p:blipFill>
          <a:blip r:embed="rId3"/>
          <a:srcRect l="68216" t="0" r="17529" b="21110"/>
          <a:stretch/>
        </p:blipFill>
        <p:spPr>
          <a:xfrm>
            <a:off x="6300720" y="260280"/>
            <a:ext cx="2521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7"/>
          <p:cNvSpPr/>
          <p:nvPr/>
        </p:nvSpPr>
        <p:spPr>
          <a:xfrm>
            <a:off x="7048440" y="32259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1" name="Picture 2" descr="鲁迅"/>
          <p:cNvPicPr/>
          <p:nvPr/>
        </p:nvPicPr>
        <p:blipFill>
          <a:blip r:embed="rId17"/>
          <a:stretch/>
        </p:blipFill>
        <p:spPr>
          <a:xfrm>
            <a:off x="6248520" y="2514600"/>
            <a:ext cx="2895480" cy="43434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3048120" y="304920"/>
            <a:ext cx="3085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作者简介</a:t>
            </a:r>
            <a:endParaRPr b="1" lang="en-US" sz="6000" spc="-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209960" y="1066680"/>
            <a:ext cx="6792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881—1936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生于浙江绍兴，原名周树人，字豫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才，我国现代伟大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文学家、思想家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革命家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自第一篇小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说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狂人日记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开始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鲁迅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作笔名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123200" y="2611440"/>
            <a:ext cx="398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著名作品集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野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朝花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呐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彷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华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94160" y="4038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华文新魏"/>
              </a:rPr>
              <a:t>在初中我们学过他的作品有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80840" y="457200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从百草园到三味书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367520" y="45720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3320" y="510552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社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962520" y="510552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呐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4920" y="566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阿长与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山海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962520" y="571500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336600" y="618480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风筝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962520" y="6276960"/>
            <a:ext cx="19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野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250920" y="189000"/>
          <a:ext cx="8496360" cy="6707160"/>
        </p:xfrm>
        <a:graphic>
          <a:graphicData uri="http://schemas.openxmlformats.org/drawingml/2006/table">
            <a:tbl>
              <a:tblPr/>
              <a:tblGrid>
                <a:gridCol w="1008000"/>
                <a:gridCol w="720720"/>
                <a:gridCol w="4897440"/>
                <a:gridCol w="18702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二十年前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7989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二十年后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外貌描写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89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语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言描写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51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Text Box 26"/>
          <p:cNvSpPr/>
          <p:nvPr/>
        </p:nvSpPr>
        <p:spPr>
          <a:xfrm>
            <a:off x="1332000" y="18900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终日坐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人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豆腐西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擦着白粉，颧骨没有这么高，嘴唇也没有这么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因为伊，这豆腐店的买卖非常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1979640" y="15890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凸颧骨，薄嘴唇，</a:t>
            </a:r>
            <a:r>
              <a:rPr b="1" lang="en-US" sz="2400" spc="-1" strike="noStrike">
                <a:solidFill>
                  <a:srgbClr val="080808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岁上下的女人站在我面前，两手搭在髀间，没有系裙，张着两脚，正像一个画图仪器里细脚伶仃的圆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2050920" y="33274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不认识了么？我还抱过你咧！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忘了？这真是贵人眼高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050920" y="418140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阿呀呀，你放了道台了，还说不阔？你现在有三房姨太太；出门便是八抬的大轿，还说不阔？吓，什么都瞒不过我。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1979640" y="5734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99"/>
                </a:solidFill>
                <a:latin typeface="Verdana"/>
              </a:rPr>
              <a:t>阿呀阿呀，真是愈有钱，便愈是一毫不肯放松，愈是一毫不肯放松，便愈有钱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7020000" y="18900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说明杨二嫂年轻漂亮，安分守己</a:t>
            </a: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Text Box 32"/>
          <p:cNvSpPr/>
          <p:nvPr/>
        </p:nvSpPr>
        <p:spPr>
          <a:xfrm>
            <a:off x="7164360" y="184464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说明杨二嫂老丑而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Text Box 33"/>
          <p:cNvSpPr/>
          <p:nvPr/>
        </p:nvSpPr>
        <p:spPr>
          <a:xfrm>
            <a:off x="7307280" y="43974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表现杨二嫂势利、尖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2987640" y="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杨二嫂的变化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395280" y="476280"/>
            <a:ext cx="8064000" cy="4681080"/>
            <a:chOff x="395280" y="476280"/>
            <a:chExt cx="8064000" cy="4681080"/>
          </a:xfrm>
        </p:grpSpPr>
        <p:pic>
          <p:nvPicPr>
            <p:cNvPr id="285" name="Picture 4" descr="hxx"/>
            <p:cNvPicPr/>
            <p:nvPr/>
          </p:nvPicPr>
          <p:blipFill>
            <a:blip r:embed="rId2"/>
            <a:stretch/>
          </p:blipFill>
          <p:spPr>
            <a:xfrm>
              <a:off x="395280" y="762840"/>
              <a:ext cx="3986280" cy="40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" descr="hxx2"/>
            <p:cNvPicPr/>
            <p:nvPr/>
          </p:nvPicPr>
          <p:blipFill>
            <a:blip r:embed="rId3"/>
            <a:stretch/>
          </p:blipFill>
          <p:spPr>
            <a:xfrm>
              <a:off x="6561720" y="476280"/>
              <a:ext cx="1897560" cy="46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Text Box 6"/>
          <p:cNvSpPr/>
          <p:nvPr/>
        </p:nvSpPr>
        <p:spPr>
          <a:xfrm>
            <a:off x="250920" y="551664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年轻漂亮端庄文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豆腐西施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5796000" y="551664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泼辣刻薄自私势利贪婪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圆规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788000" y="5877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3924360" y="5805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2" name="Object 2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685800" y="685800"/>
            <a:ext cx="8064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Garamond"/>
                <a:ea typeface="华文新魏"/>
              </a:rPr>
              <a:t>杨二嫂为什么也发生这么大的变化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609480" y="304812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农村经济衰败、生活的贫困、小市民</a:t>
            </a:r>
            <a:r>
              <a:rPr b="1" lang="zh-CN" sz="4000" spc="-1" strike="noStrike">
                <a:solidFill>
                  <a:srgbClr val="080808"/>
                </a:solidFill>
                <a:latin typeface="Verdana"/>
              </a:rPr>
              <a:t>势利贪婪（或：市侩）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的恶习使她发生了这么大的变化。</a:t>
            </a:r>
            <a:r>
              <a:rPr b="0" lang="zh-CN" sz="40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5" name="Picture 6" descr="10"/>
          <p:cNvPicPr/>
          <p:nvPr/>
        </p:nvPicPr>
        <p:blipFill>
          <a:blip r:embed="rId3"/>
          <a:stretch/>
        </p:blipFill>
        <p:spPr>
          <a:xfrm>
            <a:off x="6804000" y="4653000"/>
            <a:ext cx="2089080" cy="1944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Object 2" descr=""/>
          <p:cNvPicPr/>
          <p:nvPr/>
        </p:nvPicPr>
        <p:blipFill>
          <a:blip r:embed="rId2"/>
          <a:stretch/>
        </p:blipFill>
        <p:spPr>
          <a:xfrm>
            <a:off x="0" y="3276720"/>
            <a:ext cx="1752480" cy="3581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JS16"/>
          <p:cNvPicPr/>
          <p:nvPr/>
        </p:nvPicPr>
        <p:blipFill>
          <a:blip r:embed="rId3"/>
          <a:srcRect l="68216" t="0" r="17529" b="21110"/>
          <a:stretch/>
        </p:blipFill>
        <p:spPr>
          <a:xfrm>
            <a:off x="7543800" y="0"/>
            <a:ext cx="160020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0" y="2602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小说怎样刻划杨二嫂形象的？与描写闰土的方法有何异同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95280" y="1557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同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403280" y="1557360"/>
            <a:ext cx="5791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都通过人物外貌、语言、动作的描写来表现人物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76360" y="2492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都写出了人物的前后变化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746280" y="400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异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619280" y="3213000"/>
            <a:ext cx="62485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写闰土是先回忆，再眼前，因为少年闰土的美好形象已经在“我”头脑中留下了深刻的印象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写杨二嫂则是先闻其声，再见其人。这更符合杨二嫂尖利、泼辣的性格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950"/>
                            </p:stCondLst>
                            <p:childTnLst>
                              <p:par>
                                <p:cTn id="9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450"/>
                            </p:stCondLst>
                            <p:childTnLst>
                              <p:par>
                                <p:cTn id="9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75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75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80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75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75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75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225"/>
                            </p:stCondLst>
                            <p:childTnLst>
                              <p:par>
                                <p:cTn id="10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75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457200" y="620640"/>
            <a:ext cx="8686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Verdana"/>
              </a:rPr>
              <a:t>小结：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080808"/>
                </a:solidFill>
                <a:latin typeface="Verdana"/>
              </a:rPr>
              <a:t>小说通过</a:t>
            </a:r>
            <a:r>
              <a:rPr b="1" lang="zh-CN" sz="3600" spc="-1" strike="noStrike">
                <a:solidFill>
                  <a:srgbClr val="cc00cc"/>
                </a:solidFill>
                <a:latin typeface="Verdana"/>
              </a:rPr>
              <a:t>对比</a:t>
            </a:r>
            <a:r>
              <a:rPr b="1" lang="zh-CN" sz="3600" spc="-1" strike="noStrike">
                <a:solidFill>
                  <a:srgbClr val="080808"/>
                </a:solidFill>
                <a:latin typeface="Verdana"/>
              </a:rPr>
              <a:t>手法的运用，表现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闰土和杨二嫂</a:t>
            </a:r>
            <a:r>
              <a:rPr b="1" lang="zh-CN" sz="3600" spc="-1" strike="noStrike">
                <a:solidFill>
                  <a:srgbClr val="080808"/>
                </a:solidFill>
                <a:latin typeface="Verdana"/>
              </a:rPr>
              <a:t>在二十多年里发生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的巨大变化，说明辛亥革命前后农村经济衰败，农民和小市民生活的贫困，封建社会传统观念对人们的精神毒害，造成人们纯真的人性被扭曲。</a:t>
            </a:r>
            <a:r>
              <a:rPr b="1" lang="zh-CN" sz="3600" spc="-1" strike="noStrike">
                <a:solidFill>
                  <a:srgbClr val="080808"/>
                </a:solidFill>
                <a:latin typeface="Verdana"/>
              </a:rPr>
              <a:t>作者塑造这两个人物形象，真切地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抒发了对现实社会的不满，希望有新的生活的炽热感情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9640" y="258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合以下问题，分析“我”是一个怎样的人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914400"/>
            <a:ext cx="882000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、“故乡的山水也都渐渐远离了我，但我却并不感到怎样的留恋”这是为什么？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0" y="30481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0808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、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我只觉得我四面有着看不见的高墙，将我隔成孤身，使我非常气闷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中的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高墙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指什么？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0" y="5157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他们应该有新的生活，为我们所未经生活过的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中的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新的生活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是指什么样的生活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04920" y="1828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因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故乡的现实（即人与事）感到失望，故乡没有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留下好印象。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468360" y="4076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封建思想，等级观念毒害下造成人与人之间的冷淡隔膜。</a:t>
            </a:r>
            <a:r>
              <a:rPr b="0" lang="zh-CN" sz="18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838080" y="60213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新生活指的是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由、平等、幸福的生活。</a:t>
            </a:r>
            <a:r>
              <a:rPr b="0" lang="zh-CN" sz="2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6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228600" y="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、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我想到希望，忽然害怕起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为什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害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？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为什么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他的愿望切近，我的愿望茫远罢了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04920" y="4876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5</a:t>
            </a:r>
            <a:r>
              <a:rPr b="1" lang="zh-CN" sz="3200" spc="-1" strike="noStrike">
                <a:solidFill>
                  <a:srgbClr val="cc00cc"/>
                </a:solidFill>
                <a:latin typeface="Verdana"/>
              </a:rPr>
              <a:t>、课文再次出现海边奇异的图画，表现了什么？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600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因为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愿望是普天下的人都过上自由、平等、幸福的新生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但愿望能否实现是未知数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知道，所以想到希望的能否实现，自然便害怕起来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228600" y="3048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闰土的愿望只是希望眼前能过上幸福生活，所以说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切近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，我的愿望是普天下的人都过上自由、平等、幸福的生活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愿望能否实现还是未知数，所以茫远。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252360" y="5734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海边奇异的图画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美好希望的想象和憧憬。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026"/>
          <p:cNvSpPr/>
          <p:nvPr/>
        </p:nvSpPr>
        <p:spPr>
          <a:xfrm>
            <a:off x="380880" y="457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Verdana"/>
              </a:rPr>
              <a:t>6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希望是本无所谓有，无所谓无的。这正如地上的路：其实地上本没有路，走的人多了，也便成了路。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这句话有什么深刻含义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Rectangle 1027"/>
          <p:cNvSpPr/>
          <p:nvPr/>
        </p:nvSpPr>
        <p:spPr>
          <a:xfrm>
            <a:off x="609480" y="2286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把希望比作地上的路，结尾充满了哲理。它告诉人们：只空有希望而不去奋斗、追求，希望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所谓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有了希望并始终不逾地斗争、实践，希望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所谓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人们都向着希望之路迅跑，就会迎来新生活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23" name="Picture 1028" descr="fmln002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936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29" descr="anim004"/>
          <p:cNvPicPr/>
          <p:nvPr/>
        </p:nvPicPr>
        <p:blipFill>
          <a:blip r:embed="rId3"/>
          <a:stretch/>
        </p:blipFill>
        <p:spPr>
          <a:xfrm>
            <a:off x="8321760" y="5715000"/>
            <a:ext cx="822240" cy="1143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00000" y="645336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468360" y="333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是小说中又一个重要人物。小说中的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并不等于作者，而是作者塑造的一个人物。想想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是一个什么样的人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539640" y="1989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十多年前远离故乡，过着辛苦辗转的生活。回到故乡，看到故乡的衰败萧索，看到故乡人的生活穷困悲苦，看到故乡人纯真人性的扭曲感到痛苦悲哀。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失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憧憬着美好的故乡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希望故乡人过上新的生活。所以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是消沉的知识分子，而是一个同情、热爱劳动人民的具有民主进步思想倾向的小资产阶级知识分子形象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29" name="Picture 4" descr="line20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762120" y="609480"/>
            <a:ext cx="575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ahoma"/>
              </a:rPr>
              <a:t>环境描写的作用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533520" y="18288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　　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现实的故乡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萧索、荒凉、单调，失去生命的活力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。回忆中的故乡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五彩缤纷，寂静而富有动感</a:t>
            </a:r>
            <a:r>
              <a:rPr b="1" i="1" lang="zh-CN" sz="3600" spc="-1" strike="noStrike">
                <a:solidFill>
                  <a:srgbClr val="993300"/>
                </a:solidFill>
                <a:latin typeface="Tahoma"/>
              </a:rPr>
              <a:t>，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辽阔而鲜活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。环境描写既真实再现了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社会生活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，也凸现了故乡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人的关系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我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的情感态度：纯真美好的人际关系如今有了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隔阂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32" name="Picture 4" descr="fmln002"/>
          <p:cNvPicPr/>
          <p:nvPr/>
        </p:nvPicPr>
        <p:blipFill>
          <a:blip r:embed="rId2"/>
          <a:stretch/>
        </p:blipFill>
        <p:spPr>
          <a:xfrm>
            <a:off x="-36360" y="5734080"/>
            <a:ext cx="9144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5"/>
          <p:cNvGrpSpPr/>
          <p:nvPr/>
        </p:nvGrpSpPr>
        <p:grpSpPr>
          <a:xfrm>
            <a:off x="7010280" y="5334120"/>
            <a:ext cx="2133720" cy="1523880"/>
            <a:chOff x="7010280" y="5334120"/>
            <a:chExt cx="2133720" cy="1523880"/>
          </a:xfrm>
        </p:grpSpPr>
        <p:pic>
          <p:nvPicPr>
            <p:cNvPr id="334" name="Picture 6" descr="Q_039"/>
            <p:cNvPicPr/>
            <p:nvPr/>
          </p:nvPicPr>
          <p:blipFill>
            <a:blip r:embed="rId3"/>
            <a:stretch/>
          </p:blipFill>
          <p:spPr>
            <a:xfrm>
              <a:off x="7612920" y="5856120"/>
              <a:ext cx="904320" cy="55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7" descr="bird049"/>
            <p:cNvPicPr/>
            <p:nvPr/>
          </p:nvPicPr>
          <p:blipFill>
            <a:blip r:embed="rId4"/>
            <a:stretch/>
          </p:blipFill>
          <p:spPr>
            <a:xfrm>
              <a:off x="7545960" y="533412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8" descr="bird049"/>
            <p:cNvPicPr/>
            <p:nvPr/>
          </p:nvPicPr>
          <p:blipFill>
            <a:blip r:embed="rId5"/>
            <a:stretch/>
          </p:blipFill>
          <p:spPr>
            <a:xfrm>
              <a:off x="7177680" y="549900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9" descr="bird049"/>
            <p:cNvPicPr/>
            <p:nvPr/>
          </p:nvPicPr>
          <p:blipFill>
            <a:blip r:embed="rId6"/>
            <a:stretch/>
          </p:blipFill>
          <p:spPr>
            <a:xfrm>
              <a:off x="8416800" y="544392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0" descr="bird049"/>
            <p:cNvPicPr/>
            <p:nvPr/>
          </p:nvPicPr>
          <p:blipFill>
            <a:blip r:embed="rId7"/>
            <a:stretch/>
          </p:blipFill>
          <p:spPr>
            <a:xfrm>
              <a:off x="8015040" y="536148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11" descr="bird049"/>
            <p:cNvPicPr/>
            <p:nvPr/>
          </p:nvPicPr>
          <p:blipFill>
            <a:blip r:embed="rId8"/>
            <a:stretch/>
          </p:blipFill>
          <p:spPr>
            <a:xfrm>
              <a:off x="7010280" y="577368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2" descr="bird049"/>
            <p:cNvPicPr/>
            <p:nvPr/>
          </p:nvPicPr>
          <p:blipFill>
            <a:blip r:embed="rId9"/>
            <a:stretch/>
          </p:blipFill>
          <p:spPr>
            <a:xfrm>
              <a:off x="7311600" y="643320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3" descr="bird049"/>
            <p:cNvPicPr/>
            <p:nvPr/>
          </p:nvPicPr>
          <p:blipFill>
            <a:blip r:embed="rId10"/>
            <a:stretch/>
          </p:blipFill>
          <p:spPr>
            <a:xfrm>
              <a:off x="7010280" y="613080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14" descr="bird049"/>
            <p:cNvPicPr/>
            <p:nvPr/>
          </p:nvPicPr>
          <p:blipFill>
            <a:blip r:embed="rId11"/>
            <a:stretch/>
          </p:blipFill>
          <p:spPr>
            <a:xfrm>
              <a:off x="8651520" y="580104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5" descr="bird049"/>
            <p:cNvPicPr/>
            <p:nvPr/>
          </p:nvPicPr>
          <p:blipFill>
            <a:blip r:embed="rId12"/>
            <a:stretch/>
          </p:blipFill>
          <p:spPr>
            <a:xfrm>
              <a:off x="8651520" y="618588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6" descr="bird049"/>
            <p:cNvPicPr/>
            <p:nvPr/>
          </p:nvPicPr>
          <p:blipFill>
            <a:blip r:embed="rId13"/>
            <a:stretch/>
          </p:blipFill>
          <p:spPr>
            <a:xfrm>
              <a:off x="7814160" y="651564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7" descr="bird049"/>
            <p:cNvPicPr/>
            <p:nvPr/>
          </p:nvPicPr>
          <p:blipFill>
            <a:blip r:embed="rId14"/>
            <a:stretch/>
          </p:blipFill>
          <p:spPr>
            <a:xfrm>
              <a:off x="8282880" y="6433200"/>
              <a:ext cx="492480" cy="34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66ff"/>
                </a:solidFill>
                <a:uFillTx/>
                <a:latin typeface="Verdana"/>
                <a:hlinkClick r:id="rId1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看戏河埠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1258920" y="0"/>
            <a:ext cx="242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时代背景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765000"/>
            <a:ext cx="514836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19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鲁迅回故乡绍兴接母亲到北京，目睹了在现实社会生活的重压下失去了精神生命力的故乡的人和事，十分悲愤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192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便以这次回家的经历为题材，写了这篇小说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B4E-1582-4B3B-82AB-E10ADF3782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699560" y="455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</a:rPr>
              <a:t>整体感知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163680" y="16765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朗读课文，疏解字词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252160" y="4267080"/>
            <a:ext cx="9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梳理情节结构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32720" y="3048120"/>
            <a:ext cx="51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说以什么为线索来组织故事情节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" name="Picture 10" descr="gif044"/>
          <p:cNvPicPr/>
          <p:nvPr/>
        </p:nvPicPr>
        <p:blipFill>
          <a:blip r:embed="rId3"/>
          <a:stretch/>
        </p:blipFill>
        <p:spPr>
          <a:xfrm>
            <a:off x="6156360" y="4149720"/>
            <a:ext cx="187164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2"/>
          <a:stretch/>
        </p:blipFill>
        <p:spPr>
          <a:xfrm>
            <a:off x="-36360" y="11736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-108000" y="1341360"/>
            <a:ext cx="9826560" cy="64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秕谷（     ）   鹁鸪（      ） 颧骨（     ）   折本（     ）   潺潺（     ）  阴晦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伶仃（          ）  恣睢（     ）  猹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獾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弶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脚踝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髀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愕然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嗤笑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瑟缩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黛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惘然（       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祭祀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寒噤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廿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33520" y="2286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准字音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447920" y="137160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ǐ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495680" y="1371600"/>
            <a:ext cx="20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 gū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467480" y="1371600"/>
            <a:ext cx="21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uá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219320" y="190512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é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419720" y="18288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á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143000" y="2743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íng dī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7451640" y="198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ì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334120" y="27432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ì suī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7772400" y="26668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á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685800" y="3276720"/>
            <a:ext cx="19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ā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3348000" y="3284640"/>
            <a:ext cx="18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à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7010280" y="32767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i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838080" y="41148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3995640" y="4149720"/>
            <a:ext cx="6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6732720" y="4149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ī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1258920" y="4869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3851280" y="486900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dài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6877080" y="486900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ǎ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1187280" y="57340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4211640" y="573408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ì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6588000" y="566100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ià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2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593640" y="3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476280"/>
            <a:ext cx="756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小说以时间为序，以“我”在故乡的见闻感受为线索，依据这个线索可以分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回故乡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在故乡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离故乡”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三个部分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220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第一部分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-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描写了故乡的萧条景象和“我”见到故乡的复杂心情，并交代了“我”回故乡的目的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826920" y="3645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第二部分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——77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写“我”回故乡的见闻与感受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900000" y="47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第三部分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8——8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写“我” 离开故乡时种种感触和矛盾心情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533520" y="533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情节结构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80880" y="30481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第一部分：回故乡   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(1-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节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657600" y="1676520"/>
            <a:ext cx="152280" cy="3581280"/>
          </a:xfrm>
          <a:custGeom>
            <a:avLst/>
            <a:gdLst>
              <a:gd name="textAreaLeft" fmla="*/ 97200 w 152280"/>
              <a:gd name="textAreaRight" fmla="*/ 152640 w 15228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962520" y="1371600"/>
            <a:ext cx="17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回乡时间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962520" y="2514600"/>
            <a:ext cx="18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回乡原因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962520" y="3809880"/>
            <a:ext cx="26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回乡所见景象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962520" y="5029200"/>
            <a:ext cx="17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回乡心情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705720" y="137160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深冬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6705720" y="2590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卖屋、搬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705720" y="3733920"/>
            <a:ext cx="16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萧索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705720" y="5029200"/>
            <a:ext cx="18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悲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75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75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425"/>
                            </p:stCondLst>
                            <p:childTnLst>
                              <p:par>
                                <p:cTn id="3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75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75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75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75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75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5:12:50Z</dcterms:created>
  <dc:creator/>
  <dc:description/>
  <cp:keywords>幻灯片之家 http:/www.eeppt.com</cp:keywords>
  <dc:language>en-US</dc:language>
  <cp:lastModifiedBy/>
  <dcterms:modified xsi:type="dcterms:W3CDTF">2015-07-04T03:10:53Z</dcterms:modified>
  <cp:revision>1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