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D001-35A1-46A6-B9CA-FF200191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B27-7E53-456F-97B3-5A6F0FB1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551F-3A38-4CD9-B7B7-E34C95FD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3DD-F5BB-4427-BFCD-EFB93E85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1B28-F97B-4BFB-B988-377AE16E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0E7-CE9A-457A-A63D-C20DB38C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4029-8E20-45D0-BBB8-F967DB48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C77-1107-4164-98BA-2D97535E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575-82EC-4D2C-A414-02BDE5A4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266-B9A3-45D4-A3B3-BFF30240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6A6-16F6-4B25-A25E-C071A2B9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BC1-819C-4CF9-B0C0-C78CE9A5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8980-4B90-49E4-9413-8C8BE7EE38A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9D25-77BB-4A5D-AB88-6547419CB2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tubiao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900760" y="1811160"/>
            <a:ext cx="2992320" cy="3600720"/>
            <a:chOff x="5900760" y="1811160"/>
            <a:chExt cx="2992320" cy="3600720"/>
          </a:xfrm>
        </p:grpSpPr>
        <p:sp>
          <p:nvSpPr>
            <p:cNvPr id="43" name=""/>
            <p:cNvSpPr/>
            <p:nvPr/>
          </p:nvSpPr>
          <p:spPr>
            <a:xfrm rot="4658400">
              <a:off x="6206040" y="4178880"/>
              <a:ext cx="655200" cy="4500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55115" h="46406">
                  <a:moveTo>
                    <a:pt x="0" y="23203"/>
                  </a:moveTo>
                  <a:lnTo>
                    <a:pt x="655115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559000">
              <a:off x="6549120" y="4157640"/>
              <a:ext cx="919800" cy="46080"/>
            </a:xfrm>
            <a:custGeom>
              <a:avLst/>
              <a:gdLst>
                <a:gd name="textAreaLeft" fmla="*/ 0 w 919800"/>
                <a:gd name="textAreaRight" fmla="*/ 920160 w 9198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45700" h="46406">
                  <a:moveTo>
                    <a:pt x="0" y="23203"/>
                  </a:moveTo>
                  <a:lnTo>
                    <a:pt x="945700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860400">
              <a:off x="6650280" y="3827880"/>
              <a:ext cx="1337760" cy="46080"/>
            </a:xfrm>
            <a:custGeom>
              <a:avLst/>
              <a:gdLst>
                <a:gd name="textAreaLeft" fmla="*/ 0 w 1337760"/>
                <a:gd name="textAreaRight" fmla="*/ 1338120 w 1337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75293" h="46406">
                  <a:moveTo>
                    <a:pt x="0" y="23203"/>
                  </a:moveTo>
                  <a:lnTo>
                    <a:pt x="1375293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20748000">
              <a:off x="6650280" y="3351240"/>
              <a:ext cx="1336320" cy="46080"/>
            </a:xfrm>
            <a:custGeom>
              <a:avLst/>
              <a:gdLst>
                <a:gd name="textAreaLeft" fmla="*/ 0 w 1336320"/>
                <a:gd name="textAreaRight" fmla="*/ 1336680 w 1336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373935" h="46406">
                  <a:moveTo>
                    <a:pt x="0" y="23203"/>
                  </a:moveTo>
                  <a:lnTo>
                    <a:pt x="1373935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9060800">
              <a:off x="6552000" y="3026880"/>
              <a:ext cx="912240" cy="460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937838" h="46406">
                  <a:moveTo>
                    <a:pt x="0" y="23203"/>
                  </a:moveTo>
                  <a:lnTo>
                    <a:pt x="937838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6941000">
              <a:off x="6206400" y="2998800"/>
              <a:ext cx="655200" cy="4500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655110" h="46406">
                  <a:moveTo>
                    <a:pt x="0" y="23203"/>
                  </a:moveTo>
                  <a:lnTo>
                    <a:pt x="655110" y="23203"/>
                  </a:lnTo>
                </a:path>
              </a:pathLst>
            </a:custGeom>
            <a:noFill/>
            <a:ln w="9360">
              <a:solidFill>
                <a:srgbClr val="ff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00760" y="3089520"/>
              <a:ext cx="1015560" cy="1043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4760" y="181116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2640" y="194256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知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210800" y="196956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349040" y="210132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技能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50240" y="263844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88480" y="277020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99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综合能力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通用能力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50240" y="369144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88480" y="382320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特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10800" y="436824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49040" y="450000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求职动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760" y="4512600"/>
              <a:ext cx="942840" cy="899280"/>
            </a:xfrm>
            <a:prstGeom prst="ellipse">
              <a:avLst/>
            </a:pr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62640" y="4644360"/>
              <a:ext cx="666720" cy="6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价值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30"/>
          <p:cNvGrpSpPr/>
          <p:nvPr/>
        </p:nvGrpSpPr>
        <p:grpSpPr>
          <a:xfrm>
            <a:off x="53280" y="1700280"/>
            <a:ext cx="4390920" cy="4141080"/>
            <a:chOff x="53280" y="1700280"/>
            <a:chExt cx="4390920" cy="4141080"/>
          </a:xfrm>
        </p:grpSpPr>
        <p:grpSp>
          <p:nvGrpSpPr>
            <p:cNvPr id="63" name="组合 31"/>
            <p:cNvGrpSpPr/>
            <p:nvPr/>
          </p:nvGrpSpPr>
          <p:grpSpPr>
            <a:xfrm>
              <a:off x="53280" y="1700280"/>
              <a:ext cx="4390920" cy="4141080"/>
              <a:chOff x="53280" y="1700280"/>
              <a:chExt cx="4390920" cy="4141080"/>
            </a:xfrm>
          </p:grpSpPr>
          <p:sp>
            <p:nvSpPr>
              <p:cNvPr id="64" name="Ellipse 11"/>
              <p:cNvSpPr/>
              <p:nvPr/>
            </p:nvSpPr>
            <p:spPr>
              <a:xfrm>
                <a:off x="1367280" y="2874240"/>
                <a:ext cx="1675800" cy="167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3660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决定组织结构的因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e 6"/>
              <p:cNvGrpSpPr/>
              <p:nvPr/>
            </p:nvGrpSpPr>
            <p:grpSpPr>
              <a:xfrm>
                <a:off x="53280" y="1700280"/>
                <a:ext cx="4390920" cy="4141080"/>
                <a:chOff x="53280" y="1700280"/>
                <a:chExt cx="4390920" cy="4141080"/>
              </a:xfrm>
            </p:grpSpPr>
            <p:sp>
              <p:nvSpPr>
                <p:cNvPr id="66" name="Ellipse 1"/>
                <p:cNvSpPr/>
                <p:nvPr/>
              </p:nvSpPr>
              <p:spPr>
                <a:xfrm>
                  <a:off x="1406880" y="1700280"/>
                  <a:ext cx="1602720" cy="1316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Ellipse 2"/>
                <p:cNvSpPr/>
                <p:nvPr/>
              </p:nvSpPr>
              <p:spPr>
                <a:xfrm rot="1602600">
                  <a:off x="2712960" y="2558880"/>
                  <a:ext cx="1449360" cy="1598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1898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Ellipse 4"/>
                <p:cNvSpPr/>
                <p:nvPr/>
              </p:nvSpPr>
              <p:spPr>
                <a:xfrm rot="558000">
                  <a:off x="2147760" y="4040280"/>
                  <a:ext cx="1600200" cy="1481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2942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Ellipse 3"/>
                <p:cNvSpPr/>
                <p:nvPr/>
              </p:nvSpPr>
              <p:spPr>
                <a:xfrm rot="2184000">
                  <a:off x="606600" y="4164480"/>
                  <a:ext cx="1602720" cy="1331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616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Ellipse 5"/>
                <p:cNvSpPr/>
                <p:nvPr/>
              </p:nvSpPr>
              <p:spPr>
                <a:xfrm rot="1111800">
                  <a:off x="273960" y="2493720"/>
                  <a:ext cx="1313640" cy="16023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969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" name="Rectangle 8"/>
            <p:cNvSpPr/>
            <p:nvPr/>
          </p:nvSpPr>
          <p:spPr>
            <a:xfrm>
              <a:off x="1669680" y="2118240"/>
              <a:ext cx="102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战略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9"/>
            <p:cNvSpPr/>
            <p:nvPr/>
          </p:nvSpPr>
          <p:spPr>
            <a:xfrm>
              <a:off x="3073680" y="3075120"/>
              <a:ext cx="102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环境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3"/>
            <p:cNvSpPr/>
            <p:nvPr/>
          </p:nvSpPr>
          <p:spPr>
            <a:xfrm>
              <a:off x="237960" y="3075120"/>
              <a:ext cx="124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权利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4"/>
            <p:cNvSpPr/>
            <p:nvPr/>
          </p:nvSpPr>
          <p:spPr>
            <a:xfrm>
              <a:off x="895680" y="4670280"/>
              <a:ext cx="102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规模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2568600" y="4608720"/>
              <a:ext cx="102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术因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直接连接符 44"/>
          <p:cNvSpPr/>
          <p:nvPr/>
        </p:nvSpPr>
        <p:spPr>
          <a:xfrm>
            <a:off x="4848120" y="1760400"/>
            <a:ext cx="0" cy="401004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2720" y="595008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4720" y="1341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0240" y="549360"/>
            <a:ext cx="47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关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0DF-73B7-4F3B-859D-B80138B127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/>
  <cp:keywords>幻灯片之家 http:/www.eeppt.com</cp:keywords>
  <dc:language>en-US</dc:language>
  <cp:lastModifiedBy/>
  <dcterms:modified xsi:type="dcterms:W3CDTF">2015-07-07T02:59:08Z</dcterms:modified>
  <cp:revision>11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