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B96-0F52-43C1-BF05-C7855DE6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200E-2360-4024-A9E5-FF292407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E3E-AB39-4FC0-AAC5-C63F44F3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60A-874C-4C1C-AE62-85DBE099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08F0-731E-4873-8C05-0609BE0D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50A8-E982-4047-B981-1DBF7ADC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E01D-064D-4F8B-AE83-2C0CEE7D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44B-EF23-4766-B343-55ABD550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4F3-2D2E-4358-8997-F9D3F395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F2C-4DAD-43BC-A9CB-6BF9C36E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63D-4DE0-4455-9B67-F636791F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C27-A87A-4A56-A2AE-155AF7CD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2259-E47F-4857-A8D2-D0F5DC45F001}" type="slidenum">
              <a: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638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F50-8296-4A25-BCEE-851CAD5D3C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676520" y="1538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正确、流利朗读课文，想一想： 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990720" y="2130480"/>
            <a:ext cx="7086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☆果园机器人是什么样子的？有什么特点？你认为哪些特点最有趣？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3" name="Picture 8" descr="小学语文(记叙文）03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990720" y="3622680"/>
            <a:ext cx="71625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☆ 如果让你来设计果园机器人，你准备设计成什么样子？向大家介绍一下，或者画下来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6381720"/>
            <a:ext cx="7920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1" lang="en-US" sz="1600" spc="-1" strike="noStrike">
                <a:solidFill>
                  <a:srgbClr val="800080"/>
                </a:solidFill>
                <a:latin typeface="Times New Roman"/>
              </a:rPr>
              <a:t>http://www.eeppt.com/moban/kejian/</a:t>
            </a:r>
            <a:endParaRPr b="1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1143000" y="167328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聪明能干的机器人越来越受到大家的欢迎了，潜入深海寻找宝藏，进入身体查病治病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展开想像，说一说自己想发明什么样的机器人，会有哪些本领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>
            <a:off x="3986280" y="285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3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1676520" y="11872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你认识机器人吗？ 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5" name="Picture 9" descr="机器人1"/>
          <p:cNvPicPr/>
          <p:nvPr/>
        </p:nvPicPr>
        <p:blipFill>
          <a:blip r:embed="rId3"/>
          <a:srcRect l="0" t="0" r="-51" b="-73"/>
          <a:stretch/>
        </p:blipFill>
        <p:spPr>
          <a:xfrm>
            <a:off x="1905120" y="2135160"/>
            <a:ext cx="5486400" cy="38084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"/>
          <p:cNvSpPr/>
          <p:nvPr/>
        </p:nvSpPr>
        <p:spPr>
          <a:xfrm>
            <a:off x="3809880" y="5943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机 器 人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机器人2"/>
          <p:cNvPicPr/>
          <p:nvPr/>
        </p:nvPicPr>
        <p:blipFill>
          <a:blip r:embed="rId3"/>
          <a:stretch/>
        </p:blipFill>
        <p:spPr>
          <a:xfrm>
            <a:off x="1676520" y="1600200"/>
            <a:ext cx="5790960" cy="41911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3809880" y="5943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机 器 人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机器人3"/>
          <p:cNvPicPr/>
          <p:nvPr/>
        </p:nvPicPr>
        <p:blipFill>
          <a:blip r:embed="rId3"/>
          <a:stretch/>
        </p:blipFill>
        <p:spPr>
          <a:xfrm>
            <a:off x="2362320" y="190512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3809880" y="57913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机 器 人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6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9" descr="机器人4"/>
          <p:cNvPicPr/>
          <p:nvPr/>
        </p:nvPicPr>
        <p:blipFill>
          <a:blip r:embed="rId3"/>
          <a:stretch/>
        </p:blipFill>
        <p:spPr>
          <a:xfrm>
            <a:off x="2362320" y="1600200"/>
            <a:ext cx="4497120" cy="4262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30"/>
          <p:cNvSpPr/>
          <p:nvPr/>
        </p:nvSpPr>
        <p:spPr>
          <a:xfrm>
            <a:off x="3809880" y="5943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机 器 人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机器人5"/>
          <p:cNvPicPr/>
          <p:nvPr/>
        </p:nvPicPr>
        <p:blipFill>
          <a:blip r:embed="rId3"/>
          <a:stretch/>
        </p:blipFill>
        <p:spPr>
          <a:xfrm>
            <a:off x="2057400" y="1523880"/>
            <a:ext cx="5181480" cy="4300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3809880" y="5943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机 器 人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1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3809880" y="5943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机 器 人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3" name="Picture 4" descr="机器人6"/>
          <p:cNvPicPr/>
          <p:nvPr/>
        </p:nvPicPr>
        <p:blipFill>
          <a:blip r:embed="rId3"/>
          <a:stretch/>
        </p:blipFill>
        <p:spPr>
          <a:xfrm>
            <a:off x="2286000" y="1604880"/>
            <a:ext cx="44816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1066680" y="16146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机器人技术作为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世纪人类最伟大的发明之一，自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年代初问世以来，经历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余年的发展已取得长足的进步。走向成熟的工业机器人，各种用途的特种机器人的实用化，昭示着机器人技术灿烂的明天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1523880" y="2352600"/>
            <a:ext cx="60962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借助拼音自读课文，我们来看一看果园机器人是什么样的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2:55:00Z</dcterms:created>
  <dc:creator/>
  <dc:description/>
  <cp:keywords>幻灯片之家 http:/www.eeppt.com</cp:keywords>
  <dc:language>en-US</dc:language>
  <cp:lastModifiedBy/>
  <dcterms:modified xsi:type="dcterms:W3CDTF">2015-07-13T08:28:10Z</dcterms:modified>
  <cp:revision>1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