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45C-AE65-4829-B96C-B47ED1C9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4C8-8CFD-4AC6-B156-D5267336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8F6-C777-441D-A268-A18AF9AC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D81-E8E6-404D-8CF9-AB3D4A8C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0EE-E9F5-4FBD-8061-92177E32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579-9BAB-487F-AE11-B5DA96E9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952-B024-4A7B-A847-E5C24EFD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FE5-E2BF-4C38-AFB1-8F92558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D9C-106B-463B-B547-6B75E6E8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ABC-90EE-40DF-BF49-569E3321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C7E-F4A1-41A5-ABAB-8DF72E7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5D5-A978-437A-B43F-CFC1C7B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18A5-118F-42E0-A908-0795A6A1ADB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74F-8047-4DA2-810C-9F5D31988F4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57240" y="1268280"/>
          <a:ext cx="8999280" cy="4475160"/>
        </p:xfrm>
        <a:graphic>
          <a:graphicData uri="http://schemas.openxmlformats.org/drawingml/2006/table">
            <a:tbl>
              <a:tblPr/>
              <a:tblGrid>
                <a:gridCol w="1294920"/>
                <a:gridCol w="1152720"/>
                <a:gridCol w="1666800"/>
                <a:gridCol w="1052640"/>
                <a:gridCol w="1277640"/>
                <a:gridCol w="1276560"/>
                <a:gridCol w="1278000"/>
              </a:tblGrid>
              <a:tr h="42084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二、岗位工资及能力工资结构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层级划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层级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         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能力等级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br>
                        <a:rPr sz="1600"/>
                      </a:b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职位等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D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（初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（中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B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（高级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（资深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高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总经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副总经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总助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总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2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二级公司总经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经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副经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主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0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专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助理</a:t>
                      </a: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文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595959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直接连接符 15"/>
          <p:cNvSpPr/>
          <p:nvPr/>
        </p:nvSpPr>
        <p:spPr>
          <a:xfrm>
            <a:off x="2505240" y="1700280"/>
            <a:ext cx="1677960" cy="696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6093000"/>
            <a:ext cx="76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080" y="260280"/>
            <a:ext cx="47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工资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95280" y="1844640"/>
          <a:ext cx="8412120" cy="3252960"/>
        </p:xfrm>
        <a:graphic>
          <a:graphicData uri="http://schemas.openxmlformats.org/drawingml/2006/table">
            <a:tbl>
              <a:tblPr/>
              <a:tblGrid>
                <a:gridCol w="1501920"/>
                <a:gridCol w="879480"/>
                <a:gridCol w="1225440"/>
                <a:gridCol w="1225440"/>
                <a:gridCol w="676440"/>
                <a:gridCol w="672840"/>
                <a:gridCol w="676440"/>
                <a:gridCol w="674640"/>
                <a:gridCol w="879480"/>
              </a:tblGrid>
              <a:tr h="431640">
                <a:tc gridSpan="9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表一、资历薪资明细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  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学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毕业年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科以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专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专科以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8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院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院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本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及以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-9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-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-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6093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297-AD22-44D7-B464-A1197BF2CA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13T13:31:16Z</dcterms:modified>
  <cp:revision>13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