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20.gif" ContentType="image/gif"/>
  <Override PartName="/ppt/media/image13.jpeg" ContentType="image/jpeg"/>
  <Override PartName="/ppt/media/image8.jpeg" ContentType="image/jpeg"/>
  <Override PartName="/ppt/media/image30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31.jpeg" ContentType="image/jpeg"/>
  <Override PartName="/ppt/media/image11.jpeg" ContentType="image/jpeg"/>
  <Override PartName="/ppt/media/image33.gif" ContentType="image/gif"/>
  <Override PartName="/ppt/media/image18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6D11-54B1-4AE2-A1C0-69148671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040-3E23-4D47-8998-012BF03C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277-75E1-4983-BFC3-E7FC1C10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63A4-17B0-4CC1-A1DB-8D21CB19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7C3-9C54-479A-8E3A-4406B943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95EF-0297-47CE-B47A-F0CBAC02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46A-A9B3-48F4-A386-4F696B3B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9DDB-D7E1-431A-BF0E-C7F532DE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497-8805-41EB-8F26-84091DC2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83DA-4E07-4CB3-BF54-BE1D6297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21B-0943-423B-BF3B-09C0A438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C8CA-4EDB-43BA-B055-E884D7CF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533E-7A81-4E55-BB1A-1C2471D110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320" y="1219320"/>
            <a:ext cx="9219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The  sixth lesson: Determiner</a:t>
            </a:r>
            <a:r>
              <a:rPr b="1" lang="zh-CN" sz="44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）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133720" y="259092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362320" y="380988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学内容：限定词的搭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学对象：高中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  作  者： 周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/04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6324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47520" y="2286000"/>
            <a:ext cx="42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中英语课件之限定词的搭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６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能与单数名词和不可数名词搭配的限定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内容占位符 12" descr="复件 20070617144656829.gif"/>
          <p:cNvPicPr/>
          <p:nvPr/>
        </p:nvPicPr>
        <p:blipFill>
          <a:blip r:embed="rId2"/>
          <a:stretch/>
        </p:blipFill>
        <p:spPr>
          <a:xfrm rot="19380000">
            <a:off x="-111240" y="188640"/>
            <a:ext cx="1703520" cy="95256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143000" y="1143000"/>
            <a:ext cx="6705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些限定词，如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, tha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，能与单数名词和不可数名词搭配。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/that  job                 this/tha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ever  had  come up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ide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rved a med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 family have lived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at vill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gen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 hope to enjo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at feel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微软雅黑"/>
                <a:ea typeface="微软雅黑"/>
              </a:rPr>
              <a:t>７．能与复数名词和不可数名词搭配的限定词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还有些限定词如：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 lot of , lots of , plenty of,  enough, more,  most ,  such , other 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等可与复数名词和不可数名词搭配，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 lot of books       a lot of mon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ots of chickens    lots of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lenty of chairs    plenty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nough copies     enough c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……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re  the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ough cakes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or everyon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ike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l  such stories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, that is largely a my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3" descr="20070908212325514.jpg"/>
          <p:cNvPicPr/>
          <p:nvPr/>
        </p:nvPicPr>
        <p:blipFill>
          <a:blip r:embed="rId2"/>
          <a:stretch/>
        </p:blipFill>
        <p:spPr>
          <a:xfrm rot="21206400">
            <a:off x="122400" y="4641840"/>
            <a:ext cx="1191960" cy="19368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Arial"/>
                <a:ea typeface="Adobe Gothic Std B"/>
              </a:rPr>
              <a:t>Ｅｘｅｒｃｉｓｅ</a:t>
            </a:r>
            <a:r>
              <a:rPr b="0" lang="zh-CN" sz="5400" spc="-1" strike="noStrike">
                <a:solidFill>
                  <a:srgbClr val="6600ff"/>
                </a:solidFill>
                <a:latin typeface="Arial"/>
                <a:ea typeface="Adobe Gothic Std B"/>
              </a:rPr>
              <a:t>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n appropriate determiner to fill in each of the bla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.Why  is there __ traffic on the streets in February than in M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. less  B. fewer  C. few  D.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. On account of the typhoo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_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ll arrive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. neither   B. all   C. both   D. the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.They paid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__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money for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chine than I exp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. little                 B. l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. much               D. few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3" descr="20070908221857174.jpg"/>
          <p:cNvPicPr/>
          <p:nvPr/>
        </p:nvPicPr>
        <p:blipFill>
          <a:blip r:embed="rId2"/>
          <a:stretch/>
        </p:blipFill>
        <p:spPr>
          <a:xfrm>
            <a:off x="228600" y="304920"/>
            <a:ext cx="1650960" cy="990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 rot="930000">
            <a:off x="5057640" y="5572080"/>
            <a:ext cx="184464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面还有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4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20070816235116374.jpg"/>
          <p:cNvPicPr/>
          <p:nvPr/>
        </p:nvPicPr>
        <p:blipFill>
          <a:blip r:embed="rId2"/>
          <a:stretch/>
        </p:blipFill>
        <p:spPr>
          <a:xfrm rot="708600">
            <a:off x="382680" y="115920"/>
            <a:ext cx="1217520" cy="87948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2057400" y="2286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Adobe Gothic Std B"/>
              </a:rPr>
              <a:t>Ｅｘｅｒｃｉｓｅ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236520" y="1981080"/>
            <a:ext cx="143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1257480" indent="-343080"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0" y="11430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The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＿＿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 in the bot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. few   B. a number of   C. plenty of    D.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There is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＿＿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ron in this mine than in that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. much   B. a great deal of  C. less  D. a lo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 He wrote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＿＿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ssays on Victorian no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n his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.the next B.the most  C.the other  D.the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. He has publishe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＿＿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ort sto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n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.a great amount of B. a number of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. another          D. many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38A-F3F9-4881-8E7D-B4D8460641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6" descr="GGGJ.jpg"/>
          <p:cNvPicPr/>
          <p:nvPr/>
        </p:nvPicPr>
        <p:blipFill>
          <a:blip r:embed="rId2"/>
          <a:stretch/>
        </p:blipFill>
        <p:spPr>
          <a:xfrm rot="20258400">
            <a:off x="-140760" y="517320"/>
            <a:ext cx="3000240" cy="143820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7" descr=""/>
          <p:cNvPicPr/>
          <p:nvPr/>
        </p:nvPicPr>
        <p:blipFill>
          <a:blip r:embed="rId3"/>
          <a:stretch/>
        </p:blipFill>
        <p:spPr>
          <a:xfrm>
            <a:off x="-130320" y="360360"/>
            <a:ext cx="2946600" cy="18464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4" descr="44247.jpg"/>
          <p:cNvPicPr/>
          <p:nvPr/>
        </p:nvPicPr>
        <p:blipFill>
          <a:blip r:embed="rId4"/>
          <a:stretch/>
        </p:blipFill>
        <p:spPr>
          <a:xfrm>
            <a:off x="6477120" y="3124080"/>
            <a:ext cx="2133360" cy="2971800"/>
          </a:xfrm>
          <a:prstGeom prst="rect">
            <a:avLst/>
          </a:prstGeom>
          <a:ln w="0">
            <a:noFill/>
          </a:ln>
        </p:spPr>
      </p:pic>
      <p:sp>
        <p:nvSpPr>
          <p:cNvPr id="90" name="矩形 5"/>
          <p:cNvSpPr/>
          <p:nvPr/>
        </p:nvSpPr>
        <p:spPr>
          <a:xfrm>
            <a:off x="2819520" y="68580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 the following into English, using appropriate determin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1447920" y="167652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开凿隧道需要大量劳动力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or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少说空话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ty tal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多干实事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al wor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。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今天参观展览会的人数比昨天少。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娜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因为没有足够的钱财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烦恼丛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23880" y="2057400"/>
            <a:ext cx="63248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3" name="图片 4" descr="20080101002819649.jpg"/>
          <p:cNvPicPr/>
          <p:nvPr/>
        </p:nvPicPr>
        <p:blipFill>
          <a:blip r:embed="rId2"/>
          <a:stretch/>
        </p:blipFill>
        <p:spPr>
          <a:xfrm rot="1235400">
            <a:off x="6857640" y="228240"/>
            <a:ext cx="1905120" cy="16002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457200" y="380880"/>
            <a:ext cx="8381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Ｔｈａｔ‘ｓ　ａｌｌ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　   ｆｏｒ　ｔｏｄａｙ</a:t>
            </a:r>
            <a:r>
              <a:rPr b="1" lang="zh-CN" sz="20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．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Ｈａｖｅ　ａ　ｇｏｏｄ　　ｄａｙ</a:t>
            </a:r>
            <a:r>
              <a:rPr b="1" lang="zh-CN" sz="20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云形 6"/>
          <p:cNvSpPr/>
          <p:nvPr/>
        </p:nvSpPr>
        <p:spPr>
          <a:xfrm rot="20482800">
            <a:off x="49320" y="2450880"/>
            <a:ext cx="3809880" cy="236196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Adobe Gothic Std B"/>
              </a:rPr>
              <a:t>Ｔｈａｎｋ　ｙｏｕ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示 2" descr=""/>
          <p:cNvPicPr/>
          <p:nvPr/>
        </p:nvPicPr>
        <p:blipFill>
          <a:blip r:embed="rId2"/>
          <a:stretch/>
        </p:blipFill>
        <p:spPr>
          <a:xfrm>
            <a:off x="1504800" y="1390680"/>
            <a:ext cx="6591600" cy="4076640"/>
          </a:xfrm>
          <a:prstGeom prst="rect">
            <a:avLst/>
          </a:prstGeom>
          <a:ln w="0">
            <a:noFill/>
          </a:ln>
        </p:spPr>
      </p:pic>
      <p:sp>
        <p:nvSpPr>
          <p:cNvPr id="47" name="虚尾箭头 4"/>
          <p:cNvSpPr/>
          <p:nvPr/>
        </p:nvSpPr>
        <p:spPr>
          <a:xfrm>
            <a:off x="685800" y="228600"/>
            <a:ext cx="4114800" cy="144792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Teaching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五角星 5"/>
          <p:cNvSpPr/>
          <p:nvPr/>
        </p:nvSpPr>
        <p:spPr>
          <a:xfrm rot="972000">
            <a:off x="431280" y="4222800"/>
            <a:ext cx="1371600" cy="13842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2008020117494373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" descr="20070908212319203.jpg"/>
          <p:cNvPicPr/>
          <p:nvPr/>
        </p:nvPicPr>
        <p:blipFill>
          <a:blip r:embed="rId2"/>
          <a:stretch/>
        </p:blipFill>
        <p:spPr>
          <a:xfrm>
            <a:off x="0" y="5334120"/>
            <a:ext cx="213372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4" descr=""/>
          <p:cNvPicPr/>
          <p:nvPr/>
        </p:nvPicPr>
        <p:blipFill>
          <a:blip r:embed="rId3"/>
          <a:stretch/>
        </p:blipFill>
        <p:spPr>
          <a:xfrm>
            <a:off x="304920" y="-378000"/>
            <a:ext cx="5132160" cy="1643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914400" y="914400"/>
            <a:ext cx="739152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限定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eterminer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是在名词词组中对名词中心词起特指（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pecific Reference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类指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eneric Reference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及表示确定数量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efinite Quantity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非确定数量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definite Quantity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限定作用的词类。名词词组除有词汇意义外，还有其所指意义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Referential Meaning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特指（即指特定的对象），还是类指（即泛指一类人或物）；是有确定的数量，还是没有确定的数量。能在名词词组中表示这种所指意义的词类就是限定词。英语的限定词主要包括：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定冠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定冠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零冠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以及以下几种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5" descr="20070724231934346.jpg"/>
          <p:cNvPicPr/>
          <p:nvPr/>
        </p:nvPicPr>
        <p:blipFill>
          <a:blip r:embed="rId2"/>
          <a:stretch/>
        </p:blipFill>
        <p:spPr>
          <a:xfrm rot="783600">
            <a:off x="259920" y="-50400"/>
            <a:ext cx="990720" cy="10699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6" descr="20070724231934346.jpg"/>
          <p:cNvPicPr/>
          <p:nvPr/>
        </p:nvPicPr>
        <p:blipFill>
          <a:blip r:embed="rId3"/>
          <a:stretch/>
        </p:blipFill>
        <p:spPr>
          <a:xfrm rot="930000">
            <a:off x="93240" y="929880"/>
            <a:ext cx="804960" cy="812880"/>
          </a:xfrm>
          <a:prstGeom prst="rect">
            <a:avLst/>
          </a:prstGeom>
          <a:ln w="0">
            <a:noFill/>
          </a:ln>
        </p:spPr>
      </p:pic>
      <p:pic>
        <p:nvPicPr>
          <p:cNvPr id="56" name="图示 3" descr=""/>
          <p:cNvPicPr/>
          <p:nvPr/>
        </p:nvPicPr>
        <p:blipFill>
          <a:blip r:embed="rId4"/>
          <a:stretch/>
        </p:blipFill>
        <p:spPr>
          <a:xfrm>
            <a:off x="1279440" y="231840"/>
            <a:ext cx="7005600" cy="2378160"/>
          </a:xfrm>
          <a:prstGeom prst="rect">
            <a:avLst/>
          </a:prstGeom>
          <a:ln w="0">
            <a:noFill/>
          </a:ln>
        </p:spPr>
      </p:pic>
      <p:pic>
        <p:nvPicPr>
          <p:cNvPr id="57" name="图示 4" descr=""/>
          <p:cNvPicPr/>
          <p:nvPr/>
        </p:nvPicPr>
        <p:blipFill>
          <a:blip r:embed="rId5"/>
          <a:stretch/>
        </p:blipFill>
        <p:spPr>
          <a:xfrm>
            <a:off x="1279440" y="2620800"/>
            <a:ext cx="6969240" cy="2732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1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限定词与三类名词的搭配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371600"/>
            <a:ext cx="8458200" cy="49528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与三类名词搭配的限定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些限定词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, some,  any , no,  another, who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, your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物主限定词和名词属格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’s ,  my  friend’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等能与三类名词搭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the book     the  books    the  mon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 book     my  books     my  mon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book  some books  some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se book   whose books    whose mon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 studen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to  leave the 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 hav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  time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rite  to you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ose s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you 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6" descr="FHDRHDRHH.jpg"/>
          <p:cNvPicPr/>
          <p:nvPr/>
        </p:nvPicPr>
        <p:blipFill>
          <a:blip r:embed="rId2"/>
          <a:stretch/>
        </p:blipFill>
        <p:spPr>
          <a:xfrm>
            <a:off x="6629400" y="4800600"/>
            <a:ext cx="220968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 .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能与单数名词搭配的限定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些限定词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a(n), one , another, eac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,either, neither, many a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只能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数名词搭配。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worker       every  stu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  book        neither 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 apple            one  cop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 book    many  a   bo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 should be  compulsory reading 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ery adul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ither accusa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 going to   bu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other c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225720" y="304560"/>
            <a:ext cx="76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 .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能与复数名词搭配的限定名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些限定词如：</a:t>
            </a: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wo ,three, another two ,many , (a) few ,  several these, those,  a   (great)  number  of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，只能与复数名词搭配。例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 workers             (a)  few 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  students        these/those 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number of essays    two/three  vis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 have invited m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veral tim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ir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other two wee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will be finis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e a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w thing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enjoy more than  watc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  swimming in the str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5" descr="20070908212338554.jpg"/>
          <p:cNvPicPr/>
          <p:nvPr/>
        </p:nvPicPr>
        <p:blipFill>
          <a:blip r:embed="rId2"/>
          <a:stretch/>
        </p:blipFill>
        <p:spPr>
          <a:xfrm rot="732600">
            <a:off x="7662600" y="5186520"/>
            <a:ext cx="1331640" cy="1547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d2d8a"/>
                </a:solidFill>
                <a:latin typeface="微软雅黑"/>
                <a:ea typeface="微软雅黑"/>
              </a:rPr>
              <a:t>４</a:t>
            </a:r>
            <a:r>
              <a:rPr b="0" lang="en-US" sz="3200" spc="-1" strike="noStrike">
                <a:solidFill>
                  <a:srgbClr val="2d2d8a"/>
                </a:solidFill>
                <a:latin typeface="微软雅黑"/>
                <a:ea typeface="微软雅黑"/>
              </a:rPr>
              <a:t>.</a:t>
            </a:r>
            <a:r>
              <a:rPr b="0" lang="zh-CN" sz="3200" spc="-1" strike="noStrike">
                <a:solidFill>
                  <a:srgbClr val="2d2d8a"/>
                </a:solidFill>
                <a:latin typeface="微软雅黑"/>
                <a:ea typeface="微软雅黑"/>
              </a:rPr>
              <a:t>只能与不可数名词搭配的限定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些限定词如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(little) bit of , a large amount of , a great deal of , (a) little ,  much less,  (the)  lea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只能与不可数名词搭配。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it of water           a  large amount of mon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oise             (a)  little 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 oil                    (the)  least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 i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little doub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he and his accomplices are guil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 Square was the  scene of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uch figh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year’s rev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speak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 bit of Fren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underst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５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能与单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数名词搭配的限定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些限定词，如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, the second, the last, the nex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，既可与单数名词搭配，也可与复数名词搭配，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rose           the first r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st man           the last 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meeting    the next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y  first re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to hit him, but he was old ,and my second was to r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next th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heard was an insistent knocking on the door of his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last three ship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grain for West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n’t yet  arr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3" descr="20070724215215667.jpg"/>
          <p:cNvPicPr/>
          <p:nvPr/>
        </p:nvPicPr>
        <p:blipFill>
          <a:blip r:embed="rId2"/>
          <a:stretch/>
        </p:blipFill>
        <p:spPr>
          <a:xfrm rot="20886600">
            <a:off x="7315200" y="4876920"/>
            <a:ext cx="1549440" cy="16509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04:50:22Z</dcterms:created>
  <dc:creator/>
  <dc:description/>
  <cp:keywords>幻灯片之家 http:/www.eeppt.com</cp:keywords>
  <dc:language>en-US</dc:language>
  <cp:lastModifiedBy/>
  <dcterms:modified xsi:type="dcterms:W3CDTF">2015-07-13T08:51:57Z</dcterms:modified>
  <cp:revision>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