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380-58AB-4AAD-93F1-BB734759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3F5-63A7-4DAC-BE31-149A5617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62F-1F85-4700-A870-B01DA62D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7CF-C76B-4709-B6B7-B6C696DA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71A-4043-445A-98B5-43573D78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11B-E6C5-4BE6-801B-0B91BB1B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240-5FEF-4D97-9BD2-37767FA0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FA2-D3E2-428F-8033-02B71265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B18-18A1-4063-AEAC-DAD801B9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F86-27D3-48D3-92E4-D9140478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8F0-95E4-4DDB-81F6-2624A869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61F-2166-487F-947E-2D44142F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6D95-43E0-401E-AB1C-6B9DC82B67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360" y="4413240"/>
            <a:ext cx="9144000" cy="3305160"/>
            <a:chOff x="36360" y="4413240"/>
            <a:chExt cx="9144000" cy="3305160"/>
          </a:xfrm>
        </p:grpSpPr>
        <p:sp>
          <p:nvSpPr>
            <p:cNvPr id="42" name="Rectangle 25"/>
            <p:cNvSpPr/>
            <p:nvPr/>
          </p:nvSpPr>
          <p:spPr>
            <a:xfrm>
              <a:off x="2663640" y="4560840"/>
              <a:ext cx="53294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26"/>
            <p:cNvSpPr/>
            <p:nvPr/>
          </p:nvSpPr>
          <p:spPr>
            <a:xfrm flipV="1">
              <a:off x="936360" y="4719960"/>
              <a:ext cx="791712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27"/>
            <p:cNvSpPr/>
            <p:nvPr/>
          </p:nvSpPr>
          <p:spPr>
            <a:xfrm>
              <a:off x="795240" y="4871880"/>
              <a:ext cx="827712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8"/>
            <p:cNvSpPr/>
            <p:nvPr/>
          </p:nvSpPr>
          <p:spPr>
            <a:xfrm flipV="1">
              <a:off x="431640" y="5055120"/>
              <a:ext cx="874872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29"/>
            <p:cNvSpPr/>
            <p:nvPr/>
          </p:nvSpPr>
          <p:spPr>
            <a:xfrm>
              <a:off x="36360" y="54277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30"/>
            <p:cNvSpPr/>
            <p:nvPr/>
          </p:nvSpPr>
          <p:spPr>
            <a:xfrm>
              <a:off x="36360" y="561168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1"/>
            <p:cNvSpPr/>
            <p:nvPr/>
          </p:nvSpPr>
          <p:spPr>
            <a:xfrm>
              <a:off x="36360" y="579744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32"/>
            <p:cNvSpPr/>
            <p:nvPr/>
          </p:nvSpPr>
          <p:spPr>
            <a:xfrm>
              <a:off x="36360" y="59817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3"/>
            <p:cNvSpPr/>
            <p:nvPr/>
          </p:nvSpPr>
          <p:spPr>
            <a:xfrm>
              <a:off x="36360" y="61675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4"/>
            <p:cNvSpPr/>
            <p:nvPr/>
          </p:nvSpPr>
          <p:spPr>
            <a:xfrm>
              <a:off x="36360" y="635148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5"/>
            <p:cNvSpPr/>
            <p:nvPr/>
          </p:nvSpPr>
          <p:spPr>
            <a:xfrm>
              <a:off x="36360" y="653724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6"/>
            <p:cNvSpPr/>
            <p:nvPr/>
          </p:nvSpPr>
          <p:spPr>
            <a:xfrm>
              <a:off x="36360" y="67215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7"/>
            <p:cNvSpPr/>
            <p:nvPr/>
          </p:nvSpPr>
          <p:spPr>
            <a:xfrm>
              <a:off x="36360" y="69073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38"/>
            <p:cNvSpPr/>
            <p:nvPr/>
          </p:nvSpPr>
          <p:spPr>
            <a:xfrm>
              <a:off x="36360" y="709128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39"/>
            <p:cNvSpPr/>
            <p:nvPr/>
          </p:nvSpPr>
          <p:spPr>
            <a:xfrm>
              <a:off x="36360" y="74613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40"/>
            <p:cNvSpPr/>
            <p:nvPr/>
          </p:nvSpPr>
          <p:spPr>
            <a:xfrm>
              <a:off x="36360" y="727704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41"/>
            <p:cNvSpPr/>
            <p:nvPr/>
          </p:nvSpPr>
          <p:spPr>
            <a:xfrm>
              <a:off x="36360" y="764712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42"/>
            <p:cNvSpPr/>
            <p:nvPr/>
          </p:nvSpPr>
          <p:spPr>
            <a:xfrm>
              <a:off x="36360" y="524196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3"/>
            <p:cNvSpPr/>
            <p:nvPr/>
          </p:nvSpPr>
          <p:spPr>
            <a:xfrm>
              <a:off x="2736720" y="4413240"/>
              <a:ext cx="39592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54" descr="图片1.png"/>
          <p:cNvPicPr/>
          <p:nvPr/>
        </p:nvPicPr>
        <p:blipFill>
          <a:blip r:embed="rId2"/>
          <a:stretch/>
        </p:blipFill>
        <p:spPr>
          <a:xfrm>
            <a:off x="0" y="-988920"/>
            <a:ext cx="9144000" cy="7846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4419720" y="5029200"/>
            <a:ext cx="304560" cy="15228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4419720" y="5029200"/>
            <a:ext cx="304560" cy="15228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4267080" y="4876920"/>
            <a:ext cx="533520" cy="38088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4191120" y="4800600"/>
            <a:ext cx="761760" cy="53352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4038480" y="4724280"/>
            <a:ext cx="990720" cy="762120"/>
          </a:xfrm>
          <a:prstGeom prst="pie">
            <a:avLst/>
          </a:prstGeom>
          <a:solidFill>
            <a:srgbClr val="3366ff">
              <a:alpha val="20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行星组曲.mp3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94200" y="129528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好看的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300" fill="hold"/>
                                        <p:tgtEl>
                                          <p:spTgt spid="62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" dur="300" fill="hold"/>
                                        <p:tgtEl>
                                          <p:spTgt spid="6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4" dur="3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1" dur="300" fill="hold"/>
                                        <p:tgtEl>
                                          <p:spTgt spid="65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8" dur="300" fill="hold"/>
                                        <p:tgtEl>
                                          <p:spTgt spid="6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autoRev="1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7.08276E-006 L 0 0.01039 E">
                                      <p:cBhvr>
                                        <p:cTn id="4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30A-ADE0-46B7-9148-62533F17A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/>
  <dc:description/>
  <cp:keywords>幻灯片之家 http:/www.eeppt.com</cp:keywords>
  <dc:language>en-US</dc:language>
  <cp:lastModifiedBy/>
  <dcterms:modified xsi:type="dcterms:W3CDTF">2015-07-13T13:24:11Z</dcterms:modified>
  <cp:revision>9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