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E078-55B8-4AA3-B2DE-904E77E97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362320" y="366660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6640-7868-4D69-B65E-58F671EC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340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A849-C0E5-4CA4-8670-B7C35D1C2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007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1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3623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007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1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592E-6473-45D3-82C7-4A107BC77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BD10-6993-442C-8066-BCF1FEA8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206C-CFC7-49B6-9BDB-551FDF80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85F4-9050-4276-ACCB-3C923239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FA5C-65D9-4273-AE47-160713BF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04560"/>
            <a:ext cx="7848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D7AE-C8B0-45D1-A11D-AA0EB5B7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C34E-74DC-403F-B2C8-D895B3A1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340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9F58-8FB2-453C-9FBA-EA1B9421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452D-EECA-45D1-9DD6-9598BB9F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7AFD-2F08-4AEF-8143-3800CE9D34F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未标题-1.png"/>
          <p:cNvPicPr/>
          <p:nvPr/>
        </p:nvPicPr>
        <p:blipFill>
          <a:blip r:embed="rId2"/>
          <a:stretch/>
        </p:blipFill>
        <p:spPr>
          <a:xfrm>
            <a:off x="-2282760" y="2835360"/>
            <a:ext cx="2816280" cy="4022640"/>
          </a:xfrm>
          <a:prstGeom prst="rect">
            <a:avLst/>
          </a:prstGeom>
          <a:ln w="0">
            <a:noFill/>
          </a:ln>
        </p:spPr>
      </p:pic>
      <p:pic>
        <p:nvPicPr>
          <p:cNvPr id="42" name="图片 2" descr="未标题-2.png"/>
          <p:cNvPicPr/>
          <p:nvPr/>
        </p:nvPicPr>
        <p:blipFill>
          <a:blip r:embed="rId3"/>
          <a:stretch/>
        </p:blipFill>
        <p:spPr>
          <a:xfrm>
            <a:off x="914400" y="-2282760"/>
            <a:ext cx="2286000" cy="22827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3" descr="未标题-3.png"/>
          <p:cNvPicPr/>
          <p:nvPr/>
        </p:nvPicPr>
        <p:blipFill>
          <a:blip r:embed="rId4"/>
          <a:stretch/>
        </p:blipFill>
        <p:spPr>
          <a:xfrm>
            <a:off x="6426360" y="-2054160"/>
            <a:ext cx="2717640" cy="2714400"/>
          </a:xfrm>
          <a:prstGeom prst="rect">
            <a:avLst/>
          </a:prstGeom>
          <a:ln w="0">
            <a:noFill/>
          </a:ln>
        </p:spPr>
      </p:pic>
      <p:pic>
        <p:nvPicPr>
          <p:cNvPr id="44" name="图片 4" descr="未标题-4.png"/>
          <p:cNvPicPr/>
          <p:nvPr/>
        </p:nvPicPr>
        <p:blipFill>
          <a:blip r:embed="rId5"/>
          <a:stretch/>
        </p:blipFill>
        <p:spPr>
          <a:xfrm>
            <a:off x="304920" y="457200"/>
            <a:ext cx="3098520" cy="30988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6400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91320" y="2209680"/>
            <a:ext cx="37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好看的动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96296E-006 L 1.30416 0.0044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7037E-007 C 0.00312 0.03056 0.00642 0.06135 0.02413 0.08496 C 0.04184 0.10834 0.08316 0.11065 0.10677 0.14236 C 0.13038 0.17385 0.13125 0.24653 0.16545 0.27338 C 0.19965 0.30023 0.26632 0.26644 0.31198 0.30324 C 0.35764 0.34005 0.39392 0.45672 0.43958 0.49422 C 0.48524 0.53172 0.54496 0.50533 0.58611 0.52848 C 0.62725 0.55209 0.61597 0.62963 0.68611 0.63426 C 0.75625 0.63912 0.9533 0.5706 1.00677 0.55857 E">
                                      <p:cBhvr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96296E-006 C -0.00313 0.04074 -0.00608 0.08171 -0.02413 0.10347 C -0.04219 0.12523 -0.08576 0.10462 -0.10851 0.13101 C -0.13125 0.1574 -0.12552 0.22592 -0.16024 0.26203 C -0.19497 0.29814 -0.27378 0.31087 -0.31719 0.34722 C -0.36059 0.38356 -0.37118 0.45023 -0.42066 0.48055 C -0.47031 0.51087 -0.51667 0.55254 -0.61372 0.5287 C -0.71094 0.50486 -0.93854 0.36967 -1.00347 0.33796 E">
                                      <p:cBhvr>
                                        <p:cTn id="10" dur="3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419112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12E7-B879-4263-B30F-985436C64B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19:17Z</dcterms:created>
  <dc:creator/>
  <dc:description/>
  <cp:keywords>幻灯片之家 http:/www.eeppt.com</cp:keywords>
  <dc:language>en-US</dc:language>
  <cp:lastModifiedBy/>
  <dcterms:modified xsi:type="dcterms:W3CDTF">2015-07-13T13:24:42Z</dcterms:modified>
  <cp:revision>9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