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C2530-EAEB-4B3B-AB14-662A669FF1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820728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" y="4048920"/>
            <a:ext cx="820728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C773C-FDF9-4969-AACD-142FF916CB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404892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880" y="404892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8EB41-6A22-4902-9783-13271B91CA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3240" y="160020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60" y="404892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3240" y="404892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8120" y="404892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F40E6-9B4A-4546-AAB1-C951474FC9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68360" y="1600200"/>
            <a:ext cx="820728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82072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68000" y="882720"/>
            <a:ext cx="519732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8360" y="404892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8360" y="1600200"/>
            <a:ext cx="820728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5413F-2ACA-41ED-B8C6-2EE5F1CB7D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3880" y="404892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360" y="4048920"/>
            <a:ext cx="820728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820728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360" y="4048920"/>
            <a:ext cx="820728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360" y="404892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3880" y="404892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43240" y="160020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360" y="404892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43240" y="404892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8120" y="404892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82072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D13E1-82B0-4C58-B132-C1A2FCF394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E49FC-C6D3-4068-81DA-D70CEBE98B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36CD3-FCEC-49E0-932F-A3F6A09556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8000" y="882720"/>
            <a:ext cx="519732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C9DC2-B6E0-4B98-8722-AC15C1A582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360" y="404892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E182D-3C8E-4C96-AA02-F0C8221FB9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880" y="404892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1BEF3-FBEB-4483-BA3E-F092E2CC72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4048920"/>
            <a:ext cx="820728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52517-264E-4B7B-BBF9-814EDF39B2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4" descr="bg2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600200"/>
            <a:ext cx="82072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e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e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58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7235640" y="64018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B7DA25E2-8FD2-4813-BD19-A830E696D332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68000" y="882720"/>
            <a:ext cx="51973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33" descr="bg3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68360" y="1600200"/>
            <a:ext cx="82072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e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e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58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68000" y="882720"/>
            <a:ext cx="51973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80600" y="3493800"/>
            <a:ext cx="8194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</a:rPr>
              <a:t>单击添加署名或公司信息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0840" y="65484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46800" y="2081160"/>
            <a:ext cx="39664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红色母亲节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0"/>
          <p:cNvSpPr/>
          <p:nvPr/>
        </p:nvSpPr>
        <p:spPr>
          <a:xfrm>
            <a:off x="7236000" y="64022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A8359DBC-EF6E-434A-BC04-D441A97B53DF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882720"/>
            <a:ext cx="51973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使用说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82072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括标题和文本格式（包括字体，字体大小，对齐方式等）的设置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28720" y="247644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母亲节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模板 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http://www.eeppt.com/moban/jieri/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4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35566-CEC7-40A7-993A-A837AC9591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7236000" y="64022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38A52215-2912-4289-B9F3-91123A4238B6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1" descr="bg1"/>
          <p:cNvPicPr/>
          <p:nvPr/>
        </p:nvPicPr>
        <p:blipFill>
          <a:blip r:embed="rId1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468360" y="2233440"/>
            <a:ext cx="820728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感谢观赏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单击添加您的公司信息（联系方式及落款）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cp:keywords>幻灯片之家 http:/www.eeppt.com</cp:keywords>
  <dc:language>en-US</dc:language>
  <cp:lastModifiedBy/>
  <dcterms:modified xsi:type="dcterms:W3CDTF">2015-07-13T13:18:07Z</dcterms:modified>
  <cp:revision>16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