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642-365D-4B2C-9B05-6423350C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7DB-FDB9-40BA-A2CA-D531A36F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00D-4377-4313-9224-229559231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D32-D2CA-4183-8AED-8C496287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3843-E5C8-4181-8119-75EC802F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E11B-C5A9-4CD6-B6A1-9ED1D4C7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01CF-6361-4F4D-BD2D-731BA9E6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CC24-E312-4849-81B1-3C1C50D2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9D20-0AAE-41E4-BCBD-C9C60F2C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3046-7B8F-4A44-920A-C3445960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635E-D5ED-464F-B2AB-8C4E9C3BA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CB0-3F87-4C00-93E8-DA5FDAA2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81FD-3C4C-4667-8029-B52CBC3F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E5D3-E067-42B1-AAB0-E44E8D4D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CB87-1E53-4383-9994-5214F044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63B1-B0A0-4122-AA35-5B6D275D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F479-34B5-4D45-B54E-4ADC0DEE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DF9C9-9782-45C1-816F-5158FDB9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104E5-F3C6-49F3-B506-9228E2E8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40009-93A8-4BA3-88C1-61E65C7B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64470-BBEE-4142-A086-A26B9E71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71B3-5FD3-4C18-8D9E-5343AD9C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E968-338D-4844-BE4E-8A29A59A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FE441-D4D7-4F66-A35F-FB8BCE51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4E4D9-420E-43AE-ADC0-F140A71E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E221B-FCE8-4BFC-BEF8-FEF3A4AE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88D5A-601C-4F72-B71B-131881FE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C46B2-8E49-45CF-98DC-6ED8CCE8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81424-4CBC-4CE8-9F3A-D80B1AE9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AECD2-9D9A-4468-9509-8AE5667A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717-4689-4F3B-A4F4-15F083B5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824-EB82-42DE-AFB9-7D626F00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48EC-C4C5-4FA3-97F1-5FF07E24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C26-8430-4C7A-A265-97904505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822-EE4D-4C30-ACC4-57AA04E6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D84-0189-43EC-8DB7-41D34D08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906F-50E2-4891-91BC-876CA9F53B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C8EF-D226-4445-80FB-C1B6D05D6B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7"/>
          <p:cNvSpPr/>
          <p:nvPr/>
        </p:nvSpPr>
        <p:spPr>
          <a:xfrm>
            <a:off x="7812000" y="115920"/>
            <a:ext cx="12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06D3-E7E8-483B-82CB-F7A82CD902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826920" y="2079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21480" y="1197000"/>
            <a:ext cx="24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红色商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2160" y="3057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2160" y="155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828720" y="1413000"/>
            <a:ext cx="6251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商务ppt模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FEC5-5221-417C-9F8E-1EE7E6AEFD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0:19:21Z</dcterms:created>
  <dc:creator/>
  <dc:description/>
  <cp:keywords>幻灯片之家 http:/www.eeppt.com</cp:keywords>
  <dc:language>en-US</dc:language>
  <cp:lastModifiedBy/>
  <dcterms:modified xsi:type="dcterms:W3CDTF">2015-07-09T02:03:11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NXTAG2">
    <vt:lpwstr>0008001806000000000001024100</vt:lpwstr>
  </property>
</Properties>
</file>