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wmf" ContentType="image/x-wmf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7FB-6F2D-4D08-A642-861129B8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9040" y="388152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BCE-EF16-466E-A156-02D04147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76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1D9-30AE-4762-BD62-60ACCFA1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72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40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1904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72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40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359-1CA7-47C9-8D3A-0B399C26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9E6F-4114-4271-A6A9-D6FF7613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9E4B-8A5A-407F-A9FB-11FDAC4C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C78F-69EB-43ED-8944-7594E0D0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3596-1F86-4FDE-B1DD-6B1A819B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6040-A17E-42E0-B25C-0EE5B3BB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19040" y="106200"/>
            <a:ext cx="82915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2B56-CD6C-47C1-826A-8E632C21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DF0C-EDC9-4DAE-BB9A-C573AB22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06E-CEC0-4203-9ED5-7F24BD6A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776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D730-A6AC-4F8A-B2C5-620BE38D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C6D8-A263-4140-9A97-3B2A877C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9040" y="388152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90D9-D8B6-48A7-B325-B7780456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776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74CC-19C1-415C-95FD-F5C0B643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2272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640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1904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2272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640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45D1-8B8F-45F4-B6DE-D5EADCB2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86DA-6121-4277-856F-314461A0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DDFD7-E338-4E5E-BEC1-8B34AB8C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26B7-4499-4FCD-81D6-3C435120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2F376-C317-461C-9192-AEC334BF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1000-C613-434B-88AD-AE158E57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1EA-C683-40FF-91C9-B14FBC77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19040" y="106200"/>
            <a:ext cx="82915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4A3E5-4ADB-4A6F-9A17-36F35F13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CCA1-7BF7-4AEC-8C16-BB13AF6F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776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176A-33EE-4AA9-BA6B-4D9D733B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C083-EA76-4CF0-9827-DD2D2B79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9040" y="388152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28677-308C-4BFA-B2FF-C305E468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776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3D1F-1971-421C-8E35-74B50EBC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2272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640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1904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2272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640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8EC95-B2C8-49A4-A00D-9265F176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7EEA-3922-47DB-A3D6-C0387D04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2C17-25E8-4528-B130-DD89FA4F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05DD8-B923-428D-94CF-5C33EB90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12C-244E-404C-8E7B-E67BFC3D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051B-F4AE-4CDC-87F3-E074652E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9EF7F-A77F-475B-9E56-D624560D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19040" y="106200"/>
            <a:ext cx="82915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979DB-C373-4C69-B861-1482DA0F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C7E8-ED81-4D91-8C80-404442CE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776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83BCE-9769-42ED-A395-88029971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B7D27-9ED6-4A41-877B-B3C55E6B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9040" y="388152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B202-99D2-4ADA-AB55-AA1DAD91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776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BE71B-0D69-459E-BEB7-FD053E29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2272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640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1904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2272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640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53883-89B0-4221-B645-1E5AE22F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7A3B-FCBF-4C91-9838-CC354216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201-DCF2-4639-8BEF-DC51F000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E3A12-93AB-4DDB-9A08-809186A1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5EB6D-D6C8-44C1-AE85-33134849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070C1-FE92-409B-AD90-3EAB6A69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FCE9F-70F4-4D4C-A4A7-2706F9E9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19040" y="106200"/>
            <a:ext cx="82915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12681-1DDD-4CA3-82A1-978BD464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53019-F0E1-446E-BF5D-9621CDD1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776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ED2C-434C-45DD-950C-AC57079B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1E9F8-ED45-4B10-87B4-091B04A9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19040" y="388152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6542C-EBAA-4179-AA92-52940996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776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3CB5-BD16-4D5D-B8B7-84F1B386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19040" y="106200"/>
            <a:ext cx="82915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C09-0037-4BAF-A171-CBDA20C0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2272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6400" y="125748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1904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2272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6400" y="3881520"/>
            <a:ext cx="266976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4CF1-5F42-4D82-B3E2-512425AB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050-3F3E-49B5-8A44-1C6D24B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760" y="388152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178-82B4-4C53-A3E8-46FA9A32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257480"/>
            <a:ext cx="404604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881520"/>
            <a:ext cx="8291520" cy="23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0F5-27A2-4746-802A-8E9EABD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7" descr="파랑바닥02"/>
          <p:cNvPicPr/>
          <p:nvPr/>
        </p:nvPicPr>
        <p:blipFill>
          <a:blip r:embed="rId3"/>
          <a:stretch/>
        </p:blipFill>
        <p:spPr>
          <a:xfrm>
            <a:off x="0" y="2346480"/>
            <a:ext cx="9144000" cy="451152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" name="矩形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-46080" y="646200"/>
            <a:ext cx="9220320" cy="42840"/>
            <a:chOff x="-46080" y="646200"/>
            <a:chExt cx="9220320" cy="42840"/>
          </a:xfrm>
        </p:grpSpPr>
        <p:pic>
          <p:nvPicPr>
            <p:cNvPr id="6" name="矩形 9" descr=""/>
            <p:cNvPicPr/>
            <p:nvPr/>
          </p:nvPicPr>
          <p:blipFill>
            <a:blip r:embed="rId5"/>
            <a:stretch/>
          </p:blipFill>
          <p:spPr>
            <a:xfrm>
              <a:off x="-44640" y="647280"/>
              <a:ext cx="9217080" cy="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-46080" y="646200"/>
              <a:ext cx="922032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组合 15390" descr=""/>
          <p:cNvPicPr/>
          <p:nvPr/>
        </p:nvPicPr>
        <p:blipFill>
          <a:blip r:embed="rId6"/>
          <a:stretch/>
        </p:blipFill>
        <p:spPr>
          <a:xfrm>
            <a:off x="262080" y="115920"/>
            <a:ext cx="1292040" cy="3603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4C71-CC63-461B-9305-176DDC99CF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7" descr="파랑바닥02"/>
          <p:cNvPicPr/>
          <p:nvPr/>
        </p:nvPicPr>
        <p:blipFill>
          <a:blip r:embed="rId3"/>
          <a:stretch/>
        </p:blipFill>
        <p:spPr>
          <a:xfrm>
            <a:off x="0" y="2346480"/>
            <a:ext cx="9144000" cy="45115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矩形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" descr="C:\Documents and Settings\na\桌面\图片3.png"/>
          <p:cNvPicPr/>
          <p:nvPr/>
        </p:nvPicPr>
        <p:blipFill>
          <a:blip r:embed="rId5"/>
          <a:stretch/>
        </p:blipFill>
        <p:spPr>
          <a:xfrm>
            <a:off x="-50760" y="0"/>
            <a:ext cx="9244080" cy="67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13AE-6029-41F6-8B3A-E168B21B2C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32EE-9F3A-41EA-82BA-FADD24FCB9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7" descr="파랑바닥02"/>
          <p:cNvPicPr/>
          <p:nvPr/>
        </p:nvPicPr>
        <p:blipFill>
          <a:blip r:embed="rId3"/>
          <a:stretch/>
        </p:blipFill>
        <p:spPr>
          <a:xfrm>
            <a:off x="0" y="2346480"/>
            <a:ext cx="9144000" cy="45115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9" name="矩形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-11160"/>
            <a:ext cx="9144000" cy="686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2F2D-9CBC-418A-B499-CE5183686BF2}" type="slidenum"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title"/>
          </p:nvPr>
        </p:nvSpPr>
        <p:spPr>
          <a:xfrm>
            <a:off x="419040" y="106200"/>
            <a:ext cx="82915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19040" y="1257480"/>
            <a:ext cx="829152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110000"/>
              </a:lnSpc>
              <a:spcBef>
                <a:spcPts val="451"/>
              </a:spcBef>
              <a:buClr>
                <a:srgbClr val="c00000"/>
              </a:buClr>
              <a:buSzPct val="60000"/>
              <a:buFont typeface="Wingdings 3" charset="2"/>
              <a:buChar char="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  <a:p>
            <a:pPr lvl="1" marL="266760" indent="-266760" algn="just">
              <a:lnSpc>
                <a:spcPct val="110000"/>
              </a:lnSpc>
              <a:spcBef>
                <a:spcPts val="451"/>
              </a:spcBef>
              <a:buClr>
                <a:srgbClr val="fd9354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143" name="任意多边形 14"/>
          <p:cNvSpPr/>
          <p:nvPr/>
        </p:nvSpPr>
        <p:spPr>
          <a:xfrm>
            <a:off x="0" y="746280"/>
            <a:ext cx="343080" cy="399960"/>
          </a:xfrm>
          <a:custGeom>
            <a:avLst/>
            <a:gdLst/>
            <a:ahLst/>
            <a:rect l="l" t="t" r="r" b="b"/>
            <a:pathLst>
              <a:path w="456860" h="543139">
                <a:moveTo>
                  <a:pt x="0" y="0"/>
                </a:moveTo>
                <a:lnTo>
                  <a:pt x="306177" y="0"/>
                </a:lnTo>
                <a:lnTo>
                  <a:pt x="456860" y="271570"/>
                </a:lnTo>
                <a:lnTo>
                  <a:pt x="306177" y="543139"/>
                </a:lnTo>
                <a:lnTo>
                  <a:pt x="0" y="543139"/>
                </a:lnTo>
                <a:lnTo>
                  <a:pt x="0" y="0"/>
                </a:lnTo>
                <a:close/>
              </a:path>
            </a:pathLst>
          </a:custGeom>
          <a:solidFill>
            <a:srgbClr val="c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KSO_Shape"/>
          <p:cNvSpPr/>
          <p:nvPr/>
        </p:nvSpPr>
        <p:spPr>
          <a:xfrm>
            <a:off x="-31680" y="819000"/>
            <a:ext cx="287280" cy="250920"/>
          </a:xfrm>
          <a:custGeom>
            <a:avLst/>
            <a:gdLst/>
            <a:ahLst/>
            <a:rect l="l" t="t" r="r" b="b"/>
            <a:pathLst>
              <a:path w="494328" h="324036">
                <a:moveTo>
                  <a:pt x="277525" y="292250"/>
                </a:moveTo>
                <a:lnTo>
                  <a:pt x="309311" y="292250"/>
                </a:lnTo>
                <a:lnTo>
                  <a:pt x="309311" y="324036"/>
                </a:lnTo>
                <a:lnTo>
                  <a:pt x="277525" y="324036"/>
                </a:lnTo>
                <a:lnTo>
                  <a:pt x="277525" y="292250"/>
                </a:lnTo>
                <a:close/>
                <a:moveTo>
                  <a:pt x="323779" y="243541"/>
                </a:moveTo>
                <a:lnTo>
                  <a:pt x="355565" y="243541"/>
                </a:lnTo>
                <a:lnTo>
                  <a:pt x="355565" y="275328"/>
                </a:lnTo>
                <a:lnTo>
                  <a:pt x="323779" y="275328"/>
                </a:lnTo>
                <a:lnTo>
                  <a:pt x="323779" y="243541"/>
                </a:lnTo>
                <a:close/>
                <a:moveTo>
                  <a:pt x="277525" y="243541"/>
                </a:moveTo>
                <a:lnTo>
                  <a:pt x="309311" y="243541"/>
                </a:lnTo>
                <a:lnTo>
                  <a:pt x="309311" y="275328"/>
                </a:lnTo>
                <a:lnTo>
                  <a:pt x="277525" y="275328"/>
                </a:lnTo>
                <a:lnTo>
                  <a:pt x="277525" y="243541"/>
                </a:lnTo>
                <a:close/>
                <a:moveTo>
                  <a:pt x="370033" y="194833"/>
                </a:moveTo>
                <a:lnTo>
                  <a:pt x="401820" y="194833"/>
                </a:lnTo>
                <a:lnTo>
                  <a:pt x="401820" y="226620"/>
                </a:lnTo>
                <a:lnTo>
                  <a:pt x="370033" y="226620"/>
                </a:lnTo>
                <a:lnTo>
                  <a:pt x="370033" y="194833"/>
                </a:lnTo>
                <a:close/>
                <a:moveTo>
                  <a:pt x="323779" y="194833"/>
                </a:moveTo>
                <a:lnTo>
                  <a:pt x="355565" y="194833"/>
                </a:lnTo>
                <a:lnTo>
                  <a:pt x="355565" y="226620"/>
                </a:lnTo>
                <a:lnTo>
                  <a:pt x="323779" y="226620"/>
                </a:lnTo>
                <a:lnTo>
                  <a:pt x="323779" y="194833"/>
                </a:lnTo>
                <a:close/>
                <a:moveTo>
                  <a:pt x="277525" y="194833"/>
                </a:moveTo>
                <a:lnTo>
                  <a:pt x="309311" y="194833"/>
                </a:lnTo>
                <a:lnTo>
                  <a:pt x="309311" y="226620"/>
                </a:lnTo>
                <a:lnTo>
                  <a:pt x="277525" y="226620"/>
                </a:lnTo>
                <a:lnTo>
                  <a:pt x="277525" y="194833"/>
                </a:lnTo>
                <a:close/>
                <a:moveTo>
                  <a:pt x="231271" y="194833"/>
                </a:moveTo>
                <a:lnTo>
                  <a:pt x="263057" y="194833"/>
                </a:lnTo>
                <a:lnTo>
                  <a:pt x="263057" y="226620"/>
                </a:lnTo>
                <a:lnTo>
                  <a:pt x="231271" y="226620"/>
                </a:lnTo>
                <a:lnTo>
                  <a:pt x="231271" y="194833"/>
                </a:lnTo>
                <a:close/>
                <a:moveTo>
                  <a:pt x="185016" y="194833"/>
                </a:moveTo>
                <a:lnTo>
                  <a:pt x="216803" y="194833"/>
                </a:lnTo>
                <a:lnTo>
                  <a:pt x="216803" y="226620"/>
                </a:lnTo>
                <a:lnTo>
                  <a:pt x="185016" y="226620"/>
                </a:lnTo>
                <a:lnTo>
                  <a:pt x="185016" y="194833"/>
                </a:lnTo>
                <a:close/>
                <a:moveTo>
                  <a:pt x="138762" y="194833"/>
                </a:moveTo>
                <a:lnTo>
                  <a:pt x="170549" y="194833"/>
                </a:lnTo>
                <a:lnTo>
                  <a:pt x="170549" y="226620"/>
                </a:lnTo>
                <a:lnTo>
                  <a:pt x="138762" y="226620"/>
                </a:lnTo>
                <a:lnTo>
                  <a:pt x="138762" y="194833"/>
                </a:lnTo>
                <a:close/>
                <a:moveTo>
                  <a:pt x="92508" y="194833"/>
                </a:moveTo>
                <a:lnTo>
                  <a:pt x="124294" y="194833"/>
                </a:lnTo>
                <a:lnTo>
                  <a:pt x="124294" y="226620"/>
                </a:lnTo>
                <a:lnTo>
                  <a:pt x="92508" y="226620"/>
                </a:lnTo>
                <a:lnTo>
                  <a:pt x="92508" y="194833"/>
                </a:lnTo>
                <a:close/>
                <a:moveTo>
                  <a:pt x="46254" y="194833"/>
                </a:moveTo>
                <a:lnTo>
                  <a:pt x="78040" y="194833"/>
                </a:lnTo>
                <a:lnTo>
                  <a:pt x="78040" y="226620"/>
                </a:lnTo>
                <a:lnTo>
                  <a:pt x="46254" y="226620"/>
                </a:lnTo>
                <a:lnTo>
                  <a:pt x="46254" y="194833"/>
                </a:lnTo>
                <a:close/>
                <a:moveTo>
                  <a:pt x="0" y="194833"/>
                </a:moveTo>
                <a:lnTo>
                  <a:pt x="31787" y="194833"/>
                </a:lnTo>
                <a:lnTo>
                  <a:pt x="31787" y="226620"/>
                </a:lnTo>
                <a:lnTo>
                  <a:pt x="0" y="226620"/>
                </a:lnTo>
                <a:lnTo>
                  <a:pt x="0" y="194833"/>
                </a:lnTo>
                <a:close/>
                <a:moveTo>
                  <a:pt x="416287" y="170479"/>
                </a:moveTo>
                <a:lnTo>
                  <a:pt x="448074" y="170479"/>
                </a:lnTo>
                <a:lnTo>
                  <a:pt x="448074" y="202266"/>
                </a:lnTo>
                <a:lnTo>
                  <a:pt x="416287" y="202266"/>
                </a:lnTo>
                <a:lnTo>
                  <a:pt x="416287" y="170479"/>
                </a:lnTo>
                <a:close/>
                <a:moveTo>
                  <a:pt x="462542" y="146125"/>
                </a:moveTo>
                <a:lnTo>
                  <a:pt x="494328" y="146125"/>
                </a:lnTo>
                <a:lnTo>
                  <a:pt x="494328" y="177911"/>
                </a:lnTo>
                <a:lnTo>
                  <a:pt x="462542" y="177911"/>
                </a:lnTo>
                <a:lnTo>
                  <a:pt x="462542" y="146125"/>
                </a:lnTo>
                <a:close/>
                <a:moveTo>
                  <a:pt x="370033" y="146125"/>
                </a:moveTo>
                <a:lnTo>
                  <a:pt x="401820" y="146125"/>
                </a:lnTo>
                <a:lnTo>
                  <a:pt x="401820" y="177911"/>
                </a:lnTo>
                <a:lnTo>
                  <a:pt x="370033" y="177911"/>
                </a:lnTo>
                <a:lnTo>
                  <a:pt x="370033" y="146125"/>
                </a:lnTo>
                <a:close/>
                <a:moveTo>
                  <a:pt x="323779" y="146125"/>
                </a:moveTo>
                <a:lnTo>
                  <a:pt x="355565" y="146125"/>
                </a:lnTo>
                <a:lnTo>
                  <a:pt x="355565" y="177911"/>
                </a:lnTo>
                <a:lnTo>
                  <a:pt x="323779" y="177911"/>
                </a:lnTo>
                <a:lnTo>
                  <a:pt x="323779" y="146125"/>
                </a:lnTo>
                <a:close/>
                <a:moveTo>
                  <a:pt x="277525" y="146125"/>
                </a:moveTo>
                <a:lnTo>
                  <a:pt x="309311" y="146125"/>
                </a:lnTo>
                <a:lnTo>
                  <a:pt x="309311" y="177911"/>
                </a:lnTo>
                <a:lnTo>
                  <a:pt x="277525" y="177911"/>
                </a:lnTo>
                <a:lnTo>
                  <a:pt x="277525" y="146125"/>
                </a:lnTo>
                <a:close/>
                <a:moveTo>
                  <a:pt x="231271" y="146125"/>
                </a:moveTo>
                <a:lnTo>
                  <a:pt x="263057" y="146125"/>
                </a:lnTo>
                <a:lnTo>
                  <a:pt x="263057" y="177911"/>
                </a:lnTo>
                <a:lnTo>
                  <a:pt x="231271" y="177911"/>
                </a:lnTo>
                <a:lnTo>
                  <a:pt x="231271" y="146125"/>
                </a:lnTo>
                <a:close/>
                <a:moveTo>
                  <a:pt x="185016" y="146125"/>
                </a:moveTo>
                <a:lnTo>
                  <a:pt x="216803" y="146125"/>
                </a:lnTo>
                <a:lnTo>
                  <a:pt x="216803" y="177911"/>
                </a:lnTo>
                <a:lnTo>
                  <a:pt x="185016" y="177911"/>
                </a:lnTo>
                <a:lnTo>
                  <a:pt x="185016" y="146125"/>
                </a:lnTo>
                <a:close/>
                <a:moveTo>
                  <a:pt x="138762" y="146125"/>
                </a:moveTo>
                <a:lnTo>
                  <a:pt x="170549" y="146125"/>
                </a:lnTo>
                <a:lnTo>
                  <a:pt x="170549" y="177911"/>
                </a:lnTo>
                <a:lnTo>
                  <a:pt x="138762" y="177911"/>
                </a:lnTo>
                <a:lnTo>
                  <a:pt x="138762" y="146125"/>
                </a:lnTo>
                <a:close/>
                <a:moveTo>
                  <a:pt x="92508" y="146125"/>
                </a:moveTo>
                <a:lnTo>
                  <a:pt x="124294" y="146125"/>
                </a:lnTo>
                <a:lnTo>
                  <a:pt x="124294" y="177911"/>
                </a:lnTo>
                <a:lnTo>
                  <a:pt x="92508" y="177911"/>
                </a:lnTo>
                <a:lnTo>
                  <a:pt x="92508" y="146125"/>
                </a:lnTo>
                <a:close/>
                <a:moveTo>
                  <a:pt x="46254" y="146125"/>
                </a:moveTo>
                <a:lnTo>
                  <a:pt x="78040" y="146125"/>
                </a:lnTo>
                <a:lnTo>
                  <a:pt x="78040" y="177911"/>
                </a:lnTo>
                <a:lnTo>
                  <a:pt x="46254" y="177911"/>
                </a:lnTo>
                <a:lnTo>
                  <a:pt x="46254" y="146125"/>
                </a:lnTo>
                <a:close/>
                <a:moveTo>
                  <a:pt x="0" y="146125"/>
                </a:moveTo>
                <a:lnTo>
                  <a:pt x="31787" y="146125"/>
                </a:lnTo>
                <a:lnTo>
                  <a:pt x="31787" y="177911"/>
                </a:lnTo>
                <a:lnTo>
                  <a:pt x="0" y="177911"/>
                </a:lnTo>
                <a:lnTo>
                  <a:pt x="0" y="146125"/>
                </a:lnTo>
                <a:close/>
                <a:moveTo>
                  <a:pt x="416287" y="121771"/>
                </a:moveTo>
                <a:lnTo>
                  <a:pt x="448074" y="121771"/>
                </a:lnTo>
                <a:lnTo>
                  <a:pt x="448074" y="153557"/>
                </a:lnTo>
                <a:lnTo>
                  <a:pt x="416287" y="153557"/>
                </a:lnTo>
                <a:lnTo>
                  <a:pt x="416287" y="121771"/>
                </a:lnTo>
                <a:close/>
                <a:moveTo>
                  <a:pt x="370033" y="97417"/>
                </a:moveTo>
                <a:lnTo>
                  <a:pt x="401820" y="97417"/>
                </a:lnTo>
                <a:lnTo>
                  <a:pt x="401820" y="129203"/>
                </a:lnTo>
                <a:lnTo>
                  <a:pt x="370033" y="129203"/>
                </a:lnTo>
                <a:lnTo>
                  <a:pt x="370033" y="97417"/>
                </a:lnTo>
                <a:close/>
                <a:moveTo>
                  <a:pt x="323779" y="97417"/>
                </a:moveTo>
                <a:lnTo>
                  <a:pt x="355565" y="97417"/>
                </a:lnTo>
                <a:lnTo>
                  <a:pt x="355565" y="129203"/>
                </a:lnTo>
                <a:lnTo>
                  <a:pt x="323779" y="129203"/>
                </a:lnTo>
                <a:lnTo>
                  <a:pt x="323779" y="97417"/>
                </a:lnTo>
                <a:close/>
                <a:moveTo>
                  <a:pt x="277525" y="97417"/>
                </a:moveTo>
                <a:lnTo>
                  <a:pt x="309311" y="97417"/>
                </a:lnTo>
                <a:lnTo>
                  <a:pt x="309311" y="129203"/>
                </a:lnTo>
                <a:lnTo>
                  <a:pt x="277525" y="129203"/>
                </a:lnTo>
                <a:lnTo>
                  <a:pt x="277525" y="97417"/>
                </a:lnTo>
                <a:close/>
                <a:moveTo>
                  <a:pt x="231271" y="97417"/>
                </a:moveTo>
                <a:lnTo>
                  <a:pt x="263057" y="97417"/>
                </a:lnTo>
                <a:lnTo>
                  <a:pt x="263057" y="129203"/>
                </a:lnTo>
                <a:lnTo>
                  <a:pt x="231271" y="129203"/>
                </a:lnTo>
                <a:lnTo>
                  <a:pt x="231271" y="97417"/>
                </a:lnTo>
                <a:close/>
                <a:moveTo>
                  <a:pt x="185016" y="97417"/>
                </a:moveTo>
                <a:lnTo>
                  <a:pt x="216803" y="97417"/>
                </a:lnTo>
                <a:lnTo>
                  <a:pt x="216803" y="129203"/>
                </a:lnTo>
                <a:lnTo>
                  <a:pt x="185016" y="129203"/>
                </a:lnTo>
                <a:lnTo>
                  <a:pt x="185016" y="97417"/>
                </a:lnTo>
                <a:close/>
                <a:moveTo>
                  <a:pt x="138762" y="97417"/>
                </a:moveTo>
                <a:lnTo>
                  <a:pt x="170549" y="97417"/>
                </a:lnTo>
                <a:lnTo>
                  <a:pt x="170549" y="129203"/>
                </a:lnTo>
                <a:lnTo>
                  <a:pt x="138762" y="129203"/>
                </a:lnTo>
                <a:lnTo>
                  <a:pt x="138762" y="97417"/>
                </a:lnTo>
                <a:close/>
                <a:moveTo>
                  <a:pt x="92508" y="97417"/>
                </a:moveTo>
                <a:lnTo>
                  <a:pt x="124294" y="97417"/>
                </a:lnTo>
                <a:lnTo>
                  <a:pt x="124294" y="129203"/>
                </a:lnTo>
                <a:lnTo>
                  <a:pt x="92508" y="129203"/>
                </a:lnTo>
                <a:lnTo>
                  <a:pt x="92508" y="97417"/>
                </a:lnTo>
                <a:close/>
                <a:moveTo>
                  <a:pt x="46254" y="97417"/>
                </a:moveTo>
                <a:lnTo>
                  <a:pt x="78040" y="97417"/>
                </a:lnTo>
                <a:lnTo>
                  <a:pt x="78040" y="129203"/>
                </a:lnTo>
                <a:lnTo>
                  <a:pt x="46254" y="129203"/>
                </a:lnTo>
                <a:lnTo>
                  <a:pt x="46254" y="97417"/>
                </a:lnTo>
                <a:close/>
                <a:moveTo>
                  <a:pt x="0" y="97417"/>
                </a:moveTo>
                <a:lnTo>
                  <a:pt x="31787" y="97417"/>
                </a:lnTo>
                <a:lnTo>
                  <a:pt x="31787" y="129203"/>
                </a:lnTo>
                <a:lnTo>
                  <a:pt x="0" y="129203"/>
                </a:lnTo>
                <a:lnTo>
                  <a:pt x="0" y="97417"/>
                </a:lnTo>
                <a:close/>
                <a:moveTo>
                  <a:pt x="323779" y="48708"/>
                </a:moveTo>
                <a:lnTo>
                  <a:pt x="355565" y="48708"/>
                </a:lnTo>
                <a:lnTo>
                  <a:pt x="355565" y="80495"/>
                </a:lnTo>
                <a:lnTo>
                  <a:pt x="323779" y="80495"/>
                </a:lnTo>
                <a:lnTo>
                  <a:pt x="323779" y="48708"/>
                </a:lnTo>
                <a:close/>
                <a:moveTo>
                  <a:pt x="277525" y="48708"/>
                </a:moveTo>
                <a:lnTo>
                  <a:pt x="309311" y="48708"/>
                </a:lnTo>
                <a:lnTo>
                  <a:pt x="309311" y="80495"/>
                </a:lnTo>
                <a:lnTo>
                  <a:pt x="277525" y="80495"/>
                </a:lnTo>
                <a:lnTo>
                  <a:pt x="277525" y="48708"/>
                </a:lnTo>
                <a:close/>
                <a:moveTo>
                  <a:pt x="277525" y="0"/>
                </a:moveTo>
                <a:lnTo>
                  <a:pt x="309311" y="0"/>
                </a:lnTo>
                <a:lnTo>
                  <a:pt x="309311" y="31787"/>
                </a:lnTo>
                <a:lnTo>
                  <a:pt x="277525" y="31787"/>
                </a:lnTo>
                <a:lnTo>
                  <a:pt x="2775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2"/>
          <p:cNvSpPr/>
          <p:nvPr/>
        </p:nvSpPr>
        <p:spPr>
          <a:xfrm>
            <a:off x="343080" y="946080"/>
            <a:ext cx="8800920" cy="648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1"/>
          <p:cNvSpPr/>
          <p:nvPr/>
        </p:nvSpPr>
        <p:spPr>
          <a:xfrm>
            <a:off x="0" y="-11160"/>
            <a:ext cx="9144000" cy="686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13"/>
          <p:cNvSpPr/>
          <p:nvPr/>
        </p:nvSpPr>
        <p:spPr>
          <a:xfrm>
            <a:off x="6600960" y="-11160"/>
            <a:ext cx="2554200" cy="2683080"/>
          </a:xfrm>
          <a:custGeom>
            <a:avLst/>
            <a:gdLst/>
            <a:ahLst/>
            <a:rect l="l" t="t" r="r" b="b"/>
            <a:pathLst>
              <a:path w="2554815" h="2682612">
                <a:moveTo>
                  <a:pt x="629529" y="0"/>
                </a:moveTo>
                <a:lnTo>
                  <a:pt x="2554815" y="0"/>
                </a:lnTo>
                <a:lnTo>
                  <a:pt x="2554815" y="2682612"/>
                </a:lnTo>
                <a:lnTo>
                  <a:pt x="858947" y="2682612"/>
                </a:lnTo>
                <a:lnTo>
                  <a:pt x="0" y="1134571"/>
                </a:lnTo>
                <a:lnTo>
                  <a:pt x="629529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15"/>
          <p:cNvSpPr/>
          <p:nvPr/>
        </p:nvSpPr>
        <p:spPr>
          <a:xfrm>
            <a:off x="3905280" y="4383000"/>
            <a:ext cx="3422520" cy="2475000"/>
          </a:xfrm>
          <a:custGeom>
            <a:avLst/>
            <a:gdLst/>
            <a:ahLst/>
            <a:rect l="l" t="t" r="r" b="b"/>
            <a:pathLst>
              <a:path w="3422217" h="2474655">
                <a:moveTo>
                  <a:pt x="858947" y="0"/>
                </a:moveTo>
                <a:lnTo>
                  <a:pt x="2563270" y="0"/>
                </a:lnTo>
                <a:lnTo>
                  <a:pt x="3422217" y="1548041"/>
                </a:lnTo>
                <a:lnTo>
                  <a:pt x="2908076" y="2474655"/>
                </a:lnTo>
                <a:lnTo>
                  <a:pt x="514142" y="2474655"/>
                </a:lnTo>
                <a:lnTo>
                  <a:pt x="0" y="1548041"/>
                </a:lnTo>
                <a:lnTo>
                  <a:pt x="858947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KSO_Shape"/>
          <p:cNvSpPr/>
          <p:nvPr/>
        </p:nvSpPr>
        <p:spPr>
          <a:xfrm>
            <a:off x="7523280" y="503280"/>
            <a:ext cx="1271520" cy="1241280"/>
          </a:xfrm>
          <a:custGeom>
            <a:avLst/>
            <a:gdLst/>
            <a:ahLst/>
            <a:rect l="l" t="t" r="r" b="b"/>
            <a:pathLst>
              <a:path w="5471" h="5188">
                <a:moveTo>
                  <a:pt x="3062" y="530"/>
                </a:moveTo>
                <a:lnTo>
                  <a:pt x="3062" y="530"/>
                </a:lnTo>
                <a:lnTo>
                  <a:pt x="3073" y="522"/>
                </a:lnTo>
                <a:lnTo>
                  <a:pt x="3103" y="499"/>
                </a:lnTo>
                <a:lnTo>
                  <a:pt x="3122" y="482"/>
                </a:lnTo>
                <a:lnTo>
                  <a:pt x="3143" y="462"/>
                </a:lnTo>
                <a:lnTo>
                  <a:pt x="3166" y="440"/>
                </a:lnTo>
                <a:lnTo>
                  <a:pt x="3188" y="415"/>
                </a:lnTo>
                <a:lnTo>
                  <a:pt x="3211" y="388"/>
                </a:lnTo>
                <a:lnTo>
                  <a:pt x="3221" y="372"/>
                </a:lnTo>
                <a:lnTo>
                  <a:pt x="3232" y="358"/>
                </a:lnTo>
                <a:lnTo>
                  <a:pt x="3242" y="341"/>
                </a:lnTo>
                <a:lnTo>
                  <a:pt x="3250" y="325"/>
                </a:lnTo>
                <a:lnTo>
                  <a:pt x="3258" y="308"/>
                </a:lnTo>
                <a:lnTo>
                  <a:pt x="3266" y="292"/>
                </a:lnTo>
                <a:lnTo>
                  <a:pt x="3272" y="273"/>
                </a:lnTo>
                <a:lnTo>
                  <a:pt x="3278" y="256"/>
                </a:lnTo>
                <a:lnTo>
                  <a:pt x="3282" y="237"/>
                </a:lnTo>
                <a:lnTo>
                  <a:pt x="3286" y="218"/>
                </a:lnTo>
                <a:lnTo>
                  <a:pt x="3287" y="200"/>
                </a:lnTo>
                <a:lnTo>
                  <a:pt x="3287" y="180"/>
                </a:lnTo>
                <a:lnTo>
                  <a:pt x="3286" y="160"/>
                </a:lnTo>
                <a:lnTo>
                  <a:pt x="3282" y="140"/>
                </a:lnTo>
                <a:lnTo>
                  <a:pt x="3279" y="126"/>
                </a:lnTo>
                <a:lnTo>
                  <a:pt x="3276" y="113"/>
                </a:lnTo>
                <a:lnTo>
                  <a:pt x="3270" y="99"/>
                </a:lnTo>
                <a:lnTo>
                  <a:pt x="3264" y="87"/>
                </a:lnTo>
                <a:lnTo>
                  <a:pt x="3257" y="75"/>
                </a:lnTo>
                <a:lnTo>
                  <a:pt x="3249" y="64"/>
                </a:lnTo>
                <a:lnTo>
                  <a:pt x="3242" y="54"/>
                </a:lnTo>
                <a:lnTo>
                  <a:pt x="3232" y="44"/>
                </a:lnTo>
                <a:lnTo>
                  <a:pt x="3223" y="36"/>
                </a:lnTo>
                <a:lnTo>
                  <a:pt x="3212" y="28"/>
                </a:lnTo>
                <a:lnTo>
                  <a:pt x="3202" y="21"/>
                </a:lnTo>
                <a:lnTo>
                  <a:pt x="3190" y="15"/>
                </a:lnTo>
                <a:lnTo>
                  <a:pt x="3179" y="10"/>
                </a:lnTo>
                <a:lnTo>
                  <a:pt x="3167" y="6"/>
                </a:lnTo>
                <a:lnTo>
                  <a:pt x="3155" y="3"/>
                </a:lnTo>
                <a:lnTo>
                  <a:pt x="3142" y="1"/>
                </a:lnTo>
                <a:lnTo>
                  <a:pt x="3123" y="0"/>
                </a:lnTo>
                <a:lnTo>
                  <a:pt x="3104" y="0"/>
                </a:lnTo>
                <a:lnTo>
                  <a:pt x="3088" y="3"/>
                </a:lnTo>
                <a:lnTo>
                  <a:pt x="3071" y="6"/>
                </a:lnTo>
                <a:lnTo>
                  <a:pt x="3056" y="11"/>
                </a:lnTo>
                <a:lnTo>
                  <a:pt x="3041" y="18"/>
                </a:lnTo>
                <a:lnTo>
                  <a:pt x="3027" y="26"/>
                </a:lnTo>
                <a:lnTo>
                  <a:pt x="3015" y="34"/>
                </a:lnTo>
                <a:lnTo>
                  <a:pt x="3004" y="44"/>
                </a:lnTo>
                <a:lnTo>
                  <a:pt x="2994" y="55"/>
                </a:lnTo>
                <a:lnTo>
                  <a:pt x="2984" y="67"/>
                </a:lnTo>
                <a:lnTo>
                  <a:pt x="2976" y="80"/>
                </a:lnTo>
                <a:lnTo>
                  <a:pt x="2970" y="93"/>
                </a:lnTo>
                <a:lnTo>
                  <a:pt x="2964" y="106"/>
                </a:lnTo>
                <a:lnTo>
                  <a:pt x="2960" y="120"/>
                </a:lnTo>
                <a:lnTo>
                  <a:pt x="2958" y="135"/>
                </a:lnTo>
                <a:lnTo>
                  <a:pt x="2950" y="127"/>
                </a:lnTo>
                <a:lnTo>
                  <a:pt x="2941" y="120"/>
                </a:lnTo>
                <a:lnTo>
                  <a:pt x="2932" y="114"/>
                </a:lnTo>
                <a:lnTo>
                  <a:pt x="2923" y="108"/>
                </a:lnTo>
                <a:lnTo>
                  <a:pt x="2912" y="103"/>
                </a:lnTo>
                <a:lnTo>
                  <a:pt x="2901" y="98"/>
                </a:lnTo>
                <a:lnTo>
                  <a:pt x="2890" y="95"/>
                </a:lnTo>
                <a:lnTo>
                  <a:pt x="2877" y="92"/>
                </a:lnTo>
                <a:lnTo>
                  <a:pt x="2865" y="91"/>
                </a:lnTo>
                <a:lnTo>
                  <a:pt x="2852" y="89"/>
                </a:lnTo>
                <a:lnTo>
                  <a:pt x="2840" y="91"/>
                </a:lnTo>
                <a:lnTo>
                  <a:pt x="2828" y="92"/>
                </a:lnTo>
                <a:lnTo>
                  <a:pt x="2815" y="95"/>
                </a:lnTo>
                <a:lnTo>
                  <a:pt x="2803" y="99"/>
                </a:lnTo>
                <a:lnTo>
                  <a:pt x="2791" y="105"/>
                </a:lnTo>
                <a:lnTo>
                  <a:pt x="2780" y="111"/>
                </a:lnTo>
                <a:lnTo>
                  <a:pt x="2770" y="118"/>
                </a:lnTo>
                <a:lnTo>
                  <a:pt x="2761" y="126"/>
                </a:lnTo>
                <a:lnTo>
                  <a:pt x="2753" y="135"/>
                </a:lnTo>
                <a:lnTo>
                  <a:pt x="2745" y="143"/>
                </a:lnTo>
                <a:lnTo>
                  <a:pt x="2739" y="152"/>
                </a:lnTo>
                <a:lnTo>
                  <a:pt x="2733" y="162"/>
                </a:lnTo>
                <a:lnTo>
                  <a:pt x="2728" y="171"/>
                </a:lnTo>
                <a:lnTo>
                  <a:pt x="2725" y="182"/>
                </a:lnTo>
                <a:lnTo>
                  <a:pt x="2720" y="192"/>
                </a:lnTo>
                <a:lnTo>
                  <a:pt x="2718" y="203"/>
                </a:lnTo>
                <a:lnTo>
                  <a:pt x="2717" y="214"/>
                </a:lnTo>
                <a:lnTo>
                  <a:pt x="2716" y="225"/>
                </a:lnTo>
                <a:lnTo>
                  <a:pt x="2716" y="236"/>
                </a:lnTo>
                <a:lnTo>
                  <a:pt x="2717" y="248"/>
                </a:lnTo>
                <a:lnTo>
                  <a:pt x="2719" y="259"/>
                </a:lnTo>
                <a:lnTo>
                  <a:pt x="2721" y="270"/>
                </a:lnTo>
                <a:lnTo>
                  <a:pt x="2727" y="288"/>
                </a:lnTo>
                <a:lnTo>
                  <a:pt x="2733" y="303"/>
                </a:lnTo>
                <a:lnTo>
                  <a:pt x="2741" y="318"/>
                </a:lnTo>
                <a:lnTo>
                  <a:pt x="2751" y="334"/>
                </a:lnTo>
                <a:lnTo>
                  <a:pt x="2761" y="348"/>
                </a:lnTo>
                <a:lnTo>
                  <a:pt x="2772" y="362"/>
                </a:lnTo>
                <a:lnTo>
                  <a:pt x="2784" y="376"/>
                </a:lnTo>
                <a:lnTo>
                  <a:pt x="2796" y="388"/>
                </a:lnTo>
                <a:lnTo>
                  <a:pt x="2809" y="400"/>
                </a:lnTo>
                <a:lnTo>
                  <a:pt x="2824" y="412"/>
                </a:lnTo>
                <a:lnTo>
                  <a:pt x="2837" y="422"/>
                </a:lnTo>
                <a:lnTo>
                  <a:pt x="2851" y="433"/>
                </a:lnTo>
                <a:lnTo>
                  <a:pt x="2881" y="451"/>
                </a:lnTo>
                <a:lnTo>
                  <a:pt x="2910" y="468"/>
                </a:lnTo>
                <a:lnTo>
                  <a:pt x="2940" y="483"/>
                </a:lnTo>
                <a:lnTo>
                  <a:pt x="2968" y="495"/>
                </a:lnTo>
                <a:lnTo>
                  <a:pt x="2993" y="506"/>
                </a:lnTo>
                <a:lnTo>
                  <a:pt x="3016" y="514"/>
                </a:lnTo>
                <a:lnTo>
                  <a:pt x="3049" y="525"/>
                </a:lnTo>
                <a:lnTo>
                  <a:pt x="3062" y="530"/>
                </a:lnTo>
                <a:close/>
                <a:moveTo>
                  <a:pt x="2435" y="3095"/>
                </a:moveTo>
                <a:lnTo>
                  <a:pt x="2435" y="3095"/>
                </a:lnTo>
                <a:lnTo>
                  <a:pt x="2463" y="3057"/>
                </a:lnTo>
                <a:lnTo>
                  <a:pt x="2490" y="3020"/>
                </a:lnTo>
                <a:lnTo>
                  <a:pt x="2520" y="2985"/>
                </a:lnTo>
                <a:lnTo>
                  <a:pt x="2551" y="2951"/>
                </a:lnTo>
                <a:lnTo>
                  <a:pt x="2583" y="2919"/>
                </a:lnTo>
                <a:lnTo>
                  <a:pt x="2617" y="2888"/>
                </a:lnTo>
                <a:lnTo>
                  <a:pt x="2651" y="2859"/>
                </a:lnTo>
                <a:lnTo>
                  <a:pt x="2687" y="2831"/>
                </a:lnTo>
                <a:lnTo>
                  <a:pt x="2723" y="2805"/>
                </a:lnTo>
                <a:lnTo>
                  <a:pt x="2762" y="2779"/>
                </a:lnTo>
                <a:lnTo>
                  <a:pt x="2800" y="2756"/>
                </a:lnTo>
                <a:lnTo>
                  <a:pt x="2840" y="2735"/>
                </a:lnTo>
                <a:lnTo>
                  <a:pt x="2882" y="2714"/>
                </a:lnTo>
                <a:lnTo>
                  <a:pt x="2924" y="2697"/>
                </a:lnTo>
                <a:lnTo>
                  <a:pt x="2965" y="2680"/>
                </a:lnTo>
                <a:lnTo>
                  <a:pt x="3009" y="2666"/>
                </a:lnTo>
                <a:lnTo>
                  <a:pt x="2986" y="2646"/>
                </a:lnTo>
                <a:lnTo>
                  <a:pt x="2964" y="2626"/>
                </a:lnTo>
                <a:lnTo>
                  <a:pt x="2940" y="2609"/>
                </a:lnTo>
                <a:lnTo>
                  <a:pt x="2916" y="2591"/>
                </a:lnTo>
                <a:lnTo>
                  <a:pt x="2891" y="2575"/>
                </a:lnTo>
                <a:lnTo>
                  <a:pt x="2865" y="2558"/>
                </a:lnTo>
                <a:lnTo>
                  <a:pt x="2839" y="2544"/>
                </a:lnTo>
                <a:lnTo>
                  <a:pt x="2813" y="2530"/>
                </a:lnTo>
                <a:lnTo>
                  <a:pt x="2785" y="2516"/>
                </a:lnTo>
                <a:lnTo>
                  <a:pt x="2758" y="2503"/>
                </a:lnTo>
                <a:lnTo>
                  <a:pt x="2729" y="2492"/>
                </a:lnTo>
                <a:lnTo>
                  <a:pt x="2700" y="2481"/>
                </a:lnTo>
                <a:lnTo>
                  <a:pt x="2671" y="2471"/>
                </a:lnTo>
                <a:lnTo>
                  <a:pt x="2641" y="2462"/>
                </a:lnTo>
                <a:lnTo>
                  <a:pt x="2610" y="2455"/>
                </a:lnTo>
                <a:lnTo>
                  <a:pt x="2579" y="2448"/>
                </a:lnTo>
                <a:lnTo>
                  <a:pt x="2536" y="2442"/>
                </a:lnTo>
                <a:lnTo>
                  <a:pt x="2495" y="2436"/>
                </a:lnTo>
                <a:lnTo>
                  <a:pt x="2453" y="2433"/>
                </a:lnTo>
                <a:lnTo>
                  <a:pt x="2411" y="2432"/>
                </a:lnTo>
                <a:lnTo>
                  <a:pt x="2370" y="2433"/>
                </a:lnTo>
                <a:lnTo>
                  <a:pt x="2330" y="2435"/>
                </a:lnTo>
                <a:lnTo>
                  <a:pt x="2289" y="2440"/>
                </a:lnTo>
                <a:lnTo>
                  <a:pt x="2248" y="2446"/>
                </a:lnTo>
                <a:lnTo>
                  <a:pt x="2209" y="2455"/>
                </a:lnTo>
                <a:lnTo>
                  <a:pt x="2170" y="2465"/>
                </a:lnTo>
                <a:lnTo>
                  <a:pt x="2132" y="2476"/>
                </a:lnTo>
                <a:lnTo>
                  <a:pt x="2094" y="2489"/>
                </a:lnTo>
                <a:lnTo>
                  <a:pt x="2057" y="2504"/>
                </a:lnTo>
                <a:lnTo>
                  <a:pt x="2020" y="2521"/>
                </a:lnTo>
                <a:lnTo>
                  <a:pt x="1985" y="2539"/>
                </a:lnTo>
                <a:lnTo>
                  <a:pt x="1950" y="2558"/>
                </a:lnTo>
                <a:lnTo>
                  <a:pt x="1938" y="2531"/>
                </a:lnTo>
                <a:lnTo>
                  <a:pt x="1925" y="2502"/>
                </a:lnTo>
                <a:lnTo>
                  <a:pt x="1911" y="2475"/>
                </a:lnTo>
                <a:lnTo>
                  <a:pt x="1897" y="2448"/>
                </a:lnTo>
                <a:lnTo>
                  <a:pt x="1882" y="2421"/>
                </a:lnTo>
                <a:lnTo>
                  <a:pt x="1865" y="2395"/>
                </a:lnTo>
                <a:lnTo>
                  <a:pt x="1849" y="2369"/>
                </a:lnTo>
                <a:lnTo>
                  <a:pt x="1831" y="2344"/>
                </a:lnTo>
                <a:lnTo>
                  <a:pt x="1812" y="2319"/>
                </a:lnTo>
                <a:lnTo>
                  <a:pt x="1794" y="2295"/>
                </a:lnTo>
                <a:lnTo>
                  <a:pt x="1774" y="2272"/>
                </a:lnTo>
                <a:lnTo>
                  <a:pt x="1753" y="2249"/>
                </a:lnTo>
                <a:lnTo>
                  <a:pt x="1731" y="2227"/>
                </a:lnTo>
                <a:lnTo>
                  <a:pt x="1709" y="2205"/>
                </a:lnTo>
                <a:lnTo>
                  <a:pt x="1687" y="2184"/>
                </a:lnTo>
                <a:lnTo>
                  <a:pt x="1663" y="2164"/>
                </a:lnTo>
                <a:lnTo>
                  <a:pt x="1640" y="2145"/>
                </a:lnTo>
                <a:lnTo>
                  <a:pt x="1614" y="2126"/>
                </a:lnTo>
                <a:lnTo>
                  <a:pt x="1589" y="2108"/>
                </a:lnTo>
                <a:lnTo>
                  <a:pt x="1564" y="2091"/>
                </a:lnTo>
                <a:lnTo>
                  <a:pt x="1537" y="2074"/>
                </a:lnTo>
                <a:lnTo>
                  <a:pt x="1510" y="2058"/>
                </a:lnTo>
                <a:lnTo>
                  <a:pt x="1482" y="2043"/>
                </a:lnTo>
                <a:lnTo>
                  <a:pt x="1454" y="2029"/>
                </a:lnTo>
                <a:lnTo>
                  <a:pt x="1425" y="2016"/>
                </a:lnTo>
                <a:lnTo>
                  <a:pt x="1395" y="2003"/>
                </a:lnTo>
                <a:lnTo>
                  <a:pt x="1366" y="1992"/>
                </a:lnTo>
                <a:lnTo>
                  <a:pt x="1335" y="1981"/>
                </a:lnTo>
                <a:lnTo>
                  <a:pt x="1304" y="1971"/>
                </a:lnTo>
                <a:lnTo>
                  <a:pt x="1273" y="1962"/>
                </a:lnTo>
                <a:lnTo>
                  <a:pt x="1241" y="1954"/>
                </a:lnTo>
                <a:lnTo>
                  <a:pt x="1210" y="1948"/>
                </a:lnTo>
                <a:lnTo>
                  <a:pt x="1158" y="1939"/>
                </a:lnTo>
                <a:lnTo>
                  <a:pt x="1107" y="1933"/>
                </a:lnTo>
                <a:lnTo>
                  <a:pt x="1057" y="1930"/>
                </a:lnTo>
                <a:lnTo>
                  <a:pt x="1006" y="1929"/>
                </a:lnTo>
                <a:lnTo>
                  <a:pt x="955" y="1930"/>
                </a:lnTo>
                <a:lnTo>
                  <a:pt x="906" y="1934"/>
                </a:lnTo>
                <a:lnTo>
                  <a:pt x="857" y="1941"/>
                </a:lnTo>
                <a:lnTo>
                  <a:pt x="809" y="1950"/>
                </a:lnTo>
                <a:lnTo>
                  <a:pt x="761" y="1962"/>
                </a:lnTo>
                <a:lnTo>
                  <a:pt x="714" y="1975"/>
                </a:lnTo>
                <a:lnTo>
                  <a:pt x="668" y="1991"/>
                </a:lnTo>
                <a:lnTo>
                  <a:pt x="623" y="2009"/>
                </a:lnTo>
                <a:lnTo>
                  <a:pt x="579" y="2029"/>
                </a:lnTo>
                <a:lnTo>
                  <a:pt x="536" y="2051"/>
                </a:lnTo>
                <a:lnTo>
                  <a:pt x="493" y="2075"/>
                </a:lnTo>
                <a:lnTo>
                  <a:pt x="453" y="2101"/>
                </a:lnTo>
                <a:lnTo>
                  <a:pt x="414" y="2129"/>
                </a:lnTo>
                <a:lnTo>
                  <a:pt x="376" y="2159"/>
                </a:lnTo>
                <a:lnTo>
                  <a:pt x="339" y="2191"/>
                </a:lnTo>
                <a:lnTo>
                  <a:pt x="304" y="2224"/>
                </a:lnTo>
                <a:lnTo>
                  <a:pt x="270" y="2259"/>
                </a:lnTo>
                <a:lnTo>
                  <a:pt x="238" y="2295"/>
                </a:lnTo>
                <a:lnTo>
                  <a:pt x="208" y="2334"/>
                </a:lnTo>
                <a:lnTo>
                  <a:pt x="180" y="2374"/>
                </a:lnTo>
                <a:lnTo>
                  <a:pt x="153" y="2415"/>
                </a:lnTo>
                <a:lnTo>
                  <a:pt x="129" y="2458"/>
                </a:lnTo>
                <a:lnTo>
                  <a:pt x="106" y="2503"/>
                </a:lnTo>
                <a:lnTo>
                  <a:pt x="86" y="2548"/>
                </a:lnTo>
                <a:lnTo>
                  <a:pt x="67" y="2596"/>
                </a:lnTo>
                <a:lnTo>
                  <a:pt x="52" y="2644"/>
                </a:lnTo>
                <a:lnTo>
                  <a:pt x="38" y="2694"/>
                </a:lnTo>
                <a:lnTo>
                  <a:pt x="27" y="2744"/>
                </a:lnTo>
                <a:lnTo>
                  <a:pt x="17" y="2802"/>
                </a:lnTo>
                <a:lnTo>
                  <a:pt x="9" y="2860"/>
                </a:lnTo>
                <a:lnTo>
                  <a:pt x="4" y="2918"/>
                </a:lnTo>
                <a:lnTo>
                  <a:pt x="1" y="2974"/>
                </a:lnTo>
                <a:lnTo>
                  <a:pt x="0" y="3031"/>
                </a:lnTo>
                <a:lnTo>
                  <a:pt x="3" y="3087"/>
                </a:lnTo>
                <a:lnTo>
                  <a:pt x="6" y="3143"/>
                </a:lnTo>
                <a:lnTo>
                  <a:pt x="12" y="3198"/>
                </a:lnTo>
                <a:lnTo>
                  <a:pt x="20" y="3253"/>
                </a:lnTo>
                <a:lnTo>
                  <a:pt x="30" y="3307"/>
                </a:lnTo>
                <a:lnTo>
                  <a:pt x="41" y="3361"/>
                </a:lnTo>
                <a:lnTo>
                  <a:pt x="55" y="3415"/>
                </a:lnTo>
                <a:lnTo>
                  <a:pt x="70" y="3468"/>
                </a:lnTo>
                <a:lnTo>
                  <a:pt x="86" y="3520"/>
                </a:lnTo>
                <a:lnTo>
                  <a:pt x="105" y="3571"/>
                </a:lnTo>
                <a:lnTo>
                  <a:pt x="125" y="3622"/>
                </a:lnTo>
                <a:lnTo>
                  <a:pt x="146" y="3673"/>
                </a:lnTo>
                <a:lnTo>
                  <a:pt x="168" y="3722"/>
                </a:lnTo>
                <a:lnTo>
                  <a:pt x="192" y="3772"/>
                </a:lnTo>
                <a:lnTo>
                  <a:pt x="216" y="3820"/>
                </a:lnTo>
                <a:lnTo>
                  <a:pt x="242" y="3867"/>
                </a:lnTo>
                <a:lnTo>
                  <a:pt x="269" y="3915"/>
                </a:lnTo>
                <a:lnTo>
                  <a:pt x="297" y="3961"/>
                </a:lnTo>
                <a:lnTo>
                  <a:pt x="326" y="4006"/>
                </a:lnTo>
                <a:lnTo>
                  <a:pt x="355" y="4051"/>
                </a:lnTo>
                <a:lnTo>
                  <a:pt x="385" y="4095"/>
                </a:lnTo>
                <a:lnTo>
                  <a:pt x="416" y="4138"/>
                </a:lnTo>
                <a:lnTo>
                  <a:pt x="447" y="4180"/>
                </a:lnTo>
                <a:lnTo>
                  <a:pt x="479" y="4222"/>
                </a:lnTo>
                <a:lnTo>
                  <a:pt x="511" y="4262"/>
                </a:lnTo>
                <a:lnTo>
                  <a:pt x="544" y="4302"/>
                </a:lnTo>
                <a:lnTo>
                  <a:pt x="577" y="4340"/>
                </a:lnTo>
                <a:lnTo>
                  <a:pt x="610" y="4379"/>
                </a:lnTo>
                <a:lnTo>
                  <a:pt x="643" y="4415"/>
                </a:lnTo>
                <a:lnTo>
                  <a:pt x="709" y="4487"/>
                </a:lnTo>
                <a:lnTo>
                  <a:pt x="775" y="4554"/>
                </a:lnTo>
                <a:lnTo>
                  <a:pt x="839" y="4617"/>
                </a:lnTo>
                <a:lnTo>
                  <a:pt x="903" y="4676"/>
                </a:lnTo>
                <a:lnTo>
                  <a:pt x="963" y="4731"/>
                </a:lnTo>
                <a:lnTo>
                  <a:pt x="1020" y="4780"/>
                </a:lnTo>
                <a:lnTo>
                  <a:pt x="1074" y="4826"/>
                </a:lnTo>
                <a:lnTo>
                  <a:pt x="1125" y="4866"/>
                </a:lnTo>
                <a:lnTo>
                  <a:pt x="1170" y="4901"/>
                </a:lnTo>
                <a:lnTo>
                  <a:pt x="1210" y="4932"/>
                </a:lnTo>
                <a:lnTo>
                  <a:pt x="1244" y="4958"/>
                </a:lnTo>
                <a:lnTo>
                  <a:pt x="1292" y="4992"/>
                </a:lnTo>
                <a:lnTo>
                  <a:pt x="1309" y="5004"/>
                </a:lnTo>
                <a:lnTo>
                  <a:pt x="1338" y="4996"/>
                </a:lnTo>
                <a:lnTo>
                  <a:pt x="1373" y="4986"/>
                </a:lnTo>
                <a:lnTo>
                  <a:pt x="1421" y="4973"/>
                </a:lnTo>
                <a:lnTo>
                  <a:pt x="1479" y="4955"/>
                </a:lnTo>
                <a:lnTo>
                  <a:pt x="1547" y="4934"/>
                </a:lnTo>
                <a:lnTo>
                  <a:pt x="1623" y="4908"/>
                </a:lnTo>
                <a:lnTo>
                  <a:pt x="1708" y="4878"/>
                </a:lnTo>
                <a:lnTo>
                  <a:pt x="1799" y="4844"/>
                </a:lnTo>
                <a:lnTo>
                  <a:pt x="1896" y="4806"/>
                </a:lnTo>
                <a:lnTo>
                  <a:pt x="1946" y="4785"/>
                </a:lnTo>
                <a:lnTo>
                  <a:pt x="1997" y="4763"/>
                </a:lnTo>
                <a:lnTo>
                  <a:pt x="2049" y="4739"/>
                </a:lnTo>
                <a:lnTo>
                  <a:pt x="2101" y="4714"/>
                </a:lnTo>
                <a:lnTo>
                  <a:pt x="2154" y="4689"/>
                </a:lnTo>
                <a:lnTo>
                  <a:pt x="2207" y="4663"/>
                </a:lnTo>
                <a:lnTo>
                  <a:pt x="2261" y="4634"/>
                </a:lnTo>
                <a:lnTo>
                  <a:pt x="2315" y="4606"/>
                </a:lnTo>
                <a:lnTo>
                  <a:pt x="2368" y="4575"/>
                </a:lnTo>
                <a:lnTo>
                  <a:pt x="2422" y="4543"/>
                </a:lnTo>
                <a:lnTo>
                  <a:pt x="2476" y="4511"/>
                </a:lnTo>
                <a:lnTo>
                  <a:pt x="2529" y="4477"/>
                </a:lnTo>
                <a:lnTo>
                  <a:pt x="2506" y="4446"/>
                </a:lnTo>
                <a:lnTo>
                  <a:pt x="2484" y="4414"/>
                </a:lnTo>
                <a:lnTo>
                  <a:pt x="2462" y="4382"/>
                </a:lnTo>
                <a:lnTo>
                  <a:pt x="2442" y="4349"/>
                </a:lnTo>
                <a:lnTo>
                  <a:pt x="2422" y="4316"/>
                </a:lnTo>
                <a:lnTo>
                  <a:pt x="2403" y="4282"/>
                </a:lnTo>
                <a:lnTo>
                  <a:pt x="2385" y="4248"/>
                </a:lnTo>
                <a:lnTo>
                  <a:pt x="2368" y="4213"/>
                </a:lnTo>
                <a:lnTo>
                  <a:pt x="2353" y="4178"/>
                </a:lnTo>
                <a:lnTo>
                  <a:pt x="2337" y="4141"/>
                </a:lnTo>
                <a:lnTo>
                  <a:pt x="2323" y="4105"/>
                </a:lnTo>
                <a:lnTo>
                  <a:pt x="2310" y="4068"/>
                </a:lnTo>
                <a:lnTo>
                  <a:pt x="2299" y="4030"/>
                </a:lnTo>
                <a:lnTo>
                  <a:pt x="2288" y="3992"/>
                </a:lnTo>
                <a:lnTo>
                  <a:pt x="2278" y="3953"/>
                </a:lnTo>
                <a:lnTo>
                  <a:pt x="2270" y="3914"/>
                </a:lnTo>
                <a:lnTo>
                  <a:pt x="2265" y="3886"/>
                </a:lnTo>
                <a:lnTo>
                  <a:pt x="2260" y="3860"/>
                </a:lnTo>
                <a:lnTo>
                  <a:pt x="2257" y="3832"/>
                </a:lnTo>
                <a:lnTo>
                  <a:pt x="2255" y="3806"/>
                </a:lnTo>
                <a:lnTo>
                  <a:pt x="2250" y="3752"/>
                </a:lnTo>
                <a:lnTo>
                  <a:pt x="2249" y="3699"/>
                </a:lnTo>
                <a:lnTo>
                  <a:pt x="2250" y="3645"/>
                </a:lnTo>
                <a:lnTo>
                  <a:pt x="2255" y="3592"/>
                </a:lnTo>
                <a:lnTo>
                  <a:pt x="2261" y="3540"/>
                </a:lnTo>
                <a:lnTo>
                  <a:pt x="2271" y="3488"/>
                </a:lnTo>
                <a:lnTo>
                  <a:pt x="2282" y="3436"/>
                </a:lnTo>
                <a:lnTo>
                  <a:pt x="2297" y="3384"/>
                </a:lnTo>
                <a:lnTo>
                  <a:pt x="2314" y="3334"/>
                </a:lnTo>
                <a:lnTo>
                  <a:pt x="2333" y="3284"/>
                </a:lnTo>
                <a:lnTo>
                  <a:pt x="2355" y="3236"/>
                </a:lnTo>
                <a:lnTo>
                  <a:pt x="2379" y="3187"/>
                </a:lnTo>
                <a:lnTo>
                  <a:pt x="2392" y="3164"/>
                </a:lnTo>
                <a:lnTo>
                  <a:pt x="2407" y="3141"/>
                </a:lnTo>
                <a:lnTo>
                  <a:pt x="2421" y="3118"/>
                </a:lnTo>
                <a:lnTo>
                  <a:pt x="2435" y="3095"/>
                </a:lnTo>
                <a:close/>
                <a:moveTo>
                  <a:pt x="3250" y="1604"/>
                </a:moveTo>
                <a:lnTo>
                  <a:pt x="3250" y="1604"/>
                </a:lnTo>
                <a:lnTo>
                  <a:pt x="3255" y="1581"/>
                </a:lnTo>
                <a:lnTo>
                  <a:pt x="3261" y="1559"/>
                </a:lnTo>
                <a:lnTo>
                  <a:pt x="3270" y="1537"/>
                </a:lnTo>
                <a:lnTo>
                  <a:pt x="3281" y="1516"/>
                </a:lnTo>
                <a:lnTo>
                  <a:pt x="3294" y="1497"/>
                </a:lnTo>
                <a:lnTo>
                  <a:pt x="3309" y="1478"/>
                </a:lnTo>
                <a:lnTo>
                  <a:pt x="3325" y="1460"/>
                </a:lnTo>
                <a:lnTo>
                  <a:pt x="3343" y="1445"/>
                </a:lnTo>
                <a:lnTo>
                  <a:pt x="3363" y="1431"/>
                </a:lnTo>
                <a:lnTo>
                  <a:pt x="3385" y="1418"/>
                </a:lnTo>
                <a:lnTo>
                  <a:pt x="3408" y="1407"/>
                </a:lnTo>
                <a:lnTo>
                  <a:pt x="3432" y="1400"/>
                </a:lnTo>
                <a:lnTo>
                  <a:pt x="3445" y="1396"/>
                </a:lnTo>
                <a:lnTo>
                  <a:pt x="3458" y="1394"/>
                </a:lnTo>
                <a:lnTo>
                  <a:pt x="3472" y="1392"/>
                </a:lnTo>
                <a:lnTo>
                  <a:pt x="3486" y="1390"/>
                </a:lnTo>
                <a:lnTo>
                  <a:pt x="3500" y="1390"/>
                </a:lnTo>
                <a:lnTo>
                  <a:pt x="3515" y="1390"/>
                </a:lnTo>
                <a:lnTo>
                  <a:pt x="3530" y="1390"/>
                </a:lnTo>
                <a:lnTo>
                  <a:pt x="3545" y="1391"/>
                </a:lnTo>
                <a:lnTo>
                  <a:pt x="3565" y="1394"/>
                </a:lnTo>
                <a:lnTo>
                  <a:pt x="3585" y="1400"/>
                </a:lnTo>
                <a:lnTo>
                  <a:pt x="3604" y="1405"/>
                </a:lnTo>
                <a:lnTo>
                  <a:pt x="3622" y="1414"/>
                </a:lnTo>
                <a:lnTo>
                  <a:pt x="3641" y="1424"/>
                </a:lnTo>
                <a:lnTo>
                  <a:pt x="3658" y="1435"/>
                </a:lnTo>
                <a:lnTo>
                  <a:pt x="3674" y="1447"/>
                </a:lnTo>
                <a:lnTo>
                  <a:pt x="3689" y="1461"/>
                </a:lnTo>
                <a:lnTo>
                  <a:pt x="3704" y="1476"/>
                </a:lnTo>
                <a:lnTo>
                  <a:pt x="3717" y="1492"/>
                </a:lnTo>
                <a:lnTo>
                  <a:pt x="3729" y="1510"/>
                </a:lnTo>
                <a:lnTo>
                  <a:pt x="3740" y="1528"/>
                </a:lnTo>
                <a:lnTo>
                  <a:pt x="3750" y="1548"/>
                </a:lnTo>
                <a:lnTo>
                  <a:pt x="3758" y="1569"/>
                </a:lnTo>
                <a:lnTo>
                  <a:pt x="3765" y="1591"/>
                </a:lnTo>
                <a:lnTo>
                  <a:pt x="3770" y="1613"/>
                </a:lnTo>
                <a:lnTo>
                  <a:pt x="3773" y="1630"/>
                </a:lnTo>
                <a:lnTo>
                  <a:pt x="3775" y="1645"/>
                </a:lnTo>
                <a:lnTo>
                  <a:pt x="3777" y="1677"/>
                </a:lnTo>
                <a:lnTo>
                  <a:pt x="3777" y="1708"/>
                </a:lnTo>
                <a:lnTo>
                  <a:pt x="3774" y="1739"/>
                </a:lnTo>
                <a:lnTo>
                  <a:pt x="3770" y="1768"/>
                </a:lnTo>
                <a:lnTo>
                  <a:pt x="3762" y="1798"/>
                </a:lnTo>
                <a:lnTo>
                  <a:pt x="3753" y="1827"/>
                </a:lnTo>
                <a:lnTo>
                  <a:pt x="3743" y="1855"/>
                </a:lnTo>
                <a:lnTo>
                  <a:pt x="3731" y="1883"/>
                </a:lnTo>
                <a:lnTo>
                  <a:pt x="3718" y="1909"/>
                </a:lnTo>
                <a:lnTo>
                  <a:pt x="3704" y="1936"/>
                </a:lnTo>
                <a:lnTo>
                  <a:pt x="3688" y="1961"/>
                </a:lnTo>
                <a:lnTo>
                  <a:pt x="3672" y="1985"/>
                </a:lnTo>
                <a:lnTo>
                  <a:pt x="3654" y="2008"/>
                </a:lnTo>
                <a:lnTo>
                  <a:pt x="3637" y="2031"/>
                </a:lnTo>
                <a:lnTo>
                  <a:pt x="3619" y="2052"/>
                </a:lnTo>
                <a:lnTo>
                  <a:pt x="3600" y="2073"/>
                </a:lnTo>
                <a:lnTo>
                  <a:pt x="3583" y="2093"/>
                </a:lnTo>
                <a:lnTo>
                  <a:pt x="3546" y="2128"/>
                </a:lnTo>
                <a:lnTo>
                  <a:pt x="3512" y="2160"/>
                </a:lnTo>
                <a:lnTo>
                  <a:pt x="3481" y="2186"/>
                </a:lnTo>
                <a:lnTo>
                  <a:pt x="3456" y="2207"/>
                </a:lnTo>
                <a:lnTo>
                  <a:pt x="3435" y="2223"/>
                </a:lnTo>
                <a:lnTo>
                  <a:pt x="3418" y="2235"/>
                </a:lnTo>
                <a:lnTo>
                  <a:pt x="3398" y="2229"/>
                </a:lnTo>
                <a:lnTo>
                  <a:pt x="3375" y="2222"/>
                </a:lnTo>
                <a:lnTo>
                  <a:pt x="3344" y="2212"/>
                </a:lnTo>
                <a:lnTo>
                  <a:pt x="3308" y="2197"/>
                </a:lnTo>
                <a:lnTo>
                  <a:pt x="3267" y="2181"/>
                </a:lnTo>
                <a:lnTo>
                  <a:pt x="3223" y="2161"/>
                </a:lnTo>
                <a:lnTo>
                  <a:pt x="3176" y="2138"/>
                </a:lnTo>
                <a:lnTo>
                  <a:pt x="3153" y="2125"/>
                </a:lnTo>
                <a:lnTo>
                  <a:pt x="3128" y="2110"/>
                </a:lnTo>
                <a:lnTo>
                  <a:pt x="3105" y="2096"/>
                </a:lnTo>
                <a:lnTo>
                  <a:pt x="3081" y="2081"/>
                </a:lnTo>
                <a:lnTo>
                  <a:pt x="3058" y="2064"/>
                </a:lnTo>
                <a:lnTo>
                  <a:pt x="3036" y="2047"/>
                </a:lnTo>
                <a:lnTo>
                  <a:pt x="3014" y="2028"/>
                </a:lnTo>
                <a:lnTo>
                  <a:pt x="2993" y="2009"/>
                </a:lnTo>
                <a:lnTo>
                  <a:pt x="2973" y="1988"/>
                </a:lnTo>
                <a:lnTo>
                  <a:pt x="2954" y="1967"/>
                </a:lnTo>
                <a:lnTo>
                  <a:pt x="2937" y="1945"/>
                </a:lnTo>
                <a:lnTo>
                  <a:pt x="2920" y="1922"/>
                </a:lnTo>
                <a:lnTo>
                  <a:pt x="2906" y="1899"/>
                </a:lnTo>
                <a:lnTo>
                  <a:pt x="2893" y="1874"/>
                </a:lnTo>
                <a:lnTo>
                  <a:pt x="2882" y="1848"/>
                </a:lnTo>
                <a:lnTo>
                  <a:pt x="2873" y="1821"/>
                </a:lnTo>
                <a:lnTo>
                  <a:pt x="2869" y="1802"/>
                </a:lnTo>
                <a:lnTo>
                  <a:pt x="2866" y="1785"/>
                </a:lnTo>
                <a:lnTo>
                  <a:pt x="2864" y="1767"/>
                </a:lnTo>
                <a:lnTo>
                  <a:pt x="2864" y="1748"/>
                </a:lnTo>
                <a:lnTo>
                  <a:pt x="2865" y="1731"/>
                </a:lnTo>
                <a:lnTo>
                  <a:pt x="2869" y="1713"/>
                </a:lnTo>
                <a:lnTo>
                  <a:pt x="2873" y="1697"/>
                </a:lnTo>
                <a:lnTo>
                  <a:pt x="2877" y="1679"/>
                </a:lnTo>
                <a:lnTo>
                  <a:pt x="2884" y="1664"/>
                </a:lnTo>
                <a:lnTo>
                  <a:pt x="2893" y="1647"/>
                </a:lnTo>
                <a:lnTo>
                  <a:pt x="2902" y="1633"/>
                </a:lnTo>
                <a:lnTo>
                  <a:pt x="2913" y="1618"/>
                </a:lnTo>
                <a:lnTo>
                  <a:pt x="2924" y="1604"/>
                </a:lnTo>
                <a:lnTo>
                  <a:pt x="2937" y="1591"/>
                </a:lnTo>
                <a:lnTo>
                  <a:pt x="2951" y="1579"/>
                </a:lnTo>
                <a:lnTo>
                  <a:pt x="2967" y="1568"/>
                </a:lnTo>
                <a:lnTo>
                  <a:pt x="2985" y="1557"/>
                </a:lnTo>
                <a:lnTo>
                  <a:pt x="3004" y="1548"/>
                </a:lnTo>
                <a:lnTo>
                  <a:pt x="3024" y="1542"/>
                </a:lnTo>
                <a:lnTo>
                  <a:pt x="3044" y="1536"/>
                </a:lnTo>
                <a:lnTo>
                  <a:pt x="3063" y="1534"/>
                </a:lnTo>
                <a:lnTo>
                  <a:pt x="3083" y="1533"/>
                </a:lnTo>
                <a:lnTo>
                  <a:pt x="3103" y="1534"/>
                </a:lnTo>
                <a:lnTo>
                  <a:pt x="3123" y="1537"/>
                </a:lnTo>
                <a:lnTo>
                  <a:pt x="3142" y="1541"/>
                </a:lnTo>
                <a:lnTo>
                  <a:pt x="3160" y="1547"/>
                </a:lnTo>
                <a:lnTo>
                  <a:pt x="3178" y="1554"/>
                </a:lnTo>
                <a:lnTo>
                  <a:pt x="3195" y="1561"/>
                </a:lnTo>
                <a:lnTo>
                  <a:pt x="3211" y="1571"/>
                </a:lnTo>
                <a:lnTo>
                  <a:pt x="3225" y="1581"/>
                </a:lnTo>
                <a:lnTo>
                  <a:pt x="3238" y="1592"/>
                </a:lnTo>
                <a:lnTo>
                  <a:pt x="3250" y="1604"/>
                </a:lnTo>
                <a:close/>
                <a:moveTo>
                  <a:pt x="2345" y="1525"/>
                </a:moveTo>
                <a:lnTo>
                  <a:pt x="2345" y="1525"/>
                </a:lnTo>
                <a:lnTo>
                  <a:pt x="2361" y="1521"/>
                </a:lnTo>
                <a:lnTo>
                  <a:pt x="2403" y="1506"/>
                </a:lnTo>
                <a:lnTo>
                  <a:pt x="2432" y="1495"/>
                </a:lnTo>
                <a:lnTo>
                  <a:pt x="2464" y="1482"/>
                </a:lnTo>
                <a:lnTo>
                  <a:pt x="2499" y="1467"/>
                </a:lnTo>
                <a:lnTo>
                  <a:pt x="2535" y="1448"/>
                </a:lnTo>
                <a:lnTo>
                  <a:pt x="2573" y="1427"/>
                </a:lnTo>
                <a:lnTo>
                  <a:pt x="2591" y="1415"/>
                </a:lnTo>
                <a:lnTo>
                  <a:pt x="2610" y="1403"/>
                </a:lnTo>
                <a:lnTo>
                  <a:pt x="2629" y="1390"/>
                </a:lnTo>
                <a:lnTo>
                  <a:pt x="2646" y="1377"/>
                </a:lnTo>
                <a:lnTo>
                  <a:pt x="2663" y="1362"/>
                </a:lnTo>
                <a:lnTo>
                  <a:pt x="2679" y="1347"/>
                </a:lnTo>
                <a:lnTo>
                  <a:pt x="2696" y="1332"/>
                </a:lnTo>
                <a:lnTo>
                  <a:pt x="2710" y="1315"/>
                </a:lnTo>
                <a:lnTo>
                  <a:pt x="2725" y="1297"/>
                </a:lnTo>
                <a:lnTo>
                  <a:pt x="2737" y="1279"/>
                </a:lnTo>
                <a:lnTo>
                  <a:pt x="2749" y="1260"/>
                </a:lnTo>
                <a:lnTo>
                  <a:pt x="2759" y="1240"/>
                </a:lnTo>
                <a:lnTo>
                  <a:pt x="2767" y="1220"/>
                </a:lnTo>
                <a:lnTo>
                  <a:pt x="2774" y="1200"/>
                </a:lnTo>
                <a:lnTo>
                  <a:pt x="2777" y="1185"/>
                </a:lnTo>
                <a:lnTo>
                  <a:pt x="2780" y="1171"/>
                </a:lnTo>
                <a:lnTo>
                  <a:pt x="2781" y="1157"/>
                </a:lnTo>
                <a:lnTo>
                  <a:pt x="2781" y="1142"/>
                </a:lnTo>
                <a:lnTo>
                  <a:pt x="2780" y="1128"/>
                </a:lnTo>
                <a:lnTo>
                  <a:pt x="2778" y="1115"/>
                </a:lnTo>
                <a:lnTo>
                  <a:pt x="2775" y="1101"/>
                </a:lnTo>
                <a:lnTo>
                  <a:pt x="2771" y="1087"/>
                </a:lnTo>
                <a:lnTo>
                  <a:pt x="2765" y="1075"/>
                </a:lnTo>
                <a:lnTo>
                  <a:pt x="2759" y="1062"/>
                </a:lnTo>
                <a:lnTo>
                  <a:pt x="2752" y="1051"/>
                </a:lnTo>
                <a:lnTo>
                  <a:pt x="2743" y="1039"/>
                </a:lnTo>
                <a:lnTo>
                  <a:pt x="2734" y="1028"/>
                </a:lnTo>
                <a:lnTo>
                  <a:pt x="2725" y="1018"/>
                </a:lnTo>
                <a:lnTo>
                  <a:pt x="2712" y="1008"/>
                </a:lnTo>
                <a:lnTo>
                  <a:pt x="2700" y="999"/>
                </a:lnTo>
                <a:lnTo>
                  <a:pt x="2686" y="990"/>
                </a:lnTo>
                <a:lnTo>
                  <a:pt x="2672" y="984"/>
                </a:lnTo>
                <a:lnTo>
                  <a:pt x="2656" y="978"/>
                </a:lnTo>
                <a:lnTo>
                  <a:pt x="2641" y="975"/>
                </a:lnTo>
                <a:lnTo>
                  <a:pt x="2624" y="973"/>
                </a:lnTo>
                <a:lnTo>
                  <a:pt x="2609" y="973"/>
                </a:lnTo>
                <a:lnTo>
                  <a:pt x="2594" y="973"/>
                </a:lnTo>
                <a:lnTo>
                  <a:pt x="2578" y="975"/>
                </a:lnTo>
                <a:lnTo>
                  <a:pt x="2563" y="978"/>
                </a:lnTo>
                <a:lnTo>
                  <a:pt x="2548" y="983"/>
                </a:lnTo>
                <a:lnTo>
                  <a:pt x="2534" y="988"/>
                </a:lnTo>
                <a:lnTo>
                  <a:pt x="2521" y="995"/>
                </a:lnTo>
                <a:lnTo>
                  <a:pt x="2509" y="1003"/>
                </a:lnTo>
                <a:lnTo>
                  <a:pt x="2497" y="1010"/>
                </a:lnTo>
                <a:lnTo>
                  <a:pt x="2487" y="1019"/>
                </a:lnTo>
                <a:lnTo>
                  <a:pt x="2477" y="1029"/>
                </a:lnTo>
                <a:lnTo>
                  <a:pt x="2474" y="1010"/>
                </a:lnTo>
                <a:lnTo>
                  <a:pt x="2468" y="993"/>
                </a:lnTo>
                <a:lnTo>
                  <a:pt x="2462" y="975"/>
                </a:lnTo>
                <a:lnTo>
                  <a:pt x="2453" y="959"/>
                </a:lnTo>
                <a:lnTo>
                  <a:pt x="2443" y="943"/>
                </a:lnTo>
                <a:lnTo>
                  <a:pt x="2432" y="929"/>
                </a:lnTo>
                <a:lnTo>
                  <a:pt x="2419" y="915"/>
                </a:lnTo>
                <a:lnTo>
                  <a:pt x="2404" y="902"/>
                </a:lnTo>
                <a:lnTo>
                  <a:pt x="2389" y="891"/>
                </a:lnTo>
                <a:lnTo>
                  <a:pt x="2371" y="882"/>
                </a:lnTo>
                <a:lnTo>
                  <a:pt x="2354" y="874"/>
                </a:lnTo>
                <a:lnTo>
                  <a:pt x="2334" y="867"/>
                </a:lnTo>
                <a:lnTo>
                  <a:pt x="2313" y="863"/>
                </a:lnTo>
                <a:lnTo>
                  <a:pt x="2292" y="860"/>
                </a:lnTo>
                <a:lnTo>
                  <a:pt x="2269" y="858"/>
                </a:lnTo>
                <a:lnTo>
                  <a:pt x="2245" y="861"/>
                </a:lnTo>
                <a:lnTo>
                  <a:pt x="2229" y="863"/>
                </a:lnTo>
                <a:lnTo>
                  <a:pt x="2214" y="866"/>
                </a:lnTo>
                <a:lnTo>
                  <a:pt x="2199" y="872"/>
                </a:lnTo>
                <a:lnTo>
                  <a:pt x="2183" y="878"/>
                </a:lnTo>
                <a:lnTo>
                  <a:pt x="2170" y="886"/>
                </a:lnTo>
                <a:lnTo>
                  <a:pt x="2156" y="895"/>
                </a:lnTo>
                <a:lnTo>
                  <a:pt x="2144" y="905"/>
                </a:lnTo>
                <a:lnTo>
                  <a:pt x="2132" y="916"/>
                </a:lnTo>
                <a:lnTo>
                  <a:pt x="2119" y="928"/>
                </a:lnTo>
                <a:lnTo>
                  <a:pt x="2110" y="940"/>
                </a:lnTo>
                <a:lnTo>
                  <a:pt x="2100" y="954"/>
                </a:lnTo>
                <a:lnTo>
                  <a:pt x="2091" y="968"/>
                </a:lnTo>
                <a:lnTo>
                  <a:pt x="2083" y="985"/>
                </a:lnTo>
                <a:lnTo>
                  <a:pt x="2078" y="1000"/>
                </a:lnTo>
                <a:lnTo>
                  <a:pt x="2072" y="1018"/>
                </a:lnTo>
                <a:lnTo>
                  <a:pt x="2068" y="1036"/>
                </a:lnTo>
                <a:lnTo>
                  <a:pt x="2063" y="1061"/>
                </a:lnTo>
                <a:lnTo>
                  <a:pt x="2062" y="1085"/>
                </a:lnTo>
                <a:lnTo>
                  <a:pt x="2062" y="1110"/>
                </a:lnTo>
                <a:lnTo>
                  <a:pt x="2064" y="1134"/>
                </a:lnTo>
                <a:lnTo>
                  <a:pt x="2068" y="1158"/>
                </a:lnTo>
                <a:lnTo>
                  <a:pt x="2073" y="1181"/>
                </a:lnTo>
                <a:lnTo>
                  <a:pt x="2081" y="1204"/>
                </a:lnTo>
                <a:lnTo>
                  <a:pt x="2089" y="1226"/>
                </a:lnTo>
                <a:lnTo>
                  <a:pt x="2099" y="1248"/>
                </a:lnTo>
                <a:lnTo>
                  <a:pt x="2108" y="1269"/>
                </a:lnTo>
                <a:lnTo>
                  <a:pt x="2121" y="1289"/>
                </a:lnTo>
                <a:lnTo>
                  <a:pt x="2133" y="1310"/>
                </a:lnTo>
                <a:lnTo>
                  <a:pt x="2145" y="1328"/>
                </a:lnTo>
                <a:lnTo>
                  <a:pt x="2159" y="1347"/>
                </a:lnTo>
                <a:lnTo>
                  <a:pt x="2172" y="1365"/>
                </a:lnTo>
                <a:lnTo>
                  <a:pt x="2187" y="1381"/>
                </a:lnTo>
                <a:lnTo>
                  <a:pt x="2215" y="1413"/>
                </a:lnTo>
                <a:lnTo>
                  <a:pt x="2244" y="1442"/>
                </a:lnTo>
                <a:lnTo>
                  <a:pt x="2270" y="1466"/>
                </a:lnTo>
                <a:lnTo>
                  <a:pt x="2294" y="1487"/>
                </a:lnTo>
                <a:lnTo>
                  <a:pt x="2315" y="1503"/>
                </a:lnTo>
                <a:lnTo>
                  <a:pt x="2331" y="1515"/>
                </a:lnTo>
                <a:lnTo>
                  <a:pt x="2345" y="1525"/>
                </a:lnTo>
                <a:close/>
                <a:moveTo>
                  <a:pt x="5448" y="3187"/>
                </a:moveTo>
                <a:lnTo>
                  <a:pt x="5448" y="3187"/>
                </a:lnTo>
                <a:lnTo>
                  <a:pt x="5438" y="3142"/>
                </a:lnTo>
                <a:lnTo>
                  <a:pt x="5426" y="3098"/>
                </a:lnTo>
                <a:lnTo>
                  <a:pt x="5411" y="3057"/>
                </a:lnTo>
                <a:lnTo>
                  <a:pt x="5395" y="3015"/>
                </a:lnTo>
                <a:lnTo>
                  <a:pt x="5377" y="2974"/>
                </a:lnTo>
                <a:lnTo>
                  <a:pt x="5357" y="2934"/>
                </a:lnTo>
                <a:lnTo>
                  <a:pt x="5335" y="2897"/>
                </a:lnTo>
                <a:lnTo>
                  <a:pt x="5312" y="2860"/>
                </a:lnTo>
                <a:lnTo>
                  <a:pt x="5287" y="2824"/>
                </a:lnTo>
                <a:lnTo>
                  <a:pt x="5261" y="2790"/>
                </a:lnTo>
                <a:lnTo>
                  <a:pt x="5232" y="2758"/>
                </a:lnTo>
                <a:lnTo>
                  <a:pt x="5202" y="2728"/>
                </a:lnTo>
                <a:lnTo>
                  <a:pt x="5171" y="2698"/>
                </a:lnTo>
                <a:lnTo>
                  <a:pt x="5138" y="2669"/>
                </a:lnTo>
                <a:lnTo>
                  <a:pt x="5105" y="2643"/>
                </a:lnTo>
                <a:lnTo>
                  <a:pt x="5070" y="2619"/>
                </a:lnTo>
                <a:lnTo>
                  <a:pt x="5034" y="2596"/>
                </a:lnTo>
                <a:lnTo>
                  <a:pt x="4998" y="2574"/>
                </a:lnTo>
                <a:lnTo>
                  <a:pt x="4959" y="2555"/>
                </a:lnTo>
                <a:lnTo>
                  <a:pt x="4919" y="2537"/>
                </a:lnTo>
                <a:lnTo>
                  <a:pt x="4880" y="2521"/>
                </a:lnTo>
                <a:lnTo>
                  <a:pt x="4839" y="2506"/>
                </a:lnTo>
                <a:lnTo>
                  <a:pt x="4797" y="2495"/>
                </a:lnTo>
                <a:lnTo>
                  <a:pt x="4756" y="2486"/>
                </a:lnTo>
                <a:lnTo>
                  <a:pt x="4713" y="2477"/>
                </a:lnTo>
                <a:lnTo>
                  <a:pt x="4670" y="2471"/>
                </a:lnTo>
                <a:lnTo>
                  <a:pt x="4626" y="2468"/>
                </a:lnTo>
                <a:lnTo>
                  <a:pt x="4581" y="2466"/>
                </a:lnTo>
                <a:lnTo>
                  <a:pt x="4537" y="2467"/>
                </a:lnTo>
                <a:lnTo>
                  <a:pt x="4492" y="2470"/>
                </a:lnTo>
                <a:lnTo>
                  <a:pt x="4446" y="2476"/>
                </a:lnTo>
                <a:lnTo>
                  <a:pt x="4401" y="2483"/>
                </a:lnTo>
                <a:lnTo>
                  <a:pt x="4373" y="2489"/>
                </a:lnTo>
                <a:lnTo>
                  <a:pt x="4344" y="2495"/>
                </a:lnTo>
                <a:lnTo>
                  <a:pt x="4317" y="2503"/>
                </a:lnTo>
                <a:lnTo>
                  <a:pt x="4289" y="2512"/>
                </a:lnTo>
                <a:lnTo>
                  <a:pt x="4263" y="2522"/>
                </a:lnTo>
                <a:lnTo>
                  <a:pt x="4236" y="2532"/>
                </a:lnTo>
                <a:lnTo>
                  <a:pt x="4210" y="2543"/>
                </a:lnTo>
                <a:lnTo>
                  <a:pt x="4185" y="2555"/>
                </a:lnTo>
                <a:lnTo>
                  <a:pt x="4159" y="2567"/>
                </a:lnTo>
                <a:lnTo>
                  <a:pt x="4135" y="2580"/>
                </a:lnTo>
                <a:lnTo>
                  <a:pt x="4111" y="2594"/>
                </a:lnTo>
                <a:lnTo>
                  <a:pt x="4088" y="2609"/>
                </a:lnTo>
                <a:lnTo>
                  <a:pt x="4065" y="2624"/>
                </a:lnTo>
                <a:lnTo>
                  <a:pt x="4043" y="2641"/>
                </a:lnTo>
                <a:lnTo>
                  <a:pt x="4021" y="2657"/>
                </a:lnTo>
                <a:lnTo>
                  <a:pt x="3999" y="2675"/>
                </a:lnTo>
                <a:lnTo>
                  <a:pt x="3979" y="2692"/>
                </a:lnTo>
                <a:lnTo>
                  <a:pt x="3958" y="2711"/>
                </a:lnTo>
                <a:lnTo>
                  <a:pt x="3939" y="2730"/>
                </a:lnTo>
                <a:lnTo>
                  <a:pt x="3920" y="2750"/>
                </a:lnTo>
                <a:lnTo>
                  <a:pt x="3902" y="2769"/>
                </a:lnTo>
                <a:lnTo>
                  <a:pt x="3884" y="2790"/>
                </a:lnTo>
                <a:lnTo>
                  <a:pt x="3868" y="2812"/>
                </a:lnTo>
                <a:lnTo>
                  <a:pt x="3851" y="2833"/>
                </a:lnTo>
                <a:lnTo>
                  <a:pt x="3835" y="2856"/>
                </a:lnTo>
                <a:lnTo>
                  <a:pt x="3820" y="2878"/>
                </a:lnTo>
                <a:lnTo>
                  <a:pt x="3806" y="2901"/>
                </a:lnTo>
                <a:lnTo>
                  <a:pt x="3793" y="2926"/>
                </a:lnTo>
                <a:lnTo>
                  <a:pt x="3780" y="2949"/>
                </a:lnTo>
                <a:lnTo>
                  <a:pt x="3768" y="2974"/>
                </a:lnTo>
                <a:lnTo>
                  <a:pt x="3757" y="2998"/>
                </a:lnTo>
                <a:lnTo>
                  <a:pt x="3746" y="3024"/>
                </a:lnTo>
                <a:lnTo>
                  <a:pt x="3715" y="3006"/>
                </a:lnTo>
                <a:lnTo>
                  <a:pt x="3683" y="2991"/>
                </a:lnTo>
                <a:lnTo>
                  <a:pt x="3651" y="2975"/>
                </a:lnTo>
                <a:lnTo>
                  <a:pt x="3618" y="2962"/>
                </a:lnTo>
                <a:lnTo>
                  <a:pt x="3585" y="2950"/>
                </a:lnTo>
                <a:lnTo>
                  <a:pt x="3551" y="2940"/>
                </a:lnTo>
                <a:lnTo>
                  <a:pt x="3517" y="2931"/>
                </a:lnTo>
                <a:lnTo>
                  <a:pt x="3481" y="2925"/>
                </a:lnTo>
                <a:lnTo>
                  <a:pt x="3445" y="2918"/>
                </a:lnTo>
                <a:lnTo>
                  <a:pt x="3410" y="2915"/>
                </a:lnTo>
                <a:lnTo>
                  <a:pt x="3374" y="2912"/>
                </a:lnTo>
                <a:lnTo>
                  <a:pt x="3337" y="2911"/>
                </a:lnTo>
                <a:lnTo>
                  <a:pt x="3300" y="2912"/>
                </a:lnTo>
                <a:lnTo>
                  <a:pt x="3264" y="2915"/>
                </a:lnTo>
                <a:lnTo>
                  <a:pt x="3226" y="2920"/>
                </a:lnTo>
                <a:lnTo>
                  <a:pt x="3189" y="2926"/>
                </a:lnTo>
                <a:lnTo>
                  <a:pt x="3149" y="2934"/>
                </a:lnTo>
                <a:lnTo>
                  <a:pt x="3110" y="2945"/>
                </a:lnTo>
                <a:lnTo>
                  <a:pt x="3072" y="2958"/>
                </a:lnTo>
                <a:lnTo>
                  <a:pt x="3035" y="2972"/>
                </a:lnTo>
                <a:lnTo>
                  <a:pt x="2998" y="2988"/>
                </a:lnTo>
                <a:lnTo>
                  <a:pt x="2964" y="3006"/>
                </a:lnTo>
                <a:lnTo>
                  <a:pt x="2930" y="3026"/>
                </a:lnTo>
                <a:lnTo>
                  <a:pt x="2897" y="3047"/>
                </a:lnTo>
                <a:lnTo>
                  <a:pt x="2866" y="3069"/>
                </a:lnTo>
                <a:lnTo>
                  <a:pt x="2836" y="3092"/>
                </a:lnTo>
                <a:lnTo>
                  <a:pt x="2807" y="3117"/>
                </a:lnTo>
                <a:lnTo>
                  <a:pt x="2780" y="3143"/>
                </a:lnTo>
                <a:lnTo>
                  <a:pt x="2753" y="3171"/>
                </a:lnTo>
                <a:lnTo>
                  <a:pt x="2728" y="3201"/>
                </a:lnTo>
                <a:lnTo>
                  <a:pt x="2705" y="3230"/>
                </a:lnTo>
                <a:lnTo>
                  <a:pt x="2683" y="3261"/>
                </a:lnTo>
                <a:lnTo>
                  <a:pt x="2662" y="3293"/>
                </a:lnTo>
                <a:lnTo>
                  <a:pt x="2643" y="3326"/>
                </a:lnTo>
                <a:lnTo>
                  <a:pt x="2626" y="3360"/>
                </a:lnTo>
                <a:lnTo>
                  <a:pt x="2610" y="3395"/>
                </a:lnTo>
                <a:lnTo>
                  <a:pt x="2596" y="3431"/>
                </a:lnTo>
                <a:lnTo>
                  <a:pt x="2584" y="3467"/>
                </a:lnTo>
                <a:lnTo>
                  <a:pt x="2573" y="3503"/>
                </a:lnTo>
                <a:lnTo>
                  <a:pt x="2564" y="3542"/>
                </a:lnTo>
                <a:lnTo>
                  <a:pt x="2557" y="3579"/>
                </a:lnTo>
                <a:lnTo>
                  <a:pt x="2552" y="3618"/>
                </a:lnTo>
                <a:lnTo>
                  <a:pt x="2548" y="3657"/>
                </a:lnTo>
                <a:lnTo>
                  <a:pt x="2547" y="3696"/>
                </a:lnTo>
                <a:lnTo>
                  <a:pt x="2548" y="3735"/>
                </a:lnTo>
                <a:lnTo>
                  <a:pt x="2551" y="3776"/>
                </a:lnTo>
                <a:lnTo>
                  <a:pt x="2555" y="3816"/>
                </a:lnTo>
                <a:lnTo>
                  <a:pt x="2563" y="3856"/>
                </a:lnTo>
                <a:lnTo>
                  <a:pt x="2572" y="3900"/>
                </a:lnTo>
                <a:lnTo>
                  <a:pt x="2584" y="3944"/>
                </a:lnTo>
                <a:lnTo>
                  <a:pt x="2597" y="3987"/>
                </a:lnTo>
                <a:lnTo>
                  <a:pt x="2612" y="4029"/>
                </a:lnTo>
                <a:lnTo>
                  <a:pt x="2630" y="4070"/>
                </a:lnTo>
                <a:lnTo>
                  <a:pt x="2649" y="4110"/>
                </a:lnTo>
                <a:lnTo>
                  <a:pt x="2670" y="4149"/>
                </a:lnTo>
                <a:lnTo>
                  <a:pt x="2692" y="4189"/>
                </a:lnTo>
                <a:lnTo>
                  <a:pt x="2715" y="4226"/>
                </a:lnTo>
                <a:lnTo>
                  <a:pt x="2740" y="4262"/>
                </a:lnTo>
                <a:lnTo>
                  <a:pt x="2765" y="4299"/>
                </a:lnTo>
                <a:lnTo>
                  <a:pt x="2793" y="4334"/>
                </a:lnTo>
                <a:lnTo>
                  <a:pt x="2821" y="4369"/>
                </a:lnTo>
                <a:lnTo>
                  <a:pt x="2852" y="4403"/>
                </a:lnTo>
                <a:lnTo>
                  <a:pt x="2883" y="4436"/>
                </a:lnTo>
                <a:lnTo>
                  <a:pt x="2915" y="4468"/>
                </a:lnTo>
                <a:lnTo>
                  <a:pt x="2948" y="4499"/>
                </a:lnTo>
                <a:lnTo>
                  <a:pt x="2981" y="4530"/>
                </a:lnTo>
                <a:lnTo>
                  <a:pt x="3016" y="4559"/>
                </a:lnTo>
                <a:lnTo>
                  <a:pt x="3051" y="4589"/>
                </a:lnTo>
                <a:lnTo>
                  <a:pt x="3087" y="4618"/>
                </a:lnTo>
                <a:lnTo>
                  <a:pt x="3124" y="4645"/>
                </a:lnTo>
                <a:lnTo>
                  <a:pt x="3160" y="4672"/>
                </a:lnTo>
                <a:lnTo>
                  <a:pt x="3199" y="4698"/>
                </a:lnTo>
                <a:lnTo>
                  <a:pt x="3236" y="4723"/>
                </a:lnTo>
                <a:lnTo>
                  <a:pt x="3275" y="4747"/>
                </a:lnTo>
                <a:lnTo>
                  <a:pt x="3313" y="4772"/>
                </a:lnTo>
                <a:lnTo>
                  <a:pt x="3352" y="4795"/>
                </a:lnTo>
                <a:lnTo>
                  <a:pt x="3391" y="4818"/>
                </a:lnTo>
                <a:lnTo>
                  <a:pt x="3430" y="4839"/>
                </a:lnTo>
                <a:lnTo>
                  <a:pt x="3508" y="4881"/>
                </a:lnTo>
                <a:lnTo>
                  <a:pt x="3585" y="4919"/>
                </a:lnTo>
                <a:lnTo>
                  <a:pt x="3661" y="4955"/>
                </a:lnTo>
                <a:lnTo>
                  <a:pt x="3736" y="4988"/>
                </a:lnTo>
                <a:lnTo>
                  <a:pt x="3808" y="5018"/>
                </a:lnTo>
                <a:lnTo>
                  <a:pt x="3878" y="5047"/>
                </a:lnTo>
                <a:lnTo>
                  <a:pt x="3945" y="5071"/>
                </a:lnTo>
                <a:lnTo>
                  <a:pt x="4007" y="5094"/>
                </a:lnTo>
                <a:lnTo>
                  <a:pt x="4066" y="5114"/>
                </a:lnTo>
                <a:lnTo>
                  <a:pt x="4120" y="5131"/>
                </a:lnTo>
                <a:lnTo>
                  <a:pt x="4167" y="5147"/>
                </a:lnTo>
                <a:lnTo>
                  <a:pt x="4245" y="5169"/>
                </a:lnTo>
                <a:lnTo>
                  <a:pt x="4296" y="5183"/>
                </a:lnTo>
                <a:lnTo>
                  <a:pt x="4313" y="5188"/>
                </a:lnTo>
                <a:lnTo>
                  <a:pt x="4328" y="5177"/>
                </a:lnTo>
                <a:lnTo>
                  <a:pt x="4370" y="5147"/>
                </a:lnTo>
                <a:lnTo>
                  <a:pt x="4436" y="5097"/>
                </a:lnTo>
                <a:lnTo>
                  <a:pt x="4476" y="5065"/>
                </a:lnTo>
                <a:lnTo>
                  <a:pt x="4520" y="5030"/>
                </a:lnTo>
                <a:lnTo>
                  <a:pt x="4569" y="4989"/>
                </a:lnTo>
                <a:lnTo>
                  <a:pt x="4619" y="4945"/>
                </a:lnTo>
                <a:lnTo>
                  <a:pt x="4673" y="4897"/>
                </a:lnTo>
                <a:lnTo>
                  <a:pt x="4728" y="4845"/>
                </a:lnTo>
                <a:lnTo>
                  <a:pt x="4785" y="4789"/>
                </a:lnTo>
                <a:lnTo>
                  <a:pt x="4844" y="4730"/>
                </a:lnTo>
                <a:lnTo>
                  <a:pt x="4902" y="4667"/>
                </a:lnTo>
                <a:lnTo>
                  <a:pt x="4961" y="4601"/>
                </a:lnTo>
                <a:lnTo>
                  <a:pt x="4990" y="4566"/>
                </a:lnTo>
                <a:lnTo>
                  <a:pt x="5019" y="4531"/>
                </a:lnTo>
                <a:lnTo>
                  <a:pt x="5047" y="4496"/>
                </a:lnTo>
                <a:lnTo>
                  <a:pt x="5076" y="4458"/>
                </a:lnTo>
                <a:lnTo>
                  <a:pt x="5103" y="4421"/>
                </a:lnTo>
                <a:lnTo>
                  <a:pt x="5131" y="4383"/>
                </a:lnTo>
                <a:lnTo>
                  <a:pt x="5157" y="4344"/>
                </a:lnTo>
                <a:lnTo>
                  <a:pt x="5184" y="4304"/>
                </a:lnTo>
                <a:lnTo>
                  <a:pt x="5209" y="4264"/>
                </a:lnTo>
                <a:lnTo>
                  <a:pt x="5233" y="4224"/>
                </a:lnTo>
                <a:lnTo>
                  <a:pt x="5257" y="4182"/>
                </a:lnTo>
                <a:lnTo>
                  <a:pt x="5279" y="4139"/>
                </a:lnTo>
                <a:lnTo>
                  <a:pt x="5301" y="4097"/>
                </a:lnTo>
                <a:lnTo>
                  <a:pt x="5322" y="4053"/>
                </a:lnTo>
                <a:lnTo>
                  <a:pt x="5342" y="4009"/>
                </a:lnTo>
                <a:lnTo>
                  <a:pt x="5361" y="3965"/>
                </a:lnTo>
                <a:lnTo>
                  <a:pt x="5378" y="3920"/>
                </a:lnTo>
                <a:lnTo>
                  <a:pt x="5395" y="3874"/>
                </a:lnTo>
                <a:lnTo>
                  <a:pt x="5409" y="3828"/>
                </a:lnTo>
                <a:lnTo>
                  <a:pt x="5422" y="3782"/>
                </a:lnTo>
                <a:lnTo>
                  <a:pt x="5434" y="3734"/>
                </a:lnTo>
                <a:lnTo>
                  <a:pt x="5445" y="3687"/>
                </a:lnTo>
                <a:lnTo>
                  <a:pt x="5453" y="3639"/>
                </a:lnTo>
                <a:lnTo>
                  <a:pt x="5461" y="3590"/>
                </a:lnTo>
                <a:lnTo>
                  <a:pt x="5466" y="3541"/>
                </a:lnTo>
                <a:lnTo>
                  <a:pt x="5470" y="3491"/>
                </a:lnTo>
                <a:lnTo>
                  <a:pt x="5471" y="3442"/>
                </a:lnTo>
                <a:lnTo>
                  <a:pt x="5471" y="3391"/>
                </a:lnTo>
                <a:lnTo>
                  <a:pt x="5467" y="3341"/>
                </a:lnTo>
                <a:lnTo>
                  <a:pt x="5463" y="3290"/>
                </a:lnTo>
                <a:lnTo>
                  <a:pt x="5456" y="3239"/>
                </a:lnTo>
                <a:lnTo>
                  <a:pt x="5448" y="31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KSO_Shape"/>
          <p:cNvSpPr/>
          <p:nvPr/>
        </p:nvSpPr>
        <p:spPr>
          <a:xfrm>
            <a:off x="4873680" y="5187960"/>
            <a:ext cx="1301760" cy="1044720"/>
          </a:xfrm>
          <a:custGeom>
            <a:avLst/>
            <a:gdLst/>
            <a:ahLst/>
            <a:rect l="l" t="t" r="r" b="b"/>
            <a:pathLst>
              <a:path w="1565275" h="1217613">
                <a:moveTo>
                  <a:pt x="781977" y="392112"/>
                </a:moveTo>
                <a:lnTo>
                  <a:pt x="796787" y="392377"/>
                </a:lnTo>
                <a:lnTo>
                  <a:pt x="811332" y="393699"/>
                </a:lnTo>
                <a:lnTo>
                  <a:pt x="825878" y="395550"/>
                </a:lnTo>
                <a:lnTo>
                  <a:pt x="840159" y="397930"/>
                </a:lnTo>
                <a:lnTo>
                  <a:pt x="854175" y="401104"/>
                </a:lnTo>
                <a:lnTo>
                  <a:pt x="867663" y="405071"/>
                </a:lnTo>
                <a:lnTo>
                  <a:pt x="881150" y="409302"/>
                </a:lnTo>
                <a:lnTo>
                  <a:pt x="894109" y="414856"/>
                </a:lnTo>
                <a:lnTo>
                  <a:pt x="907068" y="420410"/>
                </a:lnTo>
                <a:lnTo>
                  <a:pt x="919233" y="426757"/>
                </a:lnTo>
                <a:lnTo>
                  <a:pt x="931398" y="433897"/>
                </a:lnTo>
                <a:lnTo>
                  <a:pt x="943034" y="441302"/>
                </a:lnTo>
                <a:lnTo>
                  <a:pt x="954142" y="449236"/>
                </a:lnTo>
                <a:lnTo>
                  <a:pt x="965249" y="457963"/>
                </a:lnTo>
                <a:lnTo>
                  <a:pt x="975563" y="466955"/>
                </a:lnTo>
                <a:lnTo>
                  <a:pt x="985613" y="476476"/>
                </a:lnTo>
                <a:lnTo>
                  <a:pt x="995398" y="486261"/>
                </a:lnTo>
                <a:lnTo>
                  <a:pt x="1004125" y="496839"/>
                </a:lnTo>
                <a:lnTo>
                  <a:pt x="1012852" y="507947"/>
                </a:lnTo>
                <a:lnTo>
                  <a:pt x="1020522" y="519054"/>
                </a:lnTo>
                <a:lnTo>
                  <a:pt x="1028191" y="530690"/>
                </a:lnTo>
                <a:lnTo>
                  <a:pt x="1035332" y="542591"/>
                </a:lnTo>
                <a:lnTo>
                  <a:pt x="1041679" y="555021"/>
                </a:lnTo>
                <a:lnTo>
                  <a:pt x="1047232" y="567979"/>
                </a:lnTo>
                <a:lnTo>
                  <a:pt x="1052522" y="580938"/>
                </a:lnTo>
                <a:lnTo>
                  <a:pt x="1057018" y="594426"/>
                </a:lnTo>
                <a:lnTo>
                  <a:pt x="1060985" y="608178"/>
                </a:lnTo>
                <a:lnTo>
                  <a:pt x="1064158" y="622194"/>
                </a:lnTo>
                <a:lnTo>
                  <a:pt x="1066538" y="636211"/>
                </a:lnTo>
                <a:lnTo>
                  <a:pt x="1068389" y="650756"/>
                </a:lnTo>
                <a:lnTo>
                  <a:pt x="1069712" y="665302"/>
                </a:lnTo>
                <a:lnTo>
                  <a:pt x="1069976" y="680111"/>
                </a:lnTo>
                <a:lnTo>
                  <a:pt x="1069712" y="694921"/>
                </a:lnTo>
                <a:lnTo>
                  <a:pt x="1068389" y="709467"/>
                </a:lnTo>
                <a:lnTo>
                  <a:pt x="1066538" y="723748"/>
                </a:lnTo>
                <a:lnTo>
                  <a:pt x="1064158" y="738029"/>
                </a:lnTo>
                <a:lnTo>
                  <a:pt x="1060985" y="752045"/>
                </a:lnTo>
                <a:lnTo>
                  <a:pt x="1057018" y="765533"/>
                </a:lnTo>
                <a:lnTo>
                  <a:pt x="1052522" y="779285"/>
                </a:lnTo>
                <a:lnTo>
                  <a:pt x="1047232" y="792243"/>
                </a:lnTo>
                <a:lnTo>
                  <a:pt x="1041679" y="804938"/>
                </a:lnTo>
                <a:lnTo>
                  <a:pt x="1035332" y="817632"/>
                </a:lnTo>
                <a:lnTo>
                  <a:pt x="1028191" y="829533"/>
                </a:lnTo>
                <a:lnTo>
                  <a:pt x="1020522" y="841169"/>
                </a:lnTo>
                <a:lnTo>
                  <a:pt x="1012852" y="852276"/>
                </a:lnTo>
                <a:lnTo>
                  <a:pt x="1004125" y="863384"/>
                </a:lnTo>
                <a:lnTo>
                  <a:pt x="995398" y="873962"/>
                </a:lnTo>
                <a:lnTo>
                  <a:pt x="985613" y="883747"/>
                </a:lnTo>
                <a:lnTo>
                  <a:pt x="975563" y="893268"/>
                </a:lnTo>
                <a:lnTo>
                  <a:pt x="965249" y="902524"/>
                </a:lnTo>
                <a:lnTo>
                  <a:pt x="954142" y="910987"/>
                </a:lnTo>
                <a:lnTo>
                  <a:pt x="943034" y="918921"/>
                </a:lnTo>
                <a:lnTo>
                  <a:pt x="931398" y="926590"/>
                </a:lnTo>
                <a:lnTo>
                  <a:pt x="919233" y="933466"/>
                </a:lnTo>
                <a:lnTo>
                  <a:pt x="907068" y="939813"/>
                </a:lnTo>
                <a:lnTo>
                  <a:pt x="894109" y="945367"/>
                </a:lnTo>
                <a:lnTo>
                  <a:pt x="881150" y="950921"/>
                </a:lnTo>
                <a:lnTo>
                  <a:pt x="867663" y="955152"/>
                </a:lnTo>
                <a:lnTo>
                  <a:pt x="854175" y="959119"/>
                </a:lnTo>
                <a:lnTo>
                  <a:pt x="840159" y="962293"/>
                </a:lnTo>
                <a:lnTo>
                  <a:pt x="825878" y="964673"/>
                </a:lnTo>
                <a:lnTo>
                  <a:pt x="811332" y="966788"/>
                </a:lnTo>
                <a:lnTo>
                  <a:pt x="796787" y="967846"/>
                </a:lnTo>
                <a:lnTo>
                  <a:pt x="781977" y="968375"/>
                </a:lnTo>
                <a:lnTo>
                  <a:pt x="767432" y="967846"/>
                </a:lnTo>
                <a:lnTo>
                  <a:pt x="752357" y="966788"/>
                </a:lnTo>
                <a:lnTo>
                  <a:pt x="738341" y="964673"/>
                </a:lnTo>
                <a:lnTo>
                  <a:pt x="724060" y="962293"/>
                </a:lnTo>
                <a:lnTo>
                  <a:pt x="710043" y="959119"/>
                </a:lnTo>
                <a:lnTo>
                  <a:pt x="696556" y="955152"/>
                </a:lnTo>
                <a:lnTo>
                  <a:pt x="682804" y="950921"/>
                </a:lnTo>
                <a:lnTo>
                  <a:pt x="669845" y="945367"/>
                </a:lnTo>
                <a:lnTo>
                  <a:pt x="657151" y="939813"/>
                </a:lnTo>
                <a:lnTo>
                  <a:pt x="644721" y="933466"/>
                </a:lnTo>
                <a:lnTo>
                  <a:pt x="632556" y="926590"/>
                </a:lnTo>
                <a:lnTo>
                  <a:pt x="621184" y="918921"/>
                </a:lnTo>
                <a:lnTo>
                  <a:pt x="609812" y="910987"/>
                </a:lnTo>
                <a:lnTo>
                  <a:pt x="598969" y="902524"/>
                </a:lnTo>
                <a:lnTo>
                  <a:pt x="588126" y="893268"/>
                </a:lnTo>
                <a:lnTo>
                  <a:pt x="578341" y="883747"/>
                </a:lnTo>
                <a:lnTo>
                  <a:pt x="568820" y="873962"/>
                </a:lnTo>
                <a:lnTo>
                  <a:pt x="559564" y="863384"/>
                </a:lnTo>
                <a:lnTo>
                  <a:pt x="551102" y="852276"/>
                </a:lnTo>
                <a:lnTo>
                  <a:pt x="543168" y="841169"/>
                </a:lnTo>
                <a:lnTo>
                  <a:pt x="535498" y="829533"/>
                </a:lnTo>
                <a:lnTo>
                  <a:pt x="528622" y="817632"/>
                </a:lnTo>
                <a:lnTo>
                  <a:pt x="522275" y="804938"/>
                </a:lnTo>
                <a:lnTo>
                  <a:pt x="516721" y="792243"/>
                </a:lnTo>
                <a:lnTo>
                  <a:pt x="511432" y="779285"/>
                </a:lnTo>
                <a:lnTo>
                  <a:pt x="506672" y="765533"/>
                </a:lnTo>
                <a:lnTo>
                  <a:pt x="502969" y="752045"/>
                </a:lnTo>
                <a:lnTo>
                  <a:pt x="499796" y="738029"/>
                </a:lnTo>
                <a:lnTo>
                  <a:pt x="497416" y="723748"/>
                </a:lnTo>
                <a:lnTo>
                  <a:pt x="495300" y="709467"/>
                </a:lnTo>
                <a:lnTo>
                  <a:pt x="494242" y="694921"/>
                </a:lnTo>
                <a:lnTo>
                  <a:pt x="493713" y="680111"/>
                </a:lnTo>
                <a:lnTo>
                  <a:pt x="494242" y="665302"/>
                </a:lnTo>
                <a:lnTo>
                  <a:pt x="495300" y="650756"/>
                </a:lnTo>
                <a:lnTo>
                  <a:pt x="497416" y="636211"/>
                </a:lnTo>
                <a:lnTo>
                  <a:pt x="499796" y="622194"/>
                </a:lnTo>
                <a:lnTo>
                  <a:pt x="502969" y="608178"/>
                </a:lnTo>
                <a:lnTo>
                  <a:pt x="506672" y="594426"/>
                </a:lnTo>
                <a:lnTo>
                  <a:pt x="511432" y="580938"/>
                </a:lnTo>
                <a:lnTo>
                  <a:pt x="516721" y="567979"/>
                </a:lnTo>
                <a:lnTo>
                  <a:pt x="522275" y="555021"/>
                </a:lnTo>
                <a:lnTo>
                  <a:pt x="528622" y="542591"/>
                </a:lnTo>
                <a:lnTo>
                  <a:pt x="535498" y="530690"/>
                </a:lnTo>
                <a:lnTo>
                  <a:pt x="543168" y="519054"/>
                </a:lnTo>
                <a:lnTo>
                  <a:pt x="551102" y="507947"/>
                </a:lnTo>
                <a:lnTo>
                  <a:pt x="559564" y="496839"/>
                </a:lnTo>
                <a:lnTo>
                  <a:pt x="568820" y="486261"/>
                </a:lnTo>
                <a:lnTo>
                  <a:pt x="578341" y="476476"/>
                </a:lnTo>
                <a:lnTo>
                  <a:pt x="588126" y="466955"/>
                </a:lnTo>
                <a:lnTo>
                  <a:pt x="598969" y="457963"/>
                </a:lnTo>
                <a:lnTo>
                  <a:pt x="609812" y="449236"/>
                </a:lnTo>
                <a:lnTo>
                  <a:pt x="621184" y="441302"/>
                </a:lnTo>
                <a:lnTo>
                  <a:pt x="632556" y="433897"/>
                </a:lnTo>
                <a:lnTo>
                  <a:pt x="644721" y="426757"/>
                </a:lnTo>
                <a:lnTo>
                  <a:pt x="657151" y="420410"/>
                </a:lnTo>
                <a:lnTo>
                  <a:pt x="669845" y="414856"/>
                </a:lnTo>
                <a:lnTo>
                  <a:pt x="682804" y="409302"/>
                </a:lnTo>
                <a:lnTo>
                  <a:pt x="696556" y="405071"/>
                </a:lnTo>
                <a:lnTo>
                  <a:pt x="710043" y="401104"/>
                </a:lnTo>
                <a:lnTo>
                  <a:pt x="724060" y="397930"/>
                </a:lnTo>
                <a:lnTo>
                  <a:pt x="738341" y="395550"/>
                </a:lnTo>
                <a:lnTo>
                  <a:pt x="752357" y="393699"/>
                </a:lnTo>
                <a:lnTo>
                  <a:pt x="767432" y="392377"/>
                </a:lnTo>
                <a:lnTo>
                  <a:pt x="781977" y="392112"/>
                </a:lnTo>
                <a:close/>
                <a:moveTo>
                  <a:pt x="781977" y="259179"/>
                </a:moveTo>
                <a:lnTo>
                  <a:pt x="771134" y="259444"/>
                </a:lnTo>
                <a:lnTo>
                  <a:pt x="760292" y="259708"/>
                </a:lnTo>
                <a:lnTo>
                  <a:pt x="749714" y="260502"/>
                </a:lnTo>
                <a:lnTo>
                  <a:pt x="738871" y="261295"/>
                </a:lnTo>
                <a:lnTo>
                  <a:pt x="728293" y="262617"/>
                </a:lnTo>
                <a:lnTo>
                  <a:pt x="717980" y="264204"/>
                </a:lnTo>
                <a:lnTo>
                  <a:pt x="707402" y="265791"/>
                </a:lnTo>
                <a:lnTo>
                  <a:pt x="697088" y="267642"/>
                </a:lnTo>
                <a:lnTo>
                  <a:pt x="687039" y="270287"/>
                </a:lnTo>
                <a:lnTo>
                  <a:pt x="676726" y="272403"/>
                </a:lnTo>
                <a:lnTo>
                  <a:pt x="666677" y="275312"/>
                </a:lnTo>
                <a:lnTo>
                  <a:pt x="656892" y="278221"/>
                </a:lnTo>
                <a:lnTo>
                  <a:pt x="647107" y="281395"/>
                </a:lnTo>
                <a:lnTo>
                  <a:pt x="637323" y="284833"/>
                </a:lnTo>
                <a:lnTo>
                  <a:pt x="627803" y="288535"/>
                </a:lnTo>
                <a:lnTo>
                  <a:pt x="618283" y="292238"/>
                </a:lnTo>
                <a:lnTo>
                  <a:pt x="608762" y="296469"/>
                </a:lnTo>
                <a:lnTo>
                  <a:pt x="599507" y="300965"/>
                </a:lnTo>
                <a:lnTo>
                  <a:pt x="590515" y="305461"/>
                </a:lnTo>
                <a:lnTo>
                  <a:pt x="581524" y="310222"/>
                </a:lnTo>
                <a:lnTo>
                  <a:pt x="572268" y="315247"/>
                </a:lnTo>
                <a:lnTo>
                  <a:pt x="563806" y="320272"/>
                </a:lnTo>
                <a:lnTo>
                  <a:pt x="555344" y="325561"/>
                </a:lnTo>
                <a:lnTo>
                  <a:pt x="546617" y="331379"/>
                </a:lnTo>
                <a:lnTo>
                  <a:pt x="538419" y="336933"/>
                </a:lnTo>
                <a:lnTo>
                  <a:pt x="530221" y="343016"/>
                </a:lnTo>
                <a:lnTo>
                  <a:pt x="522023" y="349099"/>
                </a:lnTo>
                <a:lnTo>
                  <a:pt x="514354" y="355446"/>
                </a:lnTo>
                <a:lnTo>
                  <a:pt x="506421" y="362058"/>
                </a:lnTo>
                <a:lnTo>
                  <a:pt x="499016" y="368669"/>
                </a:lnTo>
                <a:lnTo>
                  <a:pt x="491611" y="375545"/>
                </a:lnTo>
                <a:lnTo>
                  <a:pt x="484207" y="382686"/>
                </a:lnTo>
                <a:lnTo>
                  <a:pt x="477331" y="389827"/>
                </a:lnTo>
                <a:lnTo>
                  <a:pt x="470455" y="397232"/>
                </a:lnTo>
                <a:lnTo>
                  <a:pt x="463844" y="404901"/>
                </a:lnTo>
                <a:lnTo>
                  <a:pt x="457233" y="412307"/>
                </a:lnTo>
                <a:lnTo>
                  <a:pt x="450886" y="420241"/>
                </a:lnTo>
                <a:lnTo>
                  <a:pt x="444804" y="428439"/>
                </a:lnTo>
                <a:lnTo>
                  <a:pt x="438722" y="436373"/>
                </a:lnTo>
                <a:lnTo>
                  <a:pt x="433168" y="445101"/>
                </a:lnTo>
                <a:lnTo>
                  <a:pt x="427350" y="453299"/>
                </a:lnTo>
                <a:lnTo>
                  <a:pt x="422061" y="462027"/>
                </a:lnTo>
                <a:lnTo>
                  <a:pt x="416772" y="470754"/>
                </a:lnTo>
                <a:lnTo>
                  <a:pt x="411748" y="479482"/>
                </a:lnTo>
                <a:lnTo>
                  <a:pt x="406988" y="488738"/>
                </a:lnTo>
                <a:lnTo>
                  <a:pt x="402756" y="497730"/>
                </a:lnTo>
                <a:lnTo>
                  <a:pt x="398261" y="506986"/>
                </a:lnTo>
                <a:lnTo>
                  <a:pt x="394030" y="516243"/>
                </a:lnTo>
                <a:lnTo>
                  <a:pt x="390327" y="525764"/>
                </a:lnTo>
                <a:lnTo>
                  <a:pt x="386889" y="535549"/>
                </a:lnTo>
                <a:lnTo>
                  <a:pt x="383452" y="545334"/>
                </a:lnTo>
                <a:lnTo>
                  <a:pt x="380278" y="555120"/>
                </a:lnTo>
                <a:lnTo>
                  <a:pt x="377105" y="564905"/>
                </a:lnTo>
                <a:lnTo>
                  <a:pt x="374460" y="575219"/>
                </a:lnTo>
                <a:lnTo>
                  <a:pt x="371816" y="585269"/>
                </a:lnTo>
                <a:lnTo>
                  <a:pt x="369700" y="595319"/>
                </a:lnTo>
                <a:lnTo>
                  <a:pt x="367849" y="605898"/>
                </a:lnTo>
                <a:lnTo>
                  <a:pt x="365998" y="615947"/>
                </a:lnTo>
                <a:lnTo>
                  <a:pt x="364676" y="626791"/>
                </a:lnTo>
                <a:lnTo>
                  <a:pt x="363353" y="637105"/>
                </a:lnTo>
                <a:lnTo>
                  <a:pt x="362560" y="647948"/>
                </a:lnTo>
                <a:lnTo>
                  <a:pt x="361767" y="658791"/>
                </a:lnTo>
                <a:lnTo>
                  <a:pt x="361238" y="669370"/>
                </a:lnTo>
                <a:lnTo>
                  <a:pt x="361238" y="680213"/>
                </a:lnTo>
                <a:lnTo>
                  <a:pt x="361238" y="691056"/>
                </a:lnTo>
                <a:lnTo>
                  <a:pt x="361767" y="701900"/>
                </a:lnTo>
                <a:lnTo>
                  <a:pt x="362560" y="712478"/>
                </a:lnTo>
                <a:lnTo>
                  <a:pt x="363353" y="723322"/>
                </a:lnTo>
                <a:lnTo>
                  <a:pt x="364676" y="733636"/>
                </a:lnTo>
                <a:lnTo>
                  <a:pt x="365998" y="744215"/>
                </a:lnTo>
                <a:lnTo>
                  <a:pt x="367849" y="754529"/>
                </a:lnTo>
                <a:lnTo>
                  <a:pt x="369700" y="765108"/>
                </a:lnTo>
                <a:lnTo>
                  <a:pt x="371816" y="775157"/>
                </a:lnTo>
                <a:lnTo>
                  <a:pt x="374460" y="785472"/>
                </a:lnTo>
                <a:lnTo>
                  <a:pt x="377105" y="795521"/>
                </a:lnTo>
                <a:lnTo>
                  <a:pt x="380278" y="805307"/>
                </a:lnTo>
                <a:lnTo>
                  <a:pt x="383452" y="815092"/>
                </a:lnTo>
                <a:lnTo>
                  <a:pt x="386889" y="824877"/>
                </a:lnTo>
                <a:lnTo>
                  <a:pt x="390327" y="834398"/>
                </a:lnTo>
                <a:lnTo>
                  <a:pt x="394030" y="843919"/>
                </a:lnTo>
                <a:lnTo>
                  <a:pt x="398261" y="853440"/>
                </a:lnTo>
                <a:lnTo>
                  <a:pt x="402756" y="862696"/>
                </a:lnTo>
                <a:lnTo>
                  <a:pt x="406988" y="871688"/>
                </a:lnTo>
                <a:lnTo>
                  <a:pt x="411748" y="880680"/>
                </a:lnTo>
                <a:lnTo>
                  <a:pt x="416772" y="889408"/>
                </a:lnTo>
                <a:lnTo>
                  <a:pt x="422061" y="898400"/>
                </a:lnTo>
                <a:lnTo>
                  <a:pt x="427350" y="906863"/>
                </a:lnTo>
                <a:lnTo>
                  <a:pt x="433168" y="915590"/>
                </a:lnTo>
                <a:lnTo>
                  <a:pt x="438722" y="923789"/>
                </a:lnTo>
                <a:lnTo>
                  <a:pt x="444804" y="931987"/>
                </a:lnTo>
                <a:lnTo>
                  <a:pt x="450886" y="940186"/>
                </a:lnTo>
                <a:lnTo>
                  <a:pt x="457233" y="947855"/>
                </a:lnTo>
                <a:lnTo>
                  <a:pt x="463844" y="955789"/>
                </a:lnTo>
                <a:lnTo>
                  <a:pt x="470455" y="963194"/>
                </a:lnTo>
                <a:lnTo>
                  <a:pt x="477331" y="970600"/>
                </a:lnTo>
                <a:lnTo>
                  <a:pt x="484207" y="977740"/>
                </a:lnTo>
                <a:lnTo>
                  <a:pt x="491611" y="984881"/>
                </a:lnTo>
                <a:lnTo>
                  <a:pt x="499016" y="991757"/>
                </a:lnTo>
                <a:lnTo>
                  <a:pt x="506421" y="998369"/>
                </a:lnTo>
                <a:lnTo>
                  <a:pt x="514354" y="1004980"/>
                </a:lnTo>
                <a:lnTo>
                  <a:pt x="522023" y="1011328"/>
                </a:lnTo>
                <a:lnTo>
                  <a:pt x="530221" y="1017410"/>
                </a:lnTo>
                <a:lnTo>
                  <a:pt x="538419" y="1023493"/>
                </a:lnTo>
                <a:lnTo>
                  <a:pt x="546617" y="1029047"/>
                </a:lnTo>
                <a:lnTo>
                  <a:pt x="555344" y="1034865"/>
                </a:lnTo>
                <a:lnTo>
                  <a:pt x="563806" y="1040155"/>
                </a:lnTo>
                <a:lnTo>
                  <a:pt x="572268" y="1045180"/>
                </a:lnTo>
                <a:lnTo>
                  <a:pt x="581524" y="1050469"/>
                </a:lnTo>
                <a:lnTo>
                  <a:pt x="590515" y="1055230"/>
                </a:lnTo>
                <a:lnTo>
                  <a:pt x="599507" y="1059461"/>
                </a:lnTo>
                <a:lnTo>
                  <a:pt x="608762" y="1063957"/>
                </a:lnTo>
                <a:lnTo>
                  <a:pt x="618283" y="1068188"/>
                </a:lnTo>
                <a:lnTo>
                  <a:pt x="627803" y="1071891"/>
                </a:lnTo>
                <a:lnTo>
                  <a:pt x="637323" y="1075329"/>
                </a:lnTo>
                <a:lnTo>
                  <a:pt x="647107" y="1078767"/>
                </a:lnTo>
                <a:lnTo>
                  <a:pt x="656892" y="1081941"/>
                </a:lnTo>
                <a:lnTo>
                  <a:pt x="666677" y="1085114"/>
                </a:lnTo>
                <a:lnTo>
                  <a:pt x="676726" y="1087759"/>
                </a:lnTo>
                <a:lnTo>
                  <a:pt x="687039" y="1090404"/>
                </a:lnTo>
                <a:lnTo>
                  <a:pt x="697088" y="1092520"/>
                </a:lnTo>
                <a:lnTo>
                  <a:pt x="707402" y="1094371"/>
                </a:lnTo>
                <a:lnTo>
                  <a:pt x="717980" y="1096222"/>
                </a:lnTo>
                <a:lnTo>
                  <a:pt x="728293" y="1097544"/>
                </a:lnTo>
                <a:lnTo>
                  <a:pt x="738871" y="1098867"/>
                </a:lnTo>
                <a:lnTo>
                  <a:pt x="749714" y="1099660"/>
                </a:lnTo>
                <a:lnTo>
                  <a:pt x="760292" y="1100454"/>
                </a:lnTo>
                <a:lnTo>
                  <a:pt x="771134" y="1100983"/>
                </a:lnTo>
                <a:lnTo>
                  <a:pt x="781977" y="1100983"/>
                </a:lnTo>
                <a:lnTo>
                  <a:pt x="793083" y="1100983"/>
                </a:lnTo>
                <a:lnTo>
                  <a:pt x="803661" y="1100454"/>
                </a:lnTo>
                <a:lnTo>
                  <a:pt x="814504" y="1099660"/>
                </a:lnTo>
                <a:lnTo>
                  <a:pt x="825082" y="1098867"/>
                </a:lnTo>
                <a:lnTo>
                  <a:pt x="835660" y="1097544"/>
                </a:lnTo>
                <a:lnTo>
                  <a:pt x="846238" y="1096222"/>
                </a:lnTo>
                <a:lnTo>
                  <a:pt x="856551" y="1094371"/>
                </a:lnTo>
                <a:lnTo>
                  <a:pt x="866865" y="1092520"/>
                </a:lnTo>
                <a:lnTo>
                  <a:pt x="876914" y="1090404"/>
                </a:lnTo>
                <a:lnTo>
                  <a:pt x="886963" y="1087759"/>
                </a:lnTo>
                <a:lnTo>
                  <a:pt x="897276" y="1085114"/>
                </a:lnTo>
                <a:lnTo>
                  <a:pt x="907326" y="1081941"/>
                </a:lnTo>
                <a:lnTo>
                  <a:pt x="917110" y="1078767"/>
                </a:lnTo>
                <a:lnTo>
                  <a:pt x="926630" y="1075329"/>
                </a:lnTo>
                <a:lnTo>
                  <a:pt x="936415" y="1071891"/>
                </a:lnTo>
                <a:lnTo>
                  <a:pt x="945935" y="1068188"/>
                </a:lnTo>
                <a:lnTo>
                  <a:pt x="955191" y="1063957"/>
                </a:lnTo>
                <a:lnTo>
                  <a:pt x="964711" y="1059461"/>
                </a:lnTo>
                <a:lnTo>
                  <a:pt x="973438" y="1055230"/>
                </a:lnTo>
                <a:lnTo>
                  <a:pt x="982694" y="1050469"/>
                </a:lnTo>
                <a:lnTo>
                  <a:pt x="991420" y="1045180"/>
                </a:lnTo>
                <a:lnTo>
                  <a:pt x="1000412" y="1040155"/>
                </a:lnTo>
                <a:lnTo>
                  <a:pt x="1008874" y="1034865"/>
                </a:lnTo>
                <a:lnTo>
                  <a:pt x="1017072" y="1029047"/>
                </a:lnTo>
                <a:lnTo>
                  <a:pt x="1025799" y="1023493"/>
                </a:lnTo>
                <a:lnTo>
                  <a:pt x="1033997" y="1017410"/>
                </a:lnTo>
                <a:lnTo>
                  <a:pt x="1041930" y="1011328"/>
                </a:lnTo>
                <a:lnTo>
                  <a:pt x="1049864" y="1004980"/>
                </a:lnTo>
                <a:lnTo>
                  <a:pt x="1057268" y="998369"/>
                </a:lnTo>
                <a:lnTo>
                  <a:pt x="1064937" y="991757"/>
                </a:lnTo>
                <a:lnTo>
                  <a:pt x="1072342" y="984881"/>
                </a:lnTo>
                <a:lnTo>
                  <a:pt x="1079482" y="977740"/>
                </a:lnTo>
                <a:lnTo>
                  <a:pt x="1086622" y="970600"/>
                </a:lnTo>
                <a:lnTo>
                  <a:pt x="1093498" y="963194"/>
                </a:lnTo>
                <a:lnTo>
                  <a:pt x="1100109" y="955789"/>
                </a:lnTo>
                <a:lnTo>
                  <a:pt x="1106720" y="947855"/>
                </a:lnTo>
                <a:lnTo>
                  <a:pt x="1113067" y="940186"/>
                </a:lnTo>
                <a:lnTo>
                  <a:pt x="1119149" y="931987"/>
                </a:lnTo>
                <a:lnTo>
                  <a:pt x="1125231" y="923789"/>
                </a:lnTo>
                <a:lnTo>
                  <a:pt x="1131049" y="915590"/>
                </a:lnTo>
                <a:lnTo>
                  <a:pt x="1136603" y="906863"/>
                </a:lnTo>
                <a:lnTo>
                  <a:pt x="1141892" y="898400"/>
                </a:lnTo>
                <a:lnTo>
                  <a:pt x="1146916" y="889408"/>
                </a:lnTo>
                <a:lnTo>
                  <a:pt x="1151941" y="880680"/>
                </a:lnTo>
                <a:lnTo>
                  <a:pt x="1156701" y="871688"/>
                </a:lnTo>
                <a:lnTo>
                  <a:pt x="1161197" y="862696"/>
                </a:lnTo>
                <a:lnTo>
                  <a:pt x="1165692" y="853440"/>
                </a:lnTo>
                <a:lnTo>
                  <a:pt x="1169659" y="843919"/>
                </a:lnTo>
                <a:lnTo>
                  <a:pt x="1173626" y="834398"/>
                </a:lnTo>
                <a:lnTo>
                  <a:pt x="1177328" y="824877"/>
                </a:lnTo>
                <a:lnTo>
                  <a:pt x="1180766" y="815092"/>
                </a:lnTo>
                <a:lnTo>
                  <a:pt x="1183939" y="805307"/>
                </a:lnTo>
                <a:lnTo>
                  <a:pt x="1186848" y="795521"/>
                </a:lnTo>
                <a:lnTo>
                  <a:pt x="1189757" y="785472"/>
                </a:lnTo>
                <a:lnTo>
                  <a:pt x="1192137" y="775157"/>
                </a:lnTo>
                <a:lnTo>
                  <a:pt x="1194517" y="765108"/>
                </a:lnTo>
                <a:lnTo>
                  <a:pt x="1196368" y="754529"/>
                </a:lnTo>
                <a:lnTo>
                  <a:pt x="1197955" y="744215"/>
                </a:lnTo>
                <a:lnTo>
                  <a:pt x="1199542" y="733636"/>
                </a:lnTo>
                <a:lnTo>
                  <a:pt x="1200864" y="723322"/>
                </a:lnTo>
                <a:lnTo>
                  <a:pt x="1201657" y="712478"/>
                </a:lnTo>
                <a:lnTo>
                  <a:pt x="1202451" y="701900"/>
                </a:lnTo>
                <a:lnTo>
                  <a:pt x="1202715" y="691056"/>
                </a:lnTo>
                <a:lnTo>
                  <a:pt x="1202979" y="680213"/>
                </a:lnTo>
                <a:lnTo>
                  <a:pt x="1202715" y="669370"/>
                </a:lnTo>
                <a:lnTo>
                  <a:pt x="1202451" y="658791"/>
                </a:lnTo>
                <a:lnTo>
                  <a:pt x="1201657" y="647948"/>
                </a:lnTo>
                <a:lnTo>
                  <a:pt x="1200864" y="637105"/>
                </a:lnTo>
                <a:lnTo>
                  <a:pt x="1199542" y="626791"/>
                </a:lnTo>
                <a:lnTo>
                  <a:pt x="1197955" y="615947"/>
                </a:lnTo>
                <a:lnTo>
                  <a:pt x="1196368" y="605898"/>
                </a:lnTo>
                <a:lnTo>
                  <a:pt x="1194517" y="595319"/>
                </a:lnTo>
                <a:lnTo>
                  <a:pt x="1192137" y="585269"/>
                </a:lnTo>
                <a:lnTo>
                  <a:pt x="1189757" y="575219"/>
                </a:lnTo>
                <a:lnTo>
                  <a:pt x="1186848" y="564905"/>
                </a:lnTo>
                <a:lnTo>
                  <a:pt x="1183939" y="555120"/>
                </a:lnTo>
                <a:lnTo>
                  <a:pt x="1180766" y="545334"/>
                </a:lnTo>
                <a:lnTo>
                  <a:pt x="1177328" y="535549"/>
                </a:lnTo>
                <a:lnTo>
                  <a:pt x="1173626" y="525764"/>
                </a:lnTo>
                <a:lnTo>
                  <a:pt x="1169659" y="516243"/>
                </a:lnTo>
                <a:lnTo>
                  <a:pt x="1165692" y="506986"/>
                </a:lnTo>
                <a:lnTo>
                  <a:pt x="1161197" y="497730"/>
                </a:lnTo>
                <a:lnTo>
                  <a:pt x="1156701" y="488738"/>
                </a:lnTo>
                <a:lnTo>
                  <a:pt x="1151941" y="479482"/>
                </a:lnTo>
                <a:lnTo>
                  <a:pt x="1146916" y="470754"/>
                </a:lnTo>
                <a:lnTo>
                  <a:pt x="1141892" y="462027"/>
                </a:lnTo>
                <a:lnTo>
                  <a:pt x="1136603" y="453299"/>
                </a:lnTo>
                <a:lnTo>
                  <a:pt x="1131049" y="445101"/>
                </a:lnTo>
                <a:lnTo>
                  <a:pt x="1125231" y="436373"/>
                </a:lnTo>
                <a:lnTo>
                  <a:pt x="1119149" y="428439"/>
                </a:lnTo>
                <a:lnTo>
                  <a:pt x="1113067" y="420241"/>
                </a:lnTo>
                <a:lnTo>
                  <a:pt x="1106720" y="412307"/>
                </a:lnTo>
                <a:lnTo>
                  <a:pt x="1100109" y="404901"/>
                </a:lnTo>
                <a:lnTo>
                  <a:pt x="1093498" y="397232"/>
                </a:lnTo>
                <a:lnTo>
                  <a:pt x="1086622" y="389827"/>
                </a:lnTo>
                <a:lnTo>
                  <a:pt x="1079482" y="382686"/>
                </a:lnTo>
                <a:lnTo>
                  <a:pt x="1072342" y="375545"/>
                </a:lnTo>
                <a:lnTo>
                  <a:pt x="1064937" y="368669"/>
                </a:lnTo>
                <a:lnTo>
                  <a:pt x="1057268" y="362058"/>
                </a:lnTo>
                <a:lnTo>
                  <a:pt x="1049864" y="355446"/>
                </a:lnTo>
                <a:lnTo>
                  <a:pt x="1041930" y="349099"/>
                </a:lnTo>
                <a:lnTo>
                  <a:pt x="1033997" y="343016"/>
                </a:lnTo>
                <a:lnTo>
                  <a:pt x="1025799" y="336933"/>
                </a:lnTo>
                <a:lnTo>
                  <a:pt x="1017072" y="331379"/>
                </a:lnTo>
                <a:lnTo>
                  <a:pt x="1008874" y="325561"/>
                </a:lnTo>
                <a:lnTo>
                  <a:pt x="1000412" y="320272"/>
                </a:lnTo>
                <a:lnTo>
                  <a:pt x="991420" y="315247"/>
                </a:lnTo>
                <a:lnTo>
                  <a:pt x="982694" y="310222"/>
                </a:lnTo>
                <a:lnTo>
                  <a:pt x="973438" y="305461"/>
                </a:lnTo>
                <a:lnTo>
                  <a:pt x="964711" y="300965"/>
                </a:lnTo>
                <a:lnTo>
                  <a:pt x="955191" y="296469"/>
                </a:lnTo>
                <a:lnTo>
                  <a:pt x="945935" y="292238"/>
                </a:lnTo>
                <a:lnTo>
                  <a:pt x="936415" y="288535"/>
                </a:lnTo>
                <a:lnTo>
                  <a:pt x="926630" y="284833"/>
                </a:lnTo>
                <a:lnTo>
                  <a:pt x="917110" y="281395"/>
                </a:lnTo>
                <a:lnTo>
                  <a:pt x="907326" y="278221"/>
                </a:lnTo>
                <a:lnTo>
                  <a:pt x="897276" y="275312"/>
                </a:lnTo>
                <a:lnTo>
                  <a:pt x="886963" y="272403"/>
                </a:lnTo>
                <a:lnTo>
                  <a:pt x="876914" y="270287"/>
                </a:lnTo>
                <a:lnTo>
                  <a:pt x="866865" y="267642"/>
                </a:lnTo>
                <a:lnTo>
                  <a:pt x="856551" y="265791"/>
                </a:lnTo>
                <a:lnTo>
                  <a:pt x="846238" y="264204"/>
                </a:lnTo>
                <a:lnTo>
                  <a:pt x="835660" y="262617"/>
                </a:lnTo>
                <a:lnTo>
                  <a:pt x="825082" y="261295"/>
                </a:lnTo>
                <a:lnTo>
                  <a:pt x="814504" y="260502"/>
                </a:lnTo>
                <a:lnTo>
                  <a:pt x="803661" y="259708"/>
                </a:lnTo>
                <a:lnTo>
                  <a:pt x="793083" y="259444"/>
                </a:lnTo>
                <a:lnTo>
                  <a:pt x="781977" y="259179"/>
                </a:lnTo>
                <a:close/>
                <a:moveTo>
                  <a:pt x="65088" y="42862"/>
                </a:moveTo>
                <a:lnTo>
                  <a:pt x="315913" y="42862"/>
                </a:lnTo>
                <a:lnTo>
                  <a:pt x="315913" y="64516"/>
                </a:lnTo>
                <a:lnTo>
                  <a:pt x="315913" y="94620"/>
                </a:lnTo>
                <a:lnTo>
                  <a:pt x="65088" y="179387"/>
                </a:lnTo>
                <a:lnTo>
                  <a:pt x="65088" y="64516"/>
                </a:lnTo>
                <a:lnTo>
                  <a:pt x="65088" y="42862"/>
                </a:lnTo>
                <a:close/>
                <a:moveTo>
                  <a:pt x="537097" y="0"/>
                </a:moveTo>
                <a:lnTo>
                  <a:pt x="1032939" y="0"/>
                </a:lnTo>
                <a:lnTo>
                  <a:pt x="1032939" y="71142"/>
                </a:lnTo>
                <a:lnTo>
                  <a:pt x="1032939" y="130912"/>
                </a:lnTo>
                <a:lnTo>
                  <a:pt x="1564217" y="130912"/>
                </a:lnTo>
                <a:lnTo>
                  <a:pt x="1564217" y="202319"/>
                </a:lnTo>
                <a:lnTo>
                  <a:pt x="1564217" y="1145942"/>
                </a:lnTo>
                <a:lnTo>
                  <a:pt x="1564482" y="1173976"/>
                </a:lnTo>
                <a:lnTo>
                  <a:pt x="1565275" y="1196720"/>
                </a:lnTo>
                <a:lnTo>
                  <a:pt x="1565275" y="1212059"/>
                </a:lnTo>
                <a:lnTo>
                  <a:pt x="1564746" y="1216291"/>
                </a:lnTo>
                <a:lnTo>
                  <a:pt x="1564482" y="1217349"/>
                </a:lnTo>
                <a:lnTo>
                  <a:pt x="1564217" y="1217613"/>
                </a:lnTo>
                <a:lnTo>
                  <a:pt x="781712" y="1217613"/>
                </a:lnTo>
                <a:lnTo>
                  <a:pt x="265" y="1217613"/>
                </a:lnTo>
                <a:lnTo>
                  <a:pt x="265" y="1145942"/>
                </a:lnTo>
                <a:lnTo>
                  <a:pt x="0" y="756645"/>
                </a:lnTo>
                <a:lnTo>
                  <a:pt x="0" y="481333"/>
                </a:lnTo>
                <a:lnTo>
                  <a:pt x="265" y="385860"/>
                </a:lnTo>
                <a:lnTo>
                  <a:pt x="265" y="341165"/>
                </a:lnTo>
                <a:lnTo>
                  <a:pt x="794" y="313924"/>
                </a:lnTo>
                <a:lnTo>
                  <a:pt x="529" y="287213"/>
                </a:lnTo>
                <a:lnTo>
                  <a:pt x="265" y="258915"/>
                </a:lnTo>
                <a:lnTo>
                  <a:pt x="342462" y="148367"/>
                </a:lnTo>
                <a:lnTo>
                  <a:pt x="350924" y="145722"/>
                </a:lnTo>
                <a:lnTo>
                  <a:pt x="361238" y="142813"/>
                </a:lnTo>
                <a:lnTo>
                  <a:pt x="373403" y="139640"/>
                </a:lnTo>
                <a:lnTo>
                  <a:pt x="388476" y="136466"/>
                </a:lnTo>
                <a:lnTo>
                  <a:pt x="396410" y="135408"/>
                </a:lnTo>
                <a:lnTo>
                  <a:pt x="404608" y="133821"/>
                </a:lnTo>
                <a:lnTo>
                  <a:pt x="413070" y="132763"/>
                </a:lnTo>
                <a:lnTo>
                  <a:pt x="421532" y="131705"/>
                </a:lnTo>
                <a:lnTo>
                  <a:pt x="430259" y="131177"/>
                </a:lnTo>
                <a:lnTo>
                  <a:pt x="438722" y="130912"/>
                </a:lnTo>
                <a:lnTo>
                  <a:pt x="473364" y="130383"/>
                </a:lnTo>
                <a:lnTo>
                  <a:pt x="504834" y="130383"/>
                </a:lnTo>
                <a:lnTo>
                  <a:pt x="537097" y="130912"/>
                </a:lnTo>
                <a:lnTo>
                  <a:pt x="537097" y="71142"/>
                </a:lnTo>
                <a:lnTo>
                  <a:pt x="5370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18"/>
          <p:cNvGrpSpPr/>
          <p:nvPr/>
        </p:nvGrpSpPr>
        <p:grpSpPr>
          <a:xfrm>
            <a:off x="455760" y="2870280"/>
            <a:ext cx="758520" cy="668160"/>
            <a:chOff x="455760" y="2870280"/>
            <a:chExt cx="758520" cy="668160"/>
          </a:xfrm>
        </p:grpSpPr>
        <p:sp>
          <p:nvSpPr>
            <p:cNvPr id="188" name="六边形 19"/>
            <p:cNvSpPr/>
            <p:nvPr/>
          </p:nvSpPr>
          <p:spPr>
            <a:xfrm>
              <a:off x="455760" y="2870280"/>
              <a:ext cx="758520" cy="668160"/>
            </a:xfrm>
            <a:prstGeom prst="hexagon">
              <a:avLst>
                <a:gd name="adj" fmla="val 31492"/>
                <a:gd name="vf" fmla="val 115470"/>
              </a:avLst>
            </a:prstGeom>
            <a:solidFill>
              <a:srgbClr val="c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KSO_Shape"/>
            <p:cNvSpPr/>
            <p:nvPr/>
          </p:nvSpPr>
          <p:spPr>
            <a:xfrm>
              <a:off x="600840" y="3053160"/>
              <a:ext cx="471960" cy="309600"/>
            </a:xfrm>
            <a:custGeom>
              <a:avLst/>
              <a:gdLst/>
              <a:ahLst/>
              <a:rect l="l" t="t" r="r" b="b"/>
              <a:pathLst>
                <a:path w="494328" h="324036">
                  <a:moveTo>
                    <a:pt x="277525" y="292250"/>
                  </a:moveTo>
                  <a:lnTo>
                    <a:pt x="309311" y="292250"/>
                  </a:lnTo>
                  <a:lnTo>
                    <a:pt x="309311" y="324036"/>
                  </a:lnTo>
                  <a:lnTo>
                    <a:pt x="277525" y="324036"/>
                  </a:lnTo>
                  <a:lnTo>
                    <a:pt x="277525" y="292250"/>
                  </a:lnTo>
                  <a:close/>
                  <a:moveTo>
                    <a:pt x="323779" y="243541"/>
                  </a:moveTo>
                  <a:lnTo>
                    <a:pt x="355565" y="243541"/>
                  </a:lnTo>
                  <a:lnTo>
                    <a:pt x="355565" y="275328"/>
                  </a:lnTo>
                  <a:lnTo>
                    <a:pt x="323779" y="275328"/>
                  </a:lnTo>
                  <a:lnTo>
                    <a:pt x="323779" y="243541"/>
                  </a:lnTo>
                  <a:close/>
                  <a:moveTo>
                    <a:pt x="277525" y="243541"/>
                  </a:moveTo>
                  <a:lnTo>
                    <a:pt x="309311" y="243541"/>
                  </a:lnTo>
                  <a:lnTo>
                    <a:pt x="309311" y="275328"/>
                  </a:lnTo>
                  <a:lnTo>
                    <a:pt x="277525" y="275328"/>
                  </a:lnTo>
                  <a:lnTo>
                    <a:pt x="277525" y="243541"/>
                  </a:lnTo>
                  <a:close/>
                  <a:moveTo>
                    <a:pt x="370033" y="194833"/>
                  </a:moveTo>
                  <a:lnTo>
                    <a:pt x="401820" y="194833"/>
                  </a:lnTo>
                  <a:lnTo>
                    <a:pt x="401820" y="226620"/>
                  </a:lnTo>
                  <a:lnTo>
                    <a:pt x="370033" y="226620"/>
                  </a:lnTo>
                  <a:lnTo>
                    <a:pt x="370033" y="194833"/>
                  </a:lnTo>
                  <a:close/>
                  <a:moveTo>
                    <a:pt x="323779" y="194833"/>
                  </a:moveTo>
                  <a:lnTo>
                    <a:pt x="355565" y="194833"/>
                  </a:lnTo>
                  <a:lnTo>
                    <a:pt x="355565" y="226620"/>
                  </a:lnTo>
                  <a:lnTo>
                    <a:pt x="323779" y="226620"/>
                  </a:lnTo>
                  <a:lnTo>
                    <a:pt x="323779" y="194833"/>
                  </a:lnTo>
                  <a:close/>
                  <a:moveTo>
                    <a:pt x="277525" y="194833"/>
                  </a:moveTo>
                  <a:lnTo>
                    <a:pt x="309311" y="194833"/>
                  </a:lnTo>
                  <a:lnTo>
                    <a:pt x="309311" y="226620"/>
                  </a:lnTo>
                  <a:lnTo>
                    <a:pt x="277525" y="226620"/>
                  </a:lnTo>
                  <a:lnTo>
                    <a:pt x="277525" y="194833"/>
                  </a:lnTo>
                  <a:close/>
                  <a:moveTo>
                    <a:pt x="231271" y="194833"/>
                  </a:moveTo>
                  <a:lnTo>
                    <a:pt x="263057" y="194833"/>
                  </a:lnTo>
                  <a:lnTo>
                    <a:pt x="263057" y="226620"/>
                  </a:lnTo>
                  <a:lnTo>
                    <a:pt x="231271" y="226620"/>
                  </a:lnTo>
                  <a:lnTo>
                    <a:pt x="231271" y="194833"/>
                  </a:lnTo>
                  <a:close/>
                  <a:moveTo>
                    <a:pt x="185016" y="194833"/>
                  </a:moveTo>
                  <a:lnTo>
                    <a:pt x="216803" y="194833"/>
                  </a:lnTo>
                  <a:lnTo>
                    <a:pt x="216803" y="226620"/>
                  </a:lnTo>
                  <a:lnTo>
                    <a:pt x="185016" y="226620"/>
                  </a:lnTo>
                  <a:lnTo>
                    <a:pt x="185016" y="194833"/>
                  </a:lnTo>
                  <a:close/>
                  <a:moveTo>
                    <a:pt x="138762" y="194833"/>
                  </a:moveTo>
                  <a:lnTo>
                    <a:pt x="170549" y="194833"/>
                  </a:lnTo>
                  <a:lnTo>
                    <a:pt x="170549" y="226620"/>
                  </a:lnTo>
                  <a:lnTo>
                    <a:pt x="138762" y="226620"/>
                  </a:lnTo>
                  <a:lnTo>
                    <a:pt x="138762" y="194833"/>
                  </a:lnTo>
                  <a:close/>
                  <a:moveTo>
                    <a:pt x="92508" y="194833"/>
                  </a:moveTo>
                  <a:lnTo>
                    <a:pt x="124294" y="194833"/>
                  </a:lnTo>
                  <a:lnTo>
                    <a:pt x="124294" y="226620"/>
                  </a:lnTo>
                  <a:lnTo>
                    <a:pt x="92508" y="226620"/>
                  </a:lnTo>
                  <a:lnTo>
                    <a:pt x="92508" y="194833"/>
                  </a:lnTo>
                  <a:close/>
                  <a:moveTo>
                    <a:pt x="46254" y="194833"/>
                  </a:moveTo>
                  <a:lnTo>
                    <a:pt x="78040" y="194833"/>
                  </a:lnTo>
                  <a:lnTo>
                    <a:pt x="78040" y="226620"/>
                  </a:lnTo>
                  <a:lnTo>
                    <a:pt x="46254" y="226620"/>
                  </a:lnTo>
                  <a:lnTo>
                    <a:pt x="46254" y="194833"/>
                  </a:lnTo>
                  <a:close/>
                  <a:moveTo>
                    <a:pt x="0" y="194833"/>
                  </a:moveTo>
                  <a:lnTo>
                    <a:pt x="31787" y="194833"/>
                  </a:lnTo>
                  <a:lnTo>
                    <a:pt x="31787" y="226620"/>
                  </a:lnTo>
                  <a:lnTo>
                    <a:pt x="0" y="226620"/>
                  </a:lnTo>
                  <a:lnTo>
                    <a:pt x="0" y="194833"/>
                  </a:lnTo>
                  <a:close/>
                  <a:moveTo>
                    <a:pt x="416287" y="170479"/>
                  </a:moveTo>
                  <a:lnTo>
                    <a:pt x="448074" y="170479"/>
                  </a:lnTo>
                  <a:lnTo>
                    <a:pt x="448074" y="202266"/>
                  </a:lnTo>
                  <a:lnTo>
                    <a:pt x="416287" y="202266"/>
                  </a:lnTo>
                  <a:lnTo>
                    <a:pt x="416287" y="170479"/>
                  </a:lnTo>
                  <a:close/>
                  <a:moveTo>
                    <a:pt x="462542" y="146125"/>
                  </a:moveTo>
                  <a:lnTo>
                    <a:pt x="494328" y="146125"/>
                  </a:lnTo>
                  <a:lnTo>
                    <a:pt x="494328" y="177911"/>
                  </a:lnTo>
                  <a:lnTo>
                    <a:pt x="462542" y="177911"/>
                  </a:lnTo>
                  <a:lnTo>
                    <a:pt x="462542" y="146125"/>
                  </a:lnTo>
                  <a:close/>
                  <a:moveTo>
                    <a:pt x="370033" y="146125"/>
                  </a:moveTo>
                  <a:lnTo>
                    <a:pt x="401820" y="146125"/>
                  </a:lnTo>
                  <a:lnTo>
                    <a:pt x="401820" y="177911"/>
                  </a:lnTo>
                  <a:lnTo>
                    <a:pt x="370033" y="177911"/>
                  </a:lnTo>
                  <a:lnTo>
                    <a:pt x="370033" y="146125"/>
                  </a:lnTo>
                  <a:close/>
                  <a:moveTo>
                    <a:pt x="323779" y="146125"/>
                  </a:moveTo>
                  <a:lnTo>
                    <a:pt x="355565" y="146125"/>
                  </a:lnTo>
                  <a:lnTo>
                    <a:pt x="355565" y="177911"/>
                  </a:lnTo>
                  <a:lnTo>
                    <a:pt x="323779" y="177911"/>
                  </a:lnTo>
                  <a:lnTo>
                    <a:pt x="323779" y="146125"/>
                  </a:lnTo>
                  <a:close/>
                  <a:moveTo>
                    <a:pt x="277525" y="146125"/>
                  </a:moveTo>
                  <a:lnTo>
                    <a:pt x="309311" y="146125"/>
                  </a:lnTo>
                  <a:lnTo>
                    <a:pt x="309311" y="177911"/>
                  </a:lnTo>
                  <a:lnTo>
                    <a:pt x="277525" y="177911"/>
                  </a:lnTo>
                  <a:lnTo>
                    <a:pt x="277525" y="146125"/>
                  </a:lnTo>
                  <a:close/>
                  <a:moveTo>
                    <a:pt x="231271" y="146125"/>
                  </a:moveTo>
                  <a:lnTo>
                    <a:pt x="263057" y="146125"/>
                  </a:lnTo>
                  <a:lnTo>
                    <a:pt x="263057" y="177911"/>
                  </a:lnTo>
                  <a:lnTo>
                    <a:pt x="231271" y="177911"/>
                  </a:lnTo>
                  <a:lnTo>
                    <a:pt x="231271" y="146125"/>
                  </a:lnTo>
                  <a:close/>
                  <a:moveTo>
                    <a:pt x="185016" y="146125"/>
                  </a:moveTo>
                  <a:lnTo>
                    <a:pt x="216803" y="146125"/>
                  </a:lnTo>
                  <a:lnTo>
                    <a:pt x="216803" y="177911"/>
                  </a:lnTo>
                  <a:lnTo>
                    <a:pt x="185016" y="177911"/>
                  </a:lnTo>
                  <a:lnTo>
                    <a:pt x="185016" y="146125"/>
                  </a:lnTo>
                  <a:close/>
                  <a:moveTo>
                    <a:pt x="138762" y="146125"/>
                  </a:moveTo>
                  <a:lnTo>
                    <a:pt x="170549" y="146125"/>
                  </a:lnTo>
                  <a:lnTo>
                    <a:pt x="170549" y="177911"/>
                  </a:lnTo>
                  <a:lnTo>
                    <a:pt x="138762" y="177911"/>
                  </a:lnTo>
                  <a:lnTo>
                    <a:pt x="138762" y="146125"/>
                  </a:lnTo>
                  <a:close/>
                  <a:moveTo>
                    <a:pt x="92508" y="146125"/>
                  </a:moveTo>
                  <a:lnTo>
                    <a:pt x="124294" y="146125"/>
                  </a:lnTo>
                  <a:lnTo>
                    <a:pt x="124294" y="177911"/>
                  </a:lnTo>
                  <a:lnTo>
                    <a:pt x="92508" y="177911"/>
                  </a:lnTo>
                  <a:lnTo>
                    <a:pt x="92508" y="146125"/>
                  </a:lnTo>
                  <a:close/>
                  <a:moveTo>
                    <a:pt x="46254" y="146125"/>
                  </a:moveTo>
                  <a:lnTo>
                    <a:pt x="78040" y="146125"/>
                  </a:lnTo>
                  <a:lnTo>
                    <a:pt x="78040" y="177911"/>
                  </a:lnTo>
                  <a:lnTo>
                    <a:pt x="46254" y="177911"/>
                  </a:lnTo>
                  <a:lnTo>
                    <a:pt x="46254" y="146125"/>
                  </a:lnTo>
                  <a:close/>
                  <a:moveTo>
                    <a:pt x="0" y="146125"/>
                  </a:moveTo>
                  <a:lnTo>
                    <a:pt x="31787" y="146125"/>
                  </a:lnTo>
                  <a:lnTo>
                    <a:pt x="31787" y="177911"/>
                  </a:lnTo>
                  <a:lnTo>
                    <a:pt x="0" y="177911"/>
                  </a:lnTo>
                  <a:lnTo>
                    <a:pt x="0" y="146125"/>
                  </a:lnTo>
                  <a:close/>
                  <a:moveTo>
                    <a:pt x="416287" y="121771"/>
                  </a:moveTo>
                  <a:lnTo>
                    <a:pt x="448074" y="121771"/>
                  </a:lnTo>
                  <a:lnTo>
                    <a:pt x="448074" y="153557"/>
                  </a:lnTo>
                  <a:lnTo>
                    <a:pt x="416287" y="153557"/>
                  </a:lnTo>
                  <a:lnTo>
                    <a:pt x="416287" y="121771"/>
                  </a:lnTo>
                  <a:close/>
                  <a:moveTo>
                    <a:pt x="370033" y="97417"/>
                  </a:moveTo>
                  <a:lnTo>
                    <a:pt x="401820" y="97417"/>
                  </a:lnTo>
                  <a:lnTo>
                    <a:pt x="401820" y="129203"/>
                  </a:lnTo>
                  <a:lnTo>
                    <a:pt x="370033" y="129203"/>
                  </a:lnTo>
                  <a:lnTo>
                    <a:pt x="370033" y="97417"/>
                  </a:lnTo>
                  <a:close/>
                  <a:moveTo>
                    <a:pt x="323779" y="97417"/>
                  </a:moveTo>
                  <a:lnTo>
                    <a:pt x="355565" y="97417"/>
                  </a:lnTo>
                  <a:lnTo>
                    <a:pt x="355565" y="129203"/>
                  </a:lnTo>
                  <a:lnTo>
                    <a:pt x="323779" y="129203"/>
                  </a:lnTo>
                  <a:lnTo>
                    <a:pt x="323779" y="97417"/>
                  </a:lnTo>
                  <a:close/>
                  <a:moveTo>
                    <a:pt x="277525" y="97417"/>
                  </a:moveTo>
                  <a:lnTo>
                    <a:pt x="309311" y="97417"/>
                  </a:lnTo>
                  <a:lnTo>
                    <a:pt x="309311" y="129203"/>
                  </a:lnTo>
                  <a:lnTo>
                    <a:pt x="277525" y="129203"/>
                  </a:lnTo>
                  <a:lnTo>
                    <a:pt x="277525" y="97417"/>
                  </a:lnTo>
                  <a:close/>
                  <a:moveTo>
                    <a:pt x="231271" y="97417"/>
                  </a:moveTo>
                  <a:lnTo>
                    <a:pt x="263057" y="97417"/>
                  </a:lnTo>
                  <a:lnTo>
                    <a:pt x="263057" y="129203"/>
                  </a:lnTo>
                  <a:lnTo>
                    <a:pt x="231271" y="129203"/>
                  </a:lnTo>
                  <a:lnTo>
                    <a:pt x="231271" y="97417"/>
                  </a:lnTo>
                  <a:close/>
                  <a:moveTo>
                    <a:pt x="185016" y="97417"/>
                  </a:moveTo>
                  <a:lnTo>
                    <a:pt x="216803" y="97417"/>
                  </a:lnTo>
                  <a:lnTo>
                    <a:pt x="216803" y="129203"/>
                  </a:lnTo>
                  <a:lnTo>
                    <a:pt x="185016" y="129203"/>
                  </a:lnTo>
                  <a:lnTo>
                    <a:pt x="185016" y="97417"/>
                  </a:lnTo>
                  <a:close/>
                  <a:moveTo>
                    <a:pt x="138762" y="97417"/>
                  </a:moveTo>
                  <a:lnTo>
                    <a:pt x="170549" y="97417"/>
                  </a:lnTo>
                  <a:lnTo>
                    <a:pt x="170549" y="129203"/>
                  </a:lnTo>
                  <a:lnTo>
                    <a:pt x="138762" y="129203"/>
                  </a:lnTo>
                  <a:lnTo>
                    <a:pt x="138762" y="97417"/>
                  </a:lnTo>
                  <a:close/>
                  <a:moveTo>
                    <a:pt x="92508" y="97417"/>
                  </a:moveTo>
                  <a:lnTo>
                    <a:pt x="124294" y="97417"/>
                  </a:lnTo>
                  <a:lnTo>
                    <a:pt x="124294" y="129203"/>
                  </a:lnTo>
                  <a:lnTo>
                    <a:pt x="92508" y="129203"/>
                  </a:lnTo>
                  <a:lnTo>
                    <a:pt x="92508" y="97417"/>
                  </a:lnTo>
                  <a:close/>
                  <a:moveTo>
                    <a:pt x="46254" y="97417"/>
                  </a:moveTo>
                  <a:lnTo>
                    <a:pt x="78040" y="97417"/>
                  </a:lnTo>
                  <a:lnTo>
                    <a:pt x="78040" y="129203"/>
                  </a:lnTo>
                  <a:lnTo>
                    <a:pt x="46254" y="129203"/>
                  </a:lnTo>
                  <a:lnTo>
                    <a:pt x="46254" y="97417"/>
                  </a:lnTo>
                  <a:close/>
                  <a:moveTo>
                    <a:pt x="0" y="97417"/>
                  </a:moveTo>
                  <a:lnTo>
                    <a:pt x="31787" y="97417"/>
                  </a:lnTo>
                  <a:lnTo>
                    <a:pt x="31787" y="129203"/>
                  </a:lnTo>
                  <a:lnTo>
                    <a:pt x="0" y="129203"/>
                  </a:lnTo>
                  <a:lnTo>
                    <a:pt x="0" y="97417"/>
                  </a:lnTo>
                  <a:close/>
                  <a:moveTo>
                    <a:pt x="323779" y="48708"/>
                  </a:moveTo>
                  <a:lnTo>
                    <a:pt x="355565" y="48708"/>
                  </a:lnTo>
                  <a:lnTo>
                    <a:pt x="355565" y="80495"/>
                  </a:lnTo>
                  <a:lnTo>
                    <a:pt x="323779" y="80495"/>
                  </a:lnTo>
                  <a:lnTo>
                    <a:pt x="323779" y="48708"/>
                  </a:lnTo>
                  <a:close/>
                  <a:moveTo>
                    <a:pt x="277525" y="48708"/>
                  </a:moveTo>
                  <a:lnTo>
                    <a:pt x="309311" y="48708"/>
                  </a:lnTo>
                  <a:lnTo>
                    <a:pt x="309311" y="80495"/>
                  </a:lnTo>
                  <a:lnTo>
                    <a:pt x="277525" y="80495"/>
                  </a:lnTo>
                  <a:lnTo>
                    <a:pt x="277525" y="48708"/>
                  </a:lnTo>
                  <a:close/>
                  <a:moveTo>
                    <a:pt x="277525" y="0"/>
                  </a:moveTo>
                  <a:lnTo>
                    <a:pt x="309311" y="0"/>
                  </a:lnTo>
                  <a:lnTo>
                    <a:pt x="309311" y="31787"/>
                  </a:lnTo>
                  <a:lnTo>
                    <a:pt x="277525" y="31787"/>
                  </a:lnTo>
                  <a:lnTo>
                    <a:pt x="2775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六边形 21"/>
          <p:cNvSpPr/>
          <p:nvPr/>
        </p:nvSpPr>
        <p:spPr>
          <a:xfrm>
            <a:off x="3921120" y="1165320"/>
            <a:ext cx="3422520" cy="3097080"/>
          </a:xfrm>
          <a:prstGeom prst="hexagon">
            <a:avLst>
              <a:gd name="adj" fmla="val 27734"/>
              <a:gd name="vf" fmla="val 115470"/>
            </a:avLst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22"/>
          <p:cNvSpPr/>
          <p:nvPr/>
        </p:nvSpPr>
        <p:spPr>
          <a:xfrm>
            <a:off x="6597720" y="2778120"/>
            <a:ext cx="2557440" cy="3095640"/>
          </a:xfrm>
          <a:custGeom>
            <a:avLst/>
            <a:gdLst/>
            <a:ahLst/>
            <a:rect l="l" t="t" r="r" b="b"/>
            <a:pathLst>
              <a:path w="3178630" h="3741574">
                <a:moveTo>
                  <a:pt x="1038025" y="0"/>
                </a:moveTo>
                <a:lnTo>
                  <a:pt x="3178630" y="0"/>
                </a:lnTo>
                <a:lnTo>
                  <a:pt x="3178630" y="3741574"/>
                </a:lnTo>
                <a:lnTo>
                  <a:pt x="1038025" y="3741574"/>
                </a:lnTo>
                <a:lnTo>
                  <a:pt x="0" y="1870787"/>
                </a:lnTo>
                <a:lnTo>
                  <a:pt x="1038025" y="0"/>
                </a:lnTo>
                <a:close/>
              </a:path>
            </a:pathLst>
          </a:cu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KSO_Shape"/>
          <p:cNvSpPr/>
          <p:nvPr/>
        </p:nvSpPr>
        <p:spPr>
          <a:xfrm>
            <a:off x="7591320" y="3786120"/>
            <a:ext cx="1094040" cy="1014480"/>
          </a:xfrm>
          <a:custGeom>
            <a:avLst/>
            <a:gdLst/>
            <a:ahLst/>
            <a:rect l="l" t="t" r="r" b="b"/>
            <a:pathLst>
              <a:path w="1160528" h="1137856">
                <a:moveTo>
                  <a:pt x="301373" y="145324"/>
                </a:moveTo>
                <a:cubicBezTo>
                  <a:pt x="77474" y="176329"/>
                  <a:pt x="-76715" y="585266"/>
                  <a:pt x="580264" y="1067944"/>
                </a:cubicBezTo>
                <a:cubicBezTo>
                  <a:pt x="1535870" y="365866"/>
                  <a:pt x="775286" y="-180195"/>
                  <a:pt x="580264" y="365866"/>
                </a:cubicBezTo>
                <a:cubicBezTo>
                  <a:pt x="519320" y="195222"/>
                  <a:pt x="403145" y="131231"/>
                  <a:pt x="301373" y="145324"/>
                </a:cubicBezTo>
                <a:close/>
                <a:moveTo>
                  <a:pt x="237013" y="2324"/>
                </a:moveTo>
                <a:cubicBezTo>
                  <a:pt x="362271" y="-15022"/>
                  <a:pt x="505256" y="63737"/>
                  <a:pt x="580264" y="273760"/>
                </a:cubicBezTo>
                <a:cubicBezTo>
                  <a:pt x="820291" y="-398315"/>
                  <a:pt x="1756395" y="273760"/>
                  <a:pt x="580264" y="1137856"/>
                </a:cubicBezTo>
                <a:cubicBezTo>
                  <a:pt x="-228326" y="543790"/>
                  <a:pt x="-38555" y="40484"/>
                  <a:pt x="237013" y="2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KSO_Shape"/>
          <p:cNvSpPr/>
          <p:nvPr/>
        </p:nvSpPr>
        <p:spPr>
          <a:xfrm>
            <a:off x="4991040" y="2286000"/>
            <a:ext cx="1184400" cy="1092240"/>
          </a:xfrm>
          <a:custGeom>
            <a:avLst/>
            <a:gdLst/>
            <a:ahLst/>
            <a:rect l="l" t="t" r="r" b="b"/>
            <a:pathLst>
              <a:path w="802377" h="800254">
                <a:moveTo>
                  <a:pt x="586746" y="175638"/>
                </a:moveTo>
                <a:cubicBezTo>
                  <a:pt x="616654" y="175638"/>
                  <a:pt x="640899" y="199883"/>
                  <a:pt x="640899" y="229791"/>
                </a:cubicBezTo>
                <a:cubicBezTo>
                  <a:pt x="640899" y="259699"/>
                  <a:pt x="616654" y="283944"/>
                  <a:pt x="586746" y="283944"/>
                </a:cubicBezTo>
                <a:cubicBezTo>
                  <a:pt x="556838" y="283944"/>
                  <a:pt x="532593" y="259699"/>
                  <a:pt x="532593" y="229791"/>
                </a:cubicBezTo>
                <a:cubicBezTo>
                  <a:pt x="532593" y="199883"/>
                  <a:pt x="556838" y="175638"/>
                  <a:pt x="586746" y="175638"/>
                </a:cubicBezTo>
                <a:close/>
                <a:moveTo>
                  <a:pt x="105683" y="105404"/>
                </a:moveTo>
                <a:lnTo>
                  <a:pt x="105683" y="694851"/>
                </a:lnTo>
                <a:lnTo>
                  <a:pt x="110500" y="694851"/>
                </a:lnTo>
                <a:cubicBezTo>
                  <a:pt x="155363" y="594841"/>
                  <a:pt x="208078" y="392209"/>
                  <a:pt x="245090" y="394820"/>
                </a:cubicBezTo>
                <a:cubicBezTo>
                  <a:pt x="282102" y="397431"/>
                  <a:pt x="283667" y="518205"/>
                  <a:pt x="302955" y="579898"/>
                </a:cubicBezTo>
                <a:cubicBezTo>
                  <a:pt x="342193" y="499858"/>
                  <a:pt x="380513" y="338668"/>
                  <a:pt x="420668" y="339778"/>
                </a:cubicBezTo>
                <a:cubicBezTo>
                  <a:pt x="460823" y="340888"/>
                  <a:pt x="471437" y="489705"/>
                  <a:pt x="496821" y="564668"/>
                </a:cubicBezTo>
                <a:cubicBezTo>
                  <a:pt x="530121" y="522589"/>
                  <a:pt x="566349" y="438139"/>
                  <a:pt x="596720" y="438432"/>
                </a:cubicBezTo>
                <a:cubicBezTo>
                  <a:pt x="627091" y="438725"/>
                  <a:pt x="663369" y="604447"/>
                  <a:pt x="696694" y="687455"/>
                </a:cubicBezTo>
                <a:lnTo>
                  <a:pt x="696694" y="105404"/>
                </a:lnTo>
                <a:lnTo>
                  <a:pt x="105683" y="105404"/>
                </a:lnTo>
                <a:close/>
                <a:moveTo>
                  <a:pt x="0" y="0"/>
                </a:moveTo>
                <a:lnTo>
                  <a:pt x="802377" y="0"/>
                </a:lnTo>
                <a:lnTo>
                  <a:pt x="802377" y="800254"/>
                </a:lnTo>
                <a:lnTo>
                  <a:pt x="0" y="8002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C36F-01A0-4457-9FA3-F94725841659}" type="slidenum"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1371600" y="2616120"/>
            <a:ext cx="70200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wmf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3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hyperlink" Target="http://www.eeppt.com/moban/jingpin/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884240" y="5175360"/>
            <a:ext cx="5559480" cy="1420560"/>
            <a:chOff x="1884240" y="5175360"/>
            <a:chExt cx="5559480" cy="1420560"/>
          </a:xfrm>
        </p:grpSpPr>
        <p:pic>
          <p:nvPicPr>
            <p:cNvPr id="235" name="椭圆 10" descr=""/>
            <p:cNvPicPr/>
            <p:nvPr/>
          </p:nvPicPr>
          <p:blipFill>
            <a:blip r:embed="rId1"/>
            <a:stretch/>
          </p:blipFill>
          <p:spPr>
            <a:xfrm>
              <a:off x="1884240" y="5175360"/>
              <a:ext cx="555948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778120" y="5459040"/>
              <a:ext cx="369252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圆角矩形 4"/>
          <p:cNvSpPr/>
          <p:nvPr/>
        </p:nvSpPr>
        <p:spPr>
          <a:xfrm>
            <a:off x="4606920" y="1268280"/>
            <a:ext cx="66600" cy="3949920"/>
          </a:xfrm>
          <a:custGeom>
            <a:avLst/>
            <a:gdLst>
              <a:gd name="textAreaLeft" fmla="*/ 3240 w 66600"/>
              <a:gd name="textAreaRight" fmla="*/ 63360 w 66600"/>
              <a:gd name="textAreaTop" fmla="*/ 3240 h 3949920"/>
              <a:gd name="textAreaBottom" fmla="*/ 3946680 h 3949920"/>
            </a:gdLst>
            <a:ahLst/>
            <a:rect l="textAreaLeft" t="textAreaTop" r="textAreaRight" b="textAreaBottom"/>
            <a:pathLst>
              <a:path w="21600" h="1274284">
                <a:moveTo>
                  <a:pt x="3600" y="0"/>
                </a:moveTo>
                <a:arcTo wR="3600" hR="3600" stAng="16200000" swAng="-5400000"/>
                <a:lnTo>
                  <a:pt x="0" y="1270684"/>
                </a:lnTo>
                <a:arcTo wR="3600" hR="3600" stAng="10800000" swAng="-5400000"/>
                <a:lnTo>
                  <a:pt x="18000" y="1274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5"/>
          <p:cNvSpPr/>
          <p:nvPr/>
        </p:nvSpPr>
        <p:spPr>
          <a:xfrm>
            <a:off x="4570560" y="5207040"/>
            <a:ext cx="153720" cy="628560"/>
          </a:xfrm>
          <a:custGeom>
            <a:avLst/>
            <a:gdLst>
              <a:gd name="textAreaLeft" fmla="*/ 7200 w 153720"/>
              <a:gd name="textAreaRight" fmla="*/ 146520 w 153720"/>
              <a:gd name="textAreaTop" fmla="*/ 7200 h 628560"/>
              <a:gd name="textAreaBottom" fmla="*/ 621360 h 628560"/>
            </a:gdLst>
            <a:ahLst/>
            <a:rect l="textAreaLeft" t="textAreaTop" r="textAreaRight" b="textAreaBottom"/>
            <a:pathLst>
              <a:path w="21600" h="88166">
                <a:moveTo>
                  <a:pt x="3600" y="0"/>
                </a:moveTo>
                <a:arcTo wR="3600" hR="3600" stAng="16200000" swAng="-5400000"/>
                <a:lnTo>
                  <a:pt x="0" y="84566"/>
                </a:lnTo>
                <a:arcTo wR="3600" hR="3600" stAng="10800000" swAng="-5400000"/>
                <a:lnTo>
                  <a:pt x="18000" y="88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a6a6a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22280" y="1557360"/>
            <a:ext cx="6505560" cy="1573200"/>
            <a:chOff x="1322280" y="1557360"/>
            <a:chExt cx="6505560" cy="1573200"/>
          </a:xfrm>
        </p:grpSpPr>
        <p:sp>
          <p:nvSpPr>
            <p:cNvPr id="240" name="任意多边形 7"/>
            <p:cNvSpPr/>
            <p:nvPr/>
          </p:nvSpPr>
          <p:spPr>
            <a:xfrm>
              <a:off x="3889440" y="2420640"/>
              <a:ext cx="1933560" cy="589680"/>
            </a:xfrm>
            <a:custGeom>
              <a:avLst/>
              <a:gdLst/>
              <a:ahLst/>
              <a:rect l="l" t="t" r="r" b="b"/>
              <a:pathLst>
                <a:path w="1477872" h="450850">
                  <a:moveTo>
                    <a:pt x="0" y="450850"/>
                  </a:moveTo>
                  <a:cubicBezTo>
                    <a:pt x="427567" y="246592"/>
                    <a:pt x="1211300" y="359490"/>
                    <a:pt x="1477872" y="423590"/>
                  </a:cubicBezTo>
                  <a:lnTo>
                    <a:pt x="930275" y="0"/>
                  </a:lnTo>
                  <a:lnTo>
                    <a:pt x="12700" y="190500"/>
                  </a:lnTo>
                  <a:lnTo>
                    <a:pt x="0" y="450850"/>
                  </a:ln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8"/>
            <p:cNvSpPr/>
            <p:nvPr/>
          </p:nvSpPr>
          <p:spPr>
            <a:xfrm>
              <a:off x="4538520" y="1557360"/>
              <a:ext cx="209520" cy="13752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9"/>
            <p:cNvSpPr/>
            <p:nvPr/>
          </p:nvSpPr>
          <p:spPr>
            <a:xfrm>
              <a:off x="1779120" y="2611800"/>
              <a:ext cx="818280" cy="377640"/>
            </a:xfrm>
            <a:custGeom>
              <a:avLst/>
              <a:gdLst/>
              <a:ahLst/>
              <a:rect l="l" t="t" r="r" b="b"/>
              <a:pathLst>
                <a:path w="625475" h="288925">
                  <a:moveTo>
                    <a:pt x="307975" y="288925"/>
                  </a:moveTo>
                  <a:lnTo>
                    <a:pt x="457200" y="123825"/>
                  </a:lnTo>
                  <a:lnTo>
                    <a:pt x="625475" y="0"/>
                  </a:lnTo>
                  <a:lnTo>
                    <a:pt x="107950" y="57150"/>
                  </a:lnTo>
                  <a:lnTo>
                    <a:pt x="0" y="212725"/>
                  </a:lnTo>
                  <a:cubicBezTo>
                    <a:pt x="169333" y="187325"/>
                    <a:pt x="233892" y="225425"/>
                    <a:pt x="307975" y="288925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10"/>
            <p:cNvSpPr/>
            <p:nvPr/>
          </p:nvSpPr>
          <p:spPr>
            <a:xfrm>
              <a:off x="2127960" y="2698920"/>
              <a:ext cx="589680" cy="348840"/>
            </a:xfrm>
            <a:custGeom>
              <a:avLst/>
              <a:gdLst/>
              <a:ahLst/>
              <a:rect l="l" t="t" r="r" b="b"/>
              <a:pathLst>
                <a:path w="450850" h="266700">
                  <a:moveTo>
                    <a:pt x="0" y="266700"/>
                  </a:moveTo>
                  <a:lnTo>
                    <a:pt x="247650" y="0"/>
                  </a:lnTo>
                  <a:lnTo>
                    <a:pt x="450850" y="57150"/>
                  </a:lnTo>
                  <a:lnTo>
                    <a:pt x="403225" y="152400"/>
                  </a:lnTo>
                  <a:cubicBezTo>
                    <a:pt x="339725" y="158750"/>
                    <a:pt x="152400" y="165100"/>
                    <a:pt x="0" y="2667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11"/>
            <p:cNvSpPr/>
            <p:nvPr/>
          </p:nvSpPr>
          <p:spPr>
            <a:xfrm>
              <a:off x="3104280" y="2773440"/>
              <a:ext cx="793440" cy="232560"/>
            </a:xfrm>
            <a:custGeom>
              <a:avLst/>
              <a:gdLst/>
              <a:ahLst/>
              <a:rect l="l" t="t" r="r" b="b"/>
              <a:pathLst>
                <a:path w="606425" h="177800">
                  <a:moveTo>
                    <a:pt x="600075" y="177800"/>
                  </a:moveTo>
                  <a:lnTo>
                    <a:pt x="606425" y="0"/>
                  </a:lnTo>
                  <a:lnTo>
                    <a:pt x="0" y="73025"/>
                  </a:lnTo>
                  <a:cubicBezTo>
                    <a:pt x="228600" y="92075"/>
                    <a:pt x="479425" y="69850"/>
                    <a:pt x="600075" y="177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12"/>
            <p:cNvSpPr/>
            <p:nvPr/>
          </p:nvSpPr>
          <p:spPr>
            <a:xfrm>
              <a:off x="5950080" y="2499480"/>
              <a:ext cx="1387440" cy="631080"/>
            </a:xfrm>
            <a:custGeom>
              <a:avLst/>
              <a:gdLst/>
              <a:ahLst/>
              <a:rect l="l" t="t" r="r" b="b"/>
              <a:pathLst>
                <a:path w="1060450" h="482600">
                  <a:moveTo>
                    <a:pt x="1060450" y="482600"/>
                  </a:moveTo>
                  <a:cubicBezTo>
                    <a:pt x="684742" y="317500"/>
                    <a:pt x="232833" y="384175"/>
                    <a:pt x="0" y="349250"/>
                  </a:cubicBezTo>
                  <a:lnTo>
                    <a:pt x="577850" y="0"/>
                  </a:lnTo>
                  <a:cubicBezTo>
                    <a:pt x="738717" y="160867"/>
                    <a:pt x="909108" y="277283"/>
                    <a:pt x="1060450" y="4826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13"/>
            <p:cNvSpPr/>
            <p:nvPr/>
          </p:nvSpPr>
          <p:spPr>
            <a:xfrm>
              <a:off x="6984720" y="2740320"/>
              <a:ext cx="465120" cy="373680"/>
            </a:xfrm>
            <a:custGeom>
              <a:avLst/>
              <a:gdLst/>
              <a:ahLst/>
              <a:rect l="l" t="t" r="r" b="b"/>
              <a:pathLst>
                <a:path w="355600" h="285750">
                  <a:moveTo>
                    <a:pt x="266700" y="285750"/>
                  </a:moveTo>
                  <a:cubicBezTo>
                    <a:pt x="251883" y="200025"/>
                    <a:pt x="319617" y="152400"/>
                    <a:pt x="355600" y="142875"/>
                  </a:cubicBezTo>
                  <a:lnTo>
                    <a:pt x="120650" y="50800"/>
                  </a:lnTo>
                  <a:lnTo>
                    <a:pt x="0" y="0"/>
                  </a:lnTo>
                  <a:lnTo>
                    <a:pt x="266700" y="285750"/>
                  </a:ln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14"/>
            <p:cNvSpPr/>
            <p:nvPr/>
          </p:nvSpPr>
          <p:spPr>
            <a:xfrm>
              <a:off x="1322280" y="1581840"/>
              <a:ext cx="3215520" cy="1415880"/>
            </a:xfrm>
            <a:custGeom>
              <a:avLst/>
              <a:gdLst/>
              <a:ahLst/>
              <a:rect l="l" t="t" r="r" b="b"/>
              <a:pathLst>
                <a:path w="2457450" h="1082675">
                  <a:moveTo>
                    <a:pt x="0" y="1082675"/>
                  </a:moveTo>
                  <a:cubicBezTo>
                    <a:pt x="425450" y="784225"/>
                    <a:pt x="812800" y="415925"/>
                    <a:pt x="1285875" y="193675"/>
                  </a:cubicBezTo>
                  <a:cubicBezTo>
                    <a:pt x="1603375" y="68792"/>
                    <a:pt x="2054225" y="13758"/>
                    <a:pt x="2457450" y="0"/>
                  </a:cubicBezTo>
                  <a:cubicBezTo>
                    <a:pt x="1524000" y="88371"/>
                    <a:pt x="1205003" y="776999"/>
                    <a:pt x="1060450" y="1050925"/>
                  </a:cubicBezTo>
                  <a:cubicBezTo>
                    <a:pt x="920750" y="886883"/>
                    <a:pt x="193675" y="992717"/>
                    <a:pt x="0" y="1082675"/>
                  </a:cubicBez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15"/>
            <p:cNvSpPr/>
            <p:nvPr/>
          </p:nvSpPr>
          <p:spPr>
            <a:xfrm>
              <a:off x="4688640" y="1605600"/>
              <a:ext cx="3139200" cy="1475280"/>
            </a:xfrm>
            <a:custGeom>
              <a:avLst/>
              <a:gdLst/>
              <a:ahLst/>
              <a:rect l="l" t="t" r="r" b="b"/>
              <a:pathLst>
                <a:path w="2399248" h="1127948">
                  <a:moveTo>
                    <a:pt x="916523" y="1058098"/>
                  </a:moveTo>
                  <a:cubicBezTo>
                    <a:pt x="1304931" y="989306"/>
                    <a:pt x="1887015" y="942740"/>
                    <a:pt x="2399248" y="1127948"/>
                  </a:cubicBezTo>
                  <a:cubicBezTo>
                    <a:pt x="2009781" y="846431"/>
                    <a:pt x="1595967" y="-52613"/>
                    <a:pt x="0" y="2420"/>
                  </a:cubicBezTo>
                  <a:cubicBezTo>
                    <a:pt x="738115" y="84946"/>
                    <a:pt x="778940" y="895115"/>
                    <a:pt x="916523" y="105809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16"/>
            <p:cNvSpPr/>
            <p:nvPr/>
          </p:nvSpPr>
          <p:spPr>
            <a:xfrm>
              <a:off x="2709720" y="1585800"/>
              <a:ext cx="3182040" cy="1403640"/>
            </a:xfrm>
            <a:custGeom>
              <a:avLst/>
              <a:gdLst/>
              <a:ahLst/>
              <a:rect l="l" t="t" r="r" b="b"/>
              <a:pathLst>
                <a:path w="2432050" h="1073150">
                  <a:moveTo>
                    <a:pt x="0" y="1047750"/>
                  </a:moveTo>
                  <a:cubicBezTo>
                    <a:pt x="17553" y="983886"/>
                    <a:pt x="445996" y="25400"/>
                    <a:pt x="1409700" y="0"/>
                  </a:cubicBezTo>
                  <a:cubicBezTo>
                    <a:pt x="2258444" y="41308"/>
                    <a:pt x="2326217" y="893233"/>
                    <a:pt x="2432050" y="1073150"/>
                  </a:cubicBezTo>
                  <a:cubicBezTo>
                    <a:pt x="1519767" y="842433"/>
                    <a:pt x="804333" y="948267"/>
                    <a:pt x="0" y="1047750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7"/>
          <p:cNvSpPr/>
          <p:nvPr/>
        </p:nvSpPr>
        <p:spPr>
          <a:xfrm>
            <a:off x="3862440" y="2205000"/>
            <a:ext cx="13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 flipH="1">
            <a:off x="5723640" y="4253040"/>
            <a:ext cx="18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 flipH="1">
            <a:off x="5724360" y="3798720"/>
            <a:ext cx="147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 flipH="1">
            <a:off x="5724360" y="5199120"/>
            <a:ext cx="145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1"/>
          <p:cNvSpPr/>
          <p:nvPr/>
        </p:nvSpPr>
        <p:spPr>
          <a:xfrm flipH="1">
            <a:off x="5723640" y="4746600"/>
            <a:ext cx="16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 flipH="1">
            <a:off x="2402640" y="4253040"/>
            <a:ext cx="18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 flipH="1">
            <a:off x="2403360" y="3798720"/>
            <a:ext cx="147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1"/>
          <p:cNvSpPr/>
          <p:nvPr/>
        </p:nvSpPr>
        <p:spPr>
          <a:xfrm flipH="1">
            <a:off x="2403360" y="5199120"/>
            <a:ext cx="145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 flipH="1">
            <a:off x="2402640" y="4746600"/>
            <a:ext cx="163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6"/>
          <p:cNvSpPr/>
          <p:nvPr/>
        </p:nvSpPr>
        <p:spPr>
          <a:xfrm>
            <a:off x="8254080" y="260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9920" y="3333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</a:rPr>
              <a:t>精美的</a:t>
            </a: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5f5f5f"/>
                </a:solidFill>
                <a:latin typeface="Arial"/>
              </a:rPr>
              <a:t>图标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任意多边形 3"/>
          <p:cNvSpPr/>
          <p:nvPr/>
        </p:nvSpPr>
        <p:spPr>
          <a:xfrm>
            <a:off x="1106640" y="1916280"/>
            <a:ext cx="6634080" cy="3319200"/>
          </a:xfrm>
          <a:custGeom>
            <a:avLst/>
            <a:gdLst/>
            <a:ahLst/>
            <a:rect l="l" t="t" r="r" b="b"/>
            <a:pathLst>
              <a:path w="9471331" h="4737100">
                <a:moveTo>
                  <a:pt x="9460710" y="4604172"/>
                </a:moveTo>
                <a:lnTo>
                  <a:pt x="9467460" y="4609055"/>
                </a:lnTo>
                <a:lnTo>
                  <a:pt x="9460723" y="4609055"/>
                </a:lnTo>
                <a:lnTo>
                  <a:pt x="9460710" y="4604172"/>
                </a:lnTo>
                <a:close/>
                <a:moveTo>
                  <a:pt x="9459779" y="4267992"/>
                </a:moveTo>
                <a:lnTo>
                  <a:pt x="9471331" y="4267992"/>
                </a:lnTo>
                <a:lnTo>
                  <a:pt x="9459806" y="4277542"/>
                </a:lnTo>
                <a:lnTo>
                  <a:pt x="9459779" y="4267992"/>
                </a:lnTo>
                <a:close/>
                <a:moveTo>
                  <a:pt x="8769335" y="4213223"/>
                </a:moveTo>
                <a:cubicBezTo>
                  <a:pt x="8731527" y="4213223"/>
                  <a:pt x="8700877" y="4243873"/>
                  <a:pt x="8700877" y="4281681"/>
                </a:cubicBezTo>
                <a:lnTo>
                  <a:pt x="8700877" y="4485828"/>
                </a:lnTo>
                <a:cubicBezTo>
                  <a:pt x="8700877" y="4523636"/>
                  <a:pt x="8731527" y="4554286"/>
                  <a:pt x="8769335" y="4554286"/>
                </a:cubicBezTo>
                <a:lnTo>
                  <a:pt x="8919937" y="4554286"/>
                </a:lnTo>
                <a:cubicBezTo>
                  <a:pt x="8957745" y="4554286"/>
                  <a:pt x="8988395" y="4523636"/>
                  <a:pt x="8988395" y="4485828"/>
                </a:cubicBezTo>
                <a:lnTo>
                  <a:pt x="8988395" y="4281681"/>
                </a:lnTo>
                <a:cubicBezTo>
                  <a:pt x="8988395" y="4243873"/>
                  <a:pt x="8957745" y="4213223"/>
                  <a:pt x="8919937" y="4213223"/>
                </a:cubicBezTo>
                <a:lnTo>
                  <a:pt x="8769335" y="4213223"/>
                </a:lnTo>
                <a:close/>
                <a:moveTo>
                  <a:pt x="8252748" y="4199483"/>
                </a:moveTo>
                <a:cubicBezTo>
                  <a:pt x="8218147" y="4199483"/>
                  <a:pt x="8190097" y="4227533"/>
                  <a:pt x="8190097" y="4262134"/>
                </a:cubicBezTo>
                <a:lnTo>
                  <a:pt x="8190097" y="4423126"/>
                </a:lnTo>
                <a:cubicBezTo>
                  <a:pt x="8190097" y="4457727"/>
                  <a:pt x="8218147" y="4485777"/>
                  <a:pt x="8252748" y="4485777"/>
                </a:cubicBezTo>
                <a:lnTo>
                  <a:pt x="8390575" y="4485777"/>
                </a:lnTo>
                <a:cubicBezTo>
                  <a:pt x="8425176" y="4485777"/>
                  <a:pt x="8453226" y="4457727"/>
                  <a:pt x="8453226" y="4423126"/>
                </a:cubicBezTo>
                <a:lnTo>
                  <a:pt x="8453226" y="4262134"/>
                </a:lnTo>
                <a:cubicBezTo>
                  <a:pt x="8453226" y="4227533"/>
                  <a:pt x="8425176" y="4199483"/>
                  <a:pt x="8390575" y="4199483"/>
                </a:cubicBezTo>
                <a:lnTo>
                  <a:pt x="8252748" y="4199483"/>
                </a:lnTo>
                <a:close/>
                <a:moveTo>
                  <a:pt x="7760171" y="4137570"/>
                </a:moveTo>
                <a:cubicBezTo>
                  <a:pt x="7729328" y="4137570"/>
                  <a:pt x="7704324" y="4162574"/>
                  <a:pt x="7704324" y="4193417"/>
                </a:cubicBezTo>
                <a:lnTo>
                  <a:pt x="7704324" y="4376453"/>
                </a:lnTo>
                <a:cubicBezTo>
                  <a:pt x="7704324" y="4407296"/>
                  <a:pt x="7729328" y="4432300"/>
                  <a:pt x="7760171" y="4432300"/>
                </a:cubicBezTo>
                <a:lnTo>
                  <a:pt x="7883031" y="4432300"/>
                </a:lnTo>
                <a:cubicBezTo>
                  <a:pt x="7913874" y="4432300"/>
                  <a:pt x="7938878" y="4407296"/>
                  <a:pt x="7938878" y="4376453"/>
                </a:cubicBezTo>
                <a:lnTo>
                  <a:pt x="7938878" y="4193417"/>
                </a:lnTo>
                <a:cubicBezTo>
                  <a:pt x="7938878" y="4162574"/>
                  <a:pt x="7913874" y="4137570"/>
                  <a:pt x="7883031" y="4137570"/>
                </a:cubicBezTo>
                <a:lnTo>
                  <a:pt x="7760171" y="4137570"/>
                </a:lnTo>
                <a:close/>
                <a:moveTo>
                  <a:pt x="7323040" y="4104233"/>
                </a:moveTo>
                <a:cubicBezTo>
                  <a:pt x="7296894" y="4104233"/>
                  <a:pt x="7275698" y="4125429"/>
                  <a:pt x="7275698" y="4151575"/>
                </a:cubicBezTo>
                <a:lnTo>
                  <a:pt x="7275698" y="4351621"/>
                </a:lnTo>
                <a:cubicBezTo>
                  <a:pt x="7275698" y="4377767"/>
                  <a:pt x="7296894" y="4398963"/>
                  <a:pt x="7323040" y="4398963"/>
                </a:cubicBezTo>
                <a:lnTo>
                  <a:pt x="7427190" y="4398963"/>
                </a:lnTo>
                <a:cubicBezTo>
                  <a:pt x="7453336" y="4398963"/>
                  <a:pt x="7474532" y="4377767"/>
                  <a:pt x="7474532" y="4351621"/>
                </a:cubicBezTo>
                <a:lnTo>
                  <a:pt x="7474532" y="4151575"/>
                </a:lnTo>
                <a:cubicBezTo>
                  <a:pt x="7474532" y="4125429"/>
                  <a:pt x="7453336" y="4104233"/>
                  <a:pt x="7427190" y="4104233"/>
                </a:cubicBezTo>
                <a:lnTo>
                  <a:pt x="7323040" y="4104233"/>
                </a:lnTo>
                <a:close/>
                <a:moveTo>
                  <a:pt x="6908703" y="4070350"/>
                </a:moveTo>
                <a:cubicBezTo>
                  <a:pt x="6882557" y="4070350"/>
                  <a:pt x="6861361" y="4091546"/>
                  <a:pt x="6861361" y="4117692"/>
                </a:cubicBezTo>
                <a:lnTo>
                  <a:pt x="6861361" y="4306376"/>
                </a:lnTo>
                <a:cubicBezTo>
                  <a:pt x="6861361" y="4332522"/>
                  <a:pt x="6882557" y="4353718"/>
                  <a:pt x="6908703" y="4353718"/>
                </a:cubicBezTo>
                <a:lnTo>
                  <a:pt x="7012853" y="4353718"/>
                </a:lnTo>
                <a:cubicBezTo>
                  <a:pt x="7038999" y="4353718"/>
                  <a:pt x="7060195" y="4332522"/>
                  <a:pt x="7060195" y="4306376"/>
                </a:cubicBezTo>
                <a:lnTo>
                  <a:pt x="7060195" y="4117692"/>
                </a:lnTo>
                <a:cubicBezTo>
                  <a:pt x="7060195" y="4091546"/>
                  <a:pt x="7038999" y="4070350"/>
                  <a:pt x="7012853" y="4070350"/>
                </a:cubicBezTo>
                <a:lnTo>
                  <a:pt x="6908703" y="4070350"/>
                </a:lnTo>
                <a:close/>
                <a:moveTo>
                  <a:pt x="6518178" y="4039394"/>
                </a:moveTo>
                <a:cubicBezTo>
                  <a:pt x="6492032" y="4039394"/>
                  <a:pt x="6470836" y="4060590"/>
                  <a:pt x="6470836" y="4086736"/>
                </a:cubicBezTo>
                <a:lnTo>
                  <a:pt x="6470836" y="4275420"/>
                </a:lnTo>
                <a:cubicBezTo>
                  <a:pt x="6470836" y="4301566"/>
                  <a:pt x="6492032" y="4322762"/>
                  <a:pt x="6518178" y="4322762"/>
                </a:cubicBezTo>
                <a:lnTo>
                  <a:pt x="6622328" y="4322762"/>
                </a:lnTo>
                <a:cubicBezTo>
                  <a:pt x="6648474" y="4322762"/>
                  <a:pt x="6669670" y="4301566"/>
                  <a:pt x="6669670" y="4275420"/>
                </a:cubicBezTo>
                <a:lnTo>
                  <a:pt x="6669670" y="4086736"/>
                </a:lnTo>
                <a:cubicBezTo>
                  <a:pt x="6669670" y="4060590"/>
                  <a:pt x="6648474" y="4039394"/>
                  <a:pt x="6622328" y="4039394"/>
                </a:cubicBezTo>
                <a:lnTo>
                  <a:pt x="6518178" y="4039394"/>
                </a:lnTo>
                <a:close/>
                <a:moveTo>
                  <a:pt x="6165978" y="4015582"/>
                </a:moveTo>
                <a:cubicBezTo>
                  <a:pt x="6142336" y="4015582"/>
                  <a:pt x="6123171" y="4034747"/>
                  <a:pt x="6123171" y="4058389"/>
                </a:cubicBezTo>
                <a:lnTo>
                  <a:pt x="6123171" y="4227568"/>
                </a:lnTo>
                <a:cubicBezTo>
                  <a:pt x="6123171" y="4251210"/>
                  <a:pt x="6142336" y="4270375"/>
                  <a:pt x="6165978" y="4270375"/>
                </a:cubicBezTo>
                <a:lnTo>
                  <a:pt x="6260149" y="4270375"/>
                </a:lnTo>
                <a:cubicBezTo>
                  <a:pt x="6283791" y="4270375"/>
                  <a:pt x="6302956" y="4251210"/>
                  <a:pt x="6302956" y="4227568"/>
                </a:cubicBezTo>
                <a:lnTo>
                  <a:pt x="6302956" y="4058389"/>
                </a:lnTo>
                <a:cubicBezTo>
                  <a:pt x="6302956" y="4034747"/>
                  <a:pt x="6283791" y="4015582"/>
                  <a:pt x="6260149" y="4015582"/>
                </a:cubicBezTo>
                <a:lnTo>
                  <a:pt x="6165978" y="4015582"/>
                </a:lnTo>
                <a:close/>
                <a:moveTo>
                  <a:pt x="5844850" y="3994147"/>
                </a:moveTo>
                <a:cubicBezTo>
                  <a:pt x="5824966" y="3994147"/>
                  <a:pt x="5808846" y="4010267"/>
                  <a:pt x="5808846" y="4030151"/>
                </a:cubicBezTo>
                <a:lnTo>
                  <a:pt x="5808846" y="4205795"/>
                </a:lnTo>
                <a:cubicBezTo>
                  <a:pt x="5808846" y="4225679"/>
                  <a:pt x="5824966" y="4241799"/>
                  <a:pt x="5844850" y="4241799"/>
                </a:cubicBezTo>
                <a:lnTo>
                  <a:pt x="5924054" y="4241799"/>
                </a:lnTo>
                <a:cubicBezTo>
                  <a:pt x="5943938" y="4241799"/>
                  <a:pt x="5960058" y="4225679"/>
                  <a:pt x="5960058" y="4205795"/>
                </a:cubicBezTo>
                <a:lnTo>
                  <a:pt x="5960058" y="4030151"/>
                </a:lnTo>
                <a:cubicBezTo>
                  <a:pt x="5960058" y="4010267"/>
                  <a:pt x="5943938" y="3994147"/>
                  <a:pt x="5924054" y="3994147"/>
                </a:cubicBezTo>
                <a:lnTo>
                  <a:pt x="5844850" y="3994147"/>
                </a:lnTo>
                <a:close/>
                <a:moveTo>
                  <a:pt x="5541976" y="3958428"/>
                </a:moveTo>
                <a:cubicBezTo>
                  <a:pt x="5523657" y="3958428"/>
                  <a:pt x="5508807" y="3973278"/>
                  <a:pt x="5508807" y="3991597"/>
                </a:cubicBezTo>
                <a:lnTo>
                  <a:pt x="5508807" y="4158625"/>
                </a:lnTo>
                <a:cubicBezTo>
                  <a:pt x="5508807" y="4176944"/>
                  <a:pt x="5523657" y="4191794"/>
                  <a:pt x="5541976" y="4191794"/>
                </a:cubicBezTo>
                <a:lnTo>
                  <a:pt x="5614944" y="4191794"/>
                </a:lnTo>
                <a:cubicBezTo>
                  <a:pt x="5633263" y="4191794"/>
                  <a:pt x="5648113" y="4176944"/>
                  <a:pt x="5648113" y="4158625"/>
                </a:cubicBezTo>
                <a:lnTo>
                  <a:pt x="5648113" y="3991597"/>
                </a:lnTo>
                <a:cubicBezTo>
                  <a:pt x="5648113" y="3973278"/>
                  <a:pt x="5633263" y="3958428"/>
                  <a:pt x="5614944" y="3958428"/>
                </a:cubicBezTo>
                <a:lnTo>
                  <a:pt x="5541976" y="3958428"/>
                </a:lnTo>
                <a:close/>
                <a:moveTo>
                  <a:pt x="5270513" y="3920328"/>
                </a:moveTo>
                <a:cubicBezTo>
                  <a:pt x="5252194" y="3920328"/>
                  <a:pt x="5237344" y="3935178"/>
                  <a:pt x="5237344" y="3953497"/>
                </a:cubicBezTo>
                <a:lnTo>
                  <a:pt x="5237344" y="4127669"/>
                </a:lnTo>
                <a:cubicBezTo>
                  <a:pt x="5237344" y="4145988"/>
                  <a:pt x="5252194" y="4160838"/>
                  <a:pt x="5270513" y="4160838"/>
                </a:cubicBezTo>
                <a:lnTo>
                  <a:pt x="5343481" y="4160838"/>
                </a:lnTo>
                <a:cubicBezTo>
                  <a:pt x="5361800" y="4160838"/>
                  <a:pt x="5376650" y="4145988"/>
                  <a:pt x="5376650" y="4127669"/>
                </a:cubicBezTo>
                <a:lnTo>
                  <a:pt x="5376650" y="3953497"/>
                </a:lnTo>
                <a:cubicBezTo>
                  <a:pt x="5376650" y="3935178"/>
                  <a:pt x="5361800" y="3920328"/>
                  <a:pt x="5343481" y="3920328"/>
                </a:cubicBezTo>
                <a:lnTo>
                  <a:pt x="5270513" y="3920328"/>
                </a:lnTo>
                <a:close/>
                <a:moveTo>
                  <a:pt x="5003813" y="3908421"/>
                </a:moveTo>
                <a:cubicBezTo>
                  <a:pt x="4985494" y="3908421"/>
                  <a:pt x="4970644" y="3923271"/>
                  <a:pt x="4970644" y="3941590"/>
                </a:cubicBezTo>
                <a:lnTo>
                  <a:pt x="4970644" y="4103855"/>
                </a:lnTo>
                <a:cubicBezTo>
                  <a:pt x="4970644" y="4122174"/>
                  <a:pt x="4985494" y="4137024"/>
                  <a:pt x="5003813" y="4137024"/>
                </a:cubicBezTo>
                <a:lnTo>
                  <a:pt x="5076781" y="4137024"/>
                </a:lnTo>
                <a:cubicBezTo>
                  <a:pt x="5095100" y="4137024"/>
                  <a:pt x="5109950" y="4122174"/>
                  <a:pt x="5109950" y="4103855"/>
                </a:cubicBezTo>
                <a:lnTo>
                  <a:pt x="5109950" y="3941590"/>
                </a:lnTo>
                <a:cubicBezTo>
                  <a:pt x="5109950" y="3923271"/>
                  <a:pt x="5095100" y="3908421"/>
                  <a:pt x="5076781" y="3908421"/>
                </a:cubicBezTo>
                <a:lnTo>
                  <a:pt x="5003813" y="3908421"/>
                </a:lnTo>
                <a:close/>
                <a:moveTo>
                  <a:pt x="4746638" y="3872702"/>
                </a:moveTo>
                <a:cubicBezTo>
                  <a:pt x="4728319" y="3872702"/>
                  <a:pt x="4713469" y="3887552"/>
                  <a:pt x="4713469" y="3905871"/>
                </a:cubicBezTo>
                <a:lnTo>
                  <a:pt x="4713469" y="4068136"/>
                </a:lnTo>
                <a:cubicBezTo>
                  <a:pt x="4713469" y="4086455"/>
                  <a:pt x="4728319" y="4101305"/>
                  <a:pt x="4746638" y="4101305"/>
                </a:cubicBezTo>
                <a:lnTo>
                  <a:pt x="4819606" y="4101305"/>
                </a:lnTo>
                <a:cubicBezTo>
                  <a:pt x="4837925" y="4101305"/>
                  <a:pt x="4852775" y="4086455"/>
                  <a:pt x="4852775" y="4068136"/>
                </a:cubicBezTo>
                <a:lnTo>
                  <a:pt x="4852775" y="3905871"/>
                </a:lnTo>
                <a:cubicBezTo>
                  <a:pt x="4852775" y="3887552"/>
                  <a:pt x="4837925" y="3872702"/>
                  <a:pt x="4819606" y="3872702"/>
                </a:cubicBezTo>
                <a:lnTo>
                  <a:pt x="4746638" y="3872702"/>
                </a:lnTo>
                <a:close/>
                <a:moveTo>
                  <a:pt x="4507491" y="3841744"/>
                </a:moveTo>
                <a:cubicBezTo>
                  <a:pt x="4491051" y="3841744"/>
                  <a:pt x="4477724" y="3855071"/>
                  <a:pt x="4477724" y="3871511"/>
                </a:cubicBezTo>
                <a:lnTo>
                  <a:pt x="4477724" y="4033439"/>
                </a:lnTo>
                <a:cubicBezTo>
                  <a:pt x="4477724" y="4049879"/>
                  <a:pt x="4491051" y="4063206"/>
                  <a:pt x="4507491" y="4063206"/>
                </a:cubicBezTo>
                <a:lnTo>
                  <a:pt x="4572977" y="4063206"/>
                </a:lnTo>
                <a:cubicBezTo>
                  <a:pt x="4589417" y="4063206"/>
                  <a:pt x="4602744" y="4049879"/>
                  <a:pt x="4602744" y="4033439"/>
                </a:cubicBezTo>
                <a:lnTo>
                  <a:pt x="4602744" y="3871511"/>
                </a:lnTo>
                <a:cubicBezTo>
                  <a:pt x="4602744" y="3855071"/>
                  <a:pt x="4589417" y="3841744"/>
                  <a:pt x="4572977" y="3841744"/>
                </a:cubicBezTo>
                <a:lnTo>
                  <a:pt x="4507491" y="3841744"/>
                </a:lnTo>
                <a:close/>
                <a:moveTo>
                  <a:pt x="4306672" y="3822693"/>
                </a:moveTo>
                <a:cubicBezTo>
                  <a:pt x="4294616" y="3822693"/>
                  <a:pt x="4284842" y="3832467"/>
                  <a:pt x="4284842" y="3844523"/>
                </a:cubicBezTo>
                <a:lnTo>
                  <a:pt x="4284842" y="3996132"/>
                </a:lnTo>
                <a:cubicBezTo>
                  <a:pt x="4284842" y="4008188"/>
                  <a:pt x="4294616" y="4017962"/>
                  <a:pt x="4306672" y="4017962"/>
                </a:cubicBezTo>
                <a:lnTo>
                  <a:pt x="4354696" y="4017962"/>
                </a:lnTo>
                <a:cubicBezTo>
                  <a:pt x="4366752" y="4017962"/>
                  <a:pt x="4376526" y="4008188"/>
                  <a:pt x="4376526" y="3996132"/>
                </a:cubicBezTo>
                <a:lnTo>
                  <a:pt x="4376526" y="3844523"/>
                </a:lnTo>
                <a:cubicBezTo>
                  <a:pt x="4376526" y="3832467"/>
                  <a:pt x="4366752" y="3822693"/>
                  <a:pt x="4354696" y="3822693"/>
                </a:cubicBezTo>
                <a:lnTo>
                  <a:pt x="4306672" y="3822693"/>
                </a:lnTo>
                <a:close/>
                <a:moveTo>
                  <a:pt x="4118553" y="3784593"/>
                </a:moveTo>
                <a:cubicBezTo>
                  <a:pt x="4106497" y="3784593"/>
                  <a:pt x="4096723" y="3794367"/>
                  <a:pt x="4096723" y="3806423"/>
                </a:cubicBezTo>
                <a:lnTo>
                  <a:pt x="4096723" y="3958032"/>
                </a:lnTo>
                <a:cubicBezTo>
                  <a:pt x="4096723" y="3970088"/>
                  <a:pt x="4106497" y="3979862"/>
                  <a:pt x="4118553" y="3979862"/>
                </a:cubicBezTo>
                <a:lnTo>
                  <a:pt x="4166577" y="3979862"/>
                </a:lnTo>
                <a:cubicBezTo>
                  <a:pt x="4178633" y="3979862"/>
                  <a:pt x="4188407" y="3970088"/>
                  <a:pt x="4188407" y="3958032"/>
                </a:cubicBezTo>
                <a:lnTo>
                  <a:pt x="4188407" y="3806423"/>
                </a:lnTo>
                <a:cubicBezTo>
                  <a:pt x="4188407" y="3794367"/>
                  <a:pt x="4178633" y="3784593"/>
                  <a:pt x="4166577" y="3784593"/>
                </a:cubicBezTo>
                <a:lnTo>
                  <a:pt x="4118553" y="3784593"/>
                </a:lnTo>
                <a:close/>
                <a:moveTo>
                  <a:pt x="3928053" y="3775068"/>
                </a:moveTo>
                <a:cubicBezTo>
                  <a:pt x="3915997" y="3775068"/>
                  <a:pt x="3906223" y="3784842"/>
                  <a:pt x="3906223" y="3796898"/>
                </a:cubicBezTo>
                <a:lnTo>
                  <a:pt x="3906223" y="3934220"/>
                </a:lnTo>
                <a:cubicBezTo>
                  <a:pt x="3906223" y="3946276"/>
                  <a:pt x="3915997" y="3956050"/>
                  <a:pt x="3928053" y="3956050"/>
                </a:cubicBezTo>
                <a:lnTo>
                  <a:pt x="3976077" y="3956050"/>
                </a:lnTo>
                <a:cubicBezTo>
                  <a:pt x="3988133" y="3956050"/>
                  <a:pt x="3997907" y="3946276"/>
                  <a:pt x="3997907" y="3934220"/>
                </a:cubicBezTo>
                <a:lnTo>
                  <a:pt x="3997907" y="3796898"/>
                </a:lnTo>
                <a:cubicBezTo>
                  <a:pt x="3997907" y="3784842"/>
                  <a:pt x="3988133" y="3775068"/>
                  <a:pt x="3976077" y="3775068"/>
                </a:cubicBezTo>
                <a:lnTo>
                  <a:pt x="3928053" y="3775068"/>
                </a:lnTo>
                <a:close/>
                <a:moveTo>
                  <a:pt x="3768288" y="3746500"/>
                </a:moveTo>
                <a:cubicBezTo>
                  <a:pt x="3757015" y="3746500"/>
                  <a:pt x="3747877" y="3755638"/>
                  <a:pt x="3747877" y="3766911"/>
                </a:cubicBezTo>
                <a:lnTo>
                  <a:pt x="3747877" y="3904683"/>
                </a:lnTo>
                <a:cubicBezTo>
                  <a:pt x="3747877" y="3915956"/>
                  <a:pt x="3757015" y="3925094"/>
                  <a:pt x="3768288" y="3925094"/>
                </a:cubicBezTo>
                <a:lnTo>
                  <a:pt x="3813190" y="3925094"/>
                </a:lnTo>
                <a:cubicBezTo>
                  <a:pt x="3824463" y="3925094"/>
                  <a:pt x="3833601" y="3915956"/>
                  <a:pt x="3833601" y="3904683"/>
                </a:cubicBezTo>
                <a:lnTo>
                  <a:pt x="3833601" y="3766911"/>
                </a:lnTo>
                <a:cubicBezTo>
                  <a:pt x="3833601" y="3755638"/>
                  <a:pt x="3824463" y="3746500"/>
                  <a:pt x="3813190" y="3746500"/>
                </a:cubicBezTo>
                <a:lnTo>
                  <a:pt x="3768288" y="3746500"/>
                </a:lnTo>
                <a:close/>
                <a:moveTo>
                  <a:pt x="3618269" y="3717925"/>
                </a:moveTo>
                <a:cubicBezTo>
                  <a:pt x="3606996" y="3717925"/>
                  <a:pt x="3597858" y="3727063"/>
                  <a:pt x="3597858" y="3738336"/>
                </a:cubicBezTo>
                <a:lnTo>
                  <a:pt x="3597858" y="3876108"/>
                </a:lnTo>
                <a:cubicBezTo>
                  <a:pt x="3597858" y="3887381"/>
                  <a:pt x="3606996" y="3896519"/>
                  <a:pt x="3618269" y="3896519"/>
                </a:cubicBezTo>
                <a:lnTo>
                  <a:pt x="3663171" y="3896519"/>
                </a:lnTo>
                <a:cubicBezTo>
                  <a:pt x="3674444" y="3896519"/>
                  <a:pt x="3683582" y="3887381"/>
                  <a:pt x="3683582" y="3876108"/>
                </a:cubicBezTo>
                <a:lnTo>
                  <a:pt x="3683582" y="3738336"/>
                </a:lnTo>
                <a:cubicBezTo>
                  <a:pt x="3683582" y="3727063"/>
                  <a:pt x="3674444" y="3717925"/>
                  <a:pt x="3663171" y="3717925"/>
                </a:cubicBezTo>
                <a:lnTo>
                  <a:pt x="3618269" y="3717925"/>
                </a:lnTo>
                <a:close/>
                <a:moveTo>
                  <a:pt x="3473125" y="3689350"/>
                </a:moveTo>
                <a:cubicBezTo>
                  <a:pt x="3463105" y="3689350"/>
                  <a:pt x="3454982" y="3697473"/>
                  <a:pt x="3454982" y="3707493"/>
                </a:cubicBezTo>
                <a:lnTo>
                  <a:pt x="3454982" y="3833131"/>
                </a:lnTo>
                <a:cubicBezTo>
                  <a:pt x="3454982" y="3843151"/>
                  <a:pt x="3463105" y="3851274"/>
                  <a:pt x="3473125" y="3851274"/>
                </a:cubicBezTo>
                <a:lnTo>
                  <a:pt x="3513039" y="3851274"/>
                </a:lnTo>
                <a:cubicBezTo>
                  <a:pt x="3523059" y="3851274"/>
                  <a:pt x="3531182" y="3843151"/>
                  <a:pt x="3531182" y="3833131"/>
                </a:cubicBezTo>
                <a:lnTo>
                  <a:pt x="3531182" y="3707493"/>
                </a:lnTo>
                <a:cubicBezTo>
                  <a:pt x="3531182" y="3697473"/>
                  <a:pt x="3523059" y="3689350"/>
                  <a:pt x="3513039" y="3689350"/>
                </a:cubicBezTo>
                <a:lnTo>
                  <a:pt x="3473125" y="3689350"/>
                </a:lnTo>
                <a:close/>
                <a:moveTo>
                  <a:pt x="3317890" y="3663156"/>
                </a:moveTo>
                <a:cubicBezTo>
                  <a:pt x="3309435" y="3663156"/>
                  <a:pt x="3302581" y="3670010"/>
                  <a:pt x="3302581" y="3678465"/>
                </a:cubicBezTo>
                <a:lnTo>
                  <a:pt x="3302581" y="3809771"/>
                </a:lnTo>
                <a:cubicBezTo>
                  <a:pt x="3302581" y="3818226"/>
                  <a:pt x="3309435" y="3825080"/>
                  <a:pt x="3317890" y="3825080"/>
                </a:cubicBezTo>
                <a:lnTo>
                  <a:pt x="3351567" y="3825080"/>
                </a:lnTo>
                <a:cubicBezTo>
                  <a:pt x="3360022" y="3825080"/>
                  <a:pt x="3366876" y="3818226"/>
                  <a:pt x="3366876" y="3809771"/>
                </a:cubicBezTo>
                <a:lnTo>
                  <a:pt x="3366876" y="3678465"/>
                </a:lnTo>
                <a:cubicBezTo>
                  <a:pt x="3366876" y="3670010"/>
                  <a:pt x="3360022" y="3663156"/>
                  <a:pt x="3351567" y="3663156"/>
                </a:cubicBezTo>
                <a:lnTo>
                  <a:pt x="3317890" y="3663156"/>
                </a:lnTo>
                <a:close/>
                <a:moveTo>
                  <a:pt x="3209032" y="3644102"/>
                </a:moveTo>
                <a:cubicBezTo>
                  <a:pt x="3201518" y="3644102"/>
                  <a:pt x="3195426" y="3650194"/>
                  <a:pt x="3195426" y="3657708"/>
                </a:cubicBezTo>
                <a:lnTo>
                  <a:pt x="3195426" y="3780513"/>
                </a:lnTo>
                <a:cubicBezTo>
                  <a:pt x="3195426" y="3788027"/>
                  <a:pt x="3201518" y="3794119"/>
                  <a:pt x="3209032" y="3794119"/>
                </a:cubicBezTo>
                <a:lnTo>
                  <a:pt x="3238966" y="3794119"/>
                </a:lnTo>
                <a:cubicBezTo>
                  <a:pt x="3246480" y="3794119"/>
                  <a:pt x="3252572" y="3788027"/>
                  <a:pt x="3252572" y="3780513"/>
                </a:cubicBezTo>
                <a:lnTo>
                  <a:pt x="3252572" y="3657708"/>
                </a:lnTo>
                <a:cubicBezTo>
                  <a:pt x="3252572" y="3650194"/>
                  <a:pt x="3246480" y="3644102"/>
                  <a:pt x="3238966" y="3644102"/>
                </a:cubicBezTo>
                <a:lnTo>
                  <a:pt x="3209032" y="3644102"/>
                </a:lnTo>
                <a:close/>
                <a:moveTo>
                  <a:pt x="3082826" y="3613145"/>
                </a:moveTo>
                <a:cubicBezTo>
                  <a:pt x="3075312" y="3613145"/>
                  <a:pt x="3069220" y="3619237"/>
                  <a:pt x="3069220" y="3626751"/>
                </a:cubicBezTo>
                <a:lnTo>
                  <a:pt x="3069220" y="3761461"/>
                </a:lnTo>
                <a:cubicBezTo>
                  <a:pt x="3069220" y="3768975"/>
                  <a:pt x="3075312" y="3775067"/>
                  <a:pt x="3082826" y="3775067"/>
                </a:cubicBezTo>
                <a:lnTo>
                  <a:pt x="3112760" y="3775067"/>
                </a:lnTo>
                <a:cubicBezTo>
                  <a:pt x="3120274" y="3775067"/>
                  <a:pt x="3126366" y="3768975"/>
                  <a:pt x="3126366" y="3761461"/>
                </a:cubicBezTo>
                <a:lnTo>
                  <a:pt x="3126366" y="3626751"/>
                </a:lnTo>
                <a:cubicBezTo>
                  <a:pt x="3126366" y="3619237"/>
                  <a:pt x="3120274" y="3613145"/>
                  <a:pt x="3112760" y="3613145"/>
                </a:cubicBezTo>
                <a:lnTo>
                  <a:pt x="3082826" y="3613145"/>
                </a:lnTo>
                <a:close/>
                <a:moveTo>
                  <a:pt x="2956620" y="3598858"/>
                </a:moveTo>
                <a:cubicBezTo>
                  <a:pt x="2949106" y="3598858"/>
                  <a:pt x="2943014" y="3604950"/>
                  <a:pt x="2943014" y="3612464"/>
                </a:cubicBezTo>
                <a:lnTo>
                  <a:pt x="2943014" y="3747174"/>
                </a:lnTo>
                <a:cubicBezTo>
                  <a:pt x="2943014" y="3754688"/>
                  <a:pt x="2949106" y="3760780"/>
                  <a:pt x="2956620" y="3760780"/>
                </a:cubicBezTo>
                <a:lnTo>
                  <a:pt x="2986554" y="3760780"/>
                </a:lnTo>
                <a:cubicBezTo>
                  <a:pt x="2994068" y="3760780"/>
                  <a:pt x="3000160" y="3754688"/>
                  <a:pt x="3000160" y="3747174"/>
                </a:cubicBezTo>
                <a:lnTo>
                  <a:pt x="3000160" y="3612464"/>
                </a:lnTo>
                <a:cubicBezTo>
                  <a:pt x="3000160" y="3604950"/>
                  <a:pt x="2994068" y="3598858"/>
                  <a:pt x="2986554" y="3598858"/>
                </a:cubicBezTo>
                <a:lnTo>
                  <a:pt x="2956620" y="3598858"/>
                </a:lnTo>
                <a:close/>
                <a:moveTo>
                  <a:pt x="2834817" y="3567902"/>
                </a:moveTo>
                <a:cubicBezTo>
                  <a:pt x="2828805" y="3567902"/>
                  <a:pt x="2823931" y="3572776"/>
                  <a:pt x="2823931" y="3578788"/>
                </a:cubicBezTo>
                <a:lnTo>
                  <a:pt x="2823931" y="3718938"/>
                </a:lnTo>
                <a:cubicBezTo>
                  <a:pt x="2823931" y="3724950"/>
                  <a:pt x="2828805" y="3729824"/>
                  <a:pt x="2834817" y="3729824"/>
                </a:cubicBezTo>
                <a:lnTo>
                  <a:pt x="2858764" y="3729824"/>
                </a:lnTo>
                <a:cubicBezTo>
                  <a:pt x="2864776" y="3729824"/>
                  <a:pt x="2869650" y="3724950"/>
                  <a:pt x="2869650" y="3718938"/>
                </a:cubicBezTo>
                <a:lnTo>
                  <a:pt x="2869650" y="3578788"/>
                </a:lnTo>
                <a:cubicBezTo>
                  <a:pt x="2869650" y="3572776"/>
                  <a:pt x="2864776" y="3567902"/>
                  <a:pt x="2858764" y="3567902"/>
                </a:cubicBezTo>
                <a:lnTo>
                  <a:pt x="2834817" y="3567902"/>
                </a:lnTo>
                <a:close/>
                <a:moveTo>
                  <a:pt x="2715754" y="3536946"/>
                </a:moveTo>
                <a:cubicBezTo>
                  <a:pt x="2709742" y="3536946"/>
                  <a:pt x="2704868" y="3541820"/>
                  <a:pt x="2704868" y="3547832"/>
                </a:cubicBezTo>
                <a:lnTo>
                  <a:pt x="2704868" y="3687982"/>
                </a:lnTo>
                <a:cubicBezTo>
                  <a:pt x="2704868" y="3693994"/>
                  <a:pt x="2709742" y="3698868"/>
                  <a:pt x="2715754" y="3698868"/>
                </a:cubicBezTo>
                <a:lnTo>
                  <a:pt x="2739701" y="3698868"/>
                </a:lnTo>
                <a:cubicBezTo>
                  <a:pt x="2745713" y="3698868"/>
                  <a:pt x="2750587" y="3693994"/>
                  <a:pt x="2750587" y="3687982"/>
                </a:cubicBezTo>
                <a:lnTo>
                  <a:pt x="2750587" y="3547832"/>
                </a:lnTo>
                <a:cubicBezTo>
                  <a:pt x="2750587" y="3541820"/>
                  <a:pt x="2745713" y="3536946"/>
                  <a:pt x="2739701" y="3536946"/>
                </a:cubicBezTo>
                <a:lnTo>
                  <a:pt x="2715754" y="3536946"/>
                </a:lnTo>
                <a:close/>
                <a:moveTo>
                  <a:pt x="2589548" y="3517896"/>
                </a:moveTo>
                <a:cubicBezTo>
                  <a:pt x="2583536" y="3517896"/>
                  <a:pt x="2578662" y="3522770"/>
                  <a:pt x="2578662" y="3528782"/>
                </a:cubicBezTo>
                <a:lnTo>
                  <a:pt x="2578662" y="3668932"/>
                </a:lnTo>
                <a:cubicBezTo>
                  <a:pt x="2578662" y="3674944"/>
                  <a:pt x="2583536" y="3679818"/>
                  <a:pt x="2589548" y="3679818"/>
                </a:cubicBezTo>
                <a:lnTo>
                  <a:pt x="2613495" y="3679818"/>
                </a:lnTo>
                <a:cubicBezTo>
                  <a:pt x="2619507" y="3679818"/>
                  <a:pt x="2624381" y="3674944"/>
                  <a:pt x="2624381" y="3668932"/>
                </a:cubicBezTo>
                <a:lnTo>
                  <a:pt x="2624381" y="3528782"/>
                </a:lnTo>
                <a:cubicBezTo>
                  <a:pt x="2624381" y="3522770"/>
                  <a:pt x="2619507" y="3517896"/>
                  <a:pt x="2613495" y="3517896"/>
                </a:cubicBezTo>
                <a:lnTo>
                  <a:pt x="2589548" y="3517896"/>
                </a:lnTo>
                <a:close/>
                <a:moveTo>
                  <a:pt x="2460961" y="3496465"/>
                </a:moveTo>
                <a:cubicBezTo>
                  <a:pt x="2454949" y="3496465"/>
                  <a:pt x="2450075" y="3501339"/>
                  <a:pt x="2450075" y="3507351"/>
                </a:cubicBezTo>
                <a:lnTo>
                  <a:pt x="2450075" y="3647501"/>
                </a:lnTo>
                <a:cubicBezTo>
                  <a:pt x="2450075" y="3653513"/>
                  <a:pt x="2454949" y="3658387"/>
                  <a:pt x="2460961" y="3658387"/>
                </a:cubicBezTo>
                <a:lnTo>
                  <a:pt x="2484908" y="3658387"/>
                </a:lnTo>
                <a:cubicBezTo>
                  <a:pt x="2490920" y="3658387"/>
                  <a:pt x="2495794" y="3653513"/>
                  <a:pt x="2495794" y="3647501"/>
                </a:cubicBezTo>
                <a:lnTo>
                  <a:pt x="2495794" y="3507351"/>
                </a:lnTo>
                <a:cubicBezTo>
                  <a:pt x="2495794" y="3501339"/>
                  <a:pt x="2490920" y="3496465"/>
                  <a:pt x="2484908" y="3496465"/>
                </a:cubicBezTo>
                <a:lnTo>
                  <a:pt x="2460961" y="3496465"/>
                </a:lnTo>
                <a:close/>
                <a:moveTo>
                  <a:pt x="2339517" y="3479794"/>
                </a:moveTo>
                <a:cubicBezTo>
                  <a:pt x="2333505" y="3479794"/>
                  <a:pt x="2328631" y="3484668"/>
                  <a:pt x="2328631" y="3490680"/>
                </a:cubicBezTo>
                <a:lnTo>
                  <a:pt x="2328631" y="3623693"/>
                </a:lnTo>
                <a:cubicBezTo>
                  <a:pt x="2328631" y="3629705"/>
                  <a:pt x="2333505" y="3634579"/>
                  <a:pt x="2339517" y="3634579"/>
                </a:cubicBezTo>
                <a:lnTo>
                  <a:pt x="2363464" y="3634579"/>
                </a:lnTo>
                <a:cubicBezTo>
                  <a:pt x="2369476" y="3634579"/>
                  <a:pt x="2374350" y="3629705"/>
                  <a:pt x="2374350" y="3623693"/>
                </a:cubicBezTo>
                <a:lnTo>
                  <a:pt x="2374350" y="3490680"/>
                </a:lnTo>
                <a:cubicBezTo>
                  <a:pt x="2374350" y="3484668"/>
                  <a:pt x="2369476" y="3479794"/>
                  <a:pt x="2363464" y="3479794"/>
                </a:cubicBezTo>
                <a:lnTo>
                  <a:pt x="2339517" y="3479794"/>
                </a:lnTo>
                <a:close/>
                <a:moveTo>
                  <a:pt x="2215692" y="3451219"/>
                </a:moveTo>
                <a:cubicBezTo>
                  <a:pt x="2209680" y="3451219"/>
                  <a:pt x="2204806" y="3456093"/>
                  <a:pt x="2204806" y="3462105"/>
                </a:cubicBezTo>
                <a:lnTo>
                  <a:pt x="2204806" y="3595118"/>
                </a:lnTo>
                <a:cubicBezTo>
                  <a:pt x="2204806" y="3601130"/>
                  <a:pt x="2209680" y="3606004"/>
                  <a:pt x="2215692" y="3606004"/>
                </a:cubicBezTo>
                <a:lnTo>
                  <a:pt x="2239639" y="3606004"/>
                </a:lnTo>
                <a:cubicBezTo>
                  <a:pt x="2245651" y="3606004"/>
                  <a:pt x="2250525" y="3601130"/>
                  <a:pt x="2250525" y="3595118"/>
                </a:cubicBezTo>
                <a:lnTo>
                  <a:pt x="2250525" y="3462105"/>
                </a:lnTo>
                <a:cubicBezTo>
                  <a:pt x="2250525" y="3456093"/>
                  <a:pt x="2245651" y="3451219"/>
                  <a:pt x="2239639" y="3451219"/>
                </a:cubicBezTo>
                <a:lnTo>
                  <a:pt x="2215692" y="3451219"/>
                </a:lnTo>
                <a:close/>
                <a:moveTo>
                  <a:pt x="2108536" y="3432169"/>
                </a:moveTo>
                <a:cubicBezTo>
                  <a:pt x="2102524" y="3432169"/>
                  <a:pt x="2097650" y="3437043"/>
                  <a:pt x="2097650" y="3443055"/>
                </a:cubicBezTo>
                <a:lnTo>
                  <a:pt x="2097650" y="3576068"/>
                </a:lnTo>
                <a:cubicBezTo>
                  <a:pt x="2097650" y="3582080"/>
                  <a:pt x="2102524" y="3586954"/>
                  <a:pt x="2108536" y="3586954"/>
                </a:cubicBezTo>
                <a:lnTo>
                  <a:pt x="2132483" y="3586954"/>
                </a:lnTo>
                <a:cubicBezTo>
                  <a:pt x="2138495" y="3586954"/>
                  <a:pt x="2143369" y="3582080"/>
                  <a:pt x="2143369" y="3576068"/>
                </a:cubicBezTo>
                <a:lnTo>
                  <a:pt x="2143369" y="3443055"/>
                </a:lnTo>
                <a:cubicBezTo>
                  <a:pt x="2143369" y="3437043"/>
                  <a:pt x="2138495" y="3432169"/>
                  <a:pt x="2132483" y="3432169"/>
                </a:cubicBezTo>
                <a:lnTo>
                  <a:pt x="2108536" y="3432169"/>
                </a:lnTo>
                <a:close/>
                <a:moveTo>
                  <a:pt x="1965660" y="3422645"/>
                </a:moveTo>
                <a:cubicBezTo>
                  <a:pt x="1959648" y="3422645"/>
                  <a:pt x="1954774" y="3427519"/>
                  <a:pt x="1954774" y="3433531"/>
                </a:cubicBezTo>
                <a:lnTo>
                  <a:pt x="1954774" y="3545115"/>
                </a:lnTo>
                <a:cubicBezTo>
                  <a:pt x="1954774" y="3551127"/>
                  <a:pt x="1959648" y="3556001"/>
                  <a:pt x="1965660" y="3556001"/>
                </a:cubicBezTo>
                <a:lnTo>
                  <a:pt x="1989607" y="3556001"/>
                </a:lnTo>
                <a:cubicBezTo>
                  <a:pt x="1995619" y="3556001"/>
                  <a:pt x="2000493" y="3551127"/>
                  <a:pt x="2000493" y="3545115"/>
                </a:cubicBezTo>
                <a:lnTo>
                  <a:pt x="2000493" y="3433531"/>
                </a:lnTo>
                <a:cubicBezTo>
                  <a:pt x="2000493" y="3427519"/>
                  <a:pt x="1995619" y="3422645"/>
                  <a:pt x="1989607" y="3422645"/>
                </a:cubicBezTo>
                <a:lnTo>
                  <a:pt x="1965660" y="3422645"/>
                </a:lnTo>
                <a:close/>
                <a:moveTo>
                  <a:pt x="1841833" y="3408358"/>
                </a:moveTo>
                <a:cubicBezTo>
                  <a:pt x="1835821" y="3408358"/>
                  <a:pt x="1830947" y="3413232"/>
                  <a:pt x="1830947" y="3419244"/>
                </a:cubicBezTo>
                <a:lnTo>
                  <a:pt x="1830947" y="3521302"/>
                </a:lnTo>
                <a:cubicBezTo>
                  <a:pt x="1830947" y="3527314"/>
                  <a:pt x="1835821" y="3532188"/>
                  <a:pt x="1841833" y="3532188"/>
                </a:cubicBezTo>
                <a:lnTo>
                  <a:pt x="1865780" y="3532188"/>
                </a:lnTo>
                <a:cubicBezTo>
                  <a:pt x="1871792" y="3532188"/>
                  <a:pt x="1876666" y="3527314"/>
                  <a:pt x="1876666" y="3521302"/>
                </a:cubicBezTo>
                <a:lnTo>
                  <a:pt x="1876666" y="3419244"/>
                </a:lnTo>
                <a:cubicBezTo>
                  <a:pt x="1876666" y="3413232"/>
                  <a:pt x="1871792" y="3408358"/>
                  <a:pt x="1865780" y="3408358"/>
                </a:cubicBezTo>
                <a:lnTo>
                  <a:pt x="1841833" y="3408358"/>
                </a:lnTo>
                <a:close/>
                <a:moveTo>
                  <a:pt x="1708482" y="3391689"/>
                </a:moveTo>
                <a:cubicBezTo>
                  <a:pt x="1702470" y="3391689"/>
                  <a:pt x="1697596" y="3396563"/>
                  <a:pt x="1697596" y="3402575"/>
                </a:cubicBezTo>
                <a:lnTo>
                  <a:pt x="1697596" y="3504633"/>
                </a:lnTo>
                <a:cubicBezTo>
                  <a:pt x="1697596" y="3510645"/>
                  <a:pt x="1702470" y="3515519"/>
                  <a:pt x="1708482" y="3515519"/>
                </a:cubicBezTo>
                <a:lnTo>
                  <a:pt x="1732429" y="3515519"/>
                </a:lnTo>
                <a:cubicBezTo>
                  <a:pt x="1738441" y="3515519"/>
                  <a:pt x="1743315" y="3510645"/>
                  <a:pt x="1743315" y="3504633"/>
                </a:cubicBezTo>
                <a:lnTo>
                  <a:pt x="1743315" y="3402575"/>
                </a:lnTo>
                <a:cubicBezTo>
                  <a:pt x="1743315" y="3396563"/>
                  <a:pt x="1738441" y="3391689"/>
                  <a:pt x="1732429" y="3391689"/>
                </a:cubicBezTo>
                <a:lnTo>
                  <a:pt x="1708482" y="3391689"/>
                </a:lnTo>
                <a:close/>
                <a:moveTo>
                  <a:pt x="1567989" y="3372639"/>
                </a:moveTo>
                <a:cubicBezTo>
                  <a:pt x="1561977" y="3372639"/>
                  <a:pt x="1557103" y="3377513"/>
                  <a:pt x="1557103" y="3383525"/>
                </a:cubicBezTo>
                <a:lnTo>
                  <a:pt x="1557103" y="3485583"/>
                </a:lnTo>
                <a:cubicBezTo>
                  <a:pt x="1557103" y="3491595"/>
                  <a:pt x="1561977" y="3496469"/>
                  <a:pt x="1567989" y="3496469"/>
                </a:cubicBezTo>
                <a:lnTo>
                  <a:pt x="1591936" y="3496469"/>
                </a:lnTo>
                <a:cubicBezTo>
                  <a:pt x="1597948" y="3496469"/>
                  <a:pt x="1602822" y="3491595"/>
                  <a:pt x="1602822" y="3485583"/>
                </a:cubicBezTo>
                <a:lnTo>
                  <a:pt x="1602822" y="3383525"/>
                </a:lnTo>
                <a:cubicBezTo>
                  <a:pt x="1602822" y="3377513"/>
                  <a:pt x="1597948" y="3372639"/>
                  <a:pt x="1591936" y="3372639"/>
                </a:cubicBezTo>
                <a:lnTo>
                  <a:pt x="1567989" y="3372639"/>
                </a:lnTo>
                <a:close/>
                <a:moveTo>
                  <a:pt x="1429877" y="3358351"/>
                </a:moveTo>
                <a:cubicBezTo>
                  <a:pt x="1423865" y="3358351"/>
                  <a:pt x="1418991" y="3363225"/>
                  <a:pt x="1418991" y="3369237"/>
                </a:cubicBezTo>
                <a:lnTo>
                  <a:pt x="1418991" y="3471295"/>
                </a:lnTo>
                <a:cubicBezTo>
                  <a:pt x="1418991" y="3477307"/>
                  <a:pt x="1423865" y="3482181"/>
                  <a:pt x="1429877" y="3482181"/>
                </a:cubicBezTo>
                <a:lnTo>
                  <a:pt x="1453824" y="3482181"/>
                </a:lnTo>
                <a:cubicBezTo>
                  <a:pt x="1459836" y="3482181"/>
                  <a:pt x="1464710" y="3477307"/>
                  <a:pt x="1464710" y="3471295"/>
                </a:cubicBezTo>
                <a:lnTo>
                  <a:pt x="1464710" y="3369237"/>
                </a:lnTo>
                <a:cubicBezTo>
                  <a:pt x="1464710" y="3363225"/>
                  <a:pt x="1459836" y="3358351"/>
                  <a:pt x="1453824" y="3358351"/>
                </a:cubicBezTo>
                <a:lnTo>
                  <a:pt x="1429877" y="3358351"/>
                </a:lnTo>
                <a:close/>
                <a:moveTo>
                  <a:pt x="1298909" y="3344064"/>
                </a:moveTo>
                <a:cubicBezTo>
                  <a:pt x="1292897" y="3344064"/>
                  <a:pt x="1288023" y="3348938"/>
                  <a:pt x="1288023" y="3354950"/>
                </a:cubicBezTo>
                <a:lnTo>
                  <a:pt x="1288023" y="3457008"/>
                </a:lnTo>
                <a:cubicBezTo>
                  <a:pt x="1288023" y="3463020"/>
                  <a:pt x="1292897" y="3467894"/>
                  <a:pt x="1298909" y="3467894"/>
                </a:cubicBezTo>
                <a:lnTo>
                  <a:pt x="1322856" y="3467894"/>
                </a:lnTo>
                <a:cubicBezTo>
                  <a:pt x="1328868" y="3467894"/>
                  <a:pt x="1333742" y="3463020"/>
                  <a:pt x="1333742" y="3457008"/>
                </a:cubicBezTo>
                <a:lnTo>
                  <a:pt x="1333742" y="3354950"/>
                </a:lnTo>
                <a:cubicBezTo>
                  <a:pt x="1333742" y="3348938"/>
                  <a:pt x="1328868" y="3344064"/>
                  <a:pt x="1322856" y="3344064"/>
                </a:cubicBezTo>
                <a:lnTo>
                  <a:pt x="1298909" y="3344064"/>
                </a:lnTo>
                <a:close/>
                <a:moveTo>
                  <a:pt x="1165559" y="3329776"/>
                </a:moveTo>
                <a:cubicBezTo>
                  <a:pt x="1159547" y="3329776"/>
                  <a:pt x="1154673" y="3334650"/>
                  <a:pt x="1154673" y="3340662"/>
                </a:cubicBezTo>
                <a:lnTo>
                  <a:pt x="1154673" y="3442720"/>
                </a:lnTo>
                <a:cubicBezTo>
                  <a:pt x="1154673" y="3448732"/>
                  <a:pt x="1159547" y="3453606"/>
                  <a:pt x="1165559" y="3453606"/>
                </a:cubicBezTo>
                <a:lnTo>
                  <a:pt x="1189506" y="3453606"/>
                </a:lnTo>
                <a:cubicBezTo>
                  <a:pt x="1195518" y="3453606"/>
                  <a:pt x="1200392" y="3448732"/>
                  <a:pt x="1200392" y="3442720"/>
                </a:cubicBezTo>
                <a:lnTo>
                  <a:pt x="1200392" y="3340662"/>
                </a:lnTo>
                <a:cubicBezTo>
                  <a:pt x="1200392" y="3334650"/>
                  <a:pt x="1195518" y="3329776"/>
                  <a:pt x="1189506" y="3329776"/>
                </a:cubicBezTo>
                <a:lnTo>
                  <a:pt x="1165559" y="3329776"/>
                </a:lnTo>
                <a:close/>
                <a:moveTo>
                  <a:pt x="901238" y="3325018"/>
                </a:moveTo>
                <a:cubicBezTo>
                  <a:pt x="895226" y="3325018"/>
                  <a:pt x="890352" y="3329892"/>
                  <a:pt x="890352" y="3335904"/>
                </a:cubicBezTo>
                <a:lnTo>
                  <a:pt x="890352" y="3421287"/>
                </a:lnTo>
                <a:cubicBezTo>
                  <a:pt x="890352" y="3427299"/>
                  <a:pt x="895226" y="3432173"/>
                  <a:pt x="901238" y="3432173"/>
                </a:cubicBezTo>
                <a:lnTo>
                  <a:pt x="925185" y="3432173"/>
                </a:lnTo>
                <a:cubicBezTo>
                  <a:pt x="931197" y="3432173"/>
                  <a:pt x="936071" y="3427299"/>
                  <a:pt x="936071" y="3421287"/>
                </a:cubicBezTo>
                <a:lnTo>
                  <a:pt x="936071" y="3335904"/>
                </a:lnTo>
                <a:cubicBezTo>
                  <a:pt x="936071" y="3329892"/>
                  <a:pt x="931197" y="3325018"/>
                  <a:pt x="925185" y="3325018"/>
                </a:cubicBezTo>
                <a:lnTo>
                  <a:pt x="901238" y="3325018"/>
                </a:lnTo>
                <a:close/>
                <a:moveTo>
                  <a:pt x="1029826" y="3317874"/>
                </a:moveTo>
                <a:cubicBezTo>
                  <a:pt x="1023814" y="3317874"/>
                  <a:pt x="1018940" y="3322748"/>
                  <a:pt x="1018940" y="3328760"/>
                </a:cubicBezTo>
                <a:lnTo>
                  <a:pt x="1018940" y="3414143"/>
                </a:lnTo>
                <a:cubicBezTo>
                  <a:pt x="1018940" y="3420155"/>
                  <a:pt x="1023814" y="3425029"/>
                  <a:pt x="1029826" y="3425029"/>
                </a:cubicBezTo>
                <a:lnTo>
                  <a:pt x="1053773" y="3425029"/>
                </a:lnTo>
                <a:cubicBezTo>
                  <a:pt x="1059785" y="3425029"/>
                  <a:pt x="1064659" y="3420155"/>
                  <a:pt x="1064659" y="3414143"/>
                </a:cubicBezTo>
                <a:lnTo>
                  <a:pt x="1064659" y="3328760"/>
                </a:lnTo>
                <a:cubicBezTo>
                  <a:pt x="1064659" y="3322748"/>
                  <a:pt x="1059785" y="3317874"/>
                  <a:pt x="1053773" y="3317874"/>
                </a:cubicBezTo>
                <a:lnTo>
                  <a:pt x="1029826" y="3317874"/>
                </a:lnTo>
                <a:close/>
                <a:moveTo>
                  <a:pt x="748838" y="3303586"/>
                </a:moveTo>
                <a:cubicBezTo>
                  <a:pt x="742826" y="3303586"/>
                  <a:pt x="737952" y="3308460"/>
                  <a:pt x="737952" y="3314472"/>
                </a:cubicBezTo>
                <a:lnTo>
                  <a:pt x="737952" y="3399855"/>
                </a:lnTo>
                <a:cubicBezTo>
                  <a:pt x="737952" y="3405867"/>
                  <a:pt x="742826" y="3410741"/>
                  <a:pt x="748838" y="3410741"/>
                </a:cubicBezTo>
                <a:lnTo>
                  <a:pt x="772785" y="3410741"/>
                </a:lnTo>
                <a:cubicBezTo>
                  <a:pt x="778797" y="3410741"/>
                  <a:pt x="783671" y="3405867"/>
                  <a:pt x="783671" y="3399855"/>
                </a:cubicBezTo>
                <a:lnTo>
                  <a:pt x="783671" y="3314472"/>
                </a:lnTo>
                <a:cubicBezTo>
                  <a:pt x="783671" y="3308460"/>
                  <a:pt x="778797" y="3303586"/>
                  <a:pt x="772785" y="3303586"/>
                </a:cubicBezTo>
                <a:lnTo>
                  <a:pt x="748838" y="3303586"/>
                </a:lnTo>
                <a:close/>
                <a:moveTo>
                  <a:pt x="603582" y="3284536"/>
                </a:moveTo>
                <a:cubicBezTo>
                  <a:pt x="597570" y="3284536"/>
                  <a:pt x="592696" y="3289410"/>
                  <a:pt x="592696" y="3295422"/>
                </a:cubicBezTo>
                <a:lnTo>
                  <a:pt x="592696" y="3380805"/>
                </a:lnTo>
                <a:cubicBezTo>
                  <a:pt x="592696" y="3386817"/>
                  <a:pt x="597570" y="3391691"/>
                  <a:pt x="603582" y="3391691"/>
                </a:cubicBezTo>
                <a:lnTo>
                  <a:pt x="627529" y="3391691"/>
                </a:lnTo>
                <a:cubicBezTo>
                  <a:pt x="633541" y="3391691"/>
                  <a:pt x="638415" y="3386817"/>
                  <a:pt x="638415" y="3380805"/>
                </a:cubicBezTo>
                <a:lnTo>
                  <a:pt x="638415" y="3295422"/>
                </a:lnTo>
                <a:cubicBezTo>
                  <a:pt x="638415" y="3289410"/>
                  <a:pt x="633541" y="3284536"/>
                  <a:pt x="627529" y="3284536"/>
                </a:cubicBezTo>
                <a:lnTo>
                  <a:pt x="603582" y="3284536"/>
                </a:lnTo>
                <a:close/>
                <a:moveTo>
                  <a:pt x="446420" y="3277392"/>
                </a:moveTo>
                <a:cubicBezTo>
                  <a:pt x="440408" y="3277392"/>
                  <a:pt x="435534" y="3282266"/>
                  <a:pt x="435534" y="3288278"/>
                </a:cubicBezTo>
                <a:lnTo>
                  <a:pt x="435534" y="3373661"/>
                </a:lnTo>
                <a:cubicBezTo>
                  <a:pt x="435534" y="3379673"/>
                  <a:pt x="440408" y="3384547"/>
                  <a:pt x="446420" y="3384547"/>
                </a:cubicBezTo>
                <a:lnTo>
                  <a:pt x="470367" y="3384547"/>
                </a:lnTo>
                <a:cubicBezTo>
                  <a:pt x="476379" y="3384547"/>
                  <a:pt x="481253" y="3379673"/>
                  <a:pt x="481253" y="3373661"/>
                </a:cubicBezTo>
                <a:lnTo>
                  <a:pt x="481253" y="3288278"/>
                </a:lnTo>
                <a:cubicBezTo>
                  <a:pt x="481253" y="3282266"/>
                  <a:pt x="476379" y="3277392"/>
                  <a:pt x="470367" y="3277392"/>
                </a:cubicBezTo>
                <a:lnTo>
                  <a:pt x="446420" y="3277392"/>
                </a:lnTo>
                <a:close/>
                <a:moveTo>
                  <a:pt x="305926" y="3263104"/>
                </a:moveTo>
                <a:cubicBezTo>
                  <a:pt x="299914" y="3263104"/>
                  <a:pt x="295040" y="3267978"/>
                  <a:pt x="295040" y="3273990"/>
                </a:cubicBezTo>
                <a:lnTo>
                  <a:pt x="295040" y="3359373"/>
                </a:lnTo>
                <a:cubicBezTo>
                  <a:pt x="295040" y="3365385"/>
                  <a:pt x="299914" y="3370259"/>
                  <a:pt x="305926" y="3370259"/>
                </a:cubicBezTo>
                <a:lnTo>
                  <a:pt x="329873" y="3370259"/>
                </a:lnTo>
                <a:cubicBezTo>
                  <a:pt x="335885" y="3370259"/>
                  <a:pt x="340759" y="3365385"/>
                  <a:pt x="340759" y="3359373"/>
                </a:cubicBezTo>
                <a:lnTo>
                  <a:pt x="340759" y="3273990"/>
                </a:lnTo>
                <a:cubicBezTo>
                  <a:pt x="340759" y="3267978"/>
                  <a:pt x="335885" y="3263104"/>
                  <a:pt x="329873" y="3263104"/>
                </a:cubicBezTo>
                <a:lnTo>
                  <a:pt x="305926" y="3263104"/>
                </a:lnTo>
                <a:close/>
                <a:moveTo>
                  <a:pt x="158288" y="3255961"/>
                </a:moveTo>
                <a:cubicBezTo>
                  <a:pt x="152276" y="3255961"/>
                  <a:pt x="147402" y="3260835"/>
                  <a:pt x="147402" y="3266847"/>
                </a:cubicBezTo>
                <a:lnTo>
                  <a:pt x="147402" y="3352230"/>
                </a:lnTo>
                <a:cubicBezTo>
                  <a:pt x="147402" y="3358242"/>
                  <a:pt x="152276" y="3363116"/>
                  <a:pt x="158288" y="3363116"/>
                </a:cubicBezTo>
                <a:lnTo>
                  <a:pt x="182235" y="3363116"/>
                </a:lnTo>
                <a:cubicBezTo>
                  <a:pt x="188247" y="3363116"/>
                  <a:pt x="193121" y="3358242"/>
                  <a:pt x="193121" y="3352230"/>
                </a:cubicBezTo>
                <a:lnTo>
                  <a:pt x="193121" y="3266847"/>
                </a:lnTo>
                <a:cubicBezTo>
                  <a:pt x="193121" y="3260835"/>
                  <a:pt x="188247" y="3255961"/>
                  <a:pt x="182235" y="3255961"/>
                </a:cubicBezTo>
                <a:lnTo>
                  <a:pt x="158288" y="3255961"/>
                </a:lnTo>
                <a:close/>
                <a:moveTo>
                  <a:pt x="13032" y="3253580"/>
                </a:moveTo>
                <a:cubicBezTo>
                  <a:pt x="7020" y="3253580"/>
                  <a:pt x="2146" y="3258454"/>
                  <a:pt x="2146" y="3264466"/>
                </a:cubicBezTo>
                <a:lnTo>
                  <a:pt x="2146" y="3349849"/>
                </a:lnTo>
                <a:cubicBezTo>
                  <a:pt x="2146" y="3355861"/>
                  <a:pt x="7020" y="3360735"/>
                  <a:pt x="13032" y="3360735"/>
                </a:cubicBezTo>
                <a:lnTo>
                  <a:pt x="36979" y="3360735"/>
                </a:lnTo>
                <a:cubicBezTo>
                  <a:pt x="42991" y="3360735"/>
                  <a:pt x="47865" y="3355861"/>
                  <a:pt x="47865" y="3349849"/>
                </a:cubicBezTo>
                <a:lnTo>
                  <a:pt x="47865" y="3264466"/>
                </a:lnTo>
                <a:cubicBezTo>
                  <a:pt x="47865" y="3258454"/>
                  <a:pt x="42991" y="3253580"/>
                  <a:pt x="36979" y="3253580"/>
                </a:cubicBezTo>
                <a:lnTo>
                  <a:pt x="13032" y="3253580"/>
                </a:lnTo>
                <a:close/>
                <a:moveTo>
                  <a:pt x="37046" y="1858393"/>
                </a:moveTo>
                <a:cubicBezTo>
                  <a:pt x="32838" y="1858393"/>
                  <a:pt x="29426" y="1861805"/>
                  <a:pt x="29426" y="1866013"/>
                </a:cubicBezTo>
                <a:lnTo>
                  <a:pt x="29426" y="1959615"/>
                </a:lnTo>
                <a:cubicBezTo>
                  <a:pt x="29427" y="1963823"/>
                  <a:pt x="32839" y="1967235"/>
                  <a:pt x="37046" y="1967235"/>
                </a:cubicBezTo>
                <a:lnTo>
                  <a:pt x="67525" y="1967235"/>
                </a:lnTo>
                <a:cubicBezTo>
                  <a:pt x="71733" y="1967235"/>
                  <a:pt x="75145" y="1963823"/>
                  <a:pt x="75145" y="1959615"/>
                </a:cubicBezTo>
                <a:lnTo>
                  <a:pt x="75145" y="1866013"/>
                </a:lnTo>
                <a:cubicBezTo>
                  <a:pt x="75144" y="1861805"/>
                  <a:pt x="71732" y="1858393"/>
                  <a:pt x="67525" y="1858393"/>
                </a:cubicBezTo>
                <a:lnTo>
                  <a:pt x="37046" y="1858393"/>
                </a:lnTo>
                <a:close/>
                <a:moveTo>
                  <a:pt x="187064" y="1839343"/>
                </a:moveTo>
                <a:cubicBezTo>
                  <a:pt x="182856" y="1839343"/>
                  <a:pt x="179444" y="1842755"/>
                  <a:pt x="179444" y="1846963"/>
                </a:cubicBezTo>
                <a:lnTo>
                  <a:pt x="179444" y="1940565"/>
                </a:lnTo>
                <a:cubicBezTo>
                  <a:pt x="179444" y="1944773"/>
                  <a:pt x="182856" y="1948185"/>
                  <a:pt x="187064" y="1948185"/>
                </a:cubicBezTo>
                <a:lnTo>
                  <a:pt x="217543" y="1948185"/>
                </a:lnTo>
                <a:cubicBezTo>
                  <a:pt x="221751" y="1948185"/>
                  <a:pt x="225163" y="1944773"/>
                  <a:pt x="225163" y="1940565"/>
                </a:cubicBezTo>
                <a:lnTo>
                  <a:pt x="225163" y="1846963"/>
                </a:lnTo>
                <a:cubicBezTo>
                  <a:pt x="225161" y="1842755"/>
                  <a:pt x="221750" y="1839343"/>
                  <a:pt x="217543" y="1839343"/>
                </a:cubicBezTo>
                <a:lnTo>
                  <a:pt x="187064" y="1839343"/>
                </a:lnTo>
                <a:close/>
                <a:moveTo>
                  <a:pt x="329938" y="1813149"/>
                </a:moveTo>
                <a:cubicBezTo>
                  <a:pt x="325730" y="1813149"/>
                  <a:pt x="322318" y="1816561"/>
                  <a:pt x="322318" y="1820769"/>
                </a:cubicBezTo>
                <a:lnTo>
                  <a:pt x="322318" y="1926749"/>
                </a:lnTo>
                <a:cubicBezTo>
                  <a:pt x="322319" y="1930957"/>
                  <a:pt x="325730" y="1934369"/>
                  <a:pt x="329938" y="1934369"/>
                </a:cubicBezTo>
                <a:lnTo>
                  <a:pt x="360417" y="1934369"/>
                </a:lnTo>
                <a:cubicBezTo>
                  <a:pt x="364625" y="1934369"/>
                  <a:pt x="368037" y="1930957"/>
                  <a:pt x="368037" y="1926749"/>
                </a:cubicBezTo>
                <a:lnTo>
                  <a:pt x="368037" y="1820769"/>
                </a:lnTo>
                <a:cubicBezTo>
                  <a:pt x="368037" y="1816561"/>
                  <a:pt x="364625" y="1813149"/>
                  <a:pt x="360417" y="1813149"/>
                </a:cubicBezTo>
                <a:lnTo>
                  <a:pt x="329938" y="1813149"/>
                </a:lnTo>
                <a:close/>
                <a:moveTo>
                  <a:pt x="475194" y="1794099"/>
                </a:moveTo>
                <a:cubicBezTo>
                  <a:pt x="470986" y="1794099"/>
                  <a:pt x="467574" y="1797511"/>
                  <a:pt x="467574" y="1801719"/>
                </a:cubicBezTo>
                <a:lnTo>
                  <a:pt x="467574" y="1907699"/>
                </a:lnTo>
                <a:cubicBezTo>
                  <a:pt x="467574" y="1911907"/>
                  <a:pt x="470986" y="1915319"/>
                  <a:pt x="475194" y="1915319"/>
                </a:cubicBezTo>
                <a:lnTo>
                  <a:pt x="505673" y="1915319"/>
                </a:lnTo>
                <a:cubicBezTo>
                  <a:pt x="509881" y="1915319"/>
                  <a:pt x="513293" y="1911907"/>
                  <a:pt x="513293" y="1907699"/>
                </a:cubicBezTo>
                <a:lnTo>
                  <a:pt x="513293" y="1801719"/>
                </a:lnTo>
                <a:cubicBezTo>
                  <a:pt x="513293" y="1797511"/>
                  <a:pt x="509881" y="1794099"/>
                  <a:pt x="505673" y="1794099"/>
                </a:cubicBezTo>
                <a:lnTo>
                  <a:pt x="475194" y="1794099"/>
                </a:lnTo>
                <a:close/>
                <a:moveTo>
                  <a:pt x="625213" y="1775049"/>
                </a:moveTo>
                <a:cubicBezTo>
                  <a:pt x="621005" y="1775049"/>
                  <a:pt x="617593" y="1778461"/>
                  <a:pt x="617593" y="1782669"/>
                </a:cubicBezTo>
                <a:lnTo>
                  <a:pt x="617593" y="1888649"/>
                </a:lnTo>
                <a:cubicBezTo>
                  <a:pt x="617593" y="1892857"/>
                  <a:pt x="621005" y="1896269"/>
                  <a:pt x="625213" y="1896269"/>
                </a:cubicBezTo>
                <a:lnTo>
                  <a:pt x="655692" y="1896269"/>
                </a:lnTo>
                <a:cubicBezTo>
                  <a:pt x="659900" y="1896269"/>
                  <a:pt x="663312" y="1892857"/>
                  <a:pt x="663312" y="1888649"/>
                </a:cubicBezTo>
                <a:lnTo>
                  <a:pt x="663312" y="1782669"/>
                </a:lnTo>
                <a:cubicBezTo>
                  <a:pt x="663311" y="1778461"/>
                  <a:pt x="659899" y="1775049"/>
                  <a:pt x="655692" y="1775049"/>
                </a:cubicBezTo>
                <a:lnTo>
                  <a:pt x="625213" y="1775049"/>
                </a:lnTo>
                <a:close/>
                <a:moveTo>
                  <a:pt x="772850" y="1755999"/>
                </a:moveTo>
                <a:cubicBezTo>
                  <a:pt x="768642" y="1755999"/>
                  <a:pt x="765230" y="1759411"/>
                  <a:pt x="765230" y="1763619"/>
                </a:cubicBezTo>
                <a:lnTo>
                  <a:pt x="765230" y="1869599"/>
                </a:lnTo>
                <a:cubicBezTo>
                  <a:pt x="765230" y="1873807"/>
                  <a:pt x="768642" y="1877219"/>
                  <a:pt x="772850" y="1877219"/>
                </a:cubicBezTo>
                <a:lnTo>
                  <a:pt x="803329" y="1877219"/>
                </a:lnTo>
                <a:cubicBezTo>
                  <a:pt x="807537" y="1877219"/>
                  <a:pt x="810949" y="1873807"/>
                  <a:pt x="810949" y="1869599"/>
                </a:cubicBezTo>
                <a:lnTo>
                  <a:pt x="810949" y="1763619"/>
                </a:lnTo>
                <a:cubicBezTo>
                  <a:pt x="810947" y="1759411"/>
                  <a:pt x="807537" y="1755999"/>
                  <a:pt x="803329" y="1755999"/>
                </a:cubicBezTo>
                <a:lnTo>
                  <a:pt x="772850" y="1755999"/>
                </a:lnTo>
                <a:close/>
                <a:moveTo>
                  <a:pt x="920488" y="1736949"/>
                </a:moveTo>
                <a:cubicBezTo>
                  <a:pt x="916280" y="1736949"/>
                  <a:pt x="912868" y="1740361"/>
                  <a:pt x="912868" y="1744569"/>
                </a:cubicBezTo>
                <a:lnTo>
                  <a:pt x="912868" y="1850549"/>
                </a:lnTo>
                <a:cubicBezTo>
                  <a:pt x="912868" y="1854757"/>
                  <a:pt x="916280" y="1858169"/>
                  <a:pt x="920488" y="1858169"/>
                </a:cubicBezTo>
                <a:lnTo>
                  <a:pt x="950967" y="1858169"/>
                </a:lnTo>
                <a:cubicBezTo>
                  <a:pt x="955175" y="1858169"/>
                  <a:pt x="958587" y="1854757"/>
                  <a:pt x="958587" y="1850549"/>
                </a:cubicBezTo>
                <a:lnTo>
                  <a:pt x="958587" y="1744569"/>
                </a:lnTo>
                <a:cubicBezTo>
                  <a:pt x="958587" y="1740361"/>
                  <a:pt x="955175" y="1736949"/>
                  <a:pt x="950967" y="1736949"/>
                </a:cubicBezTo>
                <a:lnTo>
                  <a:pt x="920488" y="1736949"/>
                </a:lnTo>
                <a:close/>
                <a:moveTo>
                  <a:pt x="1053838" y="1722662"/>
                </a:moveTo>
                <a:cubicBezTo>
                  <a:pt x="1049630" y="1722662"/>
                  <a:pt x="1046218" y="1726074"/>
                  <a:pt x="1046218" y="1730282"/>
                </a:cubicBezTo>
                <a:lnTo>
                  <a:pt x="1046218" y="1836262"/>
                </a:lnTo>
                <a:cubicBezTo>
                  <a:pt x="1046218" y="1840470"/>
                  <a:pt x="1049630" y="1843882"/>
                  <a:pt x="1053838" y="1843882"/>
                </a:cubicBezTo>
                <a:lnTo>
                  <a:pt x="1084317" y="1843882"/>
                </a:lnTo>
                <a:cubicBezTo>
                  <a:pt x="1088525" y="1843882"/>
                  <a:pt x="1091937" y="1840470"/>
                  <a:pt x="1091937" y="1836262"/>
                </a:cubicBezTo>
                <a:lnTo>
                  <a:pt x="1091937" y="1730282"/>
                </a:lnTo>
                <a:cubicBezTo>
                  <a:pt x="1091937" y="1726074"/>
                  <a:pt x="1088525" y="1722662"/>
                  <a:pt x="1084317" y="1722662"/>
                </a:cubicBezTo>
                <a:lnTo>
                  <a:pt x="1053838" y="1722662"/>
                </a:lnTo>
                <a:close/>
                <a:moveTo>
                  <a:pt x="1189570" y="1710755"/>
                </a:moveTo>
                <a:cubicBezTo>
                  <a:pt x="1185362" y="1710755"/>
                  <a:pt x="1181950" y="1714167"/>
                  <a:pt x="1181950" y="1718375"/>
                </a:cubicBezTo>
                <a:lnTo>
                  <a:pt x="1181950" y="1824355"/>
                </a:lnTo>
                <a:cubicBezTo>
                  <a:pt x="1181950" y="1828563"/>
                  <a:pt x="1185362" y="1831975"/>
                  <a:pt x="1189570" y="1831975"/>
                </a:cubicBezTo>
                <a:lnTo>
                  <a:pt x="1220049" y="1831975"/>
                </a:lnTo>
                <a:cubicBezTo>
                  <a:pt x="1224257" y="1831975"/>
                  <a:pt x="1227669" y="1828563"/>
                  <a:pt x="1227669" y="1824355"/>
                </a:cubicBezTo>
                <a:lnTo>
                  <a:pt x="1227669" y="1718375"/>
                </a:lnTo>
                <a:cubicBezTo>
                  <a:pt x="1227669" y="1714167"/>
                  <a:pt x="1224257" y="1710755"/>
                  <a:pt x="1220049" y="1710755"/>
                </a:cubicBezTo>
                <a:lnTo>
                  <a:pt x="1189570" y="1710755"/>
                </a:lnTo>
                <a:close/>
                <a:moveTo>
                  <a:pt x="1322919" y="1682180"/>
                </a:moveTo>
                <a:cubicBezTo>
                  <a:pt x="1318711" y="1682180"/>
                  <a:pt x="1315299" y="1685592"/>
                  <a:pt x="1315299" y="1689800"/>
                </a:cubicBezTo>
                <a:lnTo>
                  <a:pt x="1315299" y="1795780"/>
                </a:lnTo>
                <a:cubicBezTo>
                  <a:pt x="1315299" y="1799988"/>
                  <a:pt x="1318711" y="1803400"/>
                  <a:pt x="1322919" y="1803400"/>
                </a:cubicBezTo>
                <a:lnTo>
                  <a:pt x="1353398" y="1803400"/>
                </a:lnTo>
                <a:cubicBezTo>
                  <a:pt x="1357606" y="1803400"/>
                  <a:pt x="1361018" y="1799988"/>
                  <a:pt x="1361018" y="1795780"/>
                </a:cubicBezTo>
                <a:lnTo>
                  <a:pt x="1361018" y="1689800"/>
                </a:lnTo>
                <a:cubicBezTo>
                  <a:pt x="1361018" y="1685592"/>
                  <a:pt x="1357606" y="1682180"/>
                  <a:pt x="1353398" y="1682180"/>
                </a:cubicBezTo>
                <a:lnTo>
                  <a:pt x="1322919" y="1682180"/>
                </a:lnTo>
                <a:close/>
                <a:moveTo>
                  <a:pt x="1458650" y="1648842"/>
                </a:moveTo>
                <a:cubicBezTo>
                  <a:pt x="1454442" y="1648842"/>
                  <a:pt x="1451030" y="1652254"/>
                  <a:pt x="1451030" y="1656462"/>
                </a:cubicBezTo>
                <a:lnTo>
                  <a:pt x="1451030" y="1788636"/>
                </a:lnTo>
                <a:cubicBezTo>
                  <a:pt x="1451030" y="1792844"/>
                  <a:pt x="1454442" y="1796256"/>
                  <a:pt x="1458650" y="1796256"/>
                </a:cubicBezTo>
                <a:lnTo>
                  <a:pt x="1489129" y="1796256"/>
                </a:lnTo>
                <a:cubicBezTo>
                  <a:pt x="1493337" y="1796256"/>
                  <a:pt x="1496749" y="1792844"/>
                  <a:pt x="1496749" y="1788636"/>
                </a:cubicBezTo>
                <a:lnTo>
                  <a:pt x="1496749" y="1656462"/>
                </a:lnTo>
                <a:cubicBezTo>
                  <a:pt x="1496749" y="1652254"/>
                  <a:pt x="1493337" y="1648842"/>
                  <a:pt x="1489129" y="1648842"/>
                </a:cubicBezTo>
                <a:lnTo>
                  <a:pt x="1458650" y="1648842"/>
                </a:lnTo>
                <a:close/>
                <a:moveTo>
                  <a:pt x="1584856" y="1617886"/>
                </a:moveTo>
                <a:cubicBezTo>
                  <a:pt x="1580648" y="1617886"/>
                  <a:pt x="1577236" y="1621298"/>
                  <a:pt x="1577236" y="1625506"/>
                </a:cubicBezTo>
                <a:lnTo>
                  <a:pt x="1577236" y="1757680"/>
                </a:lnTo>
                <a:cubicBezTo>
                  <a:pt x="1577236" y="1761888"/>
                  <a:pt x="1580648" y="1765300"/>
                  <a:pt x="1584856" y="1765300"/>
                </a:cubicBezTo>
                <a:lnTo>
                  <a:pt x="1615335" y="1765300"/>
                </a:lnTo>
                <a:cubicBezTo>
                  <a:pt x="1619543" y="1765300"/>
                  <a:pt x="1622955" y="1761888"/>
                  <a:pt x="1622955" y="1757680"/>
                </a:cubicBezTo>
                <a:lnTo>
                  <a:pt x="1622955" y="1625506"/>
                </a:lnTo>
                <a:cubicBezTo>
                  <a:pt x="1622955" y="1621298"/>
                  <a:pt x="1619543" y="1617886"/>
                  <a:pt x="1615335" y="1617886"/>
                </a:cubicBezTo>
                <a:lnTo>
                  <a:pt x="1584856" y="1617886"/>
                </a:lnTo>
                <a:close/>
                <a:moveTo>
                  <a:pt x="1720586" y="1584547"/>
                </a:moveTo>
                <a:cubicBezTo>
                  <a:pt x="1716378" y="1584547"/>
                  <a:pt x="1712966" y="1587959"/>
                  <a:pt x="1712966" y="1592167"/>
                </a:cubicBezTo>
                <a:lnTo>
                  <a:pt x="1712966" y="1743392"/>
                </a:lnTo>
                <a:cubicBezTo>
                  <a:pt x="1712966" y="1747600"/>
                  <a:pt x="1716378" y="1751012"/>
                  <a:pt x="1720586" y="1751012"/>
                </a:cubicBezTo>
                <a:lnTo>
                  <a:pt x="1751065" y="1751012"/>
                </a:lnTo>
                <a:cubicBezTo>
                  <a:pt x="1755273" y="1751012"/>
                  <a:pt x="1758685" y="1747600"/>
                  <a:pt x="1758685" y="1743392"/>
                </a:cubicBezTo>
                <a:lnTo>
                  <a:pt x="1758685" y="1592167"/>
                </a:lnTo>
                <a:cubicBezTo>
                  <a:pt x="1758685" y="1587959"/>
                  <a:pt x="1755273" y="1584547"/>
                  <a:pt x="1751065" y="1584547"/>
                </a:cubicBezTo>
                <a:lnTo>
                  <a:pt x="1720586" y="1584547"/>
                </a:lnTo>
                <a:close/>
                <a:moveTo>
                  <a:pt x="1851555" y="1553591"/>
                </a:moveTo>
                <a:cubicBezTo>
                  <a:pt x="1847347" y="1553591"/>
                  <a:pt x="1843935" y="1557003"/>
                  <a:pt x="1843935" y="1561211"/>
                </a:cubicBezTo>
                <a:lnTo>
                  <a:pt x="1843935" y="1712436"/>
                </a:lnTo>
                <a:cubicBezTo>
                  <a:pt x="1843935" y="1716644"/>
                  <a:pt x="1847347" y="1720056"/>
                  <a:pt x="1851555" y="1720056"/>
                </a:cubicBezTo>
                <a:lnTo>
                  <a:pt x="1882034" y="1720056"/>
                </a:lnTo>
                <a:cubicBezTo>
                  <a:pt x="1886242" y="1720056"/>
                  <a:pt x="1889654" y="1716644"/>
                  <a:pt x="1889654" y="1712436"/>
                </a:cubicBezTo>
                <a:lnTo>
                  <a:pt x="1889654" y="1561211"/>
                </a:lnTo>
                <a:cubicBezTo>
                  <a:pt x="1889654" y="1557003"/>
                  <a:pt x="1886242" y="1553591"/>
                  <a:pt x="1882034" y="1553591"/>
                </a:cubicBezTo>
                <a:lnTo>
                  <a:pt x="1851555" y="1553591"/>
                </a:lnTo>
                <a:close/>
                <a:moveTo>
                  <a:pt x="1984905" y="1532160"/>
                </a:moveTo>
                <a:cubicBezTo>
                  <a:pt x="1980697" y="1532160"/>
                  <a:pt x="1977285" y="1535572"/>
                  <a:pt x="1977285" y="1539780"/>
                </a:cubicBezTo>
                <a:lnTo>
                  <a:pt x="1977285" y="1691005"/>
                </a:lnTo>
                <a:cubicBezTo>
                  <a:pt x="1977285" y="1695213"/>
                  <a:pt x="1980697" y="1698625"/>
                  <a:pt x="1984905" y="1698625"/>
                </a:cubicBezTo>
                <a:lnTo>
                  <a:pt x="2015384" y="1698625"/>
                </a:lnTo>
                <a:cubicBezTo>
                  <a:pt x="2019592" y="1698625"/>
                  <a:pt x="2023004" y="1695213"/>
                  <a:pt x="2023004" y="1691005"/>
                </a:cubicBezTo>
                <a:lnTo>
                  <a:pt x="2023004" y="1539780"/>
                </a:lnTo>
                <a:cubicBezTo>
                  <a:pt x="2023004" y="1535572"/>
                  <a:pt x="2019592" y="1532160"/>
                  <a:pt x="2015384" y="1532160"/>
                </a:cubicBezTo>
                <a:lnTo>
                  <a:pt x="1984905" y="1532160"/>
                </a:lnTo>
                <a:close/>
                <a:moveTo>
                  <a:pt x="2118255" y="1508348"/>
                </a:moveTo>
                <a:cubicBezTo>
                  <a:pt x="2114047" y="1508348"/>
                  <a:pt x="2110635" y="1511760"/>
                  <a:pt x="2110635" y="1515968"/>
                </a:cubicBezTo>
                <a:lnTo>
                  <a:pt x="2110635" y="1667193"/>
                </a:lnTo>
                <a:cubicBezTo>
                  <a:pt x="2110635" y="1671401"/>
                  <a:pt x="2114047" y="1674813"/>
                  <a:pt x="2118255" y="1674813"/>
                </a:cubicBezTo>
                <a:lnTo>
                  <a:pt x="2148734" y="1674813"/>
                </a:lnTo>
                <a:cubicBezTo>
                  <a:pt x="2152942" y="1674813"/>
                  <a:pt x="2156354" y="1671401"/>
                  <a:pt x="2156354" y="1667193"/>
                </a:cubicBezTo>
                <a:lnTo>
                  <a:pt x="2156354" y="1515968"/>
                </a:lnTo>
                <a:cubicBezTo>
                  <a:pt x="2156354" y="1511760"/>
                  <a:pt x="2152942" y="1508348"/>
                  <a:pt x="2148734" y="1508348"/>
                </a:cubicBezTo>
                <a:lnTo>
                  <a:pt x="2118255" y="1508348"/>
                </a:lnTo>
                <a:close/>
                <a:moveTo>
                  <a:pt x="2220649" y="1489298"/>
                </a:moveTo>
                <a:cubicBezTo>
                  <a:pt x="2216441" y="1489298"/>
                  <a:pt x="2213029" y="1492710"/>
                  <a:pt x="2213029" y="1496918"/>
                </a:cubicBezTo>
                <a:lnTo>
                  <a:pt x="2213029" y="1648143"/>
                </a:lnTo>
                <a:cubicBezTo>
                  <a:pt x="2213029" y="1652351"/>
                  <a:pt x="2216441" y="1655763"/>
                  <a:pt x="2220649" y="1655763"/>
                </a:cubicBezTo>
                <a:lnTo>
                  <a:pt x="2251128" y="1655763"/>
                </a:lnTo>
                <a:cubicBezTo>
                  <a:pt x="2255336" y="1655763"/>
                  <a:pt x="2258748" y="1652351"/>
                  <a:pt x="2258748" y="1648143"/>
                </a:cubicBezTo>
                <a:lnTo>
                  <a:pt x="2258748" y="1496918"/>
                </a:lnTo>
                <a:cubicBezTo>
                  <a:pt x="2258748" y="1492710"/>
                  <a:pt x="2255336" y="1489298"/>
                  <a:pt x="2251128" y="1489298"/>
                </a:cubicBezTo>
                <a:lnTo>
                  <a:pt x="2220649" y="1489298"/>
                </a:lnTo>
                <a:close/>
                <a:moveTo>
                  <a:pt x="2339711" y="1463104"/>
                </a:moveTo>
                <a:cubicBezTo>
                  <a:pt x="2335503" y="1463104"/>
                  <a:pt x="2332091" y="1466516"/>
                  <a:pt x="2332091" y="1470724"/>
                </a:cubicBezTo>
                <a:lnTo>
                  <a:pt x="2332091" y="1621949"/>
                </a:lnTo>
                <a:cubicBezTo>
                  <a:pt x="2332091" y="1626157"/>
                  <a:pt x="2335503" y="1629569"/>
                  <a:pt x="2339711" y="1629569"/>
                </a:cubicBezTo>
                <a:lnTo>
                  <a:pt x="2370190" y="1629569"/>
                </a:lnTo>
                <a:cubicBezTo>
                  <a:pt x="2374398" y="1629569"/>
                  <a:pt x="2377810" y="1626157"/>
                  <a:pt x="2377810" y="1621949"/>
                </a:cubicBezTo>
                <a:lnTo>
                  <a:pt x="2377810" y="1470724"/>
                </a:lnTo>
                <a:cubicBezTo>
                  <a:pt x="2377810" y="1466516"/>
                  <a:pt x="2374398" y="1463104"/>
                  <a:pt x="2370190" y="1463104"/>
                </a:cubicBezTo>
                <a:lnTo>
                  <a:pt x="2339711" y="1463104"/>
                </a:lnTo>
                <a:close/>
                <a:moveTo>
                  <a:pt x="2461155" y="1429766"/>
                </a:moveTo>
                <a:cubicBezTo>
                  <a:pt x="2456947" y="1429766"/>
                  <a:pt x="2453535" y="1433178"/>
                  <a:pt x="2453535" y="1437386"/>
                </a:cubicBezTo>
                <a:lnTo>
                  <a:pt x="2453535" y="1588611"/>
                </a:lnTo>
                <a:cubicBezTo>
                  <a:pt x="2453535" y="1592819"/>
                  <a:pt x="2456947" y="1596231"/>
                  <a:pt x="2461155" y="1596231"/>
                </a:cubicBezTo>
                <a:lnTo>
                  <a:pt x="2491634" y="1596231"/>
                </a:lnTo>
                <a:cubicBezTo>
                  <a:pt x="2495842" y="1596231"/>
                  <a:pt x="2499254" y="1592819"/>
                  <a:pt x="2499254" y="1588611"/>
                </a:cubicBezTo>
                <a:lnTo>
                  <a:pt x="2499254" y="1437386"/>
                </a:lnTo>
                <a:cubicBezTo>
                  <a:pt x="2499254" y="1433178"/>
                  <a:pt x="2495842" y="1429766"/>
                  <a:pt x="2491634" y="1429766"/>
                </a:cubicBezTo>
                <a:lnTo>
                  <a:pt x="2461155" y="1429766"/>
                </a:lnTo>
                <a:close/>
                <a:moveTo>
                  <a:pt x="2587361" y="1410716"/>
                </a:moveTo>
                <a:cubicBezTo>
                  <a:pt x="2583153" y="1410716"/>
                  <a:pt x="2579741" y="1414128"/>
                  <a:pt x="2579741" y="1418336"/>
                </a:cubicBezTo>
                <a:lnTo>
                  <a:pt x="2579741" y="1569561"/>
                </a:lnTo>
                <a:cubicBezTo>
                  <a:pt x="2579741" y="1573769"/>
                  <a:pt x="2583153" y="1577181"/>
                  <a:pt x="2587361" y="1577181"/>
                </a:cubicBezTo>
                <a:lnTo>
                  <a:pt x="2617840" y="1577181"/>
                </a:lnTo>
                <a:cubicBezTo>
                  <a:pt x="2622048" y="1577181"/>
                  <a:pt x="2625460" y="1573769"/>
                  <a:pt x="2625460" y="1569561"/>
                </a:cubicBezTo>
                <a:lnTo>
                  <a:pt x="2625460" y="1418336"/>
                </a:lnTo>
                <a:cubicBezTo>
                  <a:pt x="2625460" y="1414128"/>
                  <a:pt x="2622048" y="1410716"/>
                  <a:pt x="2617840" y="1410716"/>
                </a:cubicBezTo>
                <a:lnTo>
                  <a:pt x="2587361" y="1410716"/>
                </a:lnTo>
                <a:close/>
                <a:moveTo>
                  <a:pt x="2706424" y="1374997"/>
                </a:moveTo>
                <a:cubicBezTo>
                  <a:pt x="2702216" y="1374997"/>
                  <a:pt x="2698804" y="1378409"/>
                  <a:pt x="2698804" y="1382617"/>
                </a:cubicBezTo>
                <a:lnTo>
                  <a:pt x="2698804" y="1533842"/>
                </a:lnTo>
                <a:cubicBezTo>
                  <a:pt x="2698804" y="1538050"/>
                  <a:pt x="2702216" y="1541462"/>
                  <a:pt x="2706424" y="1541462"/>
                </a:cubicBezTo>
                <a:lnTo>
                  <a:pt x="2736903" y="1541462"/>
                </a:lnTo>
                <a:cubicBezTo>
                  <a:pt x="2741111" y="1541462"/>
                  <a:pt x="2744523" y="1538050"/>
                  <a:pt x="2744523" y="1533842"/>
                </a:cubicBezTo>
                <a:lnTo>
                  <a:pt x="2744523" y="1382617"/>
                </a:lnTo>
                <a:cubicBezTo>
                  <a:pt x="2744523" y="1378409"/>
                  <a:pt x="2741111" y="1374997"/>
                  <a:pt x="2736903" y="1374997"/>
                </a:cubicBezTo>
                <a:lnTo>
                  <a:pt x="2706424" y="1374997"/>
                </a:lnTo>
                <a:close/>
                <a:moveTo>
                  <a:pt x="2831893" y="1339750"/>
                </a:moveTo>
                <a:cubicBezTo>
                  <a:pt x="2827685" y="1339750"/>
                  <a:pt x="2824273" y="1343162"/>
                  <a:pt x="2824273" y="1347370"/>
                </a:cubicBezTo>
                <a:lnTo>
                  <a:pt x="2824273" y="1517173"/>
                </a:lnTo>
                <a:cubicBezTo>
                  <a:pt x="2824273" y="1521381"/>
                  <a:pt x="2827685" y="1524793"/>
                  <a:pt x="2831893" y="1524793"/>
                </a:cubicBezTo>
                <a:lnTo>
                  <a:pt x="2862372" y="1524793"/>
                </a:lnTo>
                <a:cubicBezTo>
                  <a:pt x="2866580" y="1524793"/>
                  <a:pt x="2869992" y="1521381"/>
                  <a:pt x="2869992" y="1517173"/>
                </a:cubicBezTo>
                <a:lnTo>
                  <a:pt x="2869992" y="1347370"/>
                </a:lnTo>
                <a:cubicBezTo>
                  <a:pt x="2869992" y="1343162"/>
                  <a:pt x="2866580" y="1339750"/>
                  <a:pt x="2862372" y="1339750"/>
                </a:cubicBezTo>
                <a:lnTo>
                  <a:pt x="2831893" y="1339750"/>
                </a:lnTo>
                <a:close/>
                <a:moveTo>
                  <a:pt x="2960481" y="1308794"/>
                </a:moveTo>
                <a:cubicBezTo>
                  <a:pt x="2956273" y="1308794"/>
                  <a:pt x="2952861" y="1312206"/>
                  <a:pt x="2952861" y="1316414"/>
                </a:cubicBezTo>
                <a:lnTo>
                  <a:pt x="2952861" y="1486217"/>
                </a:lnTo>
                <a:cubicBezTo>
                  <a:pt x="2952861" y="1490425"/>
                  <a:pt x="2956273" y="1493837"/>
                  <a:pt x="2960481" y="1493837"/>
                </a:cubicBezTo>
                <a:lnTo>
                  <a:pt x="2990960" y="1493837"/>
                </a:lnTo>
                <a:cubicBezTo>
                  <a:pt x="2995168" y="1493837"/>
                  <a:pt x="2998580" y="1490425"/>
                  <a:pt x="2998580" y="1486217"/>
                </a:cubicBezTo>
                <a:lnTo>
                  <a:pt x="2998580" y="1316414"/>
                </a:lnTo>
                <a:cubicBezTo>
                  <a:pt x="2998580" y="1312206"/>
                  <a:pt x="2995168" y="1308794"/>
                  <a:pt x="2990960" y="1308794"/>
                </a:cubicBezTo>
                <a:lnTo>
                  <a:pt x="2960481" y="1308794"/>
                </a:lnTo>
                <a:close/>
                <a:moveTo>
                  <a:pt x="3084306" y="1284981"/>
                </a:moveTo>
                <a:cubicBezTo>
                  <a:pt x="3080098" y="1284981"/>
                  <a:pt x="3076686" y="1288393"/>
                  <a:pt x="3076686" y="1292601"/>
                </a:cubicBezTo>
                <a:lnTo>
                  <a:pt x="3076686" y="1462404"/>
                </a:lnTo>
                <a:cubicBezTo>
                  <a:pt x="3076686" y="1466612"/>
                  <a:pt x="3080098" y="1470024"/>
                  <a:pt x="3084306" y="1470024"/>
                </a:cubicBezTo>
                <a:lnTo>
                  <a:pt x="3114785" y="1470024"/>
                </a:lnTo>
                <a:cubicBezTo>
                  <a:pt x="3118993" y="1470024"/>
                  <a:pt x="3122405" y="1466612"/>
                  <a:pt x="3122405" y="1462404"/>
                </a:cubicBezTo>
                <a:lnTo>
                  <a:pt x="3122405" y="1292601"/>
                </a:lnTo>
                <a:cubicBezTo>
                  <a:pt x="3122405" y="1288393"/>
                  <a:pt x="3118993" y="1284981"/>
                  <a:pt x="3114785" y="1284981"/>
                </a:cubicBezTo>
                <a:lnTo>
                  <a:pt x="3084306" y="1284981"/>
                </a:lnTo>
                <a:close/>
                <a:moveTo>
                  <a:pt x="3205750" y="1256406"/>
                </a:moveTo>
                <a:cubicBezTo>
                  <a:pt x="3201542" y="1256406"/>
                  <a:pt x="3198130" y="1259818"/>
                  <a:pt x="3198130" y="1264026"/>
                </a:cubicBezTo>
                <a:lnTo>
                  <a:pt x="3198130" y="1433829"/>
                </a:lnTo>
                <a:cubicBezTo>
                  <a:pt x="3198130" y="1438037"/>
                  <a:pt x="3201542" y="1441449"/>
                  <a:pt x="3205750" y="1441449"/>
                </a:cubicBezTo>
                <a:lnTo>
                  <a:pt x="3236229" y="1441449"/>
                </a:lnTo>
                <a:cubicBezTo>
                  <a:pt x="3240437" y="1441449"/>
                  <a:pt x="3243849" y="1438037"/>
                  <a:pt x="3243849" y="1433829"/>
                </a:cubicBezTo>
                <a:lnTo>
                  <a:pt x="3243849" y="1264026"/>
                </a:lnTo>
                <a:cubicBezTo>
                  <a:pt x="3243849" y="1259818"/>
                  <a:pt x="3240437" y="1256406"/>
                  <a:pt x="3236229" y="1256406"/>
                </a:cubicBezTo>
                <a:lnTo>
                  <a:pt x="3205750" y="1256406"/>
                </a:lnTo>
                <a:close/>
                <a:moveTo>
                  <a:pt x="3329574" y="1215924"/>
                </a:moveTo>
                <a:cubicBezTo>
                  <a:pt x="3325366" y="1215924"/>
                  <a:pt x="3321954" y="1219336"/>
                  <a:pt x="3321954" y="1223544"/>
                </a:cubicBezTo>
                <a:lnTo>
                  <a:pt x="3321954" y="1414779"/>
                </a:lnTo>
                <a:cubicBezTo>
                  <a:pt x="3321954" y="1418987"/>
                  <a:pt x="3325366" y="1422399"/>
                  <a:pt x="3329574" y="1422399"/>
                </a:cubicBezTo>
                <a:lnTo>
                  <a:pt x="3360053" y="1422399"/>
                </a:lnTo>
                <a:cubicBezTo>
                  <a:pt x="3364261" y="1422399"/>
                  <a:pt x="3367673" y="1418987"/>
                  <a:pt x="3367673" y="1414779"/>
                </a:cubicBezTo>
                <a:lnTo>
                  <a:pt x="3367673" y="1223544"/>
                </a:lnTo>
                <a:cubicBezTo>
                  <a:pt x="3367673" y="1219336"/>
                  <a:pt x="3364261" y="1215924"/>
                  <a:pt x="3360053" y="1215924"/>
                </a:cubicBezTo>
                <a:lnTo>
                  <a:pt x="3329574" y="1215924"/>
                </a:lnTo>
                <a:close/>
                <a:moveTo>
                  <a:pt x="3493880" y="1170680"/>
                </a:moveTo>
                <a:cubicBezTo>
                  <a:pt x="3489672" y="1170680"/>
                  <a:pt x="3486260" y="1174092"/>
                  <a:pt x="3486260" y="1178300"/>
                </a:cubicBezTo>
                <a:lnTo>
                  <a:pt x="3486260" y="1369535"/>
                </a:lnTo>
                <a:cubicBezTo>
                  <a:pt x="3486260" y="1373743"/>
                  <a:pt x="3489672" y="1377155"/>
                  <a:pt x="3493880" y="1377155"/>
                </a:cubicBezTo>
                <a:lnTo>
                  <a:pt x="3524359" y="1377155"/>
                </a:lnTo>
                <a:cubicBezTo>
                  <a:pt x="3528567" y="1377155"/>
                  <a:pt x="3531979" y="1373743"/>
                  <a:pt x="3531979" y="1369535"/>
                </a:cubicBezTo>
                <a:lnTo>
                  <a:pt x="3531979" y="1178300"/>
                </a:lnTo>
                <a:cubicBezTo>
                  <a:pt x="3531979" y="1174092"/>
                  <a:pt x="3528567" y="1170680"/>
                  <a:pt x="3524359" y="1170680"/>
                </a:cubicBezTo>
                <a:lnTo>
                  <a:pt x="3493880" y="1170680"/>
                </a:lnTo>
                <a:close/>
                <a:moveTo>
                  <a:pt x="3629612" y="1132580"/>
                </a:moveTo>
                <a:cubicBezTo>
                  <a:pt x="3625404" y="1132580"/>
                  <a:pt x="3621992" y="1135992"/>
                  <a:pt x="3621992" y="1140200"/>
                </a:cubicBezTo>
                <a:lnTo>
                  <a:pt x="3621992" y="1331435"/>
                </a:lnTo>
                <a:cubicBezTo>
                  <a:pt x="3621992" y="1335643"/>
                  <a:pt x="3625404" y="1339055"/>
                  <a:pt x="3629612" y="1339055"/>
                </a:cubicBezTo>
                <a:lnTo>
                  <a:pt x="3660091" y="1339055"/>
                </a:lnTo>
                <a:cubicBezTo>
                  <a:pt x="3664299" y="1339055"/>
                  <a:pt x="3667711" y="1335643"/>
                  <a:pt x="3667711" y="1331435"/>
                </a:cubicBezTo>
                <a:lnTo>
                  <a:pt x="3667711" y="1140200"/>
                </a:lnTo>
                <a:cubicBezTo>
                  <a:pt x="3667711" y="1135992"/>
                  <a:pt x="3664299" y="1132580"/>
                  <a:pt x="3660091" y="1132580"/>
                </a:cubicBezTo>
                <a:lnTo>
                  <a:pt x="3629612" y="1132580"/>
                </a:lnTo>
                <a:close/>
                <a:moveTo>
                  <a:pt x="3776849" y="1089715"/>
                </a:moveTo>
                <a:cubicBezTo>
                  <a:pt x="3771369" y="1089715"/>
                  <a:pt x="3766927" y="1094157"/>
                  <a:pt x="3766927" y="1099637"/>
                </a:cubicBezTo>
                <a:lnTo>
                  <a:pt x="3766927" y="1300558"/>
                </a:lnTo>
                <a:cubicBezTo>
                  <a:pt x="3766927" y="1306038"/>
                  <a:pt x="3771369" y="1310480"/>
                  <a:pt x="3776849" y="1310480"/>
                </a:cubicBezTo>
                <a:lnTo>
                  <a:pt x="3816535" y="1310480"/>
                </a:lnTo>
                <a:cubicBezTo>
                  <a:pt x="3822015" y="1310480"/>
                  <a:pt x="3826457" y="1306038"/>
                  <a:pt x="3826457" y="1300558"/>
                </a:cubicBezTo>
                <a:lnTo>
                  <a:pt x="3826457" y="1099637"/>
                </a:lnTo>
                <a:cubicBezTo>
                  <a:pt x="3826457" y="1094157"/>
                  <a:pt x="3822015" y="1089715"/>
                  <a:pt x="3816535" y="1089715"/>
                </a:cubicBezTo>
                <a:lnTo>
                  <a:pt x="3776849" y="1089715"/>
                </a:lnTo>
                <a:close/>
                <a:moveTo>
                  <a:pt x="3934011" y="1049234"/>
                </a:moveTo>
                <a:cubicBezTo>
                  <a:pt x="3928531" y="1049234"/>
                  <a:pt x="3924089" y="1053676"/>
                  <a:pt x="3924089" y="1059156"/>
                </a:cubicBezTo>
                <a:lnTo>
                  <a:pt x="3924089" y="1260077"/>
                </a:lnTo>
                <a:cubicBezTo>
                  <a:pt x="3924089" y="1265557"/>
                  <a:pt x="3928531" y="1269999"/>
                  <a:pt x="3934011" y="1269999"/>
                </a:cubicBezTo>
                <a:lnTo>
                  <a:pt x="3973697" y="1269999"/>
                </a:lnTo>
                <a:cubicBezTo>
                  <a:pt x="3979177" y="1269999"/>
                  <a:pt x="3983619" y="1265557"/>
                  <a:pt x="3983619" y="1260077"/>
                </a:cubicBezTo>
                <a:lnTo>
                  <a:pt x="3983619" y="1059156"/>
                </a:lnTo>
                <a:cubicBezTo>
                  <a:pt x="3983619" y="1053676"/>
                  <a:pt x="3979177" y="1049234"/>
                  <a:pt x="3973697" y="1049234"/>
                </a:cubicBezTo>
                <a:lnTo>
                  <a:pt x="3934011" y="1049234"/>
                </a:lnTo>
                <a:close/>
                <a:moveTo>
                  <a:pt x="4139592" y="989702"/>
                </a:moveTo>
                <a:cubicBezTo>
                  <a:pt x="4123153" y="989702"/>
                  <a:pt x="4109826" y="1003029"/>
                  <a:pt x="4109826" y="1019468"/>
                </a:cubicBezTo>
                <a:lnTo>
                  <a:pt x="4109826" y="1187846"/>
                </a:lnTo>
                <a:cubicBezTo>
                  <a:pt x="4109826" y="1204285"/>
                  <a:pt x="4123153" y="1217612"/>
                  <a:pt x="4139592" y="1217612"/>
                </a:cubicBezTo>
                <a:cubicBezTo>
                  <a:pt x="4156031" y="1217612"/>
                  <a:pt x="4169358" y="1204285"/>
                  <a:pt x="4169358" y="1187846"/>
                </a:cubicBezTo>
                <a:lnTo>
                  <a:pt x="4169358" y="1019468"/>
                </a:lnTo>
                <a:cubicBezTo>
                  <a:pt x="4169358" y="1003029"/>
                  <a:pt x="4156031" y="989702"/>
                  <a:pt x="4139592" y="989702"/>
                </a:cubicBezTo>
                <a:close/>
                <a:moveTo>
                  <a:pt x="4305086" y="939005"/>
                </a:moveTo>
                <a:cubicBezTo>
                  <a:pt x="4291934" y="939005"/>
                  <a:pt x="4281273" y="949666"/>
                  <a:pt x="4281273" y="962818"/>
                </a:cubicBezTo>
                <a:lnTo>
                  <a:pt x="4281273" y="1158079"/>
                </a:lnTo>
                <a:cubicBezTo>
                  <a:pt x="4281273" y="1171231"/>
                  <a:pt x="4291934" y="1181892"/>
                  <a:pt x="4305086" y="1181892"/>
                </a:cubicBezTo>
                <a:lnTo>
                  <a:pt x="4357473" y="1181892"/>
                </a:lnTo>
                <a:cubicBezTo>
                  <a:pt x="4370625" y="1181892"/>
                  <a:pt x="4381286" y="1171231"/>
                  <a:pt x="4381286" y="1158079"/>
                </a:cubicBezTo>
                <a:lnTo>
                  <a:pt x="4381286" y="962818"/>
                </a:lnTo>
                <a:cubicBezTo>
                  <a:pt x="4381286" y="949666"/>
                  <a:pt x="4370625" y="939005"/>
                  <a:pt x="4357473" y="939005"/>
                </a:cubicBezTo>
                <a:lnTo>
                  <a:pt x="4305086" y="939005"/>
                </a:lnTo>
                <a:close/>
                <a:moveTo>
                  <a:pt x="4519399" y="896143"/>
                </a:moveTo>
                <a:cubicBezTo>
                  <a:pt x="4506247" y="896143"/>
                  <a:pt x="4495586" y="906804"/>
                  <a:pt x="4495586" y="919956"/>
                </a:cubicBezTo>
                <a:lnTo>
                  <a:pt x="4495586" y="1115217"/>
                </a:lnTo>
                <a:cubicBezTo>
                  <a:pt x="4495586" y="1128369"/>
                  <a:pt x="4506247" y="1139030"/>
                  <a:pt x="4519399" y="1139030"/>
                </a:cubicBezTo>
                <a:lnTo>
                  <a:pt x="4571786" y="1139030"/>
                </a:lnTo>
                <a:cubicBezTo>
                  <a:pt x="4584938" y="1139030"/>
                  <a:pt x="4595599" y="1128369"/>
                  <a:pt x="4595599" y="1115217"/>
                </a:cubicBezTo>
                <a:lnTo>
                  <a:pt x="4595599" y="919956"/>
                </a:lnTo>
                <a:cubicBezTo>
                  <a:pt x="4595599" y="906804"/>
                  <a:pt x="4584938" y="896143"/>
                  <a:pt x="4571786" y="896143"/>
                </a:cubicBezTo>
                <a:lnTo>
                  <a:pt x="4519399" y="896143"/>
                </a:lnTo>
                <a:close/>
                <a:moveTo>
                  <a:pt x="4745164" y="853280"/>
                </a:moveTo>
                <a:cubicBezTo>
                  <a:pt x="4727002" y="853280"/>
                  <a:pt x="4712279" y="868003"/>
                  <a:pt x="4712279" y="886165"/>
                </a:cubicBezTo>
                <a:lnTo>
                  <a:pt x="4712279" y="1063282"/>
                </a:lnTo>
                <a:cubicBezTo>
                  <a:pt x="4712279" y="1081444"/>
                  <a:pt x="4727002" y="1096167"/>
                  <a:pt x="4745164" y="1096167"/>
                </a:cubicBezTo>
                <a:lnTo>
                  <a:pt x="4817509" y="1096167"/>
                </a:lnTo>
                <a:cubicBezTo>
                  <a:pt x="4835671" y="1096167"/>
                  <a:pt x="4850394" y="1081444"/>
                  <a:pt x="4850394" y="1063282"/>
                </a:cubicBezTo>
                <a:lnTo>
                  <a:pt x="4850394" y="886165"/>
                </a:lnTo>
                <a:cubicBezTo>
                  <a:pt x="4850394" y="868003"/>
                  <a:pt x="4835671" y="853280"/>
                  <a:pt x="4817509" y="853280"/>
                </a:cubicBezTo>
                <a:lnTo>
                  <a:pt x="4745164" y="853280"/>
                </a:lnTo>
                <a:close/>
                <a:moveTo>
                  <a:pt x="4995194" y="793748"/>
                </a:moveTo>
                <a:cubicBezTo>
                  <a:pt x="4977032" y="793748"/>
                  <a:pt x="4962309" y="808471"/>
                  <a:pt x="4962309" y="826633"/>
                </a:cubicBezTo>
                <a:lnTo>
                  <a:pt x="4962309" y="1032327"/>
                </a:lnTo>
                <a:cubicBezTo>
                  <a:pt x="4962309" y="1050489"/>
                  <a:pt x="4977032" y="1065212"/>
                  <a:pt x="4995194" y="1065212"/>
                </a:cubicBezTo>
                <a:lnTo>
                  <a:pt x="5067539" y="1065212"/>
                </a:lnTo>
                <a:cubicBezTo>
                  <a:pt x="5085701" y="1065212"/>
                  <a:pt x="5100424" y="1050489"/>
                  <a:pt x="5100424" y="1032327"/>
                </a:cubicBezTo>
                <a:lnTo>
                  <a:pt x="5100424" y="826633"/>
                </a:lnTo>
                <a:cubicBezTo>
                  <a:pt x="5100424" y="808471"/>
                  <a:pt x="5085701" y="793748"/>
                  <a:pt x="5067539" y="793748"/>
                </a:cubicBezTo>
                <a:lnTo>
                  <a:pt x="4995194" y="793748"/>
                </a:lnTo>
                <a:close/>
                <a:moveTo>
                  <a:pt x="5273799" y="743742"/>
                </a:moveTo>
                <a:cubicBezTo>
                  <a:pt x="5255637" y="743742"/>
                  <a:pt x="5240914" y="758465"/>
                  <a:pt x="5240914" y="776627"/>
                </a:cubicBezTo>
                <a:lnTo>
                  <a:pt x="5240914" y="1016349"/>
                </a:lnTo>
                <a:cubicBezTo>
                  <a:pt x="5240914" y="1034511"/>
                  <a:pt x="5255637" y="1049234"/>
                  <a:pt x="5273799" y="1049234"/>
                </a:cubicBezTo>
                <a:lnTo>
                  <a:pt x="5346144" y="1049234"/>
                </a:lnTo>
                <a:cubicBezTo>
                  <a:pt x="5364306" y="1049234"/>
                  <a:pt x="5379029" y="1034511"/>
                  <a:pt x="5379029" y="1016349"/>
                </a:cubicBezTo>
                <a:lnTo>
                  <a:pt x="5379029" y="776627"/>
                </a:lnTo>
                <a:cubicBezTo>
                  <a:pt x="5379029" y="758465"/>
                  <a:pt x="5364306" y="743742"/>
                  <a:pt x="5346144" y="743742"/>
                </a:cubicBezTo>
                <a:lnTo>
                  <a:pt x="5273799" y="743742"/>
                </a:lnTo>
                <a:close/>
                <a:moveTo>
                  <a:pt x="5526211" y="698499"/>
                </a:moveTo>
                <a:cubicBezTo>
                  <a:pt x="5508049" y="698499"/>
                  <a:pt x="5493326" y="713222"/>
                  <a:pt x="5493326" y="731384"/>
                </a:cubicBezTo>
                <a:lnTo>
                  <a:pt x="5493326" y="971106"/>
                </a:lnTo>
                <a:cubicBezTo>
                  <a:pt x="5493326" y="989268"/>
                  <a:pt x="5508049" y="1003991"/>
                  <a:pt x="5526211" y="1003991"/>
                </a:cubicBezTo>
                <a:lnTo>
                  <a:pt x="5598556" y="1003991"/>
                </a:lnTo>
                <a:cubicBezTo>
                  <a:pt x="5616718" y="1003991"/>
                  <a:pt x="5631441" y="989268"/>
                  <a:pt x="5631441" y="971106"/>
                </a:cubicBezTo>
                <a:lnTo>
                  <a:pt x="5631441" y="731384"/>
                </a:lnTo>
                <a:cubicBezTo>
                  <a:pt x="5631441" y="713222"/>
                  <a:pt x="5616718" y="698499"/>
                  <a:pt x="5598556" y="698499"/>
                </a:cubicBezTo>
                <a:lnTo>
                  <a:pt x="5526211" y="698499"/>
                </a:lnTo>
                <a:close/>
                <a:moveTo>
                  <a:pt x="5835774" y="660399"/>
                </a:moveTo>
                <a:cubicBezTo>
                  <a:pt x="5817612" y="660399"/>
                  <a:pt x="5802889" y="675122"/>
                  <a:pt x="5802889" y="693284"/>
                </a:cubicBezTo>
                <a:lnTo>
                  <a:pt x="5802889" y="933006"/>
                </a:lnTo>
                <a:cubicBezTo>
                  <a:pt x="5802889" y="951168"/>
                  <a:pt x="5817612" y="965891"/>
                  <a:pt x="5835774" y="965891"/>
                </a:cubicBezTo>
                <a:lnTo>
                  <a:pt x="5908119" y="965891"/>
                </a:lnTo>
                <a:cubicBezTo>
                  <a:pt x="5926281" y="965891"/>
                  <a:pt x="5941004" y="951168"/>
                  <a:pt x="5941004" y="933006"/>
                </a:cubicBezTo>
                <a:lnTo>
                  <a:pt x="5941004" y="693284"/>
                </a:lnTo>
                <a:cubicBezTo>
                  <a:pt x="5941004" y="675122"/>
                  <a:pt x="5926281" y="660399"/>
                  <a:pt x="5908119" y="660399"/>
                </a:cubicBezTo>
                <a:lnTo>
                  <a:pt x="5835774" y="660399"/>
                </a:lnTo>
                <a:close/>
                <a:moveTo>
                  <a:pt x="6176292" y="617537"/>
                </a:moveTo>
                <a:cubicBezTo>
                  <a:pt x="6158130" y="617537"/>
                  <a:pt x="6143407" y="632260"/>
                  <a:pt x="6143407" y="650422"/>
                </a:cubicBezTo>
                <a:lnTo>
                  <a:pt x="6143407" y="890144"/>
                </a:lnTo>
                <a:cubicBezTo>
                  <a:pt x="6143407" y="908306"/>
                  <a:pt x="6158130" y="923029"/>
                  <a:pt x="6176292" y="923029"/>
                </a:cubicBezTo>
                <a:lnTo>
                  <a:pt x="6248637" y="923029"/>
                </a:lnTo>
                <a:cubicBezTo>
                  <a:pt x="6266799" y="923029"/>
                  <a:pt x="6281522" y="908306"/>
                  <a:pt x="6281522" y="890144"/>
                </a:cubicBezTo>
                <a:lnTo>
                  <a:pt x="6281522" y="650422"/>
                </a:lnTo>
                <a:cubicBezTo>
                  <a:pt x="6281522" y="632260"/>
                  <a:pt x="6266799" y="617537"/>
                  <a:pt x="6248637" y="617537"/>
                </a:cubicBezTo>
                <a:lnTo>
                  <a:pt x="6176292" y="617537"/>
                </a:lnTo>
                <a:close/>
                <a:moveTo>
                  <a:pt x="6522481" y="567530"/>
                </a:moveTo>
                <a:cubicBezTo>
                  <a:pt x="6501187" y="567530"/>
                  <a:pt x="6483925" y="584792"/>
                  <a:pt x="6483925" y="606086"/>
                </a:cubicBezTo>
                <a:lnTo>
                  <a:pt x="6483925" y="864731"/>
                </a:lnTo>
                <a:cubicBezTo>
                  <a:pt x="6483925" y="886025"/>
                  <a:pt x="6501187" y="903287"/>
                  <a:pt x="6522481" y="903287"/>
                </a:cubicBezTo>
                <a:lnTo>
                  <a:pt x="6607301" y="903287"/>
                </a:lnTo>
                <a:cubicBezTo>
                  <a:pt x="6628595" y="903287"/>
                  <a:pt x="6645857" y="886025"/>
                  <a:pt x="6645857" y="864731"/>
                </a:cubicBezTo>
                <a:lnTo>
                  <a:pt x="6645857" y="606086"/>
                </a:lnTo>
                <a:cubicBezTo>
                  <a:pt x="6645857" y="584792"/>
                  <a:pt x="6628595" y="567530"/>
                  <a:pt x="6607301" y="567530"/>
                </a:cubicBezTo>
                <a:lnTo>
                  <a:pt x="6522481" y="567530"/>
                </a:lnTo>
                <a:close/>
                <a:moveTo>
                  <a:pt x="9449524" y="565853"/>
                </a:moveTo>
                <a:lnTo>
                  <a:pt x="9455405" y="574674"/>
                </a:lnTo>
                <a:lnTo>
                  <a:pt x="9449548" y="574674"/>
                </a:lnTo>
                <a:lnTo>
                  <a:pt x="9449524" y="565853"/>
                </a:lnTo>
                <a:close/>
                <a:moveTo>
                  <a:pt x="6915387" y="507999"/>
                </a:moveTo>
                <a:cubicBezTo>
                  <a:pt x="6894093" y="507999"/>
                  <a:pt x="6876831" y="525261"/>
                  <a:pt x="6876831" y="546555"/>
                </a:cubicBezTo>
                <a:lnTo>
                  <a:pt x="6876831" y="805200"/>
                </a:lnTo>
                <a:cubicBezTo>
                  <a:pt x="6876831" y="826494"/>
                  <a:pt x="6894093" y="843756"/>
                  <a:pt x="6915387" y="843756"/>
                </a:cubicBezTo>
                <a:lnTo>
                  <a:pt x="7000207" y="843756"/>
                </a:lnTo>
                <a:cubicBezTo>
                  <a:pt x="7021501" y="843756"/>
                  <a:pt x="7038763" y="826494"/>
                  <a:pt x="7038763" y="805200"/>
                </a:cubicBezTo>
                <a:lnTo>
                  <a:pt x="7038763" y="546555"/>
                </a:lnTo>
                <a:cubicBezTo>
                  <a:pt x="7038763" y="525261"/>
                  <a:pt x="7021501" y="507999"/>
                  <a:pt x="7000207" y="507999"/>
                </a:cubicBezTo>
                <a:lnTo>
                  <a:pt x="6915387" y="507999"/>
                </a:lnTo>
                <a:close/>
                <a:moveTo>
                  <a:pt x="7332106" y="450849"/>
                </a:moveTo>
                <a:cubicBezTo>
                  <a:pt x="7310812" y="450849"/>
                  <a:pt x="7293550" y="468111"/>
                  <a:pt x="7293550" y="489405"/>
                </a:cubicBezTo>
                <a:lnTo>
                  <a:pt x="7293550" y="748050"/>
                </a:lnTo>
                <a:cubicBezTo>
                  <a:pt x="7293550" y="769344"/>
                  <a:pt x="7310812" y="786606"/>
                  <a:pt x="7332106" y="786606"/>
                </a:cubicBezTo>
                <a:lnTo>
                  <a:pt x="7416926" y="786606"/>
                </a:lnTo>
                <a:cubicBezTo>
                  <a:pt x="7438220" y="786606"/>
                  <a:pt x="7455482" y="769344"/>
                  <a:pt x="7455482" y="748050"/>
                </a:cubicBezTo>
                <a:lnTo>
                  <a:pt x="7455482" y="489405"/>
                </a:lnTo>
                <a:cubicBezTo>
                  <a:pt x="7455482" y="468111"/>
                  <a:pt x="7438220" y="450849"/>
                  <a:pt x="7416926" y="450849"/>
                </a:cubicBezTo>
                <a:lnTo>
                  <a:pt x="7332106" y="450849"/>
                </a:lnTo>
                <a:close/>
                <a:moveTo>
                  <a:pt x="7779441" y="388935"/>
                </a:moveTo>
                <a:cubicBezTo>
                  <a:pt x="7754389" y="388935"/>
                  <a:pt x="7734081" y="409243"/>
                  <a:pt x="7734081" y="434295"/>
                </a:cubicBezTo>
                <a:lnTo>
                  <a:pt x="7734081" y="705527"/>
                </a:lnTo>
                <a:cubicBezTo>
                  <a:pt x="7734081" y="730579"/>
                  <a:pt x="7754389" y="750887"/>
                  <a:pt x="7779441" y="750887"/>
                </a:cubicBezTo>
                <a:lnTo>
                  <a:pt x="7879229" y="750887"/>
                </a:lnTo>
                <a:cubicBezTo>
                  <a:pt x="7904281" y="750887"/>
                  <a:pt x="7924589" y="730579"/>
                  <a:pt x="7924589" y="705527"/>
                </a:cubicBezTo>
                <a:lnTo>
                  <a:pt x="7924589" y="434295"/>
                </a:lnTo>
                <a:cubicBezTo>
                  <a:pt x="7924589" y="409243"/>
                  <a:pt x="7904281" y="388935"/>
                  <a:pt x="7879229" y="388935"/>
                </a:cubicBezTo>
                <a:lnTo>
                  <a:pt x="7779441" y="388935"/>
                </a:lnTo>
                <a:close/>
                <a:moveTo>
                  <a:pt x="8264195" y="315117"/>
                </a:moveTo>
                <a:cubicBezTo>
                  <a:pt x="8234446" y="315117"/>
                  <a:pt x="8210330" y="339233"/>
                  <a:pt x="8210330" y="368982"/>
                </a:cubicBezTo>
                <a:lnTo>
                  <a:pt x="8210330" y="623204"/>
                </a:lnTo>
                <a:cubicBezTo>
                  <a:pt x="8210330" y="652953"/>
                  <a:pt x="8234446" y="677069"/>
                  <a:pt x="8264195" y="677069"/>
                </a:cubicBezTo>
                <a:lnTo>
                  <a:pt x="8382692" y="677069"/>
                </a:lnTo>
                <a:cubicBezTo>
                  <a:pt x="8412441" y="677069"/>
                  <a:pt x="8436557" y="652953"/>
                  <a:pt x="8436557" y="623204"/>
                </a:cubicBezTo>
                <a:lnTo>
                  <a:pt x="8436557" y="368982"/>
                </a:lnTo>
                <a:cubicBezTo>
                  <a:pt x="8436557" y="339233"/>
                  <a:pt x="8412441" y="315117"/>
                  <a:pt x="8382692" y="315117"/>
                </a:cubicBezTo>
                <a:lnTo>
                  <a:pt x="8264195" y="315117"/>
                </a:lnTo>
                <a:close/>
                <a:moveTo>
                  <a:pt x="8771400" y="248444"/>
                </a:moveTo>
                <a:cubicBezTo>
                  <a:pt x="8735075" y="248444"/>
                  <a:pt x="8705628" y="277891"/>
                  <a:pt x="8705628" y="314216"/>
                </a:cubicBezTo>
                <a:lnTo>
                  <a:pt x="8705628" y="570816"/>
                </a:lnTo>
                <a:cubicBezTo>
                  <a:pt x="8705628" y="607141"/>
                  <a:pt x="8735075" y="636588"/>
                  <a:pt x="8771400" y="636588"/>
                </a:cubicBezTo>
                <a:lnTo>
                  <a:pt x="8916091" y="636588"/>
                </a:lnTo>
                <a:cubicBezTo>
                  <a:pt x="8952416" y="636588"/>
                  <a:pt x="8981863" y="607141"/>
                  <a:pt x="8981863" y="570816"/>
                </a:cubicBezTo>
                <a:lnTo>
                  <a:pt x="8981863" y="314216"/>
                </a:lnTo>
                <a:cubicBezTo>
                  <a:pt x="8981863" y="277891"/>
                  <a:pt x="8952416" y="248444"/>
                  <a:pt x="8916091" y="248444"/>
                </a:cubicBezTo>
                <a:lnTo>
                  <a:pt x="8771400" y="248444"/>
                </a:lnTo>
                <a:close/>
                <a:moveTo>
                  <a:pt x="9448413" y="165099"/>
                </a:moveTo>
                <a:lnTo>
                  <a:pt x="9450618" y="165099"/>
                </a:lnTo>
                <a:lnTo>
                  <a:pt x="9448416" y="166369"/>
                </a:lnTo>
                <a:lnTo>
                  <a:pt x="9448413" y="165099"/>
                </a:lnTo>
                <a:close/>
                <a:moveTo>
                  <a:pt x="9447956" y="0"/>
                </a:moveTo>
                <a:lnTo>
                  <a:pt x="9448413" y="165099"/>
                </a:lnTo>
                <a:lnTo>
                  <a:pt x="9326231" y="165099"/>
                </a:lnTo>
                <a:cubicBezTo>
                  <a:pt x="9289906" y="165099"/>
                  <a:pt x="9260459" y="194546"/>
                  <a:pt x="9260459" y="230871"/>
                </a:cubicBezTo>
                <a:lnTo>
                  <a:pt x="9260459" y="508902"/>
                </a:lnTo>
                <a:cubicBezTo>
                  <a:pt x="9260459" y="545227"/>
                  <a:pt x="9289906" y="574674"/>
                  <a:pt x="9326231" y="574674"/>
                </a:cubicBezTo>
                <a:lnTo>
                  <a:pt x="9449548" y="574674"/>
                </a:lnTo>
                <a:lnTo>
                  <a:pt x="9459779" y="4267992"/>
                </a:lnTo>
                <a:lnTo>
                  <a:pt x="9340835" y="4267992"/>
                </a:lnTo>
                <a:cubicBezTo>
                  <a:pt x="9303027" y="4267992"/>
                  <a:pt x="9272377" y="4298642"/>
                  <a:pt x="9272377" y="4336450"/>
                </a:cubicBezTo>
                <a:lnTo>
                  <a:pt x="9272377" y="4540597"/>
                </a:lnTo>
                <a:cubicBezTo>
                  <a:pt x="9272377" y="4578405"/>
                  <a:pt x="9303027" y="4609055"/>
                  <a:pt x="9340835" y="4609055"/>
                </a:cubicBezTo>
                <a:lnTo>
                  <a:pt x="9460723" y="4609055"/>
                </a:lnTo>
                <a:cubicBezTo>
                  <a:pt x="9460842" y="4651737"/>
                  <a:pt x="9460960" y="4694419"/>
                  <a:pt x="9461078" y="4737100"/>
                </a:cubicBezTo>
                <a:lnTo>
                  <a:pt x="5366964" y="4251580"/>
                </a:lnTo>
                <a:lnTo>
                  <a:pt x="1535293" y="3503617"/>
                </a:lnTo>
                <a:lnTo>
                  <a:pt x="0" y="3385518"/>
                </a:lnTo>
                <a:lnTo>
                  <a:pt x="13122" y="1837103"/>
                </a:lnTo>
                <a:lnTo>
                  <a:pt x="1049773" y="1705881"/>
                </a:lnTo>
                <a:lnTo>
                  <a:pt x="5393208" y="669230"/>
                </a:lnTo>
                <a:lnTo>
                  <a:pt x="9447956" y="0"/>
                </a:lnTo>
                <a:close/>
              </a:path>
            </a:pathLst>
          </a:custGeom>
          <a:solidFill>
            <a:srgbClr val="7f7f7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97"/>
          <p:cNvSpPr/>
          <p:nvPr/>
        </p:nvSpPr>
        <p:spPr>
          <a:xfrm>
            <a:off x="1139760" y="3240000"/>
            <a:ext cx="665280" cy="935280"/>
          </a:xfrm>
          <a:custGeom>
            <a:avLst/>
            <a:gdLst/>
            <a:ahLst/>
            <a:rect l="l" t="t" r="r" b="b"/>
            <a:pathLst>
              <a:path w="664368" h="935115">
                <a:moveTo>
                  <a:pt x="0" y="102656"/>
                </a:moveTo>
                <a:cubicBezTo>
                  <a:pt x="0" y="86435"/>
                  <a:pt x="13149" y="73286"/>
                  <a:pt x="29370" y="73286"/>
                </a:cubicBezTo>
                <a:cubicBezTo>
                  <a:pt x="220927" y="58999"/>
                  <a:pt x="467254" y="20899"/>
                  <a:pt x="625474" y="1848"/>
                </a:cubicBezTo>
                <a:cubicBezTo>
                  <a:pt x="658363" y="-10058"/>
                  <a:pt x="664368" y="38810"/>
                  <a:pt x="664368" y="55031"/>
                </a:cubicBezTo>
                <a:cubicBezTo>
                  <a:pt x="662781" y="332252"/>
                  <a:pt x="661193" y="609474"/>
                  <a:pt x="659606" y="886695"/>
                </a:cubicBezTo>
                <a:cubicBezTo>
                  <a:pt x="659606" y="902916"/>
                  <a:pt x="648838" y="935115"/>
                  <a:pt x="632617" y="935115"/>
                </a:cubicBezTo>
                <a:lnTo>
                  <a:pt x="26989" y="901778"/>
                </a:lnTo>
                <a:cubicBezTo>
                  <a:pt x="10768" y="901778"/>
                  <a:pt x="0" y="881485"/>
                  <a:pt x="0" y="865264"/>
                </a:cubicBezTo>
                <a:lnTo>
                  <a:pt x="0" y="102656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 97"/>
          <p:cNvSpPr/>
          <p:nvPr/>
        </p:nvSpPr>
        <p:spPr>
          <a:xfrm>
            <a:off x="1873080" y="3129120"/>
            <a:ext cx="727200" cy="1122120"/>
          </a:xfrm>
          <a:custGeom>
            <a:avLst/>
            <a:gdLst/>
            <a:ahLst/>
            <a:rect l="l" t="t" r="r" b="b"/>
            <a:pathLst>
              <a:path w="671507" h="959234">
                <a:moveTo>
                  <a:pt x="0" y="113215"/>
                </a:moveTo>
                <a:cubicBezTo>
                  <a:pt x="0" y="96994"/>
                  <a:pt x="13149" y="83845"/>
                  <a:pt x="29370" y="83845"/>
                </a:cubicBezTo>
                <a:cubicBezTo>
                  <a:pt x="138798" y="69558"/>
                  <a:pt x="458455" y="12473"/>
                  <a:pt x="619608" y="1558"/>
                </a:cubicBezTo>
                <a:cubicBezTo>
                  <a:pt x="652497" y="-10348"/>
                  <a:pt x="664368" y="49369"/>
                  <a:pt x="664368" y="65590"/>
                </a:cubicBezTo>
                <a:cubicBezTo>
                  <a:pt x="662781" y="342811"/>
                  <a:pt x="672925" y="633594"/>
                  <a:pt x="671338" y="910815"/>
                </a:cubicBezTo>
                <a:cubicBezTo>
                  <a:pt x="671338" y="927036"/>
                  <a:pt x="648838" y="959234"/>
                  <a:pt x="632617" y="959234"/>
                </a:cubicBezTo>
                <a:lnTo>
                  <a:pt x="26989" y="912337"/>
                </a:lnTo>
                <a:cubicBezTo>
                  <a:pt x="10768" y="912337"/>
                  <a:pt x="0" y="892044"/>
                  <a:pt x="0" y="875823"/>
                </a:cubicBezTo>
                <a:lnTo>
                  <a:pt x="0" y="113215"/>
                </a:lnTo>
                <a:close/>
              </a:path>
            </a:pathLst>
          </a:cu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600000"/>
          </a:gradFill>
          <a:ln w="324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7"/>
          <p:cNvSpPr/>
          <p:nvPr/>
        </p:nvSpPr>
        <p:spPr>
          <a:xfrm>
            <a:off x="2676600" y="2970360"/>
            <a:ext cx="776160" cy="1409400"/>
          </a:xfrm>
          <a:custGeom>
            <a:avLst/>
            <a:gdLst/>
            <a:ahLst/>
            <a:rect l="l" t="t" r="r" b="b"/>
            <a:pathLst>
              <a:path w="671507" h="988167">
                <a:moveTo>
                  <a:pt x="0" y="113215"/>
                </a:moveTo>
                <a:cubicBezTo>
                  <a:pt x="0" y="96994"/>
                  <a:pt x="13149" y="83845"/>
                  <a:pt x="29370" y="83845"/>
                </a:cubicBezTo>
                <a:cubicBezTo>
                  <a:pt x="138798" y="69558"/>
                  <a:pt x="458455" y="12473"/>
                  <a:pt x="619608" y="1558"/>
                </a:cubicBezTo>
                <a:cubicBezTo>
                  <a:pt x="652497" y="-10348"/>
                  <a:pt x="664368" y="49369"/>
                  <a:pt x="664368" y="65590"/>
                </a:cubicBezTo>
                <a:cubicBezTo>
                  <a:pt x="662781" y="342811"/>
                  <a:pt x="672925" y="635820"/>
                  <a:pt x="671338" y="913041"/>
                </a:cubicBezTo>
                <a:cubicBezTo>
                  <a:pt x="663099" y="960420"/>
                  <a:pt x="648838" y="988167"/>
                  <a:pt x="632617" y="988167"/>
                </a:cubicBezTo>
                <a:cubicBezTo>
                  <a:pt x="406023" y="966599"/>
                  <a:pt x="228865" y="940581"/>
                  <a:pt x="26989" y="916788"/>
                </a:cubicBezTo>
                <a:cubicBezTo>
                  <a:pt x="10768" y="916788"/>
                  <a:pt x="0" y="892044"/>
                  <a:pt x="0" y="875823"/>
                </a:cubicBezTo>
                <a:lnTo>
                  <a:pt x="0" y="113215"/>
                </a:lnTo>
                <a:close/>
              </a:path>
            </a:pathLst>
          </a:custGeom>
          <a:gradFill rotWithShape="0">
            <a:gsLst>
              <a:gs pos="0">
                <a:srgbClr val="c73e01"/>
              </a:gs>
              <a:gs pos="100000">
                <a:srgbClr val="fece02"/>
              </a:gs>
            </a:gsLst>
            <a:lin ang="1200000"/>
          </a:gradFill>
          <a:ln w="324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97"/>
          <p:cNvSpPr/>
          <p:nvPr/>
        </p:nvSpPr>
        <p:spPr>
          <a:xfrm>
            <a:off x="3529080" y="2714760"/>
            <a:ext cx="1279440" cy="1834920"/>
          </a:xfrm>
          <a:custGeom>
            <a:avLst/>
            <a:gdLst/>
            <a:ahLst/>
            <a:rect l="l" t="t" r="r" b="b"/>
            <a:pathLst>
              <a:path w="676691" h="1073505">
                <a:moveTo>
                  <a:pt x="0" y="167905"/>
                </a:moveTo>
                <a:cubicBezTo>
                  <a:pt x="0" y="151684"/>
                  <a:pt x="13148" y="116246"/>
                  <a:pt x="52061" y="107887"/>
                </a:cubicBezTo>
                <a:cubicBezTo>
                  <a:pt x="164010" y="76883"/>
                  <a:pt x="460977" y="8653"/>
                  <a:pt x="639779" y="525"/>
                </a:cubicBezTo>
                <a:cubicBezTo>
                  <a:pt x="682753" y="-8594"/>
                  <a:pt x="674453" y="104059"/>
                  <a:pt x="674453" y="120280"/>
                </a:cubicBezTo>
                <a:cubicBezTo>
                  <a:pt x="672866" y="397501"/>
                  <a:pt x="677968" y="718372"/>
                  <a:pt x="676381" y="995593"/>
                </a:cubicBezTo>
                <a:cubicBezTo>
                  <a:pt x="678227" y="1034614"/>
                  <a:pt x="646317" y="1073505"/>
                  <a:pt x="630096" y="1073505"/>
                </a:cubicBezTo>
                <a:cubicBezTo>
                  <a:pt x="403502" y="1051937"/>
                  <a:pt x="236429" y="1023133"/>
                  <a:pt x="34553" y="999340"/>
                </a:cubicBezTo>
                <a:cubicBezTo>
                  <a:pt x="18332" y="999340"/>
                  <a:pt x="0" y="946734"/>
                  <a:pt x="0" y="930513"/>
                </a:cubicBezTo>
                <a:lnTo>
                  <a:pt x="0" y="167905"/>
                </a:lnTo>
                <a:close/>
              </a:path>
            </a:pathLst>
          </a:custGeom>
          <a:gradFill rotWithShape="0">
            <a:gsLst>
              <a:gs pos="0">
                <a:srgbClr val="bceb6f"/>
              </a:gs>
              <a:gs pos="100000">
                <a:srgbClr val="119707"/>
              </a:gs>
            </a:gsLst>
            <a:lin ang="10800000"/>
          </a:gradFill>
          <a:ln w="324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97"/>
          <p:cNvSpPr/>
          <p:nvPr/>
        </p:nvSpPr>
        <p:spPr>
          <a:xfrm>
            <a:off x="4994280" y="2446200"/>
            <a:ext cx="2627280" cy="2310120"/>
          </a:xfrm>
          <a:custGeom>
            <a:avLst/>
            <a:gdLst/>
            <a:ahLst/>
            <a:rect l="l" t="t" r="r" b="b"/>
            <a:pathLst>
              <a:path w="676691" h="1073505">
                <a:moveTo>
                  <a:pt x="0" y="167905"/>
                </a:moveTo>
                <a:cubicBezTo>
                  <a:pt x="0" y="151684"/>
                  <a:pt x="7260" y="105617"/>
                  <a:pt x="46173" y="97258"/>
                </a:cubicBezTo>
                <a:cubicBezTo>
                  <a:pt x="162047" y="83969"/>
                  <a:pt x="460977" y="8653"/>
                  <a:pt x="639779" y="525"/>
                </a:cubicBezTo>
                <a:cubicBezTo>
                  <a:pt x="682753" y="-8594"/>
                  <a:pt x="674453" y="104059"/>
                  <a:pt x="674453" y="120280"/>
                </a:cubicBezTo>
                <a:cubicBezTo>
                  <a:pt x="672866" y="397501"/>
                  <a:pt x="677968" y="718372"/>
                  <a:pt x="676381" y="995593"/>
                </a:cubicBezTo>
                <a:cubicBezTo>
                  <a:pt x="678227" y="1034614"/>
                  <a:pt x="646317" y="1073505"/>
                  <a:pt x="630096" y="1073505"/>
                </a:cubicBezTo>
                <a:cubicBezTo>
                  <a:pt x="403502" y="1051937"/>
                  <a:pt x="236429" y="1023133"/>
                  <a:pt x="34553" y="999340"/>
                </a:cubicBezTo>
                <a:cubicBezTo>
                  <a:pt x="18332" y="999340"/>
                  <a:pt x="0" y="946734"/>
                  <a:pt x="0" y="930513"/>
                </a:cubicBezTo>
                <a:lnTo>
                  <a:pt x="0" y="167905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735160" y="3168720"/>
            <a:ext cx="1162080" cy="912960"/>
            <a:chOff x="5735160" y="3168720"/>
            <a:chExt cx="1162080" cy="912960"/>
          </a:xfrm>
        </p:grpSpPr>
        <p:sp>
          <p:nvSpPr>
            <p:cNvPr id="269" name="TextBox 11"/>
            <p:cNvSpPr/>
            <p:nvPr/>
          </p:nvSpPr>
          <p:spPr>
            <a:xfrm flipH="1">
              <a:off x="5750280" y="36226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1"/>
            <p:cNvSpPr/>
            <p:nvPr/>
          </p:nvSpPr>
          <p:spPr>
            <a:xfrm flipH="1">
              <a:off x="5734800" y="316872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直接连接符 12"/>
          <p:cNvSpPr/>
          <p:nvPr/>
        </p:nvSpPr>
        <p:spPr>
          <a:xfrm>
            <a:off x="3065400" y="2568600"/>
            <a:ext cx="0" cy="86040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615840" y="3174840"/>
            <a:ext cx="1162080" cy="912240"/>
            <a:chOff x="3615840" y="3174840"/>
            <a:chExt cx="1162080" cy="912240"/>
          </a:xfrm>
        </p:grpSpPr>
        <p:sp>
          <p:nvSpPr>
            <p:cNvPr id="273" name="TextBox 11"/>
            <p:cNvSpPr/>
            <p:nvPr/>
          </p:nvSpPr>
          <p:spPr>
            <a:xfrm flipH="1">
              <a:off x="3630960" y="36280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1"/>
            <p:cNvSpPr/>
            <p:nvPr/>
          </p:nvSpPr>
          <p:spPr>
            <a:xfrm flipH="1">
              <a:off x="3615480" y="31748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直接连接符 16"/>
          <p:cNvSpPr/>
          <p:nvPr/>
        </p:nvSpPr>
        <p:spPr>
          <a:xfrm>
            <a:off x="2236680" y="3808440"/>
            <a:ext cx="0" cy="777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7"/>
          <p:cNvSpPr/>
          <p:nvPr/>
        </p:nvSpPr>
        <p:spPr>
          <a:xfrm>
            <a:off x="1473120" y="2781360"/>
            <a:ext cx="0" cy="7300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 flipH="1">
            <a:off x="907920" y="22510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1"/>
          <p:cNvSpPr/>
          <p:nvPr/>
        </p:nvSpPr>
        <p:spPr>
          <a:xfrm flipH="1">
            <a:off x="2516040" y="2101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1"/>
          <p:cNvSpPr/>
          <p:nvPr/>
        </p:nvSpPr>
        <p:spPr>
          <a:xfrm flipH="1">
            <a:off x="1655640" y="46213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1"/>
          <p:cNvSpPr/>
          <p:nvPr/>
        </p:nvSpPr>
        <p:spPr>
          <a:xfrm>
            <a:off x="5852520" y="26028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胶片移动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3925800" y="3797280"/>
            <a:ext cx="4383000" cy="1420920"/>
            <a:chOff x="3925800" y="3797280"/>
            <a:chExt cx="4383000" cy="1420920"/>
          </a:xfrm>
        </p:grpSpPr>
        <p:pic>
          <p:nvPicPr>
            <p:cNvPr id="282" name="椭圆 10" descr=""/>
            <p:cNvPicPr/>
            <p:nvPr/>
          </p:nvPicPr>
          <p:blipFill>
            <a:blip r:embed="rId1"/>
            <a:stretch/>
          </p:blipFill>
          <p:spPr>
            <a:xfrm>
              <a:off x="3925800" y="3797280"/>
              <a:ext cx="43830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 rot="10800000">
              <a:off x="4645080" y="4086360"/>
              <a:ext cx="28620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03360" y="3657600"/>
            <a:ext cx="4711680" cy="1511280"/>
            <a:chOff x="603360" y="3657600"/>
            <a:chExt cx="4711680" cy="1511280"/>
          </a:xfrm>
        </p:grpSpPr>
        <p:pic>
          <p:nvPicPr>
            <p:cNvPr id="285" name="椭圆 10" descr=""/>
            <p:cNvPicPr/>
            <p:nvPr/>
          </p:nvPicPr>
          <p:blipFill>
            <a:blip r:embed="rId2"/>
            <a:stretch/>
          </p:blipFill>
          <p:spPr>
            <a:xfrm>
              <a:off x="603360" y="3657600"/>
              <a:ext cx="47116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 rot="10800000">
              <a:off x="1371240" y="3955680"/>
              <a:ext cx="30956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0" y="4389480"/>
            <a:ext cx="4340160" cy="1414440"/>
            <a:chOff x="4572000" y="4389480"/>
            <a:chExt cx="4340160" cy="1414440"/>
          </a:xfrm>
        </p:grpSpPr>
        <p:pic>
          <p:nvPicPr>
            <p:cNvPr id="288" name="椭圆 10" descr=""/>
            <p:cNvPicPr/>
            <p:nvPr/>
          </p:nvPicPr>
          <p:blipFill>
            <a:blip r:embed="rId3"/>
            <a:stretch/>
          </p:blipFill>
          <p:spPr>
            <a:xfrm>
              <a:off x="4572000" y="4389480"/>
              <a:ext cx="43401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 rot="10800000">
              <a:off x="5284440" y="4678560"/>
              <a:ext cx="28321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37960" y="4127400"/>
            <a:ext cx="4016520" cy="1328760"/>
            <a:chOff x="237960" y="4127400"/>
            <a:chExt cx="4016520" cy="1328760"/>
          </a:xfrm>
        </p:grpSpPr>
        <p:pic>
          <p:nvPicPr>
            <p:cNvPr id="291" name="椭圆 10" descr=""/>
            <p:cNvPicPr/>
            <p:nvPr/>
          </p:nvPicPr>
          <p:blipFill>
            <a:blip r:embed="rId4"/>
            <a:stretch/>
          </p:blipFill>
          <p:spPr>
            <a:xfrm>
              <a:off x="237960" y="4127400"/>
              <a:ext cx="40165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rot="10800000">
              <a:off x="904320" y="4401720"/>
              <a:ext cx="2606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组合 7" descr=""/>
          <p:cNvPicPr/>
          <p:nvPr/>
        </p:nvPicPr>
        <p:blipFill>
          <a:blip r:embed="rId5"/>
          <a:stretch/>
        </p:blipFill>
        <p:spPr>
          <a:xfrm>
            <a:off x="5278320" y="2719440"/>
            <a:ext cx="1695600" cy="33274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1"/>
          <p:cNvSpPr/>
          <p:nvPr/>
        </p:nvSpPr>
        <p:spPr>
          <a:xfrm flipH="1">
            <a:off x="5703120" y="32130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1"/>
          <p:cNvSpPr/>
          <p:nvPr/>
        </p:nvSpPr>
        <p:spPr>
          <a:xfrm flipH="1">
            <a:off x="5703120" y="34290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37" descr=""/>
          <p:cNvPicPr/>
          <p:nvPr/>
        </p:nvPicPr>
        <p:blipFill>
          <a:blip r:embed="rId6"/>
          <a:stretch/>
        </p:blipFill>
        <p:spPr>
          <a:xfrm>
            <a:off x="6126120" y="3046320"/>
            <a:ext cx="1357200" cy="205128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539720" y="2655720"/>
            <a:ext cx="2076480" cy="2097360"/>
            <a:chOff x="1539720" y="2655720"/>
            <a:chExt cx="2076480" cy="2097360"/>
          </a:xfrm>
        </p:grpSpPr>
        <p:pic>
          <p:nvPicPr>
            <p:cNvPr id="298" name="组合 15" descr=""/>
            <p:cNvPicPr/>
            <p:nvPr/>
          </p:nvPicPr>
          <p:blipFill>
            <a:blip r:embed="rId7"/>
            <a:stretch/>
          </p:blipFill>
          <p:spPr>
            <a:xfrm>
              <a:off x="1940760" y="2655720"/>
              <a:ext cx="1675440" cy="20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667" descr=""/>
            <p:cNvPicPr/>
            <p:nvPr/>
          </p:nvPicPr>
          <p:blipFill>
            <a:blip r:embed="rId8"/>
            <a:stretch/>
          </p:blipFill>
          <p:spPr>
            <a:xfrm>
              <a:off x="1539720" y="3091320"/>
              <a:ext cx="895680" cy="86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0" name=""/>
            <p:cNvGrpSpPr/>
            <p:nvPr/>
          </p:nvGrpSpPr>
          <p:grpSpPr>
            <a:xfrm>
              <a:off x="1971000" y="2969640"/>
              <a:ext cx="435240" cy="397440"/>
              <a:chOff x="1971000" y="2969640"/>
              <a:chExt cx="435240" cy="397440"/>
            </a:xfrm>
          </p:grpSpPr>
          <p:pic>
            <p:nvPicPr>
              <p:cNvPr id="301" name="任意多边形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1971000" y="2970360"/>
                <a:ext cx="43524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1971000" y="2969640"/>
                <a:ext cx="434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Box 11"/>
            <p:cNvSpPr/>
            <p:nvPr/>
          </p:nvSpPr>
          <p:spPr>
            <a:xfrm flipH="1">
              <a:off x="2053080" y="3007080"/>
              <a:ext cx="124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1"/>
            <p:cNvSpPr/>
            <p:nvPr/>
          </p:nvSpPr>
          <p:spPr>
            <a:xfrm flipH="1">
              <a:off x="2053080" y="3134520"/>
              <a:ext cx="124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组合 23" descr=""/>
          <p:cNvPicPr/>
          <p:nvPr/>
        </p:nvPicPr>
        <p:blipFill>
          <a:blip r:embed="rId10"/>
          <a:stretch/>
        </p:blipFill>
        <p:spPr>
          <a:xfrm>
            <a:off x="3249720" y="2328840"/>
            <a:ext cx="2474640" cy="49370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1"/>
          <p:cNvSpPr/>
          <p:nvPr/>
        </p:nvSpPr>
        <p:spPr>
          <a:xfrm flipH="1">
            <a:off x="3546360" y="3174840"/>
            <a:ext cx="20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1"/>
          <p:cNvSpPr/>
          <p:nvPr/>
        </p:nvSpPr>
        <p:spPr>
          <a:xfrm flipH="1">
            <a:off x="3946680" y="354492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1"/>
          <p:cNvSpPr/>
          <p:nvPr/>
        </p:nvSpPr>
        <p:spPr>
          <a:xfrm flipH="1">
            <a:off x="3946680" y="382104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36" descr=""/>
          <p:cNvPicPr/>
          <p:nvPr/>
        </p:nvPicPr>
        <p:blipFill>
          <a:blip r:embed="rId11"/>
          <a:stretch/>
        </p:blipFill>
        <p:spPr>
          <a:xfrm>
            <a:off x="3967200" y="1312920"/>
            <a:ext cx="10904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901800" y="4164120"/>
            <a:ext cx="7046640" cy="1719000"/>
            <a:chOff x="901800" y="4164120"/>
            <a:chExt cx="7046640" cy="1719000"/>
          </a:xfrm>
        </p:grpSpPr>
        <p:pic>
          <p:nvPicPr>
            <p:cNvPr id="311" name="椭圆 10" descr=""/>
            <p:cNvPicPr/>
            <p:nvPr/>
          </p:nvPicPr>
          <p:blipFill>
            <a:blip r:embed="rId12"/>
            <a:stretch/>
          </p:blipFill>
          <p:spPr>
            <a:xfrm>
              <a:off x="901800" y="4164120"/>
              <a:ext cx="704664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10800000">
              <a:off x="2010960" y="4495320"/>
              <a:ext cx="4746240" cy="9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Box 32"/>
          <p:cNvSpPr/>
          <p:nvPr/>
        </p:nvSpPr>
        <p:spPr>
          <a:xfrm>
            <a:off x="5605920" y="260280"/>
            <a:ext cx="24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3D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小人圆球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1494000" y="3681360"/>
            <a:ext cx="3547800" cy="1176480"/>
            <a:chOff x="1494000" y="3681360"/>
            <a:chExt cx="3547800" cy="1176480"/>
          </a:xfrm>
        </p:grpSpPr>
        <p:pic>
          <p:nvPicPr>
            <p:cNvPr id="315" name="椭圆 10" descr=""/>
            <p:cNvPicPr/>
            <p:nvPr/>
          </p:nvPicPr>
          <p:blipFill>
            <a:blip r:embed="rId1"/>
            <a:stretch/>
          </p:blipFill>
          <p:spPr>
            <a:xfrm>
              <a:off x="1494000" y="3681360"/>
              <a:ext cx="3547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 rot="10800000">
              <a:off x="2090160" y="3930480"/>
              <a:ext cx="2269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895480" y="4048200"/>
            <a:ext cx="3548160" cy="1182600"/>
            <a:chOff x="2895480" y="4048200"/>
            <a:chExt cx="3548160" cy="1182600"/>
          </a:xfrm>
        </p:grpSpPr>
        <p:pic>
          <p:nvPicPr>
            <p:cNvPr id="318" name="椭圆 10" descr=""/>
            <p:cNvPicPr/>
            <p:nvPr/>
          </p:nvPicPr>
          <p:blipFill>
            <a:blip r:embed="rId2"/>
            <a:stretch/>
          </p:blipFill>
          <p:spPr>
            <a:xfrm>
              <a:off x="2895480" y="4048200"/>
              <a:ext cx="3548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 rot="10800000">
              <a:off x="3493800" y="4302000"/>
              <a:ext cx="2270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224240" y="3681360"/>
            <a:ext cx="3548160" cy="1176480"/>
            <a:chOff x="4224240" y="3681360"/>
            <a:chExt cx="3548160" cy="1176480"/>
          </a:xfrm>
        </p:grpSpPr>
        <p:pic>
          <p:nvPicPr>
            <p:cNvPr id="321" name="椭圆 10" descr=""/>
            <p:cNvPicPr/>
            <p:nvPr/>
          </p:nvPicPr>
          <p:blipFill>
            <a:blip r:embed="rId3"/>
            <a:stretch/>
          </p:blipFill>
          <p:spPr>
            <a:xfrm>
              <a:off x="4224240" y="3681360"/>
              <a:ext cx="35481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10800000">
              <a:off x="4824360" y="3930480"/>
              <a:ext cx="2271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559480" y="4048200"/>
            <a:ext cx="3548160" cy="1182600"/>
            <a:chOff x="5559480" y="4048200"/>
            <a:chExt cx="3548160" cy="1182600"/>
          </a:xfrm>
        </p:grpSpPr>
        <p:pic>
          <p:nvPicPr>
            <p:cNvPr id="324" name="椭圆 10" descr=""/>
            <p:cNvPicPr/>
            <p:nvPr/>
          </p:nvPicPr>
          <p:blipFill>
            <a:blip r:embed="rId4"/>
            <a:stretch/>
          </p:blipFill>
          <p:spPr>
            <a:xfrm>
              <a:off x="5559480" y="4048200"/>
              <a:ext cx="3548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 rot="10800000">
              <a:off x="6159600" y="4302000"/>
              <a:ext cx="2270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22400" y="3949560"/>
            <a:ext cx="3547800" cy="1176480"/>
            <a:chOff x="122400" y="3949560"/>
            <a:chExt cx="3547800" cy="1176480"/>
          </a:xfrm>
        </p:grpSpPr>
        <p:pic>
          <p:nvPicPr>
            <p:cNvPr id="327" name="椭圆 10" descr=""/>
            <p:cNvPicPr/>
            <p:nvPr/>
          </p:nvPicPr>
          <p:blipFill>
            <a:blip r:embed="rId5"/>
            <a:stretch/>
          </p:blipFill>
          <p:spPr>
            <a:xfrm>
              <a:off x="122400" y="3949560"/>
              <a:ext cx="3547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 rot="10800000">
              <a:off x="721800" y="4200480"/>
              <a:ext cx="2269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739960" y="2708280"/>
            <a:ext cx="996840" cy="1784520"/>
            <a:chOff x="2739960" y="2708280"/>
            <a:chExt cx="996840" cy="1784520"/>
          </a:xfrm>
        </p:grpSpPr>
        <p:pic>
          <p:nvPicPr>
            <p:cNvPr id="330" name="圆角矩形 9" descr=""/>
            <p:cNvPicPr/>
            <p:nvPr/>
          </p:nvPicPr>
          <p:blipFill>
            <a:blip r:embed="rId6"/>
            <a:stretch/>
          </p:blipFill>
          <p:spPr>
            <a:xfrm>
              <a:off x="2739960" y="3836520"/>
              <a:ext cx="99684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圆角矩形 10" descr=""/>
            <p:cNvPicPr/>
            <p:nvPr/>
          </p:nvPicPr>
          <p:blipFill>
            <a:blip r:embed="rId7"/>
            <a:stretch/>
          </p:blipFill>
          <p:spPr>
            <a:xfrm>
              <a:off x="2744280" y="3830040"/>
              <a:ext cx="99252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椭圆 10"/>
            <p:cNvSpPr/>
            <p:nvPr/>
          </p:nvSpPr>
          <p:spPr>
            <a:xfrm>
              <a:off x="2912760" y="2708280"/>
              <a:ext cx="662760" cy="153576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d74e05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10"/>
            <p:cNvSpPr/>
            <p:nvPr/>
          </p:nvSpPr>
          <p:spPr>
            <a:xfrm>
              <a:off x="3062160" y="3054960"/>
              <a:ext cx="363960" cy="30096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10"/>
            <p:cNvSpPr/>
            <p:nvPr/>
          </p:nvSpPr>
          <p:spPr>
            <a:xfrm>
              <a:off x="2961000" y="3573720"/>
              <a:ext cx="567720" cy="29376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475240" y="2708280"/>
            <a:ext cx="996840" cy="1784520"/>
            <a:chOff x="5475240" y="2708280"/>
            <a:chExt cx="996840" cy="1784520"/>
          </a:xfrm>
        </p:grpSpPr>
        <p:pic>
          <p:nvPicPr>
            <p:cNvPr id="336" name="圆角矩形 15" descr=""/>
            <p:cNvPicPr/>
            <p:nvPr/>
          </p:nvPicPr>
          <p:blipFill>
            <a:blip r:embed="rId8"/>
            <a:stretch/>
          </p:blipFill>
          <p:spPr>
            <a:xfrm>
              <a:off x="5475240" y="3836520"/>
              <a:ext cx="99684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圆角矩形 16" descr=""/>
            <p:cNvPicPr/>
            <p:nvPr/>
          </p:nvPicPr>
          <p:blipFill>
            <a:blip r:embed="rId9"/>
            <a:stretch/>
          </p:blipFill>
          <p:spPr>
            <a:xfrm>
              <a:off x="5475240" y="3830040"/>
              <a:ext cx="99684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椭圆 10"/>
            <p:cNvSpPr/>
            <p:nvPr/>
          </p:nvSpPr>
          <p:spPr>
            <a:xfrm>
              <a:off x="5647320" y="2708280"/>
              <a:ext cx="662760" cy="153576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d74e05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10"/>
            <p:cNvSpPr/>
            <p:nvPr/>
          </p:nvSpPr>
          <p:spPr>
            <a:xfrm>
              <a:off x="5797080" y="3054960"/>
              <a:ext cx="363960" cy="30096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10"/>
            <p:cNvSpPr/>
            <p:nvPr/>
          </p:nvSpPr>
          <p:spPr>
            <a:xfrm>
              <a:off x="5695920" y="3573720"/>
              <a:ext cx="567720" cy="29376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任意多边形 20"/>
          <p:cNvSpPr/>
          <p:nvPr/>
        </p:nvSpPr>
        <p:spPr>
          <a:xfrm>
            <a:off x="641520" y="3807000"/>
            <a:ext cx="7613640" cy="682560"/>
          </a:xfrm>
          <a:custGeom>
            <a:avLst/>
            <a:gdLst/>
            <a:ahLst/>
            <a:rect l="l" t="t" r="r" b="b"/>
            <a:pathLst>
              <a:path w="7613650" h="682824">
                <a:moveTo>
                  <a:pt x="0" y="341738"/>
                </a:moveTo>
                <a:cubicBezTo>
                  <a:pt x="157692" y="222146"/>
                  <a:pt x="601133" y="-29888"/>
                  <a:pt x="1225550" y="2920"/>
                </a:cubicBezTo>
                <a:cubicBezTo>
                  <a:pt x="1823508" y="35728"/>
                  <a:pt x="2069042" y="611462"/>
                  <a:pt x="2543175" y="653795"/>
                </a:cubicBezTo>
                <a:cubicBezTo>
                  <a:pt x="3104092" y="649562"/>
                  <a:pt x="3469065" y="229857"/>
                  <a:pt x="3963307" y="235149"/>
                </a:cubicBezTo>
                <a:cubicBezTo>
                  <a:pt x="4616299" y="231974"/>
                  <a:pt x="4687359" y="672392"/>
                  <a:pt x="5393872" y="682824"/>
                </a:cubicBezTo>
                <a:cubicBezTo>
                  <a:pt x="6008461" y="610102"/>
                  <a:pt x="6205764" y="130524"/>
                  <a:pt x="6742339" y="53266"/>
                </a:cubicBezTo>
                <a:cubicBezTo>
                  <a:pt x="7158415" y="32099"/>
                  <a:pt x="7483777" y="273098"/>
                  <a:pt x="7613650" y="454677"/>
                </a:cubicBezTo>
              </a:path>
            </a:pathLst>
          </a:custGeom>
          <a:noFill/>
          <a:ln w="9360">
            <a:solidFill>
              <a:srgbClr val="262626"/>
            </a:solidFill>
            <a:prstDash val="sys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371600" y="3098880"/>
            <a:ext cx="968400" cy="1733400"/>
            <a:chOff x="1371600" y="3098880"/>
            <a:chExt cx="968400" cy="1733400"/>
          </a:xfrm>
        </p:grpSpPr>
        <p:pic>
          <p:nvPicPr>
            <p:cNvPr id="343" name="圆角矩形 22" descr=""/>
            <p:cNvPicPr/>
            <p:nvPr/>
          </p:nvPicPr>
          <p:blipFill>
            <a:blip r:embed="rId10"/>
            <a:stretch/>
          </p:blipFill>
          <p:spPr>
            <a:xfrm>
              <a:off x="137160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圆角矩形 23" descr=""/>
            <p:cNvPicPr/>
            <p:nvPr/>
          </p:nvPicPr>
          <p:blipFill>
            <a:blip r:embed="rId11"/>
            <a:stretch/>
          </p:blipFill>
          <p:spPr>
            <a:xfrm>
              <a:off x="137592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椭圆 10"/>
            <p:cNvSpPr/>
            <p:nvPr/>
          </p:nvSpPr>
          <p:spPr>
            <a:xfrm>
              <a:off x="1541160" y="3098880"/>
              <a:ext cx="642960" cy="149220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c5134a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10"/>
            <p:cNvSpPr/>
            <p:nvPr/>
          </p:nvSpPr>
          <p:spPr>
            <a:xfrm>
              <a:off x="1685880" y="3435840"/>
              <a:ext cx="352800" cy="292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10"/>
            <p:cNvSpPr/>
            <p:nvPr/>
          </p:nvSpPr>
          <p:spPr>
            <a:xfrm>
              <a:off x="1587960" y="3939840"/>
              <a:ext cx="550440" cy="2854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179960" y="3098880"/>
            <a:ext cx="968400" cy="1733400"/>
            <a:chOff x="4179960" y="3098880"/>
            <a:chExt cx="968400" cy="1733400"/>
          </a:xfrm>
        </p:grpSpPr>
        <p:pic>
          <p:nvPicPr>
            <p:cNvPr id="349" name="圆角矩形 28" descr=""/>
            <p:cNvPicPr/>
            <p:nvPr/>
          </p:nvPicPr>
          <p:blipFill>
            <a:blip r:embed="rId12"/>
            <a:stretch/>
          </p:blipFill>
          <p:spPr>
            <a:xfrm>
              <a:off x="417996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圆角矩形 29" descr=""/>
            <p:cNvPicPr/>
            <p:nvPr/>
          </p:nvPicPr>
          <p:blipFill>
            <a:blip r:embed="rId13"/>
            <a:stretch/>
          </p:blipFill>
          <p:spPr>
            <a:xfrm>
              <a:off x="418428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椭圆 10"/>
            <p:cNvSpPr/>
            <p:nvPr/>
          </p:nvSpPr>
          <p:spPr>
            <a:xfrm>
              <a:off x="4348080" y="3098880"/>
              <a:ext cx="642960" cy="149220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c5134a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10"/>
            <p:cNvSpPr/>
            <p:nvPr/>
          </p:nvSpPr>
          <p:spPr>
            <a:xfrm>
              <a:off x="4492800" y="3435840"/>
              <a:ext cx="352800" cy="292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10"/>
            <p:cNvSpPr/>
            <p:nvPr/>
          </p:nvSpPr>
          <p:spPr>
            <a:xfrm>
              <a:off x="4394880" y="3939840"/>
              <a:ext cx="550440" cy="2854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843600" y="3098880"/>
            <a:ext cx="968400" cy="1733400"/>
            <a:chOff x="6843600" y="3098880"/>
            <a:chExt cx="968400" cy="1733400"/>
          </a:xfrm>
        </p:grpSpPr>
        <p:pic>
          <p:nvPicPr>
            <p:cNvPr id="355" name="圆角矩形 34" descr=""/>
            <p:cNvPicPr/>
            <p:nvPr/>
          </p:nvPicPr>
          <p:blipFill>
            <a:blip r:embed="rId14"/>
            <a:stretch/>
          </p:blipFill>
          <p:spPr>
            <a:xfrm>
              <a:off x="684360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圆角矩形 35" descr=""/>
            <p:cNvPicPr/>
            <p:nvPr/>
          </p:nvPicPr>
          <p:blipFill>
            <a:blip r:embed="rId15"/>
            <a:stretch/>
          </p:blipFill>
          <p:spPr>
            <a:xfrm>
              <a:off x="684792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椭圆 10"/>
            <p:cNvSpPr/>
            <p:nvPr/>
          </p:nvSpPr>
          <p:spPr>
            <a:xfrm>
              <a:off x="7012080" y="3098880"/>
              <a:ext cx="642960" cy="149220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c5134a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10"/>
            <p:cNvSpPr/>
            <p:nvPr/>
          </p:nvSpPr>
          <p:spPr>
            <a:xfrm>
              <a:off x="7156800" y="3435840"/>
              <a:ext cx="352800" cy="292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10"/>
            <p:cNvSpPr/>
            <p:nvPr/>
          </p:nvSpPr>
          <p:spPr>
            <a:xfrm>
              <a:off x="7058880" y="3939840"/>
              <a:ext cx="550440" cy="2854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直接连接符 39"/>
          <p:cNvSpPr/>
          <p:nvPr/>
        </p:nvSpPr>
        <p:spPr>
          <a:xfrm>
            <a:off x="3240000" y="2036880"/>
            <a:ext cx="0" cy="66816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40"/>
          <p:cNvSpPr/>
          <p:nvPr/>
        </p:nvSpPr>
        <p:spPr>
          <a:xfrm>
            <a:off x="1862280" y="2535120"/>
            <a:ext cx="0" cy="57312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1"/>
          <p:cNvSpPr/>
          <p:nvPr/>
        </p:nvSpPr>
        <p:spPr>
          <a:xfrm>
            <a:off x="4667400" y="2492280"/>
            <a:ext cx="0" cy="5968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2"/>
          <p:cNvSpPr/>
          <p:nvPr/>
        </p:nvSpPr>
        <p:spPr>
          <a:xfrm>
            <a:off x="5972040" y="1974960"/>
            <a:ext cx="0" cy="7300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3"/>
          <p:cNvSpPr/>
          <p:nvPr/>
        </p:nvSpPr>
        <p:spPr>
          <a:xfrm>
            <a:off x="7337520" y="2514600"/>
            <a:ext cx="0" cy="5842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1"/>
          <p:cNvSpPr/>
          <p:nvPr/>
        </p:nvSpPr>
        <p:spPr>
          <a:xfrm flipH="1">
            <a:off x="120960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 flipH="1">
            <a:off x="2562120" y="151272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 flipH="1">
            <a:off x="401796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1"/>
          <p:cNvSpPr/>
          <p:nvPr/>
        </p:nvSpPr>
        <p:spPr>
          <a:xfrm flipH="1">
            <a:off x="5344560" y="1512720"/>
            <a:ext cx="130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1"/>
          <p:cNvSpPr/>
          <p:nvPr/>
        </p:nvSpPr>
        <p:spPr>
          <a:xfrm flipH="1">
            <a:off x="6681960" y="203688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9"/>
          <p:cNvSpPr/>
          <p:nvPr/>
        </p:nvSpPr>
        <p:spPr>
          <a:xfrm>
            <a:off x="5554800" y="26028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交通障碍警示具象场景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2000160" y="4889520"/>
            <a:ext cx="4991040" cy="1554120"/>
            <a:chOff x="2000160" y="4889520"/>
            <a:chExt cx="4991040" cy="1554120"/>
          </a:xfrm>
        </p:grpSpPr>
        <p:pic>
          <p:nvPicPr>
            <p:cNvPr id="372" name="椭圆 10" descr=""/>
            <p:cNvPicPr/>
            <p:nvPr/>
          </p:nvPicPr>
          <p:blipFill>
            <a:blip r:embed="rId1"/>
            <a:stretch/>
          </p:blipFill>
          <p:spPr>
            <a:xfrm>
              <a:off x="2000160" y="4889520"/>
              <a:ext cx="49910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rot="10800000">
              <a:off x="2811240" y="5194080"/>
              <a:ext cx="3291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514680" y="4292640"/>
            <a:ext cx="1851120" cy="1049400"/>
            <a:chOff x="3514680" y="4292640"/>
            <a:chExt cx="1851120" cy="1049400"/>
          </a:xfrm>
        </p:grpSpPr>
        <p:sp>
          <p:nvSpPr>
            <p:cNvPr id="375" name="椭圆 2"/>
            <p:cNvSpPr/>
            <p:nvPr/>
          </p:nvSpPr>
          <p:spPr>
            <a:xfrm>
              <a:off x="3514680" y="4417560"/>
              <a:ext cx="1851120" cy="924480"/>
            </a:xfrm>
            <a:custGeom>
              <a:avLst/>
              <a:gdLst/>
              <a:ahLst/>
              <a:rect l="l" t="t" r="r" b="b"/>
              <a:pathLst>
                <a:path w="2768819" h="989699">
                  <a:moveTo>
                    <a:pt x="0" y="0"/>
                  </a:moveTo>
                  <a:cubicBezTo>
                    <a:pt x="380260" y="70629"/>
                    <a:pt x="883212" y="152500"/>
                    <a:pt x="1365445" y="152500"/>
                  </a:cubicBezTo>
                  <a:cubicBezTo>
                    <a:pt x="1847678" y="152500"/>
                    <a:pt x="2284258" y="91012"/>
                    <a:pt x="2768819" y="0"/>
                  </a:cubicBezTo>
                  <a:cubicBezTo>
                    <a:pt x="2572779" y="576015"/>
                    <a:pt x="2026905" y="989699"/>
                    <a:pt x="1384409" y="989699"/>
                  </a:cubicBezTo>
                  <a:cubicBezTo>
                    <a:pt x="741914" y="989699"/>
                    <a:pt x="196039" y="57601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4764"/>
                </a:gs>
                <a:gs pos="100000">
                  <a:srgbClr val="00b8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椭圆 10"/>
            <p:cNvSpPr/>
            <p:nvPr/>
          </p:nvSpPr>
          <p:spPr>
            <a:xfrm>
              <a:off x="3514680" y="4292640"/>
              <a:ext cx="1851120" cy="268920"/>
            </a:xfrm>
            <a:custGeom>
              <a:avLst/>
              <a:gdLst/>
              <a:ahLst/>
              <a:rect l="l" t="t" r="r" b="b"/>
              <a:pathLst>
                <a:path w="1855751" h="322835">
                  <a:moveTo>
                    <a:pt x="0" y="153077"/>
                  </a:moveTo>
                  <a:cubicBezTo>
                    <a:pt x="33893" y="35645"/>
                    <a:pt x="585162" y="-781"/>
                    <a:pt x="894454" y="13"/>
                  </a:cubicBezTo>
                  <a:cubicBezTo>
                    <a:pt x="1203746" y="807"/>
                    <a:pt x="1842019" y="48699"/>
                    <a:pt x="1855751" y="157839"/>
                  </a:cubicBezTo>
                  <a:cubicBezTo>
                    <a:pt x="1812889" y="213003"/>
                    <a:pt x="1365462" y="333923"/>
                    <a:pt x="892361" y="322016"/>
                  </a:cubicBezTo>
                  <a:cubicBezTo>
                    <a:pt x="409709" y="322016"/>
                    <a:pt x="75442" y="209390"/>
                    <a:pt x="0" y="15307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4764"/>
                </a:gs>
                <a:gs pos="100000">
                  <a:srgbClr val="00b8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441600" y="3257640"/>
            <a:ext cx="1997280" cy="1006560"/>
            <a:chOff x="3441600" y="3257640"/>
            <a:chExt cx="1997280" cy="1006560"/>
          </a:xfrm>
        </p:grpSpPr>
        <p:sp>
          <p:nvSpPr>
            <p:cNvPr id="378" name="椭圆 11"/>
            <p:cNvSpPr/>
            <p:nvPr/>
          </p:nvSpPr>
          <p:spPr>
            <a:xfrm>
              <a:off x="3441600" y="3398400"/>
              <a:ext cx="1997280" cy="865800"/>
            </a:xfrm>
            <a:custGeom>
              <a:avLst/>
              <a:gdLst/>
              <a:ahLst/>
              <a:rect l="l" t="t" r="r" b="b"/>
              <a:pathLst>
                <a:path w="2929388" h="928410">
                  <a:moveTo>
                    <a:pt x="38236" y="0"/>
                  </a:moveTo>
                  <a:lnTo>
                    <a:pt x="40502" y="249"/>
                  </a:lnTo>
                  <a:cubicBezTo>
                    <a:pt x="465536" y="105687"/>
                    <a:pt x="950252" y="164962"/>
                    <a:pt x="1464694" y="164962"/>
                  </a:cubicBezTo>
                  <a:cubicBezTo>
                    <a:pt x="1918892" y="164962"/>
                    <a:pt x="2349918" y="118757"/>
                    <a:pt x="2736593" y="32746"/>
                  </a:cubicBezTo>
                  <a:cubicBezTo>
                    <a:pt x="2788729" y="28638"/>
                    <a:pt x="2840843" y="21068"/>
                    <a:pt x="2892996" y="10365"/>
                  </a:cubicBezTo>
                  <a:cubicBezTo>
                    <a:pt x="2917427" y="112386"/>
                    <a:pt x="2929388" y="218843"/>
                    <a:pt x="2929388" y="328092"/>
                  </a:cubicBezTo>
                  <a:cubicBezTo>
                    <a:pt x="2929388" y="494525"/>
                    <a:pt x="2901629" y="654473"/>
                    <a:pt x="2849103" y="803087"/>
                  </a:cubicBezTo>
                  <a:cubicBezTo>
                    <a:pt x="2411952" y="866921"/>
                    <a:pt x="1927963" y="928410"/>
                    <a:pt x="1445730" y="928410"/>
                  </a:cubicBezTo>
                  <a:cubicBezTo>
                    <a:pt x="963497" y="928410"/>
                    <a:pt x="517436" y="866921"/>
                    <a:pt x="80285" y="803087"/>
                  </a:cubicBezTo>
                  <a:cubicBezTo>
                    <a:pt x="27759" y="654473"/>
                    <a:pt x="0" y="494525"/>
                    <a:pt x="0" y="328092"/>
                  </a:cubicBezTo>
                  <a:cubicBezTo>
                    <a:pt x="0" y="215192"/>
                    <a:pt x="12774" y="105274"/>
                    <a:pt x="3823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e7c06"/>
                </a:gs>
                <a:gs pos="100000">
                  <a:srgbClr val="bceb6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10"/>
            <p:cNvSpPr/>
            <p:nvPr/>
          </p:nvSpPr>
          <p:spPr>
            <a:xfrm>
              <a:off x="3470760" y="3257640"/>
              <a:ext cx="1939680" cy="295560"/>
            </a:xfrm>
            <a:custGeom>
              <a:avLst/>
              <a:gdLst/>
              <a:ahLst/>
              <a:rect l="l" t="t" r="r" b="b"/>
              <a:pathLst>
                <a:path w="1776882" h="335678">
                  <a:moveTo>
                    <a:pt x="0" y="160220"/>
                  </a:moveTo>
                  <a:cubicBezTo>
                    <a:pt x="4763" y="92001"/>
                    <a:pt x="577967" y="-992"/>
                    <a:pt x="874114" y="8"/>
                  </a:cubicBezTo>
                  <a:cubicBezTo>
                    <a:pt x="1170261" y="1008"/>
                    <a:pt x="1734020" y="72954"/>
                    <a:pt x="1776882" y="166219"/>
                  </a:cubicBezTo>
                  <a:cubicBezTo>
                    <a:pt x="1734020" y="221383"/>
                    <a:pt x="1321060" y="346793"/>
                    <a:pt x="847959" y="334886"/>
                  </a:cubicBezTo>
                  <a:cubicBezTo>
                    <a:pt x="365307" y="334886"/>
                    <a:pt x="35718" y="216533"/>
                    <a:pt x="0" y="160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0e7c06"/>
                </a:gs>
                <a:gs pos="100000">
                  <a:srgbClr val="bceb6f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484440" y="2376360"/>
            <a:ext cx="1906560" cy="868320"/>
            <a:chOff x="3484440" y="2376360"/>
            <a:chExt cx="1906560" cy="868320"/>
          </a:xfrm>
        </p:grpSpPr>
        <p:sp>
          <p:nvSpPr>
            <p:cNvPr id="381" name="椭圆 6"/>
            <p:cNvSpPr/>
            <p:nvPr/>
          </p:nvSpPr>
          <p:spPr>
            <a:xfrm>
              <a:off x="3484440" y="2486880"/>
              <a:ext cx="1906560" cy="757800"/>
            </a:xfrm>
            <a:custGeom>
              <a:avLst/>
              <a:gdLst/>
              <a:ahLst/>
              <a:rect l="l" t="t" r="r" b="b"/>
              <a:pathLst>
                <a:path w="2852836" h="812079">
                  <a:moveTo>
                    <a:pt x="334026" y="0"/>
                  </a:moveTo>
                  <a:cubicBezTo>
                    <a:pt x="629853" y="114341"/>
                    <a:pt x="1009624" y="182893"/>
                    <a:pt x="1423773" y="182893"/>
                  </a:cubicBezTo>
                  <a:cubicBezTo>
                    <a:pt x="1807753" y="182893"/>
                    <a:pt x="2162182" y="123965"/>
                    <a:pt x="2447320" y="23572"/>
                  </a:cubicBezTo>
                  <a:cubicBezTo>
                    <a:pt x="2470720" y="18147"/>
                    <a:pt x="2493390" y="11141"/>
                    <a:pt x="2514376" y="1055"/>
                  </a:cubicBezTo>
                  <a:cubicBezTo>
                    <a:pt x="2679522" y="179535"/>
                    <a:pt x="2797076" y="401441"/>
                    <a:pt x="2852836" y="646891"/>
                  </a:cubicBezTo>
                  <a:cubicBezTo>
                    <a:pt x="2427255" y="752598"/>
                    <a:pt x="1941751" y="812079"/>
                    <a:pt x="1426418" y="812079"/>
                  </a:cubicBezTo>
                  <a:cubicBezTo>
                    <a:pt x="911085" y="812079"/>
                    <a:pt x="425581" y="752598"/>
                    <a:pt x="0" y="646891"/>
                  </a:cubicBezTo>
                  <a:cubicBezTo>
                    <a:pt x="55592" y="402182"/>
                    <a:pt x="172605" y="180875"/>
                    <a:pt x="3340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3401"/>
                </a:gs>
                <a:gs pos="100000">
                  <a:srgbClr val="fece02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10"/>
            <p:cNvSpPr/>
            <p:nvPr/>
          </p:nvSpPr>
          <p:spPr>
            <a:xfrm>
              <a:off x="3711960" y="2376360"/>
              <a:ext cx="1449720" cy="281520"/>
            </a:xfrm>
            <a:custGeom>
              <a:avLst/>
              <a:gdLst/>
              <a:ahLst/>
              <a:rect l="l" t="t" r="r" b="b"/>
              <a:pathLst>
                <a:path w="1747836" h="338503">
                  <a:moveTo>
                    <a:pt x="0" y="133220"/>
                  </a:moveTo>
                  <a:cubicBezTo>
                    <a:pt x="4763" y="65001"/>
                    <a:pt x="379360" y="0"/>
                    <a:pt x="862012" y="0"/>
                  </a:cubicBezTo>
                  <a:cubicBezTo>
                    <a:pt x="1344664" y="0"/>
                    <a:pt x="1704974" y="39955"/>
                    <a:pt x="1747836" y="133220"/>
                  </a:cubicBezTo>
                  <a:cubicBezTo>
                    <a:pt x="1704974" y="188384"/>
                    <a:pt x="1306538" y="349785"/>
                    <a:pt x="833437" y="337878"/>
                  </a:cubicBezTo>
                  <a:cubicBezTo>
                    <a:pt x="350785" y="337878"/>
                    <a:pt x="35718" y="189533"/>
                    <a:pt x="0" y="133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3401"/>
                </a:gs>
                <a:gs pos="100000">
                  <a:srgbClr val="fece02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784680" y="1808280"/>
            <a:ext cx="1305000" cy="631800"/>
            <a:chOff x="3784680" y="1808280"/>
            <a:chExt cx="1305000" cy="631800"/>
          </a:xfrm>
        </p:grpSpPr>
        <p:sp>
          <p:nvSpPr>
            <p:cNvPr id="384" name="椭圆 4"/>
            <p:cNvSpPr/>
            <p:nvPr/>
          </p:nvSpPr>
          <p:spPr>
            <a:xfrm>
              <a:off x="3784680" y="1808280"/>
              <a:ext cx="1305000" cy="631800"/>
            </a:xfrm>
            <a:custGeom>
              <a:avLst/>
              <a:gdLst/>
              <a:ahLst/>
              <a:rect l="l" t="t" r="r" b="b"/>
              <a:pathLst>
                <a:path w="2054038" h="677149">
                  <a:moveTo>
                    <a:pt x="1027019" y="476"/>
                  </a:moveTo>
                  <a:cubicBezTo>
                    <a:pt x="1493997" y="-11131"/>
                    <a:pt x="1853323" y="190395"/>
                    <a:pt x="2054038" y="492958"/>
                  </a:cubicBezTo>
                  <a:cubicBezTo>
                    <a:pt x="1757656" y="608038"/>
                    <a:pt x="1442853" y="677149"/>
                    <a:pt x="1027019" y="677149"/>
                  </a:cubicBezTo>
                  <a:cubicBezTo>
                    <a:pt x="611185" y="677149"/>
                    <a:pt x="296382" y="601244"/>
                    <a:pt x="0" y="486164"/>
                  </a:cubicBezTo>
                  <a:cubicBezTo>
                    <a:pt x="210197" y="190396"/>
                    <a:pt x="684679" y="-656"/>
                    <a:pt x="1027019" y="476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4194000" y="1859760"/>
              <a:ext cx="682560" cy="481680"/>
              <a:chOff x="4194000" y="1859760"/>
              <a:chExt cx="682560" cy="481680"/>
            </a:xfrm>
          </p:grpSpPr>
          <p:pic>
            <p:nvPicPr>
              <p:cNvPr id="3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194000" y="1859760"/>
                <a:ext cx="68256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76600">
                <a:off x="4294800" y="1935000"/>
                <a:ext cx="47952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8" name="直接连接符 16"/>
          <p:cNvSpPr/>
          <p:nvPr/>
        </p:nvSpPr>
        <p:spPr>
          <a:xfrm>
            <a:off x="4944960" y="2146320"/>
            <a:ext cx="227664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 flipH="1">
            <a:off x="6234120" y="16621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18"/>
          <p:cNvSpPr/>
          <p:nvPr/>
        </p:nvSpPr>
        <p:spPr>
          <a:xfrm>
            <a:off x="5284800" y="396396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1"/>
          <p:cNvSpPr/>
          <p:nvPr/>
        </p:nvSpPr>
        <p:spPr>
          <a:xfrm flipH="1">
            <a:off x="6234120" y="347976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20"/>
          <p:cNvSpPr/>
          <p:nvPr/>
        </p:nvSpPr>
        <p:spPr>
          <a:xfrm>
            <a:off x="4995720" y="5014800"/>
            <a:ext cx="222588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1"/>
          <p:cNvSpPr/>
          <p:nvPr/>
        </p:nvSpPr>
        <p:spPr>
          <a:xfrm flipH="1">
            <a:off x="6234120" y="45306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2"/>
          <p:cNvSpPr/>
          <p:nvPr/>
        </p:nvSpPr>
        <p:spPr>
          <a:xfrm>
            <a:off x="5162400" y="2921040"/>
            <a:ext cx="20829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1"/>
          <p:cNvSpPr/>
          <p:nvPr/>
        </p:nvSpPr>
        <p:spPr>
          <a:xfrm flipH="1">
            <a:off x="6234120" y="2436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60440" y="1692360"/>
            <a:ext cx="2184480" cy="459000"/>
            <a:chOff x="460440" y="1692360"/>
            <a:chExt cx="2184480" cy="459000"/>
          </a:xfrm>
        </p:grpSpPr>
        <p:sp>
          <p:nvSpPr>
            <p:cNvPr id="397" name="TextBox 11"/>
            <p:cNvSpPr/>
            <p:nvPr/>
          </p:nvSpPr>
          <p:spPr>
            <a:xfrm flipH="1">
              <a:off x="460440" y="16923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11"/>
            <p:cNvSpPr/>
            <p:nvPr/>
          </p:nvSpPr>
          <p:spPr>
            <a:xfrm flipH="1">
              <a:off x="1498680" y="16923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27"/>
          <p:cNvSpPr/>
          <p:nvPr/>
        </p:nvSpPr>
        <p:spPr>
          <a:xfrm>
            <a:off x="507960" y="1630440"/>
            <a:ext cx="2136960" cy="3636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1"/>
          <p:cNvSpPr/>
          <p:nvPr/>
        </p:nvSpPr>
        <p:spPr>
          <a:xfrm flipH="1">
            <a:off x="449280" y="12762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 flipH="1">
            <a:off x="3854520" y="20210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"/>
          <p:cNvSpPr/>
          <p:nvPr/>
        </p:nvSpPr>
        <p:spPr>
          <a:xfrm flipH="1">
            <a:off x="3854520" y="278136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1"/>
          <p:cNvSpPr/>
          <p:nvPr/>
        </p:nvSpPr>
        <p:spPr>
          <a:xfrm flipH="1">
            <a:off x="3854520" y="378000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1"/>
          <p:cNvSpPr/>
          <p:nvPr/>
        </p:nvSpPr>
        <p:spPr>
          <a:xfrm flipH="1">
            <a:off x="3854520" y="467208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3"/>
          <p:cNvSpPr/>
          <p:nvPr/>
        </p:nvSpPr>
        <p:spPr>
          <a:xfrm>
            <a:off x="5554800" y="26028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蛋形分层叠加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中宋"/>
              </a:rPr>
              <a:t>使用规范说明</a:t>
            </a:r>
            <a:endParaRPr b="1" lang="en-US" sz="3200" spc="-1" strike="noStrike">
              <a:solidFill>
                <a:srgbClr val="c00000"/>
              </a:solidFill>
              <a:latin typeface="华文中宋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5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5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5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c00000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c00000"/>
              </a:solidFill>
              <a:latin typeface="幼圆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73538-E53F-4AD4-A58D-71996435F0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组合 3" descr=""/>
          <p:cNvPicPr/>
          <p:nvPr/>
        </p:nvPicPr>
        <p:blipFill>
          <a:blip r:embed="rId1"/>
          <a:stretch/>
        </p:blipFill>
        <p:spPr>
          <a:xfrm>
            <a:off x="2951280" y="2212920"/>
            <a:ext cx="3095640" cy="59738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1"/>
          <p:cNvSpPr/>
          <p:nvPr/>
        </p:nvSpPr>
        <p:spPr>
          <a:xfrm flipH="1">
            <a:off x="1001160" y="26370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18"/>
          <p:cNvSpPr/>
          <p:nvPr/>
        </p:nvSpPr>
        <p:spPr>
          <a:xfrm>
            <a:off x="1100160" y="3062160"/>
            <a:ext cx="1998720" cy="0"/>
          </a:xfrm>
          <a:prstGeom prst="line">
            <a:avLst/>
          </a:prstGeom>
          <a:ln w="9360">
            <a:solidFill>
              <a:srgbClr val="5f5f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 flipH="1">
            <a:off x="1001160" y="366408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0"/>
          <p:cNvSpPr/>
          <p:nvPr/>
        </p:nvSpPr>
        <p:spPr>
          <a:xfrm>
            <a:off x="1100160" y="4089240"/>
            <a:ext cx="1998720" cy="0"/>
          </a:xfrm>
          <a:prstGeom prst="line">
            <a:avLst/>
          </a:prstGeom>
          <a:ln w="9360">
            <a:solidFill>
              <a:srgbClr val="5f5f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1"/>
          <p:cNvSpPr/>
          <p:nvPr/>
        </p:nvSpPr>
        <p:spPr>
          <a:xfrm flipH="1">
            <a:off x="1001160" y="476568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22"/>
          <p:cNvSpPr/>
          <p:nvPr/>
        </p:nvSpPr>
        <p:spPr>
          <a:xfrm>
            <a:off x="1100160" y="5191200"/>
            <a:ext cx="3414600" cy="0"/>
          </a:xfrm>
          <a:prstGeom prst="line">
            <a:avLst/>
          </a:prstGeom>
          <a:ln w="9360">
            <a:solidFill>
              <a:srgbClr val="5f5f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 flipH="1">
            <a:off x="7170840" y="26370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24"/>
          <p:cNvSpPr/>
          <p:nvPr/>
        </p:nvSpPr>
        <p:spPr>
          <a:xfrm>
            <a:off x="5819760" y="3062160"/>
            <a:ext cx="2349360" cy="0"/>
          </a:xfrm>
          <a:prstGeom prst="line">
            <a:avLst/>
          </a:prstGeom>
          <a:ln w="9360">
            <a:solidFill>
              <a:srgbClr val="5f5f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 flipH="1">
            <a:off x="7170840" y="4371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26"/>
          <p:cNvSpPr/>
          <p:nvPr/>
        </p:nvSpPr>
        <p:spPr>
          <a:xfrm>
            <a:off x="5460840" y="4797360"/>
            <a:ext cx="2708280" cy="0"/>
          </a:xfrm>
          <a:prstGeom prst="line">
            <a:avLst/>
          </a:prstGeom>
          <a:ln w="9360">
            <a:solidFill>
              <a:srgbClr val="5f5f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 flipH="1">
            <a:off x="7170840" y="3973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749600" y="4761000"/>
            <a:ext cx="5553000" cy="1590480"/>
            <a:chOff x="1749600" y="4761000"/>
            <a:chExt cx="5553000" cy="1590480"/>
          </a:xfrm>
        </p:grpSpPr>
        <p:pic>
          <p:nvPicPr>
            <p:cNvPr id="422" name="椭圆 10" descr=""/>
            <p:cNvPicPr/>
            <p:nvPr/>
          </p:nvPicPr>
          <p:blipFill>
            <a:blip r:embed="rId2"/>
            <a:stretch/>
          </p:blipFill>
          <p:spPr>
            <a:xfrm>
              <a:off x="1749600" y="4761000"/>
              <a:ext cx="55530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640240" y="5071680"/>
              <a:ext cx="3692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Box 29"/>
          <p:cNvSpPr/>
          <p:nvPr/>
        </p:nvSpPr>
        <p:spPr>
          <a:xfrm>
            <a:off x="5922720" y="26028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靶型分割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44720" y="587700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3771360" y="2291400"/>
            <a:ext cx="2443680" cy="2412360"/>
            <a:chOff x="3771360" y="2291400"/>
            <a:chExt cx="2443680" cy="2412360"/>
          </a:xfrm>
        </p:grpSpPr>
        <p:sp>
          <p:nvSpPr>
            <p:cNvPr id="427" name="椭圆 6"/>
            <p:cNvSpPr/>
            <p:nvPr/>
          </p:nvSpPr>
          <p:spPr>
            <a:xfrm rot="10800000">
              <a:off x="3911760" y="2430360"/>
              <a:ext cx="2292120" cy="2270520"/>
            </a:xfrm>
            <a:custGeom>
              <a:avLst/>
              <a:gdLst/>
              <a:ahLst/>
              <a:rect l="l" t="t" r="r" b="b"/>
              <a:pathLst>
                <a:path w="2295129" h="2275413">
                  <a:moveTo>
                    <a:pt x="1337568" y="0"/>
                  </a:moveTo>
                  <a:cubicBezTo>
                    <a:pt x="1713211" y="0"/>
                    <a:pt x="2052687" y="154850"/>
                    <a:pt x="2295129" y="404701"/>
                  </a:cubicBezTo>
                  <a:cubicBezTo>
                    <a:pt x="1827474" y="1308842"/>
                    <a:pt x="772209" y="2025485"/>
                    <a:pt x="384531" y="2275413"/>
                  </a:cubicBezTo>
                  <a:cubicBezTo>
                    <a:pt x="146596" y="2034317"/>
                    <a:pt x="0" y="1703062"/>
                    <a:pt x="0" y="1337568"/>
                  </a:cubicBezTo>
                  <a:cubicBezTo>
                    <a:pt x="0" y="598850"/>
                    <a:pt x="598850" y="0"/>
                    <a:pt x="13375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9680" y="2428920"/>
              <a:ext cx="2295360" cy="2274840"/>
              <a:chOff x="3919680" y="2428920"/>
              <a:chExt cx="2295360" cy="2274840"/>
            </a:xfrm>
          </p:grpSpPr>
          <p:pic>
            <p:nvPicPr>
              <p:cNvPr id="429" name="椭圆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9680" y="2428920"/>
                <a:ext cx="2295360" cy="22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 rot="10800000">
                <a:off x="3920400" y="2430360"/>
                <a:ext cx="2292480" cy="227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551560" y="2805840"/>
              <a:ext cx="511200" cy="1015920"/>
              <a:chOff x="5551560" y="2805840"/>
              <a:chExt cx="511200" cy="1015920"/>
            </a:xfrm>
          </p:grpSpPr>
          <p:pic>
            <p:nvPicPr>
              <p:cNvPr id="432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551560" y="2805840"/>
                <a:ext cx="51120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 rot="5217600">
                <a:off x="5446800" y="3137400"/>
                <a:ext cx="716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椭圆 7"/>
            <p:cNvSpPr/>
            <p:nvPr/>
          </p:nvSpPr>
          <p:spPr>
            <a:xfrm rot="18967200">
              <a:off x="3546360" y="3151080"/>
              <a:ext cx="2649960" cy="418680"/>
            </a:xfrm>
            <a:prstGeom prst="ellipse">
              <a:avLst/>
            </a:prstGeom>
            <a:gradFill rotWithShape="0">
              <a:gsLst>
                <a:gs pos="0">
                  <a:srgbClr val="7d2701"/>
                </a:gs>
                <a:gs pos="100000">
                  <a:srgbClr val="fece02"/>
                </a:gs>
              </a:gsLst>
              <a:lin ang="56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1"/>
            <p:cNvSpPr/>
            <p:nvPr/>
          </p:nvSpPr>
          <p:spPr>
            <a:xfrm flipH="1">
              <a:off x="4646160" y="3822840"/>
              <a:ext cx="13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817720" y="2573280"/>
            <a:ext cx="2309760" cy="2274840"/>
            <a:chOff x="2817720" y="2573280"/>
            <a:chExt cx="2309760" cy="2274840"/>
          </a:xfrm>
        </p:grpSpPr>
        <p:sp>
          <p:nvSpPr>
            <p:cNvPr id="437" name="椭圆 6"/>
            <p:cNvSpPr/>
            <p:nvPr/>
          </p:nvSpPr>
          <p:spPr>
            <a:xfrm>
              <a:off x="2833920" y="2574000"/>
              <a:ext cx="2293560" cy="2274120"/>
            </a:xfrm>
            <a:custGeom>
              <a:avLst/>
              <a:gdLst/>
              <a:ahLst/>
              <a:rect l="l" t="t" r="r" b="b"/>
              <a:pathLst>
                <a:path w="2295129" h="2275413">
                  <a:moveTo>
                    <a:pt x="1337568" y="0"/>
                  </a:moveTo>
                  <a:cubicBezTo>
                    <a:pt x="1713211" y="0"/>
                    <a:pt x="2052687" y="154850"/>
                    <a:pt x="2295129" y="404701"/>
                  </a:cubicBezTo>
                  <a:cubicBezTo>
                    <a:pt x="1827474" y="1308842"/>
                    <a:pt x="772209" y="2025485"/>
                    <a:pt x="384531" y="2275413"/>
                  </a:cubicBezTo>
                  <a:cubicBezTo>
                    <a:pt x="146596" y="2034317"/>
                    <a:pt x="0" y="1703062"/>
                    <a:pt x="0" y="1337568"/>
                  </a:cubicBezTo>
                  <a:cubicBezTo>
                    <a:pt x="0" y="598850"/>
                    <a:pt x="598850" y="0"/>
                    <a:pt x="13375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110040" y="2828880"/>
              <a:ext cx="876960" cy="724680"/>
              <a:chOff x="3110040" y="2828880"/>
              <a:chExt cx="876960" cy="724680"/>
            </a:xfrm>
          </p:grpSpPr>
          <p:pic>
            <p:nvPicPr>
              <p:cNvPr id="439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110040" y="2828880"/>
                <a:ext cx="876960" cy="72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19429200">
                <a:off x="3187440" y="3013920"/>
                <a:ext cx="7167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817720" y="2573280"/>
              <a:ext cx="2296440" cy="2272320"/>
              <a:chOff x="2817720" y="2573280"/>
              <a:chExt cx="2296440" cy="2272320"/>
            </a:xfrm>
          </p:grpSpPr>
          <p:pic>
            <p:nvPicPr>
              <p:cNvPr id="442" name="椭圆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817720" y="2573280"/>
                <a:ext cx="2296440" cy="22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2818800" y="2574000"/>
                <a:ext cx="2293560" cy="22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TextBox 11"/>
          <p:cNvSpPr/>
          <p:nvPr/>
        </p:nvSpPr>
        <p:spPr>
          <a:xfrm flipH="1">
            <a:off x="3337920" y="329076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4"/>
          <p:cNvSpPr/>
          <p:nvPr/>
        </p:nvSpPr>
        <p:spPr>
          <a:xfrm>
            <a:off x="5918040" y="2573280"/>
            <a:ext cx="200052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15"/>
          <p:cNvSpPr/>
          <p:nvPr/>
        </p:nvSpPr>
        <p:spPr>
          <a:xfrm>
            <a:off x="1187280" y="4745160"/>
            <a:ext cx="200052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1"/>
          <p:cNvSpPr/>
          <p:nvPr/>
        </p:nvSpPr>
        <p:spPr>
          <a:xfrm flipH="1">
            <a:off x="1120680" y="4290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1"/>
          <p:cNvSpPr/>
          <p:nvPr/>
        </p:nvSpPr>
        <p:spPr>
          <a:xfrm flipH="1">
            <a:off x="1116000" y="39276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1"/>
          <p:cNvSpPr/>
          <p:nvPr/>
        </p:nvSpPr>
        <p:spPr>
          <a:xfrm flipH="1">
            <a:off x="6840360" y="296856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1"/>
          <p:cNvSpPr/>
          <p:nvPr/>
        </p:nvSpPr>
        <p:spPr>
          <a:xfrm flipH="1">
            <a:off x="6588000" y="260496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932120" y="4395960"/>
            <a:ext cx="5297400" cy="1633320"/>
            <a:chOff x="1932120" y="4395960"/>
            <a:chExt cx="5297400" cy="1633320"/>
          </a:xfrm>
        </p:grpSpPr>
        <p:pic>
          <p:nvPicPr>
            <p:cNvPr id="452" name="椭圆 10" descr=""/>
            <p:cNvPicPr/>
            <p:nvPr/>
          </p:nvPicPr>
          <p:blipFill>
            <a:blip r:embed="rId5"/>
            <a:stretch/>
          </p:blipFill>
          <p:spPr>
            <a:xfrm>
              <a:off x="1932120" y="4395960"/>
              <a:ext cx="529740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 rot="10800000">
              <a:off x="2788920" y="4712760"/>
              <a:ext cx="35053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Box 21"/>
          <p:cNvSpPr/>
          <p:nvPr/>
        </p:nvSpPr>
        <p:spPr>
          <a:xfrm>
            <a:off x="5186520" y="260280"/>
            <a:ext cx="26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圆球一分为二错位对比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6:02:31Z</dcterms:created>
  <dc:creator/>
  <dc:description/>
  <cp:keywords>幻灯片之家 http:/www.eeppt.com</cp:keywords>
  <dc:language>en-US</dc:language>
  <cp:lastModifiedBy/>
  <dcterms:modified xsi:type="dcterms:W3CDTF">2015-07-06T07:09:5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