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41C8-76DE-47B9-A86A-7710E221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8B7E-E609-402A-B437-845DDC56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9DD9-F458-497B-8145-D7BCCE90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48EF-5608-4809-8B2B-A38E48FB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4C80-2229-4333-860C-21423AF4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96C6-D65F-49F5-96FC-5184B83B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07EF-7A74-40B3-B0A3-464EBC51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38C0-85DB-4D6D-8A84-03BFA2A0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2183-ABCA-47B7-A3ED-E1AD6A2F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1317-1D9B-41B7-9E16-26C39549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E41B-D198-4845-9403-85DCF367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959B-A573-4E98-8A2C-0950C347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3847-4B4F-4D14-A3C4-635AD18BD5C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78EF-3E57-4BF8-ACCE-599D726AB47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2928960" y="421488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429000" y="5049720"/>
            <a:ext cx="414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3680" y="836640"/>
            <a:ext cx="50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精美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308376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308376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08376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127008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444096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2440800" y="4071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544104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-3708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2154960" y="2714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36976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5643720" y="3571920"/>
            <a:ext cx="16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881F-56A7-4D7C-B331-DD315CC76F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2484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4714920" y="1785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22676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236916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-10872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494100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3512160" y="2071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012120" y="4000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4369680" y="2071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244080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294084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458388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/>
  <dc:description/>
  <cp:keywords>幻灯片之家 http:/www.eeppt.com</cp:keywords>
  <dc:language>en-US</dc:language>
  <cp:lastModifiedBy/>
  <dcterms:modified xsi:type="dcterms:W3CDTF">2015-07-07T12:12:01Z</dcterms:modified>
  <cp:revision>5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