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201-81E9-4E72-9D76-C68AD84F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283-B689-49EF-9A9B-6DDBEEE9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54D8-1B5B-4AAB-A46F-F34071BF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4E6-6B6A-4EB5-A54C-CE44307A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E8A-1CE9-4FA0-A52A-FAA61AD0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26A9-9A2F-4639-BB2B-DF154355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E5B-C6AF-47AF-BC0F-E6A3B0D4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D14-995D-4297-8BB7-104AA528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B62-F709-41C1-909A-9603BF49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A0C-26B6-4FB2-8B5E-9A68BA8D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B5E-15B4-4FE8-82B7-F617557D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D9CB-267D-4EA9-9BA5-C106A09B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7329-B43B-400E-BD12-3D4766AA24A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ACB8-AF69-449B-B612-52D5C34DE8A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audio" Target="file:///tmp/home/.config/libreoffice/4/user/gallery/A6A5085F.wav" TargetMode="External"/><Relationship Id="rId13" Type="http://schemas.microsoft.com/office/2007/relationships/media" Target="file:///tmp/home/.config/libreoffice/4/user/gallery/A6A5085F.wav" TargetMode="Externa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32"/>
          <p:cNvSpPr/>
          <p:nvPr/>
        </p:nvSpPr>
        <p:spPr>
          <a:xfrm>
            <a:off x="8327880" y="4780080"/>
            <a:ext cx="752760" cy="750600"/>
          </a:xfrm>
          <a:prstGeom prst="ellipse">
            <a:avLst/>
          </a:prstGeom>
          <a:solidFill>
            <a:srgbClr val="bee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椭圆 33"/>
          <p:cNvSpPr/>
          <p:nvPr/>
        </p:nvSpPr>
        <p:spPr>
          <a:xfrm>
            <a:off x="7564320" y="4797360"/>
            <a:ext cx="750960" cy="750960"/>
          </a:xfrm>
          <a:prstGeom prst="ellipse">
            <a:avLst/>
          </a:prstGeom>
          <a:solidFill>
            <a:srgbClr val="ff9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椭圆 34"/>
          <p:cNvSpPr/>
          <p:nvPr/>
        </p:nvSpPr>
        <p:spPr>
          <a:xfrm>
            <a:off x="6813720" y="4797360"/>
            <a:ext cx="750600" cy="750960"/>
          </a:xfrm>
          <a:prstGeom prst="ellipse">
            <a:avLst/>
          </a:prstGeom>
          <a:solidFill>
            <a:srgbClr val="a8e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椭圆 35"/>
          <p:cNvSpPr/>
          <p:nvPr/>
        </p:nvSpPr>
        <p:spPr>
          <a:xfrm>
            <a:off x="6081840" y="4803840"/>
            <a:ext cx="750600" cy="75096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36"/>
          <p:cNvSpPr/>
          <p:nvPr/>
        </p:nvSpPr>
        <p:spPr>
          <a:xfrm>
            <a:off x="5321160" y="4849920"/>
            <a:ext cx="750960" cy="7509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椭圆 37"/>
          <p:cNvSpPr/>
          <p:nvPr/>
        </p:nvSpPr>
        <p:spPr>
          <a:xfrm>
            <a:off x="4548240" y="4767120"/>
            <a:ext cx="750960" cy="752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9"/>
          <p:cNvSpPr/>
          <p:nvPr/>
        </p:nvSpPr>
        <p:spPr>
          <a:xfrm>
            <a:off x="-27000" y="-409680"/>
            <a:ext cx="752400" cy="752760"/>
          </a:xfrm>
          <a:prstGeom prst="ellipse">
            <a:avLst/>
          </a:prstGeom>
          <a:solidFill>
            <a:srgbClr val="bee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20"/>
          <p:cNvSpPr/>
          <p:nvPr/>
        </p:nvSpPr>
        <p:spPr>
          <a:xfrm>
            <a:off x="725400" y="-431640"/>
            <a:ext cx="750960" cy="752400"/>
          </a:xfrm>
          <a:prstGeom prst="ellipse">
            <a:avLst/>
          </a:prstGeom>
          <a:solidFill>
            <a:srgbClr val="ff9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21"/>
          <p:cNvSpPr/>
          <p:nvPr/>
        </p:nvSpPr>
        <p:spPr>
          <a:xfrm>
            <a:off x="1536840" y="-417600"/>
            <a:ext cx="750600" cy="750960"/>
          </a:xfrm>
          <a:prstGeom prst="ellipse">
            <a:avLst/>
          </a:prstGeom>
          <a:solidFill>
            <a:srgbClr val="a8e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24"/>
          <p:cNvSpPr/>
          <p:nvPr/>
        </p:nvSpPr>
        <p:spPr>
          <a:xfrm>
            <a:off x="2346480" y="-423720"/>
            <a:ext cx="750600" cy="7506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25"/>
          <p:cNvSpPr/>
          <p:nvPr/>
        </p:nvSpPr>
        <p:spPr>
          <a:xfrm>
            <a:off x="3176640" y="-431640"/>
            <a:ext cx="750960" cy="752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26"/>
          <p:cNvSpPr/>
          <p:nvPr/>
        </p:nvSpPr>
        <p:spPr>
          <a:xfrm>
            <a:off x="3984480" y="-378000"/>
            <a:ext cx="750960" cy="752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椭圆 38"/>
          <p:cNvSpPr/>
          <p:nvPr/>
        </p:nvSpPr>
        <p:spPr>
          <a:xfrm>
            <a:off x="3792600" y="4767120"/>
            <a:ext cx="750960" cy="752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椭圆 27"/>
          <p:cNvSpPr/>
          <p:nvPr/>
        </p:nvSpPr>
        <p:spPr>
          <a:xfrm>
            <a:off x="4813200" y="-409680"/>
            <a:ext cx="752400" cy="752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2124000" y="339840"/>
            <a:ext cx="4765680" cy="4251240"/>
          </a:xfrm>
          <a:prstGeom prst="pie">
            <a:avLst/>
          </a:prstGeom>
          <a:solidFill>
            <a:srgbClr val="bee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2287440" y="426960"/>
            <a:ext cx="4499280" cy="4013280"/>
          </a:xfrm>
          <a:prstGeom prst="pie">
            <a:avLst/>
          </a:prstGeom>
          <a:solidFill>
            <a:srgbClr val="ff9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2438280" y="584280"/>
            <a:ext cx="4156200" cy="3692520"/>
          </a:xfrm>
          <a:prstGeom prst="pie">
            <a:avLst/>
          </a:prstGeom>
          <a:solidFill>
            <a:srgbClr val="a8eb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0"/>
          <p:cNvSpPr/>
          <p:nvPr/>
        </p:nvSpPr>
        <p:spPr>
          <a:xfrm rot="186000">
            <a:off x="2550960" y="791640"/>
            <a:ext cx="3818160" cy="336708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reeform 10"/>
          <p:cNvSpPr/>
          <p:nvPr/>
        </p:nvSpPr>
        <p:spPr>
          <a:xfrm>
            <a:off x="2720880" y="925560"/>
            <a:ext cx="3529080" cy="302580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10"/>
          <p:cNvSpPr/>
          <p:nvPr/>
        </p:nvSpPr>
        <p:spPr>
          <a:xfrm rot="166800">
            <a:off x="2843280" y="1083960"/>
            <a:ext cx="3255840" cy="271152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5"/>
          <p:cNvGrpSpPr/>
          <p:nvPr/>
        </p:nvGrpSpPr>
        <p:grpSpPr>
          <a:xfrm>
            <a:off x="3319560" y="2171880"/>
            <a:ext cx="2246040" cy="711000"/>
            <a:chOff x="3319560" y="2171880"/>
            <a:chExt cx="2246040" cy="711000"/>
          </a:xfrm>
        </p:grpSpPr>
        <p:sp>
          <p:nvSpPr>
            <p:cNvPr id="62" name="Freeform 11"/>
            <p:cNvSpPr/>
            <p:nvPr/>
          </p:nvSpPr>
          <p:spPr>
            <a:xfrm>
              <a:off x="3319560" y="2176560"/>
              <a:ext cx="607680" cy="68904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2"/>
            <p:cNvSpPr/>
            <p:nvPr/>
          </p:nvSpPr>
          <p:spPr>
            <a:xfrm>
              <a:off x="3981240" y="2583000"/>
              <a:ext cx="309240" cy="29988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>
              <a:off x="4360680" y="2179800"/>
              <a:ext cx="484200" cy="70020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4859280" y="2171880"/>
              <a:ext cx="706320" cy="70308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Picture 17" descr="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F:\tao\2008051282157673副本.png"/>
          <p:cNvPicPr/>
          <p:nvPr/>
        </p:nvPicPr>
        <p:blipFill>
          <a:blip r:embed="rId2"/>
          <a:stretch/>
        </p:blipFill>
        <p:spPr>
          <a:xfrm>
            <a:off x="3060720" y="1779480"/>
            <a:ext cx="2644920" cy="2360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F:\tao\2008051282157673副本.png"/>
          <p:cNvPicPr/>
          <p:nvPr/>
        </p:nvPicPr>
        <p:blipFill>
          <a:blip r:embed="rId3"/>
          <a:stretch/>
        </p:blipFill>
        <p:spPr>
          <a:xfrm>
            <a:off x="3363840" y="977760"/>
            <a:ext cx="3051360" cy="2724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F:\tao\2008051282157673副本.png"/>
          <p:cNvPicPr/>
          <p:nvPr/>
        </p:nvPicPr>
        <p:blipFill>
          <a:blip r:embed="rId4"/>
          <a:stretch/>
        </p:blipFill>
        <p:spPr>
          <a:xfrm>
            <a:off x="3479760" y="1957320"/>
            <a:ext cx="2073240" cy="185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F:\tao\2008051282157673副本.png"/>
          <p:cNvPicPr/>
          <p:nvPr/>
        </p:nvPicPr>
        <p:blipFill>
          <a:blip r:embed="rId5"/>
          <a:stretch/>
        </p:blipFill>
        <p:spPr>
          <a:xfrm>
            <a:off x="3564000" y="2860560"/>
            <a:ext cx="2073240" cy="1851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F:\tao\2008051282157673副本.png"/>
          <p:cNvPicPr/>
          <p:nvPr/>
        </p:nvPicPr>
        <p:blipFill>
          <a:blip r:embed="rId6"/>
          <a:stretch/>
        </p:blipFill>
        <p:spPr>
          <a:xfrm>
            <a:off x="3708360" y="555480"/>
            <a:ext cx="5338800" cy="4765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F:\tao\2008051282157673副本.png"/>
          <p:cNvPicPr/>
          <p:nvPr/>
        </p:nvPicPr>
        <p:blipFill>
          <a:blip r:embed="rId7"/>
          <a:stretch/>
        </p:blipFill>
        <p:spPr>
          <a:xfrm>
            <a:off x="4140360" y="555480"/>
            <a:ext cx="5338440" cy="4765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F:\tao\2008051282157673副本.png"/>
          <p:cNvPicPr/>
          <p:nvPr/>
        </p:nvPicPr>
        <p:blipFill>
          <a:blip r:embed="rId8"/>
          <a:stretch/>
        </p:blipFill>
        <p:spPr>
          <a:xfrm>
            <a:off x="3851280" y="844560"/>
            <a:ext cx="5645160" cy="5038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F:\tao\2008051282157673副本.png"/>
          <p:cNvPicPr/>
          <p:nvPr/>
        </p:nvPicPr>
        <p:blipFill>
          <a:blip r:embed="rId9"/>
          <a:stretch/>
        </p:blipFill>
        <p:spPr>
          <a:xfrm>
            <a:off x="3708360" y="-20520"/>
            <a:ext cx="5643720" cy="5038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F:\tao\2008051282157673副本.png"/>
          <p:cNvPicPr/>
          <p:nvPr/>
        </p:nvPicPr>
        <p:blipFill>
          <a:blip r:embed="rId10"/>
          <a:stretch/>
        </p:blipFill>
        <p:spPr>
          <a:xfrm>
            <a:off x="3780000" y="195120"/>
            <a:ext cx="5403600" cy="4822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F:\tao\2008051282157673副本.png"/>
          <p:cNvPicPr/>
          <p:nvPr/>
        </p:nvPicPr>
        <p:blipFill>
          <a:blip r:embed="rId11"/>
          <a:stretch/>
        </p:blipFill>
        <p:spPr>
          <a:xfrm>
            <a:off x="4376880" y="498600"/>
            <a:ext cx="2638440" cy="2355840"/>
          </a:xfrm>
          <a:prstGeom prst="rect">
            <a:avLst/>
          </a:prstGeom>
          <a:ln w="0">
            <a:noFill/>
          </a:ln>
        </p:spPr>
      </p:pic>
      <p:sp>
        <p:nvSpPr>
          <p:cNvPr id="77" name="矩形 53"/>
          <p:cNvSpPr/>
          <p:nvPr/>
        </p:nvSpPr>
        <p:spPr>
          <a:xfrm>
            <a:off x="-4680" y="3557520"/>
            <a:ext cx="2539800" cy="15408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>
            <a:hlinkClick r:id="" action="ppaction://media"/>
          </p:cNvPr>
          <p:cNvPicPr/>
          <p:nvPr>
            <a:audi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6392880" y="-117324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32194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2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" dur="800" fill="hold"/>
                                        <p:tgtEl>
                                          <p:spTgt spid="47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" dur="800" fill="hold"/>
                                        <p:tgtEl>
                                          <p:spTgt spid="48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5" dur="800" fill="hold"/>
                                        <p:tgtEl>
                                          <p:spTgt spid="49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2" dur="800" fill="hold"/>
                                        <p:tgtEl>
                                          <p:spTgt spid="50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9" dur="800" fill="hold"/>
                                        <p:tgtEl>
                                          <p:spTgt spid="51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46" dur="800" fill="hold"/>
                                        <p:tgtEl>
                                          <p:spTgt spid="52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53" dur="800" fill="hold"/>
                                        <p:tgtEl>
                                          <p:spTgt spid="54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" dur="2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7" dur="800" fill="hold"/>
                                        <p:tgtEl>
                                          <p:spTgt spid="41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4" dur="800" fill="hold"/>
                                        <p:tgtEl>
                                          <p:spTgt spid="42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1" dur="800" fill="hold"/>
                                        <p:tgtEl>
                                          <p:spTgt spid="43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8" dur="800" fill="hold"/>
                                        <p:tgtEl>
                                          <p:spTgt spid="44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35" dur="800" fill="hold"/>
                                        <p:tgtEl>
                                          <p:spTgt spid="45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" dur="2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42" dur="800" fill="hold"/>
                                        <p:tgtEl>
                                          <p:spTgt spid="46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49" dur="800" fill="hold"/>
                                        <p:tgtEl>
                                          <p:spTgt spid="53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mph" presetID="8">
                                  <p:stCondLst>
                                    <p:cond delay="2700"/>
                                  </p:stCondLst>
                                  <p:childTnLst>
                                    <p:animRot by="21600000">
                                      <p:cBhvr>
                                        <p:cTn id="15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path" presetID="0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4.44444E-006 -4.60709E-006 C -0.00261 -0.01448 -0.01615 -0.02865 -0.02275 -0.03728 C -0.03004 -0.04745 -0.03803 -0.06101 -0.04671 -0.06687 C -0.06563 -0.08012 -0.08959 -0.08135 -0.10903 -0.08289 C -0.12518 -0.08412 -0.14115 -0.08505 -0.15712 -0.08567 C -0.17639 -0.09768 -0.21164 -0.13867 -0.225 -0.15531 C -0.22726 -0.16178 -0.23455 -0.18027 -0.23768 -0.1849 C -0.2415 -0.19013 -0.24584 -0.19229 -0.24931 -0.19815 C -0.25417 -0.20739 -0.25851 -0.21386 -0.26493 -0.21972 C -0.2757 -0.24098 -0.27014 -0.23636 -0.27882 -0.24098 C -0.2882 -0.25269 -0.29566 -0.26964 -0.30573 -0.27858 C -0.30921 -0.28628 -0.31025 -0.29152 -0.31563 -0.2946 C -0.31893 -0.30138 -0.32084 -0.30508 -0.32553 -0.30878 C -0.33438 -0.32141 -0.34341 -0.33682 -0.35261 -0.34822 C -0.35382 -0.35007 -0.35521 -0.35007 -0.3566 -0.351 C -0.35903 -0.35346 -0.36112 -0.35624 -0.36355 -0.35901 C -0.37605 -0.37565 -0.38507 -0.39691 -0.39896 -0.4077 C -0.40643 -0.42157 -0.41216 -0.43112 -0.42014 -0.44252 C -0.43125 -0.45793 -0.42327 -0.44283 -0.43577 -0.45855 C -0.45035 -0.47704 -0.46198 -0.50662 -0.47796 -0.52265 C -0.48143 -0.5322 -0.48369 -0.53497 -0.48941 -0.53867 C -0.49532 -0.55069 -0.5 -0.56024 -0.50764 -0.56764 C -0.51268 -0.57781 -0.51997 -0.58243 -0.52622 -0.58921 C -0.53994 -0.60431 -0.52934 -0.59722 -0.54028 -0.60308 C -0.54584 -0.60986 -0.5507 -0.61325 -0.5573 -0.61325 L -0.55573 -0.64314 E">
                                      <p:cBhvr>
                                        <p:cTn id="15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" dur="4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mph" presetID="8">
                                  <p:stCondLst>
                                    <p:cond delay="2900"/>
                                  </p:stCondLst>
                                  <p:childTnLst>
                                    <p:animRot by="21600000">
                                      <p:cBhvr>
                                        <p:cTn id="16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2.22222E-006 2.71186E-006 C 0.00278 -0.01048 0.01788 -0.02034 0.02518 -0.02681 C 0.03351 -0.03359 0.04236 -0.04345 0.05243 -0.04746 C 0.07344 -0.05701 0.10052 -0.05763 0.12222 -0.05886 C 0.14045 -0.05979 0.15851 -0.0601 0.17639 -0.06102 C 0.18507 -0.06164 0.19479 -0.05886 0.20191 -0.06441 C 0.21979 -0.07766 0.2349 -0.09646 0.25261 -0.10971 C 0.25521 -0.11464 0.26337 -0.12758 0.26684 -0.13097 C 0.27136 -0.13436 0.27639 -0.13621 0.28004 -0.14053 C 0.28559 -0.14669 0.29045 -0.15131 0.29757 -0.15563 C 0.30955 -0.17073 0.30347 -0.16703 0.31337 -0.17073 C 0.32379 -0.17874 0.33229 -0.19045 0.34341 -0.19723 C 0.3474 -0.20247 0.34861 -0.20617 0.35452 -0.20832 C 0.35851 -0.21325 0.36059 -0.21541 0.3658 -0.21818 C 0.3757 -0.22743 0.38594 -0.23822 0.39601 -0.24623 C 0.39757 -0.24746 0.39913 -0.24746 0.40052 -0.24808 C 0.40365 -0.25023 0.40608 -0.25208 0.40868 -0.25424 C 0.42257 -0.26564 0.43264 -0.28043 0.44861 -0.28814 C 0.45677 -0.29769 0.4632 -0.30509 0.47222 -0.31248 C 0.48472 -0.32358 0.4757 -0.31279 0.48959 -0.32419 C 0.5066 -0.33714 0.51945 -0.35809 0.53768 -0.36949 C 0.54167 -0.37597 0.54393 -0.37812 0.55035 -0.3809 C 0.55695 -0.38922 0.56216 -0.3963 0.57084 -0.40154 C 0.57639 -0.40863 0.5849 -0.41202 0.59167 -0.41664 C 0.60712 -0.42743 0.59531 -0.42219 0.60747 -0.4262 C 0.61372 -0.43082 0.6191 -0.43359 0.62674 -0.43359 L 0.62483 -0.45424 E">
                                      <p:cBhvr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" dur="4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mph" presetID="8">
                                  <p:stCondLst>
                                    <p:cond delay="310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path" presetID="0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3.61111E-006 -2.00308E-007 C 0.02066 0.01264 0.08646 0.04684 0.12448 0.07643 C 0.15868 0.09892 0.19566 0.1547 0.22796 0.1772 C 0.23021 0.18521 0.2375 0.20647 0.24063 0.2114 C 0.2448 0.21757 0.24914 0.21972 0.25261 0.22681 C 0.25747 0.23729 0.26198 0.24438 0.26841 0.25146 C 0.27917 0.27581 0.27379 0.27026 0.28264 0.27581 C 0.29202 0.28875 0.29966 0.30817 0.30973 0.31926 C 0.31337 0.32758 0.31441 0.33344 0.3198 0.33713 C 0.32344 0.34484 0.32535 0.34884 0.33004 0.35347 C 0.33889 0.36795 0.34809 0.38552 0.3573 0.39846 C 0.35851 0.40031 0.36007 0.40031 0.36129 0.40154 C 0.36407 0.40462 0.36615 0.4077 0.36858 0.4114 C 0.38108 0.42989 0.39028 0.45393 0.40452 0.46656 C 0.41198 0.48197 0.41771 0.49368 0.42587 0.50601 C 0.43716 0.52419 0.429 0.50632 0.44167 0.5245 C 0.45695 0.54576 0.46841 0.57997 0.4849 0.59815 C 0.48855 0.60894 0.49063 0.61233 0.49636 0.61664 C 0.50226 0.6302 0.50695 0.64191 0.51493 0.65023 C 0.5198 0.66163 0.52743 0.66718 0.53368 0.67458 C 0.54757 0.69214 0.53681 0.68382 0.54792 0.68998 C 0.55348 0.698 0.55834 0.70231 0.56528 0.70231 L 0.56355 0.73621 E">
                                      <p:cBhvr>
                                        <p:cTn id="17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1" dur="4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mph" presetID="8">
                                  <p:stCondLst>
                                    <p:cond delay="3100"/>
                                  </p:stCondLst>
                                  <p:childTnLst>
                                    <p:animRot by="21600000">
                                      <p:cBhvr>
                                        <p:cTn id="18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path" presetID="0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2.22222E-006 -3.698E-007 C -0.02014 0.03636 -0.04271 0.06718 -0.0632 0.10354 C -0.07118 0.11741 -0.07622 0.13559 -0.0849 0.14792 C -0.11129 0.18644 -0.13577 0.22835 -0.16476 0.2604 C -0.17691 0.27365 -0.18507 0.29646 -0.19497 0.31371 C -0.20139 0.32542 -0.20903 0.33652 -0.2165 0.34638 C -0.22483 0.37042 -0.23715 0.38582 -0.24809 0.40555 C -0.25347 0.41479 -0.2566 0.42804 -0.26146 0.4379 C -0.26632 0.44746 -0.27136 0.45578 -0.27656 0.46472 C -0.28004 0.47119 -0.28403 0.48012 -0.28837 0.48536 C -0.2915 0.48937 -0.29566 0.49153 -0.29827 0.49707 C -0.30695 0.51587 -0.30156 0.5094 -0.31337 0.51772 C -0.32066 0.53128 -0.32986 0.54176 -0.33837 0.55347 C -0.34097 0.55747 -0.34358 0.5624 -0.34653 0.56518 C -0.34879 0.56703 -0.35104 0.56857 -0.35313 0.57103 C -0.35868 0.57781 -0.36302 0.58767 -0.36806 0.59476 C -0.36979 0.59723 -0.38316 0.61633 -0.38646 0.61849 C -0.38906 0.62034 -0.39479 0.62126 -0.39479 0.62157 L -0.41476 0.62743 E">
                                      <p:cBhvr>
                                        <p:cTn id="185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4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195" dur="27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3.61111E-006 -0.00031 C -0.00382 -0.00832 -0.02222 -0.01571 -0.03125 -0.02065 C -0.04166 -0.02558 -0.05225 -0.03297 -0.06475 -0.03636 C -0.09097 -0.04314 -0.12378 -0.04376 -0.15052 -0.04468 C -0.19132 -0.05239 -0.28107 -0.07396 -0.31059 -0.0829 C -0.31354 -0.08659 -0.32378 -0.09645 -0.32795 -0.09892 C -0.3335 -0.102 -0.33975 -0.10323 -0.34392 -0.10632 C -0.35104 -0.11094 -0.35677 -0.11433 -0.36562 -0.11772 C -0.38055 -0.12912 -0.37274 -0.12635 -0.38489 -0.12912 C -0.39774 -0.13498 -0.40833 -0.14422 -0.42187 -0.14915 C -0.42673 -0.15316 -0.42829 -0.15593 -0.43541 -0.15747 C -0.44027 -0.16117 -0.44305 -0.16271 -0.44948 -0.16487 C -0.46128 -0.17196 -0.47395 -0.17997 -0.48628 -0.18613 C -0.48819 -0.18706 -0.48993 -0.18706 -0.49166 -0.18736 C -0.49566 -0.18921 -0.49878 -0.19045 -0.50173 -0.19229 C -0.51892 -0.20092 -0.53107 -0.21202 -0.55069 -0.21787 C -0.56093 -0.22496 -0.56857 -0.23051 -0.57968 -0.23636 C -0.59496 -0.24437 -0.58368 -0.23636 -0.60104 -0.24499 C -0.6217 -0.25454 -0.63767 -0.27057 -0.66007 -0.2792 C -0.66527 -0.28382 -0.6677 -0.28567 -0.67569 -0.28783 C -0.68368 -0.29399 -0.6901 -0.29923 -0.70052 -0.30323 C -0.70729 -0.30847 -0.71701 -0.31125 -0.72604 -0.31464 C -0.74496 -0.32265 -0.73038 -0.31895 -0.74548 -0.32172 E">
                                      <p:cBhvr>
                                        <p:cTn id="197" dur="27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" dur="4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8">
                                  <p:stCondLst>
                                    <p:cond delay="3100"/>
                                  </p:stCondLst>
                                  <p:childTnLst>
                                    <p:animRot by="21600000">
                                      <p:cBhvr>
                                        <p:cTn id="204" dur="27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0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1.38889E-006 -0.00031 C 1.38889E-006 -0.02496 0.00017 -0.04776 0.00017 -0.06286 C 0.00052 -0.07766 0.00069 -0.10046 0.00069 -0.11063 C 0.00139 -0.13159 0.00191 -0.13343 0.00226 -0.1359 C 0.00312 -0.15994 0.00451 -0.22558 0.00503 -0.25269 C 0.00503 -0.2641 0.00538 -0.2943 0.00538 -0.30169 C 0.00538 -0.31125 0.00555 -0.31494 0.00555 -0.3245 C 0.00555 -0.33837 0.0059 -0.34884 0.0059 -0.35932 C 0.00625 -0.39384 0.00625 -0.38551 0.00625 -0.39384 C 0.00642 -0.41202 0.00677 -0.44006 0.00677 -0.45485 C 0.00694 -0.46718 0.00694 -0.4755 0.00694 -0.48043 C 0.00694 -0.49152 0.00729 -0.49645 0.00729 -0.50262 C 0.00764 -0.52419 0.00764 -0.54884 0.00781 -0.56733 C 0.00781 -0.57041 0.00781 -0.5698 0.00816 -0.57103 C 0.00816 -0.57689 0.00816 -0.58058 0.00816 -0.58613 C 0.00851 -0.61263 0.00868 -0.64653 0.00903 -0.66441 C 0.00937 -0.68567 0.00937 -0.70293 0.00955 -0.7208 C 0.00989 -0.74514 0.00955 -0.7208 0.00989 -0.74699 C 0.01007 -0.77658 0.01042 -0.82496 0.01076 -0.85146 C 0.01094 -0.86564 0.01094 -0.87118 0.01094 -0.87796 C 0.01128 -0.89676 0.01128 -0.91279 0.01163 -0.92511 C 0.01163 -0.94083 0.0118 -0.94946 0.0118 -0.95994 C 0.01215 -0.98459 0.01215 -0.97288 0.0125 -0.98151 E">
                                      <p:cBhvr>
                                        <p:cTn id="206" dur="27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1" dur="4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mph" presetID="8">
                                  <p:stCondLst>
                                    <p:cond delay="3300"/>
                                  </p:stCondLst>
                                  <p:childTnLst>
                                    <p:animRot by="-21599879">
                                      <p:cBhvr>
                                        <p:cTn id="213" dur="27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path" presetID="0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3.61111E-006 -0.00031 C -3.61111E-006 0.0265 0.00139 0.05146 0.00139 0.0681 C 0.00417 0.08443 0.00556 0.1094 0.00556 0.1208 C 0.01146 0.14391 0.01598 0.14576 0.01893 0.14884 C 0.02622 0.17534 0.0382 0.24745 0.04236 0.27735 C 0.04236 0.28998 0.04549 0.32357 0.04549 0.33128 C 0.04549 0.34206 0.04688 0.34607 0.04688 0.35624 C 0.04688 0.37195 0.04966 0.38336 0.04966 0.39507 C 0.05296 0.43297 0.05296 0.42373 0.05296 0.43297 C 0.05434 0.453 0.05712 0.48413 0.05712 0.50015 C 0.05851 0.51402 0.05851 0.52265 0.05851 0.5285 C 0.05851 0.54052 0.06164 0.54576 0.06164 0.55285 C 0.06441 0.57688 0.06441 0.6037 0.0658 0.62434 C 0.0658 0.62773 0.0658 0.62681 0.06893 0.62835 C 0.06893 0.63482 0.06893 0.63852 0.06893 0.64499 C 0.07188 0.67396 0.07327 0.71125 0.07639 0.73128 C 0.07917 0.75439 0.07917 0.77349 0.08056 0.79322 C 0.08368 0.82034 0.08056 0.79322 0.08368 0.82219 C 0.08507 0.85454 0.08785 0.90816 0.09115 0.93744 C 0.09254 0.95285 0.09254 0.95901 0.09254 0.96641 C 0.09532 0.98705 0.09532 1.00462 0.09844 1.01849 C 0.09844 1.03574 0.09983 1.04561 0.09983 1.0567 C 0.10261 1.08443 0.10261 1.07088 0.10591 1.08074 E">
                                      <p:cBhvr>
                                        <p:cTn id="215" dur="27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0" dur="4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mph" presetID="8">
                                  <p:stCondLst>
                                    <p:cond delay="3300"/>
                                  </p:stCondLst>
                                  <p:childTnLst>
                                    <p:animRot by="-21599879">
                                      <p:cBhvr>
                                        <p:cTn id="222" dur="27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path" presetID="0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 -0.0003 C 0 0.01942 0.01146 0.03791 0.01146 0.05023 C 0.0342 0.06225 0.04549 0.08074 0.04549 0.08937 C 0.09375 0.10632 0.13038 0.10786 0.15469 0.11002 C 0.21406 0.12974 0.31215 0.18305 0.34618 0.20524 C 0.34618 0.21449 0.37153 0.23976 0.37153 0.2453 C 0.37153 0.25332 0.38299 0.2564 0.38299 0.26379 C 0.38299 0.2755 0.40556 0.28382 0.40556 0.29276 C 0.43264 0.3208 0.43264 0.31403 0.43264 0.3208 C 0.4441 0.3356 0.46684 0.35871 0.46684 0.37042 C 0.47813 0.3809 0.47813 0.38737 0.47813 0.39137 C 0.47813 0.40031 0.50347 0.40432 0.50347 0.40956 C 0.52639 0.42743 0.52639 0.44746 0.5375 0.46256 C 0.5375 0.46503 0.5375 0.46441 0.56302 0.46564 C 0.56302 0.47057 0.56302 0.47304 0.56302 0.47797 C 0.58733 0.49954 0.59861 0.52697 0.62431 0.54176 C 0.64653 0.55902 0.64653 0.57319 0.65799 0.58799 C 0.68351 0.60802 0.65799 0.58799 0.68351 0.60925 C 0.69479 0.63329 0.71753 0.67304 0.74444 0.69492 C 0.75573 0.70601 0.75573 0.71064 0.75573 0.71618 C 0.77847 0.73159 0.77847 0.74453 0.80399 0.75501 C 0.80399 0.76765 0.81545 0.77504 0.81545 0.78336 C 0.83802 0.80401 0.83802 0.79353 0.86528 0.80093 E">
                                      <p:cBhvr>
                                        <p:cTn id="224" dur="27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9" dur="4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mph" presetID="8">
                                  <p:stCondLst>
                                    <p:cond delay="3300"/>
                                  </p:stCondLst>
                                  <p:childTnLst>
                                    <p:animRot by="21600000">
                                      <p:cBhvr>
                                        <p:cTn id="231" dur="27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path" presetID="0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8.33333E-007 -0.0003 C -8.33333E-007 -0.01078 0.00695 -0.02034 0.00695 -0.0265 C 0.02118 -0.03266 0.02813 -0.04252 0.02813 -0.04684 C 0.05816 -0.05547 0.0809 -0.05639 0.09618 -0.05762 C 0.13316 -0.06779 0.19427 -0.09522 0.21545 -0.10631 C 0.21545 -0.11124 0.23125 -0.1245 0.23125 -0.12727 C 0.23125 -0.13128 0.23837 -0.13282 0.23837 -0.13682 C 0.23837 -0.14268 0.25226 -0.14699 0.25226 -0.15161 C 0.26945 -0.1661 0.26945 -0.16271 0.26945 -0.1661 C 0.27639 -0.1738 0.29063 -0.18551 0.29063 -0.19137 C 0.29757 -0.19722 0.29757 -0.2003 0.29757 -0.20246 C 0.29757 -0.20678 0.31337 -0.20924 0.31337 -0.21171 C 0.32761 -0.22095 0.32761 -0.23112 0.33455 -0.23913 C 0.33455 -0.24006 0.33455 -0.23975 0.35035 -0.24067 C 0.35035 -0.24314 0.35035 -0.24468 0.35035 -0.24684 C 0.36563 -0.25824 0.37274 -0.27211 0.38872 -0.28012 C 0.40243 -0.28875 0.40243 -0.29584 0.40955 -0.30354 C 0.42552 -0.31402 0.40955 -0.30354 0.42552 -0.31463 C 0.43247 -0.32696 0.44653 -0.34699 0.46337 -0.35839 C 0.47031 -0.36425 0.47031 -0.36641 0.47031 -0.36918 C 0.48472 -0.37719 0.48472 -0.38366 0.50052 -0.38952 C 0.50052 -0.39568 0.50764 -0.39969 0.50764 -0.40369 C 0.5217 -0.41448 0.5217 -0.40893 0.53889 -0.41294 E">
                                      <p:cBhvr>
                                        <p:cTn id="233" dur="27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8" dur="4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-21599879">
                                      <p:cBhvr>
                                        <p:cTn id="240" dur="27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1.11111E-006 -0.00031 C 1.11111E-006 0.02712 -0.00955 0.05301 -0.00955 0.06996 C -0.02847 0.08691 -0.03785 0.11248 -0.03785 0.1245 C -0.07795 0.14823 -0.10851 0.15008 -0.12865 0.15316 C -0.17813 0.18059 -0.25955 0.25486 -0.28785 0.28567 C -0.28785 0.29862 -0.30903 0.33344 -0.30903 0.34145 C -0.30903 0.35255 -0.31858 0.35655 -0.31858 0.36703 C -0.31858 0.38336 -0.33733 0.39507 -0.33733 0.40709 C -0.35972 0.44623 -0.35972 0.43667 -0.35972 0.44623 C -0.36927 0.46687 -0.3882 0.49892 -0.3882 0.51526 C -0.39757 0.52974 -0.39757 0.53868 -0.39757 0.54453 C -0.39757 0.55686 -0.41875 0.56241 -0.41875 0.5698 C -0.43767 0.59446 -0.43767 0.62219 -0.44705 0.64345 C -0.44705 0.64684 -0.44705 0.64592 -0.46823 0.64746 C -0.46823 0.65424 -0.46823 0.65794 -0.46823 0.66472 C -0.48837 0.69461 -0.49774 0.73282 -0.5191 0.75347 C -0.53767 0.77751 -0.53767 0.79723 -0.54722 0.81757 C -0.5684 0.8453 -0.54722 0.81757 -0.5684 0.84715 C -0.57778 0.88074 -0.5967 0.9359 -0.6191 0.9661 C -0.62847 0.98182 -0.62847 0.98829 -0.62847 0.996 C -0.6474 1.01726 -0.6474 1.03544 -0.66858 1.04962 C -0.66858 1.06749 -0.67813 1.07766 -0.67813 1.08906 C -0.69688 1.11772 -0.69688 1.10355 -0.71945 1.11372 E">
                                      <p:cBhvr>
                                        <p:cTn id="242" dur="27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4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1" name="矩形 2"/>
          <p:cNvSpPr/>
          <p:nvPr/>
        </p:nvSpPr>
        <p:spPr>
          <a:xfrm>
            <a:off x="1258920" y="141912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支粉笔两袖清风，三尺讲台四季晴雨，加上五脏六腑，七嘴八舌九思十分用心，滴滴汗水诚滋桃李芳天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0" y="4838760"/>
            <a:ext cx="66600" cy="122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828720" y="3795840"/>
            <a:ext cx="6499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节日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jier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955-EE03-4639-B76A-34760A70A4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5:33:00Z</dcterms:created>
  <dc:creator/>
  <dc:description/>
  <cp:keywords>幻灯片之家 http:/www.eeppt.com</cp:keywords>
  <dc:language>en-US</dc:language>
  <cp:lastModifiedBy/>
  <dcterms:modified xsi:type="dcterms:W3CDTF">2015-07-09T07:30:33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