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A4A-5D94-4A33-A64A-8F26F621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296-9E1C-43F8-BAF9-FC49A1ED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091E-52DE-4AD8-92F2-D92FAF66A4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AFF9-2D25-48EC-B5A7-E1E34F74A31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24D6-68F2-4D0F-89BA-30701683CA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9ADB-03B5-404F-914D-FE0D7EFE8D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B7B8-0A52-42F9-B04D-FCEA78F619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580AE-E9C4-4A41-B58C-B64FAC646E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B2F0-D52C-4068-8315-6FD3AA30EB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6C4B-127E-4DEF-888E-74837B5D49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C151-DE17-469B-9C94-0F6DEB282A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03678-964C-4243-B030-F241768AC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1C1-7149-42A2-8F40-51A81286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D52AE-941E-4AEC-BDCA-FE8446E992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773C7-38CD-46AD-95AB-3F4DA4A7A6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0AED6-9D0D-41B7-94D1-F7FC1658D9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C69B5-1291-4589-AEA5-7D26C3547B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68D2C-CBDD-4538-8400-56A49AB2335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D453D-8C2A-47A3-A277-CD5A112832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24D43-842E-4DE0-B392-9D690B8779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52448-D024-4221-B5FC-A1162BEECF3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5C8F9-5375-4B27-87AD-C6207D775D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1F9B7-BFA8-4479-A8E0-9E9572989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F1F-1EFE-4F91-B6D5-39A7B145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77D36-8B76-42CE-954C-9138B8884F0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6F0B9-7A0C-4499-8BE2-4C12F9E3403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1390E3-69FE-4602-9217-A4D165B0E2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2DE4B2-9E93-4C9E-9ADF-C8537E40F0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7F3406-D5EE-4BC1-92E4-488E5770A2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16541-6CA1-44BD-94AC-E93D3B2DE5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EEF54-DF19-4ED1-B02A-8F3E24AA54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9814F-2CDB-4999-8C1C-E366D1616F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A94FB-6420-4CAA-9B13-7C1DF73C6F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3E2ACF-6812-416F-8EDD-0824A838B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F45CF-04F2-486B-ACFB-DA9C95A15B6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03C7B2-BD90-4768-80C9-DB7088866E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2D28E8-5887-4E7C-9497-E21EDF04AF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B4E6A8-79A1-41F1-87BC-D0E9C722B90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A516C-8043-416F-9A3E-42739C0C6AC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DBE49-5A86-4FCC-A78B-A167310E1ED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4CE06-326A-4D49-9EB2-0633199950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22BD4-FAAC-471B-8218-83A522AF5C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12FE-856A-4761-983E-045F219D15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0A61-ACC3-4660-9AAB-B676A506EC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927EC-A014-4C28-BD51-FBE3310D9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19AF1-5D6B-4E90-9459-7151DD571B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B3A2-196C-4F6F-89E0-524387FD78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9929-FF42-432C-BD54-A286996A3A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7E2E-9DDC-49D9-8695-77CA18C82AE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AFA5F-644B-4D77-9D26-508E7898499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4A585-55D7-4884-964F-8C4697D6DB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6117C-2638-45F6-8EF7-B70A16E1865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FD3D5-CFA6-4A4C-8C98-AF03831EEAE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63479-B73E-4985-8021-0BFD87CD918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04EE6-79CB-4CE0-922E-5AB9B7BAB61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91C7-1470-4D4E-B28F-27BF5CB8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9BE6-37D9-4C14-B3F4-C67EDB0D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83CF-D624-47EC-AB31-8B3C5BEE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508D-2695-4DF9-B370-FE02057A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BCA0-48CE-4E1D-85CF-AB795EAE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84BE-81E8-410D-B28B-69066237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A289-82E9-42ED-A61E-1C27867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EF27-9F4A-4D3C-A8FB-1B255FDD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6801-2A6D-47D4-867A-EBC37B6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EC43D-1510-4C32-8D14-C34CA451553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DFF8-57BF-4210-AFE6-EEB8CFEB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37067-B542-433A-8076-BBEE0CDF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ACA79-7D11-4D0C-B143-3A2355FC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39A-2E20-4648-B870-EF62DA04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F19D-8351-418C-89E0-066AF4E3D83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FCDCA-0A30-4573-B712-C24DEE14F05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8DEEE-2B59-4EC4-99F7-4DBC1DA08DE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87732-F07B-46EA-9E05-9A468C8EEB6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06783-DEE8-4DFD-8957-98D223DAA79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68235-5F0B-4FBF-B959-4663721F3B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EE35-31A7-4455-B694-8F47B3041FD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26C71-DE82-406F-94BC-5006242DF30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0554B-4020-45CB-AAD7-DEE86B6CDB9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D28A1-E299-4043-97E5-26BDCF870EE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E4184-41C9-4BC3-8F7A-93F4152E1C0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CAF8D-468D-48E9-98A5-AAD14B7FCE1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B2543-F95E-4EE7-BE13-57A261768DB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FCF1B-B34D-4F24-AA55-364A030CCE5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FEBEA-C42B-44A9-9C22-951F0B251E7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797D1-DA1F-4B6A-AC29-C8D5976EDC4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D988E-49DD-44B3-97AA-1647D37115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5FE2B-989B-414D-9DF8-CA0CC6B1496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82D18-06CE-4930-8254-681D6807EA4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3DBEA-F1DE-4751-84A4-BFC13F8EC91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43E1E-B3CE-4FA6-B1D4-9E8661AA3B8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A1BF5-AFE2-482C-B662-29B8B41279B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E94C3-618C-450B-9479-484F4C21127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673D5-4AAC-40B4-AEF1-9BF4F856D83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C0060-6A55-4D1D-A0BF-A5E9CFC4C0A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571F9-5F9C-4FD4-B696-EB7C6575DD5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AE6B3-A9B6-4A16-9E34-CFCAFFA09FC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BD288-012D-4B93-B4C7-1C992B21D59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8FB81-32D2-4775-9304-FAD7B68913B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27E08-B690-46F0-890C-FB433A4850F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49E53-CB0A-461E-B3A9-EE1ADC6FF35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8B833-1E41-48FD-967B-48DB2F9D1B7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8AA2E-05B6-4290-9DC4-095416E5377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8F3FA-D1EF-4B75-9A82-46DA82E5AFD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83F81-B0EC-4A1E-9E21-7913B355CFD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9666C-F36A-418D-9D12-162693C427E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26DD1-3B59-46EE-83BD-D961DBFC8AE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98D26-41EC-4A3A-BB3D-3DCD790A11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242C0-2D82-45FD-996C-BDD43DE63A6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621E-9EEC-456D-91F2-A1886544AD1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6B31B-BE51-4457-AF99-129ED5C3F1A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F64D2-40F5-4707-900B-CC99C07B6BF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9F6271-757C-44F0-8978-051A1E81824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59589C-D820-4BCF-B718-570B48B71D6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A413C7-EEC7-4C20-821A-BC4FF3A9371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B61CDE-CD64-4A43-988E-137E2E01447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F8A0E-8329-48F6-A0D9-351D2589AFD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44BAA0-3D43-43A1-81B7-F6CF9DF1831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F627E0-A758-4DB1-BA92-06760529A2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0208E-5D13-4CC3-817F-C63C2527B57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96504F-462F-4CAA-BCA0-E55CA36FCBE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3A8E62-6615-4F0D-82DA-9B2980CAB1E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17F2C-0B93-4FCD-8398-87F1E2C9571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7714D6-253A-4767-8606-BC7F5BA6A7B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EB4605-74CC-4062-A463-7EA0068E341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EB3A4-A366-4C0D-8DC9-75B95A3DE25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BA403-B1F6-427E-9575-67BFF1EFB7C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AB62F-A01E-4937-8514-02046E12EC1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270CC-5180-4034-B991-A8726CFFE7E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F7446-E4E2-48FC-BF60-13CB9F37E2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E6040-FC74-45C2-A85B-763162AEBDD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DEEA4-6628-4219-A9CE-23E98D5DE59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B7150-99B5-4698-8CAB-F49A030FD5B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1F162-3E05-4AB9-8555-EE0B4FC78F2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B7270-DE6B-4D70-8E4C-A57AF8E5482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683F7-9634-4A93-A124-1EE186FAC75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53670-C0C0-425B-9929-046B16F7A04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E8B23-42CA-470A-9E2E-84EA22EA772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7FDD8-791D-4A8F-9F47-80DF2BADB14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C8CEA-B8D8-4CD8-97C1-60DEDD06BC5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FBE02-D3EB-48B0-B64B-DA281910E1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66490-7C5A-452D-B077-33949228EA2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E762A-5A46-4019-9887-D9EF437F21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9224E-B5C8-43E3-88B4-FC7AA6426CC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7A9B2-786A-416C-81DD-A31F42ACFE6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F2234-4A42-4E14-AAD1-14DD38C629A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72D02-0026-4C50-9408-A34F242EFCC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D0B5E-24CE-4772-80E8-6024AF53D2E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78A2B-015F-42BE-A22C-3D430910034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65EBD-F8E2-498E-8FAF-F6FE4E2F087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08CE4-F325-4F97-8BC6-3D078C08ABD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273A63-06A4-415D-9B6F-9DBC83AE62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86DE6-C587-42EB-9A24-B5908BE6D43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41EB07-C9C8-4831-94E4-1918604E9AB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14F7BC-98C3-47FB-B90D-FCC4E856B8D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46AC61-8010-460D-A9CC-5DEE5662312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6089B9-C169-40DF-8E75-CFE6CF49F7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B58A85-A1C2-41DC-98FE-72E90F070D3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65AE50-12B0-4B24-9F07-5C799AC28E0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B8AB0E-3495-4AAA-80B6-0BAA545B730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D4537-E31C-4D78-9933-E56750E78B1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80137E-6FDF-4907-9233-32C45C885AF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838F71-6E66-4431-9208-801229995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A80-2342-4660-BD28-F632A48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F1983-D332-41EF-B245-D714F63DE2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E8E39A-8987-49B5-8C5F-D0CECB3BDAF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7B4C5-F928-4598-A138-37244995618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77F8C-E9B9-4D6B-BCB2-9564A59D83E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DA800-D148-4A1A-AE75-39D69FE61B6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8220AB-DC43-47A3-BA80-8F6B73F2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1FD9F4-F4A1-42E2-8E5C-BF171CF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C2E711-4565-4891-9BF2-6B3991A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5ECC5-72FC-4A56-A310-B9AC6AD2B37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5ADAC7-32C2-4088-95C8-1033FEC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A3D945-2583-4742-B6C4-F6D53BE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25653C-C7AF-494F-8D37-B28471BB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912548-18F4-4AD2-A655-FD2A4539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048C50-183F-4E9B-AF6E-CD4C6A9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CD166F-C910-41D6-96AC-3E7B0D6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35F1EC-EA73-4DB3-A98A-7A5C2D87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61F5DD-A61D-425F-956D-03E9C862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FA6564-F313-42E0-8317-26D74DD0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8CA06-997C-41E2-B918-BA4D77013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D20CE-0754-4B9C-B517-EA07D98A67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A72-84E9-422C-B1A1-6CA81BE7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81D1-B7F2-439D-BF2F-BE8C5D593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11C-59E6-4D3D-B0B7-41E1400B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8757-B052-4D4D-83C2-967EC564F9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8C30-82F1-4E1C-8059-0419C7EAA2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2D45-3F2A-48FC-90B9-B06F04AB1B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17FC-2A9F-4940-BB46-95323ACAD8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50F0-0360-4BDC-8B0D-120AB8C917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168D-24E1-4E54-9C5E-C4C8F6FC50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F996-C91F-4112-B714-32153C5CF1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3B2B-BDFA-4F97-BDB8-C3E2EF2494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30D9-D699-4B2C-AA63-D5BA98ACCB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AB11-A6A0-4C31-A113-A49E4CCBD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827-0FE3-4997-B5A7-F2C94516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7853-763B-46F1-A932-9726DFD873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8966E-779E-4A32-88A1-E3482746D1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B16CF-2A90-4720-84F1-9B119260A0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0CC0A-13A9-4015-9957-7F8C1349B5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B0EFA-2899-4795-8ABB-DB4BA00A12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BCE0B-4B27-4B8E-B1C7-922730129A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7FF22-6F67-4F89-BC12-7A403F2FDC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F211B-C813-4590-A3C0-070880CB95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C9724-D984-4580-AE74-8B3D15F7CF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A1BDC-0955-422D-866B-C5896AED8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028-22B7-46A4-8A34-BBC6224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F27D7-6812-4B35-A0F4-A34FDA5CD5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AAF67-D59A-459D-AE6C-FECB636C81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A91CF-3F8B-473B-AC9E-3F5E249740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32D-7D9C-4FBC-8CE7-4FC29EF8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931465-3140-4211-933D-B6D1D1E842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3B5898-ABE6-42E4-BEEB-24782AED81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0E26C-F813-490C-8A41-FA438978C4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5CE2E-33B8-42F7-B711-C3D167CBD1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BD0F4-2A4C-4CB1-9631-78CE5995E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3FD-B8A8-4E27-A048-0705A0C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0BDE8-4AE5-4D40-BB90-2CA0044352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93551-A249-433A-92B6-D9091509E5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C0A34-EE61-4FED-A841-E37AA7B54F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802B9-3B77-444F-B59A-AD2B70AD1E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26D63-83C6-45B1-8102-C4CF6EF47E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89646-0DEA-46DB-8DB7-1D7392DB05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5B72EF-4942-4EC6-9221-2970285243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4F737-57DD-4C7A-9A74-75D54617E0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2728-09DD-4474-8FBF-07E7571897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0F25-2FFB-47E0-9AD6-CE47785DC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6EF7-3DB1-4F52-9789-66BE81B890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6FB4-C66A-4737-9A30-ED1FA481E68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446-C8AA-4F44-886A-98A73672875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DB40-CEE4-4E32-99AA-283B4998DC4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FEBA-7B01-4D27-BFFF-3323304D2E7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DE19-0933-42C8-8EC3-6725AF427F7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2A45-AEB3-49F7-8BC9-CD84336FD9C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B1EB-E90A-4E84-8F3A-4DB92CF2B6A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D3B-10AD-4E94-8FAE-7A3AEF453F4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796-2342-4F56-A8EC-9D589B14FD6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31A2-CE3D-4507-9F22-B48CAB3A464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F0E1-3A76-4DA5-9F37-BEECD9320F2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F5CC-84FF-4A6D-A135-E5F936F2798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D461-B296-4C5A-809D-DF7BAA5BE67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3EC2-0EF1-4ACD-8BB1-7ADDB2F633C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5CA-FABF-4936-B101-B22727DC987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AA8E-7CF5-4CCD-9EA0-FDD977F2CC8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714E-78FB-41A4-9A6E-2B8D917A3C2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E2A8-5F50-411A-AA7C-CDF20C93714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12"/>
          <p:cNvSpPr/>
          <p:nvPr/>
        </p:nvSpPr>
        <p:spPr>
          <a:xfrm>
            <a:off x="4143240" y="1785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学习的校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1128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55640" y="227664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5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8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89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3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4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8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9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3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4" name="Line 57"/>
            <p:cNvSpPr/>
            <p:nvPr/>
          </p:nvSpPr>
          <p:spPr>
            <a:xfrm>
              <a:off x="3997080" y="414360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8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9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11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D18-BAC6-466A-87DB-5B248F908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TextBox 1" descr=""/>
          <p:cNvPicPr/>
          <p:nvPr/>
        </p:nvPicPr>
        <p:blipFill>
          <a:blip r:embed="rId2"/>
          <a:stretch/>
        </p:blipFill>
        <p:spPr>
          <a:xfrm>
            <a:off x="2133720" y="2152800"/>
            <a:ext cx="53402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/>
  <dc:description/>
  <cp:keywords>幻灯片之家 http:/www.eeppt.com</cp:keywords>
  <dc:language>en-US</dc:language>
  <cp:lastModifiedBy/>
  <dcterms:modified xsi:type="dcterms:W3CDTF">2015-07-09T07:26:40Z</dcterms:modified>
  <cp:revision>2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