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8.png" ContentType="image/png"/>
  <Override PartName="/ppt/media/image11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F6F64-CB89-4B62-B257-FF948FF9E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362320" y="1676160"/>
            <a:ext cx="63244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362320" y="3666600"/>
            <a:ext cx="63244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3D304-AB9B-496C-8597-9DD8434EE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362320" y="1676160"/>
            <a:ext cx="3086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603400" y="1676160"/>
            <a:ext cx="3086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362320" y="3666600"/>
            <a:ext cx="3086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603400" y="3666600"/>
            <a:ext cx="3086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EE6D1-0FBD-4699-8A3D-AF3680E39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362320" y="1676160"/>
            <a:ext cx="203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00720" y="1676160"/>
            <a:ext cx="203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9120" y="1676160"/>
            <a:ext cx="203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362320" y="3666600"/>
            <a:ext cx="203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500720" y="3666600"/>
            <a:ext cx="203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9120" y="3666600"/>
            <a:ext cx="203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88012-9C22-4E54-BEC8-CB28792DA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362320" y="1676160"/>
            <a:ext cx="632448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A0037-9975-4E5A-905F-BE0890525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362320" y="1676160"/>
            <a:ext cx="63244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212AB-48F1-4F15-B469-CCABB81AF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362320" y="1676160"/>
            <a:ext cx="30862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603400" y="1676160"/>
            <a:ext cx="30862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A2110-05F2-49FC-B7DF-3A5BB35DA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6CC60-E017-469F-B789-85471E339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90360" y="304560"/>
            <a:ext cx="7848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2807D-6FA3-45BC-BC67-DE68D8C7E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362320" y="1676160"/>
            <a:ext cx="3086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603400" y="1676160"/>
            <a:ext cx="30862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362320" y="3666600"/>
            <a:ext cx="3086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EC384-D3FF-4DA4-BDDE-F390EBDC3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362320" y="1676160"/>
            <a:ext cx="30862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603400" y="1676160"/>
            <a:ext cx="3086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603400" y="3666600"/>
            <a:ext cx="3086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D04BB-6AC6-4208-A7CF-228716577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362320" y="1676160"/>
            <a:ext cx="3086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603400" y="1676160"/>
            <a:ext cx="3086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362320" y="3666600"/>
            <a:ext cx="63244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BC428-FBB4-40B8-AC8C-566591765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362320" y="1676160"/>
            <a:ext cx="63244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E7B88-4796-4DF6-9D28-0A945A439670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8.png"/><Relationship Id="rId3" Type="http://schemas.openxmlformats.org/officeDocument/2006/relationships/hyperlink" Target="http://www.eeppt.com/moban/shangwu/" TargetMode="External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0200" y="6369120"/>
            <a:ext cx="337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826920" y="207972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272960" y="1066680"/>
            <a:ext cx="206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金属商务模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矩形 4" descr=""/>
          <p:cNvPicPr/>
          <p:nvPr/>
        </p:nvPicPr>
        <p:blipFill>
          <a:blip r:embed="rId2"/>
          <a:stretch/>
        </p:blipFill>
        <p:spPr>
          <a:xfrm>
            <a:off x="1457280" y="1243080"/>
            <a:ext cx="2627280" cy="103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矩形 4" descr=""/>
          <p:cNvPicPr/>
          <p:nvPr/>
        </p:nvPicPr>
        <p:blipFill>
          <a:blip r:embed="rId2"/>
          <a:stretch/>
        </p:blipFill>
        <p:spPr>
          <a:xfrm>
            <a:off x="5797440" y="2236680"/>
            <a:ext cx="2633760" cy="103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矩形 4" descr=""/>
          <p:cNvPicPr/>
          <p:nvPr/>
        </p:nvPicPr>
        <p:blipFill>
          <a:blip r:embed="rId2"/>
          <a:stretch/>
        </p:blipFill>
        <p:spPr>
          <a:xfrm>
            <a:off x="8236080" y="615960"/>
            <a:ext cx="1036440" cy="26337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160200" y="6369120"/>
            <a:ext cx="337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矩形 4" descr=""/>
          <p:cNvPicPr/>
          <p:nvPr/>
        </p:nvPicPr>
        <p:blipFill>
          <a:blip r:embed="rId2"/>
          <a:stretch/>
        </p:blipFill>
        <p:spPr>
          <a:xfrm>
            <a:off x="8236080" y="615960"/>
            <a:ext cx="1036440" cy="26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矩形 4" descr=""/>
          <p:cNvPicPr/>
          <p:nvPr/>
        </p:nvPicPr>
        <p:blipFill>
          <a:blip r:embed="rId2"/>
          <a:stretch/>
        </p:blipFill>
        <p:spPr>
          <a:xfrm>
            <a:off x="8236080" y="615960"/>
            <a:ext cx="1036440" cy="26337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60200" y="6369120"/>
            <a:ext cx="337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</a:t>
            </a:r>
            <a:r>
              <a:rPr b="1" lang="en-US" sz="15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</a:t>
            </a:r>
            <a:r>
              <a:rPr b="1" lang="en-US" sz="15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40F9C-F341-4B85-8DDB-2C73A2EA805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矩形 4" descr=""/>
          <p:cNvPicPr/>
          <p:nvPr/>
        </p:nvPicPr>
        <p:blipFill>
          <a:blip r:embed="rId2"/>
          <a:stretch/>
        </p:blipFill>
        <p:spPr>
          <a:xfrm>
            <a:off x="8236080" y="615960"/>
            <a:ext cx="1036440" cy="263376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755640" y="2708280"/>
            <a:ext cx="62517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商务ppt模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moban/shangwu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100160" y="6126120"/>
            <a:ext cx="67658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009999"/>
                </a:solidFill>
                <a:uFillTx/>
                <a:latin typeface="Verdana"/>
                <a:hlinkClick r:id="rId2"/>
              </a:rPr>
              <a:t>PPT之家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6T15:19:17Z</dcterms:created>
  <dc:creator/>
  <dc:description/>
  <cp:keywords>幻灯片之家 http:/www.eeppt.com</cp:keywords>
  <dc:language>en-US</dc:language>
  <cp:lastModifiedBy/>
  <dcterms:modified xsi:type="dcterms:W3CDTF">2015-07-09T02:10:09Z</dcterms:modified>
  <cp:revision>58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