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2B4-B91F-4044-9B0D-66EC601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EBA-CF8E-43C1-A7C1-75CA621E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061-2DB6-4255-8D70-808F9F82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E96-2F34-43E2-8281-D95626C1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C38-7A50-49B4-B270-18298C1C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3362-7AFE-4B6B-99CE-9DA6300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727-35D7-4BF0-950D-1D6B82DD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885E-996F-4BEB-9E99-5B11C3F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9230-C9B0-4AF4-9FC5-C0DC678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DE3-8F8B-48F4-86FC-B077FED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5C7C-BFEE-40A5-9810-CF8B89B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B5E-4F73-4808-B8F2-33B9B6C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56F-7920-49BB-9809-4CDE93FC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2DDF-DC3B-4C84-BECF-4BED932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08D-8FFA-41C3-9591-63A51CC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1D5E-FEA3-445C-A43E-A71013C6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C923-0AC9-4175-9F2D-2466770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F68-3582-4684-AA0F-8C175D9C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53E-ADC8-4F3E-99AE-05D7696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E12-50FD-487E-A6E6-748D6F19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725-1F1C-4849-8F16-7C044CE9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92A-C80F-420B-B384-10C2508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972-6C77-46D7-BC29-2C0292C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424-ACB8-4A43-8E30-D5CC4C1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CE5B-BA29-4099-9689-DDCD66DCADE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03A-CB6D-4DFF-BBF7-075F0F3CBD0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933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660066"/>
                </a:solidFill>
                <a:latin typeface="黑体"/>
                <a:ea typeface="黑体"/>
              </a:rPr>
              <a:t>教师职业道德</a:t>
            </a:r>
            <a:endParaRPr b="0" lang="en-US" sz="8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7920" y="38095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4359"/>
                </a:solidFill>
                <a:latin typeface="Impact"/>
                <a:ea typeface="楷体_GB2312"/>
              </a:rPr>
              <a:t>主讲：</a:t>
            </a:r>
            <a:r>
              <a:rPr b="1" lang="en-US" sz="6000" spc="-1" strike="noStrike">
                <a:solidFill>
                  <a:srgbClr val="db4359"/>
                </a:solidFill>
                <a:latin typeface="Impact"/>
                <a:ea typeface="楷体_GB2312"/>
              </a:rPr>
              <a:t>XXX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6019920"/>
            <a:ext cx="50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幼圆"/>
              </a:rPr>
              <a:t>课件制作：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幼圆"/>
              </a:rPr>
              <a:t>XXX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依法执教的要求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教师要努力学习和宣传马列主义、毛泽东思想和邓小平理论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正确的理论是旗帜、是方向，是系统化了的理性认识。正确的理论是对客观事物本质和规律性的正确反映，是在社会实践的基础上产生并且经过实践检验和证明的理论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43000" y="9140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二）要坚决拥护党的基本路线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党的基本路线是我们党关于一定历史时期的奋斗目标、总任务、总方针、总政策的浓缩语。它是我们党和国家的生命线，是我们国家在一定历史时期长治久安，发展强大的保障，离开了这个基本路线，依法执教就失去了方向和根基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三）要下功夫学习有关教育方面的政策、法律和法规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952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第三节</a:t>
            </a:r>
            <a:r>
              <a:rPr b="1" i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依法执教的途径和方法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、依法执教的途径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在“教书”实践中贯彻落实教育法律法规和其它相关的方针和政策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二）在“育人”的实践过程中贯彻落实教育法律法规和其相关的法律法规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52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-15228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依法执教的方法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一）努力学习各种法律、法规，特别是有关教师执教的法律、法规，深刻认识它的强制性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二）要认真、踏实地做以依法管教、依法行教、依法保护教师、学生和学校的合法权益</a:t>
            </a: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首先，要依法管理学生，依法管理教学，依法管理自己的言行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其二，要依法行教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其三，要强化“依法执教”的宣传力度，强化全社会的“依法执教”意识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制作人员：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学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中心）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八章</a:t>
            </a:r>
            <a:r>
              <a:rPr b="1" lang="en-US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br>
              <a:rPr sz="6600"/>
            </a:br>
            <a:r>
              <a:rPr b="1" lang="zh-CN" sz="9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依法执教</a:t>
            </a:r>
            <a:endParaRPr b="0" lang="en-US" sz="9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8744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幼圆"/>
              </a:rPr>
              <a:t>教师职业道德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第一节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依法执教及其意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依法执教的涵义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所谓依法执教，就是要求教师在教育教学活动中，严格按照教育《宪法》和教育方面的法律、法规以及其他相关的法律、法规，使自己的教育教学活动符合法制化的要求。如：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宪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教育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教师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义务教育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未成年人保护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 依法执教的重要意义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27080"/>
            <a:ext cx="723888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随意批评、责备学生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采用各种方式体罚学生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私拆私扣学生的信件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动不动将学生赶出教室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为此，《中小学教师职业道德规范》中的第一个规范，要求教师做到依法执教。其重要意义是：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一）依法执教是依法治国的必然要求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9644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可见，依法治国，首先要依法管理国家事务，管理经济文化事业，管理社会事务；其二，要保证国家各项工作都依法进行；其三，是在此基础上，逐步实现社会主义民主的制度化、法律化；其四，要在中国坚决纠正人治代替法制，人治高于法制、大于法制的封建主义的遗瘤，真正做到依法管理社会各项事务，依法治理社会主义国家中的各行各业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cc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3160800"/>
            <a:ext cx="777240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二）依法执教是依法治教的重要内容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依法治教，是指国家机关以及有关机构依照有关教育的法律规定，在其职权范围内从事有关教育的治理活动，以及各级各类学校及其他教育机构、社会组织和公民依照有关教育的法律规定，从事办学活动、教育教学活动及其他有关教育的活动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454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三）依法执教是人民教师之必需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28E-26F7-4D40-B7D0-A242F44520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第二节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br>
              <a:rPr sz="5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依法执教的内容与要求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依法执教的内容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要依法贯彻执行党和国家的路线、方针和政策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基本路线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教育方针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各项路线、方针和政策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二）要依法贯彻落实教育教学的各项法律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法规规范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三）要依法维护学校、教师的合法权益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学校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教师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学生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3Z</dcterms:created>
  <dc:creator/>
  <dc:description/>
  <cp:keywords>幻灯片之家 http:/www.eeppt.com</cp:keywords>
  <dc:language>en-US</dc:language>
  <cp:lastModifiedBy/>
  <dcterms:modified xsi:type="dcterms:W3CDTF">2015-07-13T09:38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