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84F-52D2-4368-8EEC-E6D80236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2C6-684A-4E0F-8982-15A6A1F7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FB8-1E3B-49CF-8974-79074452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DA0-7B67-491E-9516-583F0B43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C47-3EB6-4D47-8BC6-058463B6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80C5-9D21-43D2-A5E4-D4D30737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71FA-E326-4363-99A3-392BD02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7362-2F3D-4BA8-A9CE-D2D6D6F6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6B08-741E-40E0-8715-D5FCF410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7C8D-1877-4761-8B67-C3D7211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A11A-E774-4B7A-A280-93665E0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B1F-89FE-41FF-9207-F991716E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DD3B-5085-4A36-A397-A2FA08B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DD17-2788-4B63-BBFE-88FCF231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B25-248F-4F23-B57E-10E04B33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611-7E2E-427C-B173-B530A3C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7C7-4DFB-4898-BF56-8BBD5384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1A8-A9D5-4AB9-BA89-02A51AA9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92C-785B-4E1E-A535-F1FF768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37C-74DA-469B-8034-36BBE8E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7E2-33CD-40C9-A4AD-C9D0084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D9D-0C48-4B3A-B04B-E0FAE3A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E93-1C45-49F9-ABE9-D869C757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0F5-4637-4630-A0A7-D95DE14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9BD8-B756-4387-A4F7-19EC278964A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6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91400" y="5353200"/>
              <a:ext cx="41940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320000">
              <a:off x="8358480" y="54100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AF4C-C72D-43CB-A82E-DD8C1898F9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2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5276880"/>
              <a:ext cx="41940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320000">
              <a:off x="8282160" y="518148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67720" y="535284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320000">
              <a:off x="8358480" y="533376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609480"/>
            <a:ext cx="87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  <a:ea typeface="华文新魏"/>
              </a:rPr>
              <a:t>教务管理系统开发总体思路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</a:t>
            </a:r>
            <a:r>
              <a:rPr b="1" lang="en-US" sz="2800" spc="-1" strike="noStrike">
                <a:solidFill>
                  <a:srgbClr val="90dbff"/>
                </a:solidFill>
                <a:latin typeface="楷体_GB2312"/>
                <a:ea typeface="楷体_GB2312"/>
              </a:rPr>
              <a:t>XX</a:t>
            </a:r>
            <a:r>
              <a:rPr b="1" lang="en-US" sz="2800" spc="-1" strike="noStrike">
                <a:solidFill>
                  <a:srgbClr val="90dbff"/>
                </a:solidFill>
                <a:latin typeface="楷体_GB2312"/>
                <a:ea typeface="楷体_GB2312"/>
              </a:rPr>
              <a:t>电大  </a:t>
            </a:r>
            <a:r>
              <a:rPr b="1" lang="en-US" sz="2800" spc="-1" strike="noStrike">
                <a:solidFill>
                  <a:srgbClr val="90dbff"/>
                </a:solidFill>
                <a:latin typeface="楷体_GB2312"/>
                <a:ea typeface="楷体_GB2312"/>
              </a:rPr>
              <a:t>XX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                                             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月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4842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专业规则编制办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90792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两级平台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四层管理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五类用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级平台：中央电大平台   省电大平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层管理：中央电大   省电大   分校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学点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作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类用户：中央电大   省电大   分校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学点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作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学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级平台的建设（包括软、硬件的建设和系统的管理维护）类似于网站的技术要求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三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以开放教育为主线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适当考虑其他类型</a:t>
            </a:r>
            <a:br>
              <a:rPr sz="3600"/>
            </a:b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    电大教育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17733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四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增加招生模块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集中打印证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收费模块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毕业生追踪模块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取消教材模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谢谢大家！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一、对原系统的基本评价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09680"/>
            <a:ext cx="776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、贡献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证基本需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提高电大系统管理现代化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本次开发奠定基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1484280"/>
            <a:ext cx="776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、缺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主要原因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技术发展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需求发展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人员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主要表现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易使用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易维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易升级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数据传送困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同步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教学计划为基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无法真正课程注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分校技术要求和设使要求高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三个平台各自独立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形成信息孤岛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二、开发设计的重大变化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209680"/>
            <a:ext cx="79106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开发过程已经征求了部分电大的意见，提出的变化请专家们批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以专业规则代替教学计划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以统一课程代码实现专业规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专业规则可以实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“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程超市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学分银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开放教育教学管理理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专业规则就是活的教学计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专业规则适应学期设置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404640"/>
            <a:ext cx="769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代码的设计思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代码包含元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层次，学科，门类，顺序号，开课单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顺序号可以包含专业信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课程代码，课程名称，学分（学时），教学主要内容，主要教学媒体，与其它课程关系（先修后续，相斥课程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代码编制办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统一编码规则，各校自行编码，报中央电大备案，进入课程库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或者统一编码？分校开设课程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6920" y="1052640"/>
            <a:ext cx="76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专业规则的设计思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专业规则模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专业概况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含目标、规格、毕业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课程设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专业设置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个基本课程教学（环节）模块。各模块最低完成学分（及最高完成学分）分别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549360"/>
            <a:ext cx="7694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模块一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必修下列课程，参加中央电大考试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6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7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下列课程中选修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-1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分，参加中央电大考试：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115437800-----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下列课程中选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-1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分，其中中央电大考试学分不少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11543***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选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-5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分，参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考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C84-60CF-486A-9360-5114C6E9F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1197000"/>
            <a:ext cx="76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专业补充规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自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日起，凡已经学习并取得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6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学分者，该学分有效，未获得该课程学分者，必须（可以）学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9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，参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组织的考试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自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日起，增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××××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模块，在籍者可以从该模块中选修课程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44Z</dcterms:created>
  <dc:creator/>
  <dc:description/>
  <cp:keywords>幻灯片之家 http:/www.eeppt.com</cp:keywords>
  <dc:language>en-US</dc:language>
  <cp:lastModifiedBy/>
  <dcterms:modified xsi:type="dcterms:W3CDTF">2015-07-13T09:20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