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C53-6CA7-45C8-85E3-3FE976BA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FCB-F868-4B44-8A57-8B808BD1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149-48AD-4C82-B0D9-8E43AA5B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A42-EDA5-40AE-B93C-90137B35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019-97AB-4650-BAC5-D819BE87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8CF-D0A3-4857-8E54-0AD96046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C7B-B717-4939-AD04-3C0C7044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F45-21BF-4A07-BC97-5546C2E8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DF0-9462-44D0-A45B-2E2408A1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3E4-3177-4D59-943B-CAD5AE7A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359-BF76-4D01-B252-D5509F3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A6E-A552-4A3C-9933-A97AD04D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0468-6A0B-4E9B-9FFB-F7CE07625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3,&#24187;&#28783;&#29255; 3" TargetMode="External"/><Relationship Id="rId3" Type="http://schemas.openxmlformats.org/officeDocument/2006/relationships/hyperlink" Target="256,3,&#24187;&#28783;&#29255; 3" TargetMode="External"/><Relationship Id="rId4" Type="http://schemas.openxmlformats.org/officeDocument/2006/relationships/hyperlink" Target="256,3,&#24187;&#28783;&#29255; 3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0848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5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9920" y="1125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敬畏自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514600" y="5638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G:\sha1.jpg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743200" y="6095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沙尘暴就在我们身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洪水.jpg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895480" y="617220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洪               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:\tai1.jpg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5867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743200" y="61722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台               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G:\haixiao2.jpg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590920" y="6172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们在灾难中惊慌失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畏自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91440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层含义，一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敬重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畏惧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敬重自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是充分认识自然的伟大，充分认识自然界的一切都有存在的意义。自然界的一切生物包括人类都是自然的组成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畏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以从“爱护自然”一语中找到它的含义。破坏大自然必然遭到大自然的惩罚，大自然的惩罚是无情的，是令人畏惧的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类应该与自然求得和谐的发展，要使自然界更美好，从而使人类的生活更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读读记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尺           狼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呐喊        不自量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形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精巧绝伦   美味佳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邃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混淆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鲲鹏          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鷃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狂妄          不可思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619280" y="29178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速读课文，思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本文写了什么内容？包含了作者怎样的思想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出文中表达作者观点的关键性语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感知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本文写了什么内容？包含了作者怎样的思想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85840" y="1764360"/>
            <a:ext cx="85723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本文写了（   ）与（  ）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人     自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作者认为，人类不要再宣（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），应该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(   )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，“爱护自然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征服自然   敬畏自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4009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出文中表达作者观点的关键性语句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d2d8a"/>
                </a:solidFill>
                <a:latin typeface="Arial"/>
              </a:rPr>
              <a:t>我们再也不应该把宇宙的其他部分看作只是我们征服的对象，</a:t>
            </a: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敬畏它们，就是敬畏宇宙，敬畏自然，就是敬畏我们自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为什么提出要“敬畏自然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因为人们常常把人与自然对立起来，宣称要征服自然，这种观点走到极端就会破坏自然，导致自然界的惩罚，只有认识自然的伟大，爱护自然，人类才能求得与自然的和谐发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3520" y="609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议论文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80880" y="1676520"/>
            <a:ext cx="8153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要素：论点，论据，论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点：需要证明什么（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作者的观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据：用什么来证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证：怎样证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00720" y="32860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事实论据　道理论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2280" y="4876920"/>
            <a:ext cx="870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论证方法：举例论证，引用论证，比喻论证　对比论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人要敬畏自然，主要是因为</a:t>
            </a:r>
            <a:r>
              <a:rPr b="1" lang="en-US" sz="4000" spc="-1" strike="noStrike">
                <a:solidFill>
                  <a:srgbClr val="ff3300"/>
                </a:solidFill>
                <a:latin typeface="楷体"/>
                <a:ea typeface="楷体"/>
              </a:rPr>
              <a:t>……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660066"/>
                </a:solidFill>
                <a:latin typeface="楷体"/>
                <a:ea typeface="楷体"/>
              </a:rPr>
              <a:t>人类与自然相比（第一自然段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论历史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“宇宙至少已有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亿年” “人类永远只是一个天真幼稚的孩童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论关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人类“只是大自然机体上普通的一部分”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论智慧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：相形见绌自然的智慧是大海，人类小水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304920" y="285840"/>
            <a:ext cx="838188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文结构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、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）  征服自然，不自量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（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—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人类智慧与大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智慧的比较和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二、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—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8—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宇宙生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）       敬畏自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642960" y="16430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000240" y="24289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36"/>
                </a:lnTo>
                <a:cubicBezTo>
                  <a:pt x="10800" y="9736"/>
                  <a:pt x="5400" y="10636"/>
                  <a:pt x="0" y="10636"/>
                </a:cubicBezTo>
                <a:cubicBezTo>
                  <a:pt x="5400" y="10636"/>
                  <a:pt x="10800" y="11536"/>
                  <a:pt x="10800" y="124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8305920" y="2133720"/>
            <a:ext cx="54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642960" y="3786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857240" y="1484280"/>
            <a:ext cx="5991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（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征服自然”不自量力（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132000" y="2276640"/>
            <a:ext cx="44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—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人类的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3640" y="2924280"/>
            <a:ext cx="37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然的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132000" y="3645000"/>
            <a:ext cx="43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—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人类智慧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智慧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08000" y="5084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—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宇宙的生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050920" y="6021360"/>
            <a:ext cx="28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敬畏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63640" y="306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—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981080" y="3124080"/>
            <a:ext cx="76320" cy="2305080"/>
          </a:xfrm>
          <a:custGeom>
            <a:avLst/>
            <a:gdLst>
              <a:gd name="textAreaLeft" fmla="*/ 22320 w 76320"/>
              <a:gd name="textAreaRight" fmla="*/ 76320 w 7632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7772400" y="1523880"/>
            <a:ext cx="142920" cy="4896000"/>
          </a:xfrm>
          <a:custGeom>
            <a:avLst/>
            <a:gdLst>
              <a:gd name="textAreaLeft" fmla="*/ 0 w 142920"/>
              <a:gd name="textAreaRight" fmla="*/ 100440 w 142920"/>
              <a:gd name="textAreaTop" fmla="*/ 203760 h 4896000"/>
              <a:gd name="textAreaBottom" fmla="*/ 469224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035120" y="2666880"/>
            <a:ext cx="21088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到渠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层层递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1403280" y="2060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1403280" y="41497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826920" y="1413000"/>
            <a:ext cx="1225800" cy="576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755640" y="3500280"/>
            <a:ext cx="1368360" cy="576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755640" y="6093000"/>
            <a:ext cx="1295280" cy="504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6858000" y="2286000"/>
            <a:ext cx="6094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3355920" y="2644920"/>
            <a:ext cx="73080" cy="2305080"/>
          </a:xfrm>
          <a:custGeom>
            <a:avLst/>
            <a:gdLst>
              <a:gd name="textAreaLeft" fmla="*/ 21240 w 73080"/>
              <a:gd name="textAreaRight" fmla="*/ 73440 w 7308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为什么说“敬畏自然”就是“敬畏我们自己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因为人类与自然都是宇宙智慧的创造物是宇宙生命的组成，尽管生命形式不同但都是平等的，敬畏自然爱护自然就是敬畏自己爱护自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0" y="2823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本文许多语句富有哲理性，请找出来仔细体会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357120" y="500040"/>
            <a:ext cx="84250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类为自己取得的这些成就而喜形于色，然而，谁能断言那些狼藉斑斑的矿坑不会是人类自掘的陷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85840" y="2357280"/>
            <a:ext cx="8572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反问句，语气更强发人深省。（比喻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掉入陷阱，就是危机。这句话的意思是，人类开采煤炭、石油、天然气以及其他各种矿物，留下了无数矿坑，也就破坏了地貌和地层结构，很可能酿成严重后果，危及人类自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11280" y="620640"/>
            <a:ext cx="78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类并不孤独，在宇宙中处处是我们的弟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14240" y="2143080"/>
            <a:ext cx="7643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宇宙的一切，包括人类，都是宇宙生命的构成部分，人类之外的一切，也是生命的种种存在形式，所以它们与我们是平等的生命，是我们的弟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宇宙之所以创造智慧生物是为了进行自我认识，为了欣赏她自己壮丽无比的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这句话意思是，宇宙创造了人类这种智慧生物，等于宇宙长出了大脑，有了自我认识的工具，人类对宇宙的认识即是宇宙对自己的认识。这句话是把宇宙拟人化，把人类的出现说成是宇宙有目的的创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46736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环保寄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836640"/>
            <a:ext cx="91440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保护绿化，人人有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绿色让我们快乐，让世界美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净化空气，美好环境，从我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生命诚可贵，绿色价更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环保天天行，陪伴你我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东西南北中，绿色在心中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gif0421"/>
          <p:cNvPicPr/>
          <p:nvPr/>
        </p:nvPicPr>
        <p:blipFill>
          <a:blip r:embed="rId2"/>
          <a:stretch/>
        </p:blipFill>
        <p:spPr>
          <a:xfrm>
            <a:off x="0" y="0"/>
            <a:ext cx="89064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44360" y="23745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、课文开头，作者首先举出了人们常有的想法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、作者针锋相对地提出了自己的哪种观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请你欣赏图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28616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注意思考题目的含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、第二自然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看着人类这种狂妄的表现，大自然一定会窃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一句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这种狂妄的表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指的是什么？大自然窃笑的依据是什么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狂妄的表现”是指人类宣称要征服自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窃笑的依据是：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)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类打开的空间只不过咫尺之间；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)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今人也会变为古人；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)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科学史也是犯错误的历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189000"/>
            <a:ext cx="86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阅读第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然段，回答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765000"/>
            <a:ext cx="81378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请概括这段文字的主要内容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为什么说“令人厌恶的苍蝇蚊子”也是大自然的“艺术品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00040" y="185724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大自然的智慧是无与伦比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85840" y="4357800"/>
            <a:ext cx="82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苍蝇蚊子固然讨厌，但是它们的身体构造和生理机制十分奇妙，体现了大自然创造的精妙绝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85816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作者从哪些方面具体比较了“相形见绌”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928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206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大自然用“死”的物质创造了丰富多彩的生命，而人类却不能制造出一个哪怕是最简单的生物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206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人类本身就是自然智慧的最高体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206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大自然“懂得”用美学原则创造各种事物以至人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292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--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完成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64296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这一段中能体现作者观点的是哪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人类为什么没有理由骄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588840" y="1268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人类没有理由过分自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0" y="2357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拿高科技来说，航天事业的空间，在大宇宙中间，还是非常狭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类的认识史也是一部不断纠错的历史，一万年以后看今天，我们的认识还幼稚的很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矿坑也可能成为人类自掘的陷阱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宇宙中，一定存在着远比我们的智慧要高得多的生物，在太空人看来，人类的智慧就算不得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分析反问句“我们有什么理由和资格嘲笑古人，在大自然面前卖弄小聪明呢？”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强调嘲笑古人卖弄小聪明是毫无理由毫无资格的，加强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把人类比作赤燕，大自然比作鲲鹏有何用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79280" y="492912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比喻对比表明人类的航天成就在巨大的宇宙中微不足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人类并不孤独，在宇宙中处处是我们的弟兄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我们的弟兄”指什么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为什么称之为“弟兄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755880"/>
            <a:ext cx="815328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宇宙中除了人类之外的一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它们也是生命的存在形式，与我们是平等的生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2286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第十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课文中找出几个反问句，并把它们变换成一般陈述句，然后比较一下，这两种句式的表达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问句：我们有什么理由和资格嘲笑古人，在大自然面前卖弄小聪明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陈述句：我们没有理由和资格嘲笑古人，在大自然面前卖弄小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作用：反问句更有力地强调在大自然面前卖弄小聪明是毫无理由、毫无资格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反问句：谁能断言那些狼藉斑斑的矿坑不会是人类白掘的陷阱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7972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陈述句：谁也不能断言那些狼藉斑斑的矿坑不会是人类自掘的陷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作用：反问句语气更强烈，更发人深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反问句：那永恒的运动、那演化的过程，不正是她生命力的体现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陈述句：那永恒的运动、那演化的过程，正是她生命力的体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作用：反问句语气更强烈，更能激发读者的思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反问句：你难道没有听到石头里也有生命的呐喊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陈述句：你曾听到石头里也有生命的呐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作用：反问句语气更强烈，且有催人深思的效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2843280" y="256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庐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E0C-DE80-4332-96DA-AF4492C47AC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归纳：反问句及其作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反问是一种用疑问句式来表达确定意思的修辞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用否定句反问，表达的是肯定的意思；用肯定句反问，表达的是否定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反问的作用是加强语气，加重语言的力量，给读者造成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533520" y="1219320"/>
            <a:ext cx="8381880" cy="26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是一篇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Times New Roman"/>
                <a:ea typeface="华文中宋"/>
              </a:rPr>
              <a:t>议论性的散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作者运用了层层推进、水到渠成的论述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首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否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征服自然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口号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接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比较人类的智慧与大自然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智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指出人类的智慧也是大自然所赋予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人类的智慧也就是大自然的智慧；进而从论智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到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生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指出宇宙是有生命的，人类固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高级的生命形态，但也只是物质的一种存在方式，人类和大自然中的其他事物实在是兄弟关系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最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做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敬畏自然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结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文章的最后一段就是表达作者观点的关键语句，即作者思想观点的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14400" y="3049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读完了，我们再回顾一下吧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14400" y="380880"/>
            <a:ext cx="7696080" cy="68580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北极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南极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200400" y="61722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乱   砍   乱   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G:\shu1.jpg"/>
          <p:cNvPicPr/>
          <p:nvPr/>
        </p:nvPicPr>
        <p:blipFill>
          <a:blip r:embed="rId2"/>
          <a:stretch/>
        </p:blipFill>
        <p:spPr>
          <a:xfrm>
            <a:off x="152280" y="2286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fa4.bmp"/>
          <p:cNvPicPr/>
          <p:nvPr/>
        </p:nvPicPr>
        <p:blipFill>
          <a:blip r:embed="rId2"/>
          <a:stretch/>
        </p:blipFill>
        <p:spPr>
          <a:xfrm>
            <a:off x="152280" y="228600"/>
            <a:ext cx="8839440" cy="592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124080" y="6172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森   林   的   灾   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tian.jpg"/>
          <p:cNvPicPr/>
          <p:nvPr/>
        </p:nvPicPr>
        <p:blipFill>
          <a:blip r:embed="rId2"/>
          <a:stretch/>
        </p:blipFill>
        <p:spPr>
          <a:xfrm>
            <a:off x="228600" y="22860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819520" y="5562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438280" y="617220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围    海    造    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3581280" y="1219320"/>
            <a:ext cx="144792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823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围海造田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6:06:40Z</dcterms:created>
  <dc:creator/>
  <dc:description/>
  <cp:keywords>幻灯片之家 http:/www.eeppt.com</cp:keywords>
  <dc:language>en-US</dc:language>
  <cp:lastModifiedBy/>
  <dcterms:modified xsi:type="dcterms:W3CDTF">2015-07-13T08:35:29Z</dcterms:modified>
  <cp:revision>2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7</vt:r8>
  </property>
</Properties>
</file>