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374E-B1D0-42CC-B056-9B9B4B717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1EA2-4D49-4CB8-B3D8-8DA31B80E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0747-379B-4C52-A15C-428FEB1AC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4500-4887-4F2F-B467-A008F6F0C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D0CBD-F1B5-42C7-B582-91872C5BB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63DF7-F4EA-4517-BB02-480F315B4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FCA36-ACAF-4AF5-B162-F83B24B9F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BF1B8-2EB2-4EEB-BD7C-24F605E45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E61E2-4EFD-4C98-AAA7-24DEEF93D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0A334-0E43-4396-8625-69E062B90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E85EA-4AF7-4E2A-81E6-9209D315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A993-E7CA-49DD-8142-2E4C15C39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52D17-9597-45AB-A520-870EF0AE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1A511-FCC4-4990-86D4-C709B6BE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1D988-C9AB-4FE8-8670-2AC4C5F31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023CD-E269-4B3F-921B-1186A64AA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802EA-ED74-4085-8CC2-1DE49CD21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C351-D7D4-4462-B5D0-7C08E186F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C753-9C96-45D0-9AF0-CE47733DD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558A-9F46-4DC1-8BF1-C0E462D16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A926-A3C4-47B9-9C52-7ED519844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15AC-2508-4BDC-8F9F-2A2F2ACA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CB56-1A84-4E73-A6A2-E7BA7879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7DEC-F0FC-4686-A446-995F3FD4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50000">
                  <a:srgbClr val="996600"/>
                </a:gs>
                <a:gs pos="100000">
                  <a:srgbClr val="ff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3320"/>
              <a:ext cx="9142560" cy="378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50000">
                  <a:srgbClr val="990066"/>
                </a:gs>
                <a:gs pos="100000">
                  <a:srgbClr val="ff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990066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966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990066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7D9C7-0D77-42B2-82F4-7623A3B9B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5E9DE-48F1-4871-AC9C-F5F45696D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4680" y="3276720"/>
            <a:ext cx="9137520" cy="152280"/>
            <a:chOff x="4680" y="3276720"/>
            <a:chExt cx="9137520" cy="152280"/>
          </a:xfrm>
        </p:grpSpPr>
        <p:sp>
          <p:nvSpPr>
            <p:cNvPr id="49" name=""/>
            <p:cNvSpPr/>
            <p:nvPr/>
          </p:nvSpPr>
          <p:spPr>
            <a:xfrm>
              <a:off x="4680" y="3276720"/>
              <a:ext cx="9137520" cy="745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50000">
                  <a:srgbClr val="996600"/>
                </a:gs>
                <a:gs pos="100000">
                  <a:srgbClr val="ff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80" y="3391200"/>
              <a:ext cx="9137520" cy="378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50000">
                  <a:srgbClr val="990066"/>
                </a:gs>
                <a:gs pos="100000">
                  <a:srgbClr val="ff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Monotype Sort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00"/>
              </a:buClr>
              <a:buSzPct val="6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0066"/>
              </a:buClr>
              <a:buSzPct val="8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1980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00"/>
                </a:solidFill>
                <a:latin typeface="Arial"/>
                <a:ea typeface="华文中宋"/>
              </a:rPr>
              <a:t>教育理念和实践概述</a:t>
            </a: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95280" y="4038480"/>
            <a:ext cx="655344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66"/>
                </a:solidFill>
                <a:latin typeface="Arial"/>
              </a:rPr>
              <a:t>讲课人：</a:t>
            </a:r>
            <a:r>
              <a:rPr b="1" lang="en-US" sz="3600" spc="-1" strike="noStrike">
                <a:solidFill>
                  <a:srgbClr val="990066"/>
                </a:solidFill>
                <a:latin typeface="Arial"/>
              </a:rPr>
              <a:t>XX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4B790-9287-47B9-A6B7-7E11EC0CDBA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6</a:t>
            </a:r>
            <a:r>
              <a:rPr b="0" lang="zh-CN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、在职业追求上，我是“教育理想”论</a:t>
            </a:r>
            <a:r>
              <a:rPr b="0" lang="en-US" sz="3200" spc="-1" strike="noStrike">
                <a:solidFill>
                  <a:srgbClr val="996600"/>
                </a:solidFill>
                <a:latin typeface="Times New Roman"/>
              </a:rPr>
              <a:t> 者</a:t>
            </a:r>
            <a:endParaRPr b="0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▼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经济冲动”与“教育冲动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▼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发动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▼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诗人气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13431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A673-8D0E-4B45-9AF0-3D1C7183D24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7</a:t>
            </a:r>
            <a:r>
              <a:rPr b="0" lang="zh-CN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、在教育实践上，我是“动手动笔”论者</a:t>
            </a:r>
            <a:endParaRPr b="0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楷体_GB2312"/>
              </a:rPr>
              <a:t>   ▼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楷体_GB2312"/>
              </a:rPr>
              <a:t>听和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楷体_GB2312"/>
              </a:rPr>
              <a:t>   ▼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楷体_GB2312"/>
              </a:rPr>
              <a:t>理念和实践（中介、具体化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楷体_GB2312"/>
              </a:rPr>
              <a:t>   ▼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楷体_GB2312"/>
              </a:rPr>
              <a:t>具体化的本领是我们要修炼的最重要的本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楷体_GB2312"/>
              </a:rPr>
              <a:t>   ▼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楷体_GB2312"/>
              </a:rPr>
              <a:t>能手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楷体_GB2312"/>
              </a:rPr>
              <a:t>专家   教育家是“总结”出来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楷体_GB2312"/>
              </a:rPr>
              <a:t>   ▼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楷体_GB2312"/>
              </a:rPr>
              <a:t>几个操作模式（自育自学的，课堂结构的，课外阅读的，个案分析的，教师发展学校的；教学视导，中高考表彰，领导班子会，内部改革，管理水平评估等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0FAC-0A31-44A1-BE40-861106A0C45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☆</a:t>
            </a:r>
            <a:r>
              <a:rPr b="0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从《文选》的“后记”讲起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☆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中宋"/>
              </a:rPr>
              <a:t>几个主要的教育理论观点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343D-9D41-43E3-82C4-ECAC76CEDBB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1 </a:t>
            </a:r>
            <a:r>
              <a:rPr b="0" lang="zh-CN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、</a:t>
            </a:r>
            <a:r>
              <a:rPr b="1" lang="zh-CN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在教育功能上，我是“教育动力”论者</a:t>
            </a:r>
            <a:endParaRPr b="0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2133720"/>
            <a:ext cx="8534520" cy="28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▼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教育的超前发展更是硬道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▼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第一生产力的内驱力是教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▼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市场经济就是教育经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▼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知识经济就是教育经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EC00-4A0F-4FEC-9430-7A8149FFE5F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75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75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2</a:t>
            </a:r>
            <a:r>
              <a:rPr b="0" lang="zh-CN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、在教育管理上，我是“中观指导”论</a:t>
            </a:r>
            <a:r>
              <a:rPr b="0" lang="en-US" sz="3200" spc="-1" strike="noStrike">
                <a:solidFill>
                  <a:srgbClr val="996600"/>
                </a:solidFill>
                <a:latin typeface="Times New Roman"/>
              </a:rPr>
              <a:t> 者</a:t>
            </a:r>
            <a:endParaRPr b="0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▼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教育教学改革上的“三个出路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▼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教学质量提高上的“四全”、“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以”、“三个抓起”、“三头”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三同等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▼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日常教学管理策略上的“三分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7704-8168-46BC-8685-3BA39ACA3D6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2</a:t>
            </a:r>
            <a:r>
              <a:rPr b="0" lang="zh-CN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、在教育管理上，我是“中观指导”论者</a:t>
            </a:r>
            <a:endParaRPr b="0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▼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教师校本发展上的“五个一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▼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衡量学校以教学为中心的“八个一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▼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修炼学校内功的“老三篇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▼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素质教育开局上的“四个不得”、“两百战略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0248-A18D-4EAC-B0DF-BC5404C284E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3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3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3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3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3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3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3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3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3</a:t>
            </a:r>
            <a:r>
              <a:rPr b="0" lang="zh-CN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、在课堂教学上，我是“结构改革”论者</a:t>
            </a:r>
            <a:endParaRPr b="0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▼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学生自学是课堂的主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▼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教师引导是课堂的基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▼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结构改革是课堂的关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▼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使课堂由教师的讲堂变为基本上由学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生自学的学堂，是我孜孜以求的教育理想之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EF76-238C-44DD-9327-0FA320A15C8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999933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999933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9933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999933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9933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999933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999933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9933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999933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9933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999933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9933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999933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9933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999933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9933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999933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9933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999933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9933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999933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9933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999933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9933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999933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3832-8A0A-4004-B77D-6706421A9C1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4</a:t>
            </a:r>
            <a:r>
              <a:rPr b="0" lang="zh-CN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、在教育意义上，我是“自育自学”论者</a:t>
            </a: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▼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教育教育，就是教学生会自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▼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教学教学，就是教学生会自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▼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生者，学会生活之道的人也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活的根本之道是自育自学之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4D3E-A520-4021-B4F0-156EC8141D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5</a:t>
            </a:r>
            <a:r>
              <a:rPr b="0" lang="zh-CN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、在教师发展上，我是“自我造就”论</a:t>
            </a: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者</a:t>
            </a:r>
            <a:endParaRPr b="0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▼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不欣赏“蜡烛</a:t>
            </a:r>
            <a:r>
              <a:rPr b="0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▼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须确立“自我造就”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▼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教师学生互相创造互相崇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8F6A-FEDB-48AF-A393-B79083EA025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13:55:45Z</dcterms:created>
  <dc:creator/>
  <dc:description/>
  <cp:keywords>幻灯片之家 http:/www.eeppt.com</cp:keywords>
  <dc:language>en-US</dc:language>
  <cp:lastModifiedBy/>
  <dcterms:modified xsi:type="dcterms:W3CDTF">2015-07-13T09:38:47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