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  <p:custShowLst>
    <p:custShow name="自定义放映1" id="0">
      <p:sldLst>
        <p:sld r:id="rId5"/>
        <p:sld r:id="rId6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A27-6ED9-40E0-878E-979EAB1C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B18-039A-4E63-B53D-74BE8ED7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BD7-55F2-479E-9077-CFFBE47C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2CE-1B94-4630-97E1-25346880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61FC-C348-462B-99D1-5E79A33D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495B-76E6-445B-8E01-F2A4BCB8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9925-B631-4892-9652-0D321D34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9252-0E46-4F62-8340-44C73C7B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8FFD-E5D7-48B4-B0B5-9DBFF5C5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 algn="ct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795B-6EFC-4D0E-A6A4-2BF020D4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8D40-55EE-4F1E-B739-6693688B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8D6-35A9-4E0E-A59A-8A7AD8B7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FDA2-9358-4704-B8D0-754C7E71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CFA0-252B-4D63-9572-507F87D8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13A6-9801-436E-97C7-B1D60496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9CF6-0B61-46BD-81CD-7494D507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7678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72A2-CED6-4C30-B19C-2F1C3760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BA1-F619-47D7-8C67-DEFEB00B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C79-8632-4824-A562-F15BD54C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D40-C970-4114-9111-EE5A0F2F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 algn="ct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B819-BCC9-41A2-B089-B2E8285B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9033-FE8A-4B5F-8AE0-FB88D40E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3D1-22D7-4143-B7FA-EAF45D0D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134A-CA40-4BFB-92A4-A4C2DE03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9184-366A-4717-96F3-022541EEB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EE52-D7FD-474D-BEB3-F9A76C3C9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建 筑 艺 术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演讲者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×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    间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×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4648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ym01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629160" y="514440"/>
            <a:ext cx="8001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228600"/>
            <a:ext cx="3886200" cy="656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近现代建筑艺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贝聿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香港中国银行的中银大厦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2-199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是贝氏所有设计方案中最高的建筑物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1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514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" descr=""/>
          <p:cNvPicPr/>
          <p:nvPr/>
        </p:nvPicPr>
        <p:blipFill>
          <a:blip r:embed="rId2"/>
          <a:stretch/>
        </p:blipFill>
        <p:spPr>
          <a:xfrm>
            <a:off x="-33480" y="333360"/>
            <a:ext cx="9142560" cy="623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谢                谢 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47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　　</a:t>
            </a:r>
            <a:r>
              <a:rPr b="1" lang="zh-CN" sz="1400" spc="-1" strike="noStrike">
                <a:solidFill>
                  <a:srgbClr val="414de5"/>
                </a:solidFill>
                <a:latin typeface="Times New Roman"/>
              </a:rPr>
              <a:t>中国建筑艺术概述：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　　伟大的中国，拥有九百六十万平方公里的广袤国土，占世界总数五分之一以上的人口，五十六个民族和超过三千年有文字记载的历史，创造了独具特色的中华文明。中国暄筑艺术是中华文明之树中特别美丽的一枝，作为世界三大建筑体系之一，与西方建筑和伊斯兰建筑并列，自豪地立足于世界文化之林。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　　中国建筑是世界唯一以木结构为主的建筑体系。基干深厚的文化传统，中国建筑艺术的重大特点是：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　　</a:t>
            </a:r>
            <a:r>
              <a:rPr b="0" lang="en-US" sz="1400" spc="-1" strike="noStrike">
                <a:solidFill>
                  <a:srgbClr val="414de5"/>
                </a:solidFill>
                <a:latin typeface="Times New Roman"/>
              </a:rPr>
              <a:t>1</a:t>
            </a: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、以宫殿和都城规划的成就最高，突出皇权至上思想和严密的等级观念；</a:t>
            </a:r>
            <a:br>
              <a:rPr sz="1400"/>
            </a:b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　　</a:t>
            </a:r>
            <a:r>
              <a:rPr b="0" lang="en-US" sz="1400" spc="-1" strike="noStrike">
                <a:solidFill>
                  <a:srgbClr val="414de5"/>
                </a:solidFill>
                <a:latin typeface="Times New Roman"/>
              </a:rPr>
              <a:t>2</a:t>
            </a: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、特别注重群体组合的美，或取中轴对称院落式布局，或为自由式，以前者为主；</a:t>
            </a:r>
            <a:br>
              <a:rPr sz="1400"/>
            </a:b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　　</a:t>
            </a:r>
            <a:r>
              <a:rPr b="0" lang="en-US" sz="1400" spc="-1" strike="noStrike">
                <a:solidFill>
                  <a:srgbClr val="414de5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、注重与自然的高度协同，尊重自然；</a:t>
            </a:r>
            <a:br>
              <a:rPr sz="1400"/>
            </a:b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　　</a:t>
            </a:r>
            <a:r>
              <a:rPr b="0" lang="en-US" sz="1400" spc="-1" strike="noStrike">
                <a:solidFill>
                  <a:srgbClr val="414de5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、艺术性格特别重视对中和、平易、合蓄而深沉的美的追求。中国建筑艺术是中国人的伦理观、审美观、价值观和自然观的深刻体现。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　　在漫长的发展过程中，中国建筑始终保持了自身的独特性格。从其全部历史，可分出三个大的阶段：商周到秦汉，是萌芽与成长阶段，秦和西汉是发展的第一个高潮；历魏晋经隋唐而宋，是成熟与高峰阶段，唐代的成就更为辉煌，是第二个高潮；元至明清是充实与总结阶段，明至清前期是第三个高潮。这三个阶段可分别以秦汉、隋唐、明清为代表。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　　中国各少数民族的建筑也鲁具异采，大大丰富了中国建筑体系的整体风貌，其中尤以藏族、雏吾尔族、傣族和侗族建筑更富特色。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414de5"/>
                </a:solidFill>
                <a:latin typeface="Times New Roman"/>
              </a:rPr>
              <a:t>　　中国建筑艺术曾对日本、朝鲜、越南和蒙古等国发生过重大影响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4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1800" spc="-1" strike="noStrike">
                <a:solidFill>
                  <a:srgbClr val="ff5050"/>
                </a:solidFill>
                <a:latin typeface="Times New Roman"/>
              </a:rPr>
              <a:t>　</a:t>
            </a:r>
            <a:r>
              <a:rPr b="0" lang="zh-CN" sz="1600" spc="-1" strike="noStrike">
                <a:solidFill>
                  <a:srgbClr val="ff5050"/>
                </a:solidFill>
                <a:latin typeface="Times New Roman"/>
              </a:rPr>
              <a:t>　</a:t>
            </a:r>
            <a:r>
              <a:rPr b="1" lang="zh-CN" sz="1600" spc="-1" strike="noStrike">
                <a:solidFill>
                  <a:srgbClr val="cc00cc"/>
                </a:solidFill>
                <a:latin typeface="Times New Roman"/>
              </a:rPr>
              <a:t>中国建筑的大致分类：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中国的古代建筑，大体上可分为以下十种类型：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一、宫廷府第建筑。如皇宫、衙署、殿堂、宅第等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二、防御守卫建筑。如城墙、城楼、堞楼、村堡、关隘、长城、烽火台等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三、纪念性和点缀性建筑。如市楼、钟楼、鼓楼、过街楼、牌枋、影壁等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四、陵墓建筑。如石阙、石坊、崖墓、祭台、以及帝王陵寝宫殿等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五、园囿建筑。如御园、宫囿、花园、别墅等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六、祭祀性建筑。如文庙（孔庙）、武庙（关帝庙）祠宇等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七、桥梁及水利建筑。如石桥、木桥、堤坝、港口、码头等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八、民居建筑。如窑洞、茅屋、草庵、民宅、庭堂、院落等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九、宗教建筑。如佛教的寺、庵、堂、院，道教的祠、宫、庙、观，回教的清真寺，基督教的礼拜堂等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cc00cc"/>
                </a:solidFill>
                <a:latin typeface="Times New Roman"/>
              </a:rPr>
              <a:t>　　十、娱乐性建筑。如乐楼、舞楼、戏台、露台、看台等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9144000" cy="6857280"/>
            <a:chOff x="0" y="0"/>
            <a:chExt cx="9144000" cy="6857280"/>
          </a:xfrm>
        </p:grpSpPr>
        <p:sp>
          <p:nvSpPr>
            <p:cNvPr id="87" name=""/>
            <p:cNvSpPr/>
            <p:nvPr/>
          </p:nvSpPr>
          <p:spPr>
            <a:xfrm>
              <a:off x="0" y="0"/>
              <a:ext cx="9144000" cy="68572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0" y="0"/>
                <a:ext cx="9144000" cy="6855840"/>
                <a:chOff x="0" y="0"/>
                <a:chExt cx="9144000" cy="685584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0" y="0"/>
                  <a:ext cx="9144000" cy="685584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r>
                    <a:rPr b="0" lang="en-US" sz="216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Times New Roman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0" y="0"/>
                  <a:ext cx="9144000" cy="685584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0" y="0"/>
                <a:ext cx="9144000" cy="6856560"/>
              </a:xfrm>
              <a:prstGeom prst="rect">
                <a:avLst/>
              </a:prstGeom>
              <a:solidFill>
                <a:srgbClr val="999999"/>
              </a:solidFill>
              <a:ln w="0">
                <a:solidFill>
                  <a:srgbClr val="996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5410080" y="498600"/>
            <a:ext cx="327672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国宫殿艺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北京故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87.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  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又称紫禁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位于北京市区中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为明、清两代的皇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位皇帝相继在此登基执政。始建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0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至今已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。故宫是世界上现存规模最大、 最完整的古代木构建筑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占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万平方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建筑面积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万平方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拥有殿宇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多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其中太和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又称金銮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是皇帝举行即位、诞辰节日庆典和出兵征伐等大典的地方。故宫黄瓦红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金扉朱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白玉雕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宫阙重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巍峨壮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是中国古建筑的精华。宫内现收藏珍贵历代文物和艺术品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万件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gu1" descr=""/>
          <p:cNvPicPr/>
          <p:nvPr/>
        </p:nvPicPr>
        <p:blipFill>
          <a:blip r:embed="rId2"/>
          <a:stretch/>
        </p:blipFill>
        <p:spPr>
          <a:xfrm>
            <a:off x="120600" y="173844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0080"/>
                </a:solidFill>
                <a:uFillTx/>
                <a:latin typeface="Times New Roman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9910200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114800" y="685800"/>
            <a:ext cx="4495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cc"/>
                </a:solidFill>
                <a:latin typeface="Times New Roman"/>
              </a:rPr>
              <a:t>长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cc"/>
                </a:solidFill>
                <a:latin typeface="Times New Roman"/>
              </a:rPr>
              <a:t>作为一种军事建筑的长城，时至今天，其军事实用功能已经不存，而其雄伟壮丽的美却长存了下来，成为中国人民坚忍不拔的民族性格的象征，转化成人的审美观照对象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99102000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0880" y="4343400"/>
            <a:ext cx="8382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民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种类繁多的民间公共建筑包括如宗祠、先贤祠、神祠、会馆、书院和景观楼阁等，以明清留存最多，也无不深深浸染传统文比精神。属于居住建筑的王府和各地民居现存者也多是清代所留，其中民居尤其值得注意，不但种类繁多，形式十分多样，而且以其更直接更真切地面对普通人生，所体现的群体文化心态也特别率真而质直，反映的地域特色更加突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99102000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904520" y="0"/>
            <a:ext cx="1010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66ff"/>
                </a:solidFill>
                <a:latin typeface="Times New Roman"/>
              </a:rPr>
              <a:t>佛教建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ff"/>
                </a:solidFill>
                <a:latin typeface="Times New Roman"/>
              </a:rPr>
              <a:t>中国佛教建筑包括佛寺、佛塔和石窟。佛教建筑在初期受到印度影响的同时，很快就开始了中国化的过程，体现了中国人的审美观和文化性格，充满了宁静、平和的氛围。道教是中国本土宗教，道观向佛寺学习，同样具有安详的风韵。佛塔在中国建筑艺术史中占有重要地位，类型多样，形式丰富，发展脉络历历可寻，时代特色和地域特色也体现得更加鲜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6EC-0915-4FB1-8078-B02C3BA7946D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zzy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4321080"/>
            <a:ext cx="914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1600" spc="-1" strike="noStrike">
                <a:solidFill>
                  <a:srgbClr val="3366ff"/>
                </a:solidFill>
                <a:latin typeface="Times New Roman"/>
              </a:rPr>
              <a:t>中国园林艺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ff"/>
                </a:solidFill>
                <a:latin typeface="Times New Roman"/>
              </a:rPr>
              <a:t>中国的造园艺术与中国的文学和绘画艺术具有深远的历史渊源，特别受到唐宋文人写意山水画的影响，是文人写意山水模拟的典范。中国园林在其发展过程中，形成了包括皇家园林和私家园林在内的两大系列，前者集中在北京一带，后者则以苏州为代表。由于政治、经济、文化地位和自然、地理条件的差异，两者在规模、布局、体量、风格、色彩等方面有明显差别，皇家园林以宏大、严整、堂皇、浓丽称胜，而苏州园林则以小巧、自由、精致、淡雅、写意见长。由于后者更注意文化和艺术的和谐统一，因而发展到晚期的皇家园林，在意境、创作思想、建筑技巧、人文内容上，也大量地汲取了私家花园的“写意”手法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ff"/>
                </a:solidFill>
                <a:latin typeface="Times New Roman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770280" y="2743200"/>
            <a:ext cx="8916840" cy="360"/>
            <a:chOff x="3770280" y="2743200"/>
            <a:chExt cx="8916840" cy="360"/>
          </a:xfrm>
        </p:grpSpPr>
        <p:sp>
          <p:nvSpPr>
            <p:cNvPr id="108" name=""/>
            <p:cNvSpPr/>
            <p:nvPr/>
          </p:nvSpPr>
          <p:spPr>
            <a:xfrm>
              <a:off x="3770280" y="2743200"/>
              <a:ext cx="8916840" cy="3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70280" y="2743200"/>
              <a:ext cx="8916840" cy="3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55:38Z</dcterms:created>
  <dc:creator/>
  <dc:description/>
  <cp:keywords>幻灯片之家 http:/www.eeppt.com</cp:keywords>
  <dc:language>en-US</dc:language>
  <cp:lastModifiedBy/>
  <dcterms:modified xsi:type="dcterms:W3CDTF">2015-07-13T09:3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