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A6A-16CC-4A81-ADD3-BEB34A57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962-A55D-4AA2-9294-06C338D3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158-4461-4D50-A4CC-3B84D291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264-BA70-4A8C-81F4-D949B418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ADB0-0954-4C67-B268-F6BD8487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73D3-9B24-4507-B7AE-08839C0E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A2F2-7C71-4874-A1DC-D48870D2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D543-A7A7-4B84-8C11-0BA2914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D2E6-D01D-4CF9-BFB9-C183363A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06FE-B3B1-46C7-ACF9-0FF59EAC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A14E-F552-40A2-9167-7267F5E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577-56B5-4CDE-A460-4E007CEB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930F-F3D0-4375-BF41-B378469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EB05-6D6B-4C90-97E4-3CB9AD26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1709-D66B-4798-969F-7C578F48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24CC-4801-45AA-8088-9A3FAB63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58E0-619C-40F5-B370-8E3ED4E5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BCC-E7A7-493D-8B4E-961C28D1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6B5-BB15-481A-B76A-0DF8E470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C13-9570-4758-B21A-F040AF89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4F4-5D5A-450D-A302-2757E23A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9A9-C294-459A-84D6-8CBC9E28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A35-701E-428B-8486-124EA9D2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690-738D-4562-A4D4-736280E4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18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1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0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6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3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5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2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8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28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2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4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2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388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0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3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2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36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1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86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58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6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4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1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0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2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4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0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6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5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6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2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0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4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3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6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4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7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3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08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080"/>
              <a:ext cx="8280360" cy="1782000"/>
              <a:chOff x="635040" y="325080"/>
              <a:chExt cx="8280360" cy="178200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080"/>
                <a:ext cx="497160" cy="14504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6480"/>
                <a:ext cx="5662440" cy="7740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69400"/>
                <a:ext cx="1474920" cy="33768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1680"/>
                <a:ext cx="5662440" cy="7740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984F-3F9F-4C74-B313-64844A55F1B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5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18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1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0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6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3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5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2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8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28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2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4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2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388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0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3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2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36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1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86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58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6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4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1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0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2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4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0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6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5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6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2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0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4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3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6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4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7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3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08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463A-DA0A-47E4-80EF-C061B56ADD7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03,4,&#24187;&#28783;&#29255; 4" TargetMode="External"/><Relationship Id="rId3" Type="http://schemas.openxmlformats.org/officeDocument/2006/relationships/hyperlink" Target="304,5,&#24187;&#28783;&#29255; 5" TargetMode="External"/><Relationship Id="rId4" Type="http://schemas.openxmlformats.org/officeDocument/2006/relationships/hyperlink" Target="305,6,&#24187;&#28783;&#29255; 6" TargetMode="External"/><Relationship Id="rId5" Type="http://schemas.openxmlformats.org/officeDocument/2006/relationships/hyperlink" Target="306,7,&#24187;&#28783;&#29255; 7" TargetMode="External"/><Relationship Id="rId6" Type="http://schemas.openxmlformats.org/officeDocument/2006/relationships/hyperlink" Target="307,8,&#24187;&#28783;&#29255; 8" TargetMode="External"/><Relationship Id="rId7" Type="http://schemas.openxmlformats.org/officeDocument/2006/relationships/hyperlink" Target="308,9,&#24187;&#28783;&#29255; 9" TargetMode="External"/><Relationship Id="rId8" Type="http://schemas.openxmlformats.org/officeDocument/2006/relationships/hyperlink" Target="310,31,&#24187;&#28783;&#29255; 31" TargetMode="External"/><Relationship Id="rId9" Type="http://schemas.openxmlformats.org/officeDocument/2006/relationships/hyperlink" Target="http://www.eeppt.com/moban/kejian/" TargetMode="Externa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5"/>
          <p:cNvSpPr/>
          <p:nvPr/>
        </p:nvSpPr>
        <p:spPr>
          <a:xfrm>
            <a:off x="468360" y="90792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西师大版 三年级语文 下册 第三单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276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《莫高窟》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5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3" name="Picture 4" descr="mg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2031840" y="10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908000" y="69228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初读课文，理清文脉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39640" y="2276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说一说，你从课文当中读懂了什么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学习生字词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96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山丘    蜂窝    尊敬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彩塑  勇猛  安详   描绘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啧啧赞叹   威风凛凛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1187280" y="620640"/>
            <a:ext cx="63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莫高窟保存着（　　）尊彩塑。有（　　　）的菩萨，有（　　　）的天王，还有（　　　）的力士。一尊卧佛长达（　　），侧身（　　），眼睛（　　），神态（　　）。看到这一尊尊（　　　）的彩塑，游人无不（         ）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4716360" y="692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千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276720" y="1341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慈眉善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268360" y="191628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威风凛凛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835280" y="2565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强壮勇猛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3276720" y="3284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1763640" y="38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卧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5292720" y="386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微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2843280" y="43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安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2268360" y="501336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神态各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29458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啧啧赞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 flipH="1">
            <a:off x="4320" y="0"/>
            <a:ext cx="91152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慈眉善目的菩萨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天王"/>
          <p:cNvPicPr/>
          <p:nvPr/>
        </p:nvPicPr>
        <p:blipFill>
          <a:blip r:embed="rId2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5"/>
          <p:cNvSpPr/>
          <p:nvPr/>
        </p:nvSpPr>
        <p:spPr>
          <a:xfrm>
            <a:off x="7812000" y="6629400"/>
            <a:ext cx="381240" cy="45720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457200"/>
              <a:gd name="textAreaBottom" fmla="*/ 43344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50" y="24550"/>
                </a:lnTo>
                <a:lnTo>
                  <a:pt x="20250" y="135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350" y="24550"/>
                </a:lnTo>
                <a:lnTo>
                  <a:pt x="20250" y="2455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50"/>
                </a:lnTo>
                <a:close/>
              </a:path>
              <a:path fill="darken" w="21600" h="25900">
                <a:moveTo>
                  <a:pt x="3756" y="12950"/>
                </a:moveTo>
                <a:lnTo>
                  <a:pt x="17844" y="5906"/>
                </a:lnTo>
                <a:lnTo>
                  <a:pt x="17844" y="1999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320" y="0"/>
            <a:ext cx="911520" cy="71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威风凛凛的天王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力士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4"/>
          <p:cNvSpPr/>
          <p:nvPr/>
        </p:nvSpPr>
        <p:spPr>
          <a:xfrm>
            <a:off x="8305920" y="6324480"/>
            <a:ext cx="457200" cy="53352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533520"/>
              <a:gd name="textAreaBottom" fmla="*/ 50508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50" y="23853"/>
                </a:lnTo>
                <a:lnTo>
                  <a:pt x="20250" y="135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350" y="23853"/>
                </a:lnTo>
                <a:lnTo>
                  <a:pt x="20250" y="2385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3853"/>
                </a:lnTo>
                <a:close/>
              </a:path>
              <a:path fill="darken" w="21600" h="25203">
                <a:moveTo>
                  <a:pt x="3756" y="12601"/>
                </a:moveTo>
                <a:lnTo>
                  <a:pt x="17844" y="5558"/>
                </a:lnTo>
                <a:lnTo>
                  <a:pt x="17844" y="19645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3240" y="476280"/>
            <a:ext cx="850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强壮勇猛的力士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（第二段）卧佛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0" y="566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长达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米的卧佛，侧身卧着，眼睛微闭，神态安详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假如你是一位游客，看到这些美妙绝伦的彩塑，你会怎样称赞它呢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4"/>
          <p:cNvSpPr/>
          <p:nvPr/>
        </p:nvSpPr>
        <p:spPr>
          <a:xfrm>
            <a:off x="1555560" y="404640"/>
            <a:ext cx="60771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莫高窟不仅有（             ）的彩塑，还有四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五千多平方米（               ）的壁画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3419640" y="76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栩栩如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2987640" y="162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宏伟瑰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79280" y="2565360"/>
            <a:ext cx="8748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从课文中找出概括前半句话的自然段，和代表后半句话的自然段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说一说它是一个什么句子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611280" y="429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它是过渡句，前部分是总结第二自然段，而后半句是对第三自然段的总起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目       录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987640" y="1197000"/>
            <a:ext cx="2808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2"/>
              </a:rPr>
              <a:t>说教材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987640" y="1916280"/>
            <a:ext cx="2736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3"/>
              </a:rPr>
              <a:t>说学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2771640" y="2708280"/>
            <a:ext cx="3384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4"/>
              </a:rPr>
              <a:t>说教学目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3132000" y="3500280"/>
            <a:ext cx="2592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5"/>
              </a:rPr>
              <a:t>说重难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3059280" y="4292640"/>
            <a:ext cx="2665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6"/>
              </a:rPr>
              <a:t>说教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2411280" y="4941720"/>
            <a:ext cx="417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7"/>
              </a:rPr>
              <a:t>说教学过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2700360" y="5589720"/>
            <a:ext cx="360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8"/>
              </a:rPr>
              <a:t>说板书设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6012000" y="5084640"/>
            <a:ext cx="215640" cy="360360"/>
          </a:xfrm>
          <a:custGeom>
            <a:avLst/>
            <a:gdLst>
              <a:gd name="textAreaLeft" fmla="*/ 13320 w 215640"/>
              <a:gd name="textAreaRight" fmla="*/ 202320 w 215640"/>
              <a:gd name="textAreaTop" fmla="*/ 13320 h 360360"/>
              <a:gd name="textAreaBottom" fmla="*/ 34704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50" y="34722"/>
                </a:lnTo>
                <a:lnTo>
                  <a:pt x="20250" y="135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350" y="34722"/>
                </a:lnTo>
                <a:lnTo>
                  <a:pt x="20250" y="3472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350" y="1350"/>
                </a:lnTo>
                <a:lnTo>
                  <a:pt x="1350" y="34722"/>
                </a:lnTo>
                <a:close/>
              </a:path>
              <a:path fill="darken" w="21600" h="36072">
                <a:moveTo>
                  <a:pt x="3756" y="10992"/>
                </a:moveTo>
                <a:lnTo>
                  <a:pt x="17844" y="18036"/>
                </a:lnTo>
                <a:lnTo>
                  <a:pt x="3756" y="250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609300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  <a:hlinkClick r:id="rId9"/>
              </a:rPr>
              <a:t>ppt课件模板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1066680" y="29718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380880" y="2286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1508040" y="2687760"/>
            <a:ext cx="763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112536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中最引人注目的，是那成百上千的飞天壁画。壁画上的飞天，有的臂挎花篮，采摘鲜花；有的怀抱琵琶，轻拨银弦；有的倒悬身子，自天而降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的彩带飘拂，漫天遨游；有的舒展双臂，翩翩起舞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（第三段）怀抱琵琶"/>
          <p:cNvPicPr/>
          <p:nvPr/>
        </p:nvPicPr>
        <p:blipFill>
          <a:blip r:embed="rId2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6992280" y="1557360"/>
            <a:ext cx="1826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怀抱琵琶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（第三段）舒展双臂"/>
          <p:cNvPicPr/>
          <p:nvPr/>
        </p:nvPicPr>
        <p:blipFill>
          <a:blip r:embed="rId2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7317720" y="1844640"/>
            <a:ext cx="1826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彩带飘拂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（第三段）倒悬身子"/>
          <p:cNvPicPr/>
          <p:nvPr/>
        </p:nvPicPr>
        <p:blipFill>
          <a:blip r:embed="rId2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6992280" y="1557360"/>
            <a:ext cx="18262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倒悬身子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壁画"/>
          <p:cNvPicPr/>
          <p:nvPr/>
        </p:nvPicPr>
        <p:blipFill>
          <a:blip r:embed="rId2"/>
          <a:stretch/>
        </p:blipFill>
        <p:spPr>
          <a:xfrm>
            <a:off x="0" y="0"/>
            <a:ext cx="11734920" cy="69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壁画2"/>
          <p:cNvPicPr/>
          <p:nvPr/>
        </p:nvPicPr>
        <p:blipFill>
          <a:blip r:embed="rId2"/>
          <a:stretch/>
        </p:blipFill>
        <p:spPr>
          <a:xfrm>
            <a:off x="0" y="0"/>
            <a:ext cx="9372600" cy="1036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壁画6"/>
          <p:cNvPicPr/>
          <p:nvPr/>
        </p:nvPicPr>
        <p:blipFill>
          <a:blip r:embed="rId2"/>
          <a:stretch/>
        </p:blipFill>
        <p:spPr>
          <a:xfrm>
            <a:off x="0" y="0"/>
            <a:ext cx="9144000" cy="82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壁画世俗"/>
          <p:cNvPicPr/>
          <p:nvPr/>
        </p:nvPicPr>
        <p:blipFill>
          <a:blip r:embed="rId2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壁画4"/>
          <p:cNvPicPr/>
          <p:nvPr/>
        </p:nvPicPr>
        <p:blipFill>
          <a:blip r:embed="rId2"/>
          <a:stretch/>
        </p:blipFill>
        <p:spPr>
          <a:xfrm>
            <a:off x="-380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3"/>
          <p:cNvSpPr/>
          <p:nvPr/>
        </p:nvSpPr>
        <p:spPr>
          <a:xfrm>
            <a:off x="914400" y="6172200"/>
            <a:ext cx="685800" cy="68580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p12tongzifeitian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45F-4DB3-4543-8632-BDBF718AF37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3" descr="Xc90900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Xc9090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0" y="2438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莫高窟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举世闻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艺术宝库，这里的每一尊彩塑、每一幅壁画，都是我国古代劳动人民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智慧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结晶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2590920" y="29718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7924680" y="3429000"/>
            <a:ext cx="8240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5"/>
          <p:cNvSpPr/>
          <p:nvPr/>
        </p:nvSpPr>
        <p:spPr>
          <a:xfrm>
            <a:off x="2771640" y="6271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说板书设计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903960" y="2349360"/>
            <a:ext cx="6678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莫高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1692360" y="1989000"/>
            <a:ext cx="3671640" cy="2160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彩塑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2103480" y="184464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位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2031840" y="386064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壁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111480" y="184464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甘肃敦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313200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栩栩如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3132000" y="386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宏伟瑰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579600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艺术宝库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584820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5796000" y="33577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智慧结晶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0520 w 576360"/>
              <a:gd name="textAreaRight" fmla="*/ 555840 w 57636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78" y="1350"/>
                </a:lnTo>
                <a:lnTo>
                  <a:pt x="1350" y="135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78" y="20250"/>
                </a:lnTo>
                <a:lnTo>
                  <a:pt x="35978" y="135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978" y="2025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328" h="21600">
                <a:moveTo>
                  <a:pt x="11620" y="10800"/>
                </a:moveTo>
                <a:lnTo>
                  <a:pt x="25708" y="3756"/>
                </a:lnTo>
                <a:lnTo>
                  <a:pt x="25708" y="178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作业布置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有感情的朗读课文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 </a:t>
            </a:r>
            <a:r>
              <a:rPr b="1" lang="zh-CN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背诵课文</a:t>
            </a:r>
            <a:r>
              <a:rPr b="1" lang="en-US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 3</a:t>
            </a:r>
            <a:r>
              <a:rPr b="1" lang="zh-CN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两段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5"/>
          <p:cNvSpPr txBox="1"/>
          <p:nvPr/>
        </p:nvSpPr>
        <p:spPr>
          <a:xfrm>
            <a:off x="2627280" y="2421000"/>
            <a:ext cx="3889440" cy="16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宋体"/>
              </a:rPr>
              <a:t>再见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宋体"/>
              <a:ea typeface="宋体"/>
            </a:endParaRPr>
          </a:p>
        </p:txBody>
      </p:sp>
      <p:sp>
        <p:nvSpPr>
          <p:cNvPr id="41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66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9930f9fde49a4aa6b901a0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9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说教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0" y="1413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莫高窟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这篇课文介绍的是我国的西北明珠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莫高窟，作者运用生动的语言描绘了栩栩如生的彩塑和宏伟瑰丽的壁画，展现了我国古代劳动人民的勤劳和智慧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课文共四段，第一段简介莫高窟的地理位置及其洞窟数量，第二段介绍了莫高窟栩栩如生的彩塑，第三段描写了莫高窟宏伟瑰丽的壁画，第四段则赞美了我国古代劳动人民的智慧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AutoShape 31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0520 w 576360"/>
              <a:gd name="textAreaRight" fmla="*/ 555840 w 57636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78" y="1350"/>
                </a:lnTo>
                <a:lnTo>
                  <a:pt x="1350" y="135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78" y="20250"/>
                </a:lnTo>
                <a:lnTo>
                  <a:pt x="35978" y="135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978" y="2025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328" h="21600">
                <a:moveTo>
                  <a:pt x="11620" y="10800"/>
                </a:moveTo>
                <a:lnTo>
                  <a:pt x="25708" y="3756"/>
                </a:lnTo>
                <a:lnTo>
                  <a:pt x="25708" y="178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Picture 3" descr="9930f9fde49a4aa6b901a0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4"/>
          <p:cNvSpPr/>
          <p:nvPr/>
        </p:nvSpPr>
        <p:spPr>
          <a:xfrm>
            <a:off x="0" y="119700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                       </a:t>
            </a: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说学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三年级的学生在联系上下文理解词句方面 还有所欠缺，所以本课着重在反复诵读的基础上，引导学生理解词语，用多种方式积累美词佳句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0520 w 576360"/>
              <a:gd name="textAreaRight" fmla="*/ 555840 w 57636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78" y="1350"/>
                </a:lnTo>
                <a:lnTo>
                  <a:pt x="1350" y="135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78" y="20250"/>
                </a:lnTo>
                <a:lnTo>
                  <a:pt x="35978" y="135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978" y="2025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328" h="21600">
                <a:moveTo>
                  <a:pt x="11620" y="10800"/>
                </a:moveTo>
                <a:lnTo>
                  <a:pt x="25708" y="3756"/>
                </a:lnTo>
                <a:lnTo>
                  <a:pt x="25708" y="178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Picture 3" descr="9930f9fde49a4aa6b901a0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2700360" y="765000"/>
            <a:ext cx="41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说教学目标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95280" y="215280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学习课文，了解内容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学习过渡句，体会其用法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有感情朗读课文，背诵第二段和第三段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0520 w 576360"/>
              <a:gd name="textAreaRight" fmla="*/ 555840 w 57636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78" y="1350"/>
                </a:lnTo>
                <a:lnTo>
                  <a:pt x="1350" y="135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78" y="20250"/>
                </a:lnTo>
                <a:lnTo>
                  <a:pt x="35978" y="135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978" y="2025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328" h="21600">
                <a:moveTo>
                  <a:pt x="11620" y="10800"/>
                </a:moveTo>
                <a:lnTo>
                  <a:pt x="25708" y="3756"/>
                </a:lnTo>
                <a:lnTo>
                  <a:pt x="25708" y="178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Picture 3" descr="9930f9fde49a4aa6b901a0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2700360" y="765000"/>
            <a:ext cx="41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说教学重难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95280" y="21528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通过品词析句，读懂课文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背诵课文第二，三段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感受古代劳动人民的勤劳和智慧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AutoShape 6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0520 w 576360"/>
              <a:gd name="textAreaRight" fmla="*/ 555840 w 57636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78" y="1350"/>
                </a:lnTo>
                <a:lnTo>
                  <a:pt x="1350" y="135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78" y="20250"/>
                </a:lnTo>
                <a:lnTo>
                  <a:pt x="35978" y="135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978" y="2025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328" h="21600">
                <a:moveTo>
                  <a:pt x="11620" y="10800"/>
                </a:moveTo>
                <a:lnTo>
                  <a:pt x="25708" y="3756"/>
                </a:lnTo>
                <a:lnTo>
                  <a:pt x="25708" y="178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Picture 3" descr="9930f9fde49a4aa6b901a0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4"/>
          <p:cNvSpPr/>
          <p:nvPr/>
        </p:nvSpPr>
        <p:spPr>
          <a:xfrm>
            <a:off x="3203640" y="765000"/>
            <a:ext cx="482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说教法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0" y="206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以学生为主体，在读中理解课文，抓关键的词语，运用图片引导学生想象，让学生在读中感受莫高窟的美丽神奇，了解古代劳动人民的智慧和伟大，激发学生对祖国文化的热爱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0520 w 576360"/>
              <a:gd name="textAreaRight" fmla="*/ 555840 w 57636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78" y="1350"/>
                </a:lnTo>
                <a:lnTo>
                  <a:pt x="1350" y="135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78" y="20250"/>
                </a:lnTo>
                <a:lnTo>
                  <a:pt x="35978" y="135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978" y="2025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328" h="21600">
                <a:moveTo>
                  <a:pt x="11620" y="10800"/>
                </a:moveTo>
                <a:lnTo>
                  <a:pt x="25708" y="3756"/>
                </a:lnTo>
                <a:lnTo>
                  <a:pt x="25708" y="178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Picture 3" descr="9930f9fde49a4aa6b901a0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31" name="Text Box 4"/>
          <p:cNvSpPr/>
          <p:nvPr/>
        </p:nvSpPr>
        <p:spPr>
          <a:xfrm>
            <a:off x="2700360" y="404640"/>
            <a:ext cx="41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说教学过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AutoShape 12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0520 w 576360"/>
              <a:gd name="textAreaRight" fmla="*/ 555840 w 57636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78" y="1350"/>
                </a:lnTo>
                <a:lnTo>
                  <a:pt x="1350" y="135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78" y="20250"/>
                </a:lnTo>
                <a:lnTo>
                  <a:pt x="35978" y="135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978" y="2025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328" h="21600">
                <a:moveTo>
                  <a:pt x="11620" y="10800"/>
                </a:moveTo>
                <a:lnTo>
                  <a:pt x="25708" y="3756"/>
                </a:lnTo>
                <a:lnTo>
                  <a:pt x="25708" y="178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80280" y="1725120"/>
            <a:ext cx="2009520" cy="626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整体感知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AutoShape 15"/>
          <p:cNvSpPr/>
          <p:nvPr/>
        </p:nvSpPr>
        <p:spPr>
          <a:xfrm>
            <a:off x="3348000" y="1916280"/>
            <a:ext cx="1297080" cy="288720"/>
          </a:xfrm>
          <a:prstGeom prst="rightArrow">
            <a:avLst>
              <a:gd name="adj1" fmla="val 50000"/>
              <a:gd name="adj2" fmla="val 112313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4859280" y="1700280"/>
            <a:ext cx="388944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西北明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AutoShape 17"/>
          <p:cNvSpPr/>
          <p:nvPr/>
        </p:nvSpPr>
        <p:spPr>
          <a:xfrm>
            <a:off x="900000" y="3284640"/>
            <a:ext cx="2170080" cy="676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细读课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AutoShape 18"/>
          <p:cNvSpPr/>
          <p:nvPr/>
        </p:nvSpPr>
        <p:spPr>
          <a:xfrm>
            <a:off x="900000" y="4797360"/>
            <a:ext cx="2170080" cy="6764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总结全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AutoShape 20"/>
          <p:cNvSpPr/>
          <p:nvPr/>
        </p:nvSpPr>
        <p:spPr>
          <a:xfrm>
            <a:off x="3276720" y="3429000"/>
            <a:ext cx="1296720" cy="289080"/>
          </a:xfrm>
          <a:prstGeom prst="rightArrow">
            <a:avLst>
              <a:gd name="adj1" fmla="val 50000"/>
              <a:gd name="adj2" fmla="val 112142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AutoShape 21"/>
          <p:cNvSpPr/>
          <p:nvPr/>
        </p:nvSpPr>
        <p:spPr>
          <a:xfrm>
            <a:off x="3348000" y="4941720"/>
            <a:ext cx="1297080" cy="289080"/>
          </a:xfrm>
          <a:prstGeom prst="rightArrow">
            <a:avLst>
              <a:gd name="adj1" fmla="val 50000"/>
              <a:gd name="adj2" fmla="val 112173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Oval 22"/>
          <p:cNvSpPr/>
          <p:nvPr/>
        </p:nvSpPr>
        <p:spPr>
          <a:xfrm>
            <a:off x="4859280" y="3284640"/>
            <a:ext cx="396072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彩塑壁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Oval 23"/>
          <p:cNvSpPr/>
          <p:nvPr/>
        </p:nvSpPr>
        <p:spPr>
          <a:xfrm>
            <a:off x="4932360" y="4724280"/>
            <a:ext cx="396072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智慧结晶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3:37:19Z</dcterms:created>
  <dc:creator>An</dc:creator>
  <dc:description/>
  <cp:keywords>幻灯片之家 http:/www.eeppt.com</cp:keywords>
  <dc:language>en-US</dc:language>
  <cp:lastModifiedBy/>
  <dcterms:modified xsi:type="dcterms:W3CDTF">2015-07-14T03:15:15Z</dcterms:modified>
  <cp:revision>1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