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5.jpeg" ContentType="image/jpeg"/>
  <Override PartName="/ppt/media/image14.jpeg" ContentType="image/jpeg"/>
  <Override PartName="/ppt/media/TADA.WAV" ContentType="audio/x-wav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A7F-36B9-46F3-9A40-D9906A18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4EA-ECFE-4D9E-AE9E-34386222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F88-B5BD-4302-AB76-FEB773DD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E6B-3F61-47BC-B44A-FC3E086B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802-6825-4C03-8A29-52540A21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D7C-89F0-484E-8FA1-A6FAF7ED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103-66F7-4185-B9E8-0D83AC0E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707-6E5B-4FC4-B7D7-44E88289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8F4-F12A-44DF-A580-23C12C27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DEF-146B-4F2C-BE26-6090E963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A91-4E97-48F8-93C2-1B32A158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F32-9811-445C-91DC-3D0136C5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1BE9-498F-4C9A-A1C4-5F8E9E16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724360" y="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03280" y="189000"/>
            <a:ext cx="655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0090410155228"/>
          <p:cNvPicPr/>
          <p:nvPr/>
        </p:nvPicPr>
        <p:blipFill>
          <a:blip r:embed="rId1"/>
          <a:stretch/>
        </p:blipFill>
        <p:spPr>
          <a:xfrm>
            <a:off x="1042920" y="1195560"/>
            <a:ext cx="7274160" cy="507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236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260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难忘的泼水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6264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今年的泼水节有什么特别的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为周总理和傣族人民欢度一年一度的泼水节，所以这个泼水节十分令人难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23320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从课文的哪些地方看出人们心里特别高兴？读读第三自然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250920" y="260280"/>
            <a:ext cx="3529080" cy="1844640"/>
          </a:xfrm>
          <a:prstGeom prst="cloudCallout">
            <a:avLst>
              <a:gd name="adj1" fmla="val -50180"/>
              <a:gd name="adj2" fmla="val 80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81920" y="2708280"/>
            <a:ext cx="447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人们敲起象脚鼓，从</a:t>
            </a:r>
            <a:r>
              <a:rPr b="1" lang="zh-CN" sz="40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四面八方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人们在地上洒满了凤凰花的花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好像铺上了鲜红的地毯。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条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龙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划过江面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串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花炮升上天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人们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欢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着：“周总理来了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1547640" y="692280"/>
            <a:ext cx="1152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感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425520" y="609480"/>
            <a:ext cx="846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天早晨，人们敲起象脚鼓，从四面八方赶来了。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为了欢迎周总理，人们在地上撒满了凤凰花的花瓣，好像铺上了鲜红的地毯。一条条龙船驶过江面，一串串花炮升上天空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们欢呼着：“周总理来了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0" y="2060640"/>
            <a:ext cx="390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欢迎周总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132000" y="98100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地上（撒满花瓣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16760" y="21337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江面（一条条龙船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16760" y="32130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天空（一串串花炮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619280" y="4797360"/>
            <a:ext cx="65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0000"/>
                </a:solidFill>
                <a:latin typeface="Times New Roman"/>
              </a:rPr>
              <a:t>人们欢呼着：“周总理来了！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265040" y="2205000"/>
            <a:ext cx="53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周总理是怎样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傣族人民欢度节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2795040" y="981000"/>
            <a:ext cx="40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周总理身穿对襟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挂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咖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色长裤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头上包着一条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水红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头巾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笑容满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地来到人群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810800" y="3357720"/>
            <a:ext cx="536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他接过一只象脚鼓，敲着欢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点，踩着凤凰花铺成的“地毯”，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傣族人民一起跳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2090160" y="1989000"/>
            <a:ext cx="526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周总理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端着盛满清水的银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拿着柏树枝蘸了水，向人们泼洒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为人们祝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1657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400720" y="709560"/>
            <a:ext cx="36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周总理身穿对襟白褂，咖啡色长裤，头上包着一条水红色头巾，笑容满面地来到人群中。他接过一只象脚鼓，敲着欢乐的鼓点，踩着凤凰花铺成的“地毯”，同傣族人民一起跳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8172360" y="6381720"/>
            <a:ext cx="647640" cy="216000"/>
          </a:xfrm>
          <a:custGeom>
            <a:avLst/>
            <a:gdLst>
              <a:gd name="textAreaLeft" fmla="*/ 13320 w 647640"/>
              <a:gd name="textAreaRight" fmla="*/ 634320 w 64764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342" y="1350"/>
                </a:lnTo>
                <a:lnTo>
                  <a:pt x="1350" y="135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342" y="20250"/>
                </a:lnTo>
                <a:lnTo>
                  <a:pt x="63342" y="135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342" y="2025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4692" h="21600">
                <a:moveTo>
                  <a:pt x="25302" y="10800"/>
                </a:moveTo>
                <a:lnTo>
                  <a:pt x="39390" y="3756"/>
                </a:lnTo>
                <a:lnTo>
                  <a:pt x="3939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图像-12"/>
          <p:cNvPicPr/>
          <p:nvPr/>
        </p:nvPicPr>
        <p:blipFill>
          <a:blip r:embed="rId1"/>
          <a:stretch/>
        </p:blipFill>
        <p:spPr>
          <a:xfrm>
            <a:off x="17928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886360" y="5300640"/>
            <a:ext cx="25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请画出描写周总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外貌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00724152437848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/>
          <p:cNvSpPr/>
          <p:nvPr/>
        </p:nvSpPr>
        <p:spPr>
          <a:xfrm>
            <a:off x="2987640" y="4508640"/>
            <a:ext cx="1871640" cy="865080"/>
          </a:xfrm>
          <a:prstGeom prst="wedgeRoundRectCallout">
            <a:avLst>
              <a:gd name="adj1" fmla="val -46351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咖啡色长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276720" y="1125360"/>
            <a:ext cx="1584360" cy="9367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襟白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780000" y="0"/>
            <a:ext cx="1368360" cy="836640"/>
          </a:xfrm>
          <a:prstGeom prst="wedgeRoundRectCallout">
            <a:avLst>
              <a:gd name="adj1" fmla="val -43736"/>
              <a:gd name="adj2" fmla="val 49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红色头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24000" y="1916280"/>
            <a:ext cx="576360" cy="504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885080" y="4653000"/>
            <a:ext cx="1258920" cy="792000"/>
          </a:xfrm>
          <a:prstGeom prst="wedgeRoundRectCallout">
            <a:avLst>
              <a:gd name="adj1" fmla="val -11537"/>
              <a:gd name="adj2" fmla="val 700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象脚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619280" y="6381720"/>
            <a:ext cx="1800360" cy="647640"/>
          </a:xfrm>
          <a:prstGeom prst="wedgeEllipseCallout">
            <a:avLst>
              <a:gd name="adj1" fmla="val -44972"/>
              <a:gd name="adj2" fmla="val 7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凤凰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3564000" y="2133720"/>
            <a:ext cx="863640" cy="503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90410155228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0" y="204480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泼水节一般在阳历４月１３日至１５日这三天，到了节日，傣族男女老少就穿上节日的盛装，挑着清水，先到佛寺浴佛，然后就开始互相泼水，你泼我，我泼你，它象征着吉祥、幸福、健康，年青人手里明亮晶莹的水珠，还象征着甜蜜的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泼水节的内容，除泼水外，还有赛龙舟、斗鸡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跳孔雀舞、丢包、放高升，放孔明箭等活动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    每年到泼水节的时候，数以万千的中外游客便纷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云集到云南西双版纳、瑞丽等傣族地区，参加傣族泼水节，年复一年，参加的旅游者越来越多，泼水节的规模越来越大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日，周恩来总理他曾参加过西双版纳的泼水节，从此以后，傣族泼水节更加名扬四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图像-12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08000" y="40464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开始泼水了。周总理一手端着盛满清水的银碗，一手拿着柏树枝蘸了水，向人们泼洒，为人们祝福。傣族人民一边欢呼，一边向周总理泼水，祝福他健康长寿。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007360" y="4508640"/>
            <a:ext cx="514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周总理把水泼到老年人身上，祝愿他们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周总理把水泼到青年人身上，祝愿他们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周总理把水泼到孩子们身上，祝愿他们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8172360" y="6381720"/>
            <a:ext cx="647640" cy="216000"/>
          </a:xfrm>
          <a:custGeom>
            <a:avLst/>
            <a:gdLst>
              <a:gd name="textAreaLeft" fmla="*/ 13320 w 647640"/>
              <a:gd name="textAreaRight" fmla="*/ 634320 w 64764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342" y="1350"/>
                </a:lnTo>
                <a:lnTo>
                  <a:pt x="1350" y="135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342" y="20250"/>
                </a:lnTo>
                <a:lnTo>
                  <a:pt x="63342" y="135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342" y="2025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4692" h="21600">
                <a:moveTo>
                  <a:pt x="25302" y="10800"/>
                </a:moveTo>
                <a:lnTo>
                  <a:pt x="39390" y="3756"/>
                </a:lnTo>
                <a:lnTo>
                  <a:pt x="3939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005321643324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5321732559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00532164332933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像-12"/>
          <p:cNvPicPr/>
          <p:nvPr/>
        </p:nvPicPr>
        <p:blipFill>
          <a:blip r:embed="rId1">
            <a:lum bright="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08000" y="59040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清的水，泼呀，洒呀！周总理和傣族人民笑哇，跳哇，是那么开心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多么幸福哇，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61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的泼水节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多么令人难忘啊， 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61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的泼水节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照片 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442600" y="1341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你会填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26920" y="2276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泼水节    （     ）的凤凰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周总理    （      ）的地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泼水节    （      ）的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头巾       （      ）的鼓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5D8-C14C-44B4-A9A4-1564142A92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1116000" y="0"/>
            <a:ext cx="3529080" cy="1844640"/>
          </a:xfrm>
          <a:prstGeom prst="cloudCallout">
            <a:avLst>
              <a:gd name="adj1" fmla="val -77259"/>
              <a:gd name="adj2" fmla="val 56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050920" y="260280"/>
            <a:ext cx="165600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读一读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68360" y="256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凤  凰   恩  敲  襟  褂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咖  啡  踩  端   蘸  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-184320" y="1798560"/>
            <a:ext cx="906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f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è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g hu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á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g 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 qi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o  j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 gu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09960" y="4214880"/>
            <a:ext cx="88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k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   f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i   c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i  du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zh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sh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ò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7" descr="凤凰花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861560" y="256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437560" y="404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9999"/>
                </a:solidFill>
                <a:latin typeface="Arial"/>
                <a:ea typeface="楷体_GB2312"/>
              </a:rPr>
              <a:t>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64480" y="1916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93920" y="198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469920" y="126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820840" y="2276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996120" y="62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25392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9999"/>
                </a:solidFill>
                <a:latin typeface="Arial"/>
                <a:ea typeface="楷体_GB2312"/>
              </a:rPr>
              <a:t>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620840" y="62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788480" y="1628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99"/>
                </a:solidFill>
                <a:latin typeface="Arial"/>
                <a:ea typeface="楷体_GB2312"/>
              </a:rPr>
              <a:t>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172840" y="1052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12480" y="1628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凤凰花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1258920" y="260280"/>
            <a:ext cx="3529080" cy="1844640"/>
          </a:xfrm>
          <a:prstGeom prst="cloudCallout">
            <a:avLst>
              <a:gd name="adj1" fmla="val -71412"/>
              <a:gd name="adj2" fmla="val 6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2340000" y="54936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记一记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-303840" y="1844640"/>
            <a:ext cx="980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泼水节      敬爱     周恩来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总理       踩伤    对襟白挂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敲鼓    衣襟    银碗   顶端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祝福    健康   长寿   幸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咖啡      盛满     白大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838080" y="380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自学四步骤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71640" y="1916280"/>
            <a:ext cx="8534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标出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划出生字，读一读，记一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把文中的好词好句作好记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提出问题，想想收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193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9640" y="981000"/>
            <a:ext cx="3835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火红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的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凤凰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了，傣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民一年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度的泼水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到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193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04920" y="1066680"/>
            <a:ext cx="81025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火红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红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凤凰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了，傣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民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一年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度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泼水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到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2222280" y="549360"/>
            <a:ext cx="5616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火红火红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凤凰花 开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傣族人民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一年一度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泼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 又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3068640"/>
            <a:ext cx="811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年，傣族人民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特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兴，因为敬爱的周恩来总理要和他们一起过泼水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 flipH="1">
            <a:off x="6948000" y="692280"/>
            <a:ext cx="30492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2339640" y="2133720"/>
            <a:ext cx="30492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H="1">
            <a:off x="4284360" y="1413000"/>
            <a:ext cx="30492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84800" y="5805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傣族人民为什么特别高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TAD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1:28:18Z</dcterms:created>
  <dc:creator/>
  <dc:description/>
  <cp:keywords>幻灯片之家 http:/www.eeppt.com</cp:keywords>
  <dc:language>en-US</dc:language>
  <cp:lastModifiedBy/>
  <dcterms:modified xsi:type="dcterms:W3CDTF">2015-07-13T13:20:22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